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466-E87B-4934-BE6B-08DB81F3750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Times New Roman"/>
              </a:rPr>
              <a:t>Fond kulturních a sociálních potř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Rozpočtová sféra – Vyhláška č. 114/2002 Sb., o fondu kulturních a sociálních potřeb, v platném zně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Strav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- Rozpočtová sféra – Vyhláška č. 430/2001 Sb., o nákladech na závodní stravování a jejich úhradě v organizačních složkách sátu a státních příspěvkových organizací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32B-30F6-4482-95A2-02799CAA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21B-39D7-45A4-BD20-C30E5F3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26E-D8F3-4677-B7C5-C6ED1017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EEC-8AE2-480D-9E3C-0B34DC37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9A31-184F-4BAE-9BE4-1CD522E0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8FD-380E-4F94-8EF1-8CC9E8DD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21E3-2B92-4FD2-BF65-27FDFCD9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725-DDE5-4694-824B-CB91C22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8F8-4070-4A7F-BED1-477D7B98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CFC1-1128-49DF-A347-B864E25D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3B9-641E-4308-A9AC-9834FF0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38B-1EB4-413C-868E-3E356D3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1C4C-1D2D-4C7A-95B7-D71A498A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B153-71E6-4FB3-951E-92A23E5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5D8B-31B1-43E6-93EE-5683D14B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A5E3-91AC-4DBF-A85D-BCEEDBC9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F86A-4D2C-4378-90D5-934F84E0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8D4-97B9-400A-86CA-710619D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E5A-2F7C-41D4-B395-E68005E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60A-9D90-4FD4-9C3C-2EC89EE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650-E1DD-4EF3-B0E1-608AC31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694-536E-47BB-873B-3C336C3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54E-0059-4D96-86DB-918C97B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C27-CAD6-4E44-B040-84617D30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95C-4FE5-4FDB-81A9-8C1FFE73CBCB}" type="slidenum">
              <a:rPr b="0" lang="cs-CZ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BC50-6A49-4833-B27E-C3A47F6E42C1}" type="slidenum">
              <a:rPr b="0" lang="cs-CZ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http://www.sweb.cz/ilda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hyperlink" Target="http://www.sweb.cz/ilda" TargetMode="External"/><Relationship Id="rId6" Type="http://schemas.openxmlformats.org/officeDocument/2006/relationships/hyperlink" Target="http://www.sweb.cz/ilda" TargetMode="External"/><Relationship Id="rId7" Type="http://schemas.openxmlformats.org/officeDocument/2006/relationships/hyperlink" Target="http://www.sweb.cz/ilda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psv.cz/" TargetMode="External"/><Relationship Id="rId2" Type="http://schemas.openxmlformats.org/officeDocument/2006/relationships/hyperlink" Target="http://www.sbirkazakonu.cz/" TargetMode="External"/><Relationship Id="rId3" Type="http://schemas.openxmlformats.org/officeDocument/2006/relationships/hyperlink" Target="http://www.sbirkazakonu.cz/" TargetMode="External"/><Relationship Id="rId4" Type="http://schemas.openxmlformats.org/officeDocument/2006/relationships/hyperlink" Target="http://www.sbirkazakonu.cz/" TargetMode="External"/><Relationship Id="rId5" Type="http://schemas.openxmlformats.org/officeDocument/2006/relationships/hyperlink" Target="http://www.sbirkazakonu.cz/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5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28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ktivní pracovní právo, kolektivní vyjednávání, řešení kolektivních sporů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 11. 2008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645000"/>
            <a:ext cx="7696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Mgr. Ilona Kostadinovov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ilda@seznam.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sweb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7"/>
              </a:rPr>
              <a:t>ilda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rávnická fakulta Západočeské univerzity v Plzn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ysoká škola Karlovy Vary, o. p. 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právnění odborové organ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Odborové organizace jsou oprávněn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ystupovat v pracovněprávních vztazích, včetně kolektivního vyjednávání za podmínek stanovených zákonem nebo sjednaných v kolektivní smlouvě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 odborovou organizaci jedná orgán určený jejími stanovami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vatel informuje odborovou organizac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ejména o vývoji mezd, platů, průměrné mzdy a jejich jednotlivých složek včetně členění podle jednotlivých profesních skupin, pokud není dohodnuto jinak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vatel je povinen projednat s odborovou organizac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zejmén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ekonomickou situaci zaměstnavate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nožství práce a pracovní temp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měny organizace prá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ystém odměňování a hodnocení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ystém školení a vzdělávání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ast odborů při rozvázání pracovního poměru - § 61 Z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635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ýpověď či okamžité zrušení pracovního poměru je zaměstnavatel povinen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předem projednat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s odborovou organizac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 člena orgánu odborové organizace v době jeho funkčního období a v době 1 roku po jeho skončení, je potřeba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souhlas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dborové organizace. Bez souhlasu, jsou výpověď nebo okamžité zrušení pracovního poměru neplatné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 souhlas se považuje též, jestliže odborová organizace písemně neodmítla udělit souhlas v době 15 dnů ode dne, kdy byla o něj zaměstnavatelem požádána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ouhlas lze použít ve lhůtě 2 měsíců od jeho uděle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okud jsou však všechny ostatní podmínky výpovědi nebo okamžitého zrušení pracovního poměru splněny a soud ve sporu o neplatnost rozvázání pracovního poměru podle § 72 ZP shledá, že na zaměstnavateli nelze spravedlivě požadovat, aby zaměstnance nadále zaměstnával, jsou výpověď i okamžité zrušení pracovního poměru platné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borové sdružování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Oborov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Profesn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Sdružení odborových organizací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ČMKOS – Českomoravská konfederace odborových svazů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33"/>
                </a:solidFill>
                <a:latin typeface="Arial"/>
              </a:rPr>
              <a:t>Svazy zaměstnavatelů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AKV - Asociace pro kolektivní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ada zaměstnan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K zajištění práva na informace a projednání si mohou zaměstnanci zaměstnavatele, u něhož nepůsobí odborová organizace, zvolit </a:t>
            </a:r>
            <a:r>
              <a:rPr b="1" lang="cs-CZ" sz="3200" spc="-1" strike="noStrike">
                <a:solidFill>
                  <a:srgbClr val="333333"/>
                </a:solidFill>
                <a:latin typeface="Arial"/>
              </a:rPr>
              <a:t>radu zaměstnanc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, popřípadě zástupce pro oblast bezpečnosti a ochrany zdraví při prác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vropská rada zaměstnan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aměstnanci velkých nadnárodních zaměstnavatel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v Evropském společenství mají právo, aby byli informováni a aby s nimi byly projednány nejdůležitější záležitosti, zejména změny v činnosti podniku či v organizaci práce. Postup předávání informací a projednání se dohodne mezi vedením a zaměstnanci, zpravidla je ustavena evropská rada zaměstnanců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Evropská rada zaměstnanc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se ustavuje na základě ujednání vyjednávacího výboru s ústředím. Zaměstnavatel s působností na území Evropských společenství je povinen vytvořit na svůj náklad podmínky pro ustavení a řádnou činnost vyjednávacího výboru, evropské rady zaměstnanců nebo jiný ujednaný postup pro nadnárodní informace a projedná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U mnoha nadnárodních zaměstnavatelů, kteří u nás působí, evropská rada zaměstnanců existuje a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od 1. května 2004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 jsou do ní postupně zapojováni i zástupci zaměstnanců z České republik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 281 až 285, § 288 až 299 zákoníku prá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lektivní smlou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upravují individuální a kolektivní vztahy mezi zaměstnavateli a zaměstnanci a práva a povinnosti smluvních stran.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říslušný odborový orgán uzavírá kolektivní smlouvu i za zaměstnance, kteří nejsou odborově organizováni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§ 15, § 22 až 29, § 276 až 287 zákoníku prác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ákon o 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Postup při uzavírání kolektivních smluv podnikových a vyššího stupně stanoví zákon o kolektivním vyjednávání, z. č. 2/1991 Sb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§§ 22 – 29 ZP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Kolektivní smlouvy podle § 2 odst. 3 zákona o kolektivním vyjednávání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a) Podniková – uzavřená mezi příslušným odborovým orgánem (§ 32 odst. 1 zákona o kol. vyj.) a zaměstnavatel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b) Vyššího stupně – uzavřená  pro větší počet zaměstnavatelů mezi příslušným vyšším odborovým orgánem a organizací nebo organizacemi zaměstnavatelů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Platnost a účinnost - § 4 zákona o kolektivním vyjednávání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písemně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podepsané na téže listině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- uzavřena na dobu, která je v ní výslovně určena, není-li sjednána na 1 rok (§ 6 odst. 1 zákona o kol. vyj. 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Nově:  § 26 odst. 1 ZP – na dobu určitou nebo neurčitou s výpovědní dobou       v délce 6 měsíců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41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zšiřování závaznosti kolektivních smluv vyššího stup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5748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§ 7 zákona o kolektivním vyjednávání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www.mpsv.cz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 – informace o uložených kolektivních smlouvách, jejichž závaznost byla rozšířena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Sdělení Ministerstva práce a sociálních věcí ve  Sbírce zákonů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3"/>
              </a:rPr>
              <a:t>sbirkazakonu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ae4828"/>
                </a:solidFill>
                <a:uFillTx/>
                <a:latin typeface="Arial"/>
                <a:hlinkClick r:id="rId5"/>
              </a:rPr>
              <a:t>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ktivní s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pory o uzavření kolektivní smlouv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pory o plnění závazků kolektivní smlouvy, ze kterých vznikají nároky jednotlivým zaměstnanců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prostředkovatel, §§ 11, 12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Rozhodce,  §§ 13, 14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Stávka, §§ 16 – 26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Výluka, §§  27 – 31 zákona o kolektivním vyjednávání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před zprostředkovat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prostředkovatelem může být plnoletý občan způsobilý k právním úkonům nebo právnická osoba, pokud souhlasí s výkonem této funkc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de-li o případy administrativního určení, musí jít o zprostředkovatele zapsaného v seznamu zprostředkovatelů vedeném příslušným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inisterstvem práce a sociálních věcí České republik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Do seznamu může být zapsána jen osoba plnoletá, plně způsobilá k právním úkonům, občansky bezúhonná, s ukončeným VŠ vzděláním právnického nebo ekonomického směru a splňující osobnostní vlastnosti předpokládané pro řádný a nestranný výkon činnosti zprostředkovatel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prostředkovatel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písemně sděl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smluvním stranám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návrh na řešení sporu do 15 dnů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ode dne, kdy byl seznámen s předmětem sporu, nedohodnou-li se smluvní strany na jiné délce lhůty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Jedná se o sociální tip řízení, jde o snahu najít kompromis pro obě stran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meny kolektivního pracovního 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8920" y="1219320"/>
            <a:ext cx="765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ík práce, z. č. 262/2006 Sb., účinnost od 1. 1. 2007 (ZP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o kolektivním vyjednávání, z. č. 2/1991 Sb., ve znění pozdějších předpisů, předseda vlády vyhlásil ve Sbírce zákonů pod č. </a:t>
            </a:r>
            <a:r>
              <a:rPr b="0" lang="cs-CZ" sz="2000" spc="-1" strike="noStrike">
                <a:solidFill>
                  <a:srgbClr val="ae4828"/>
                </a:solidFill>
                <a:latin typeface="Arial"/>
              </a:rPr>
              <a:t>25/2007 Sb. úplné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č. 120/1990 Sb., kterým se upravují některé vztahy mezi odborovými orgány a zaměstnavateli, ve znění pozdějších předpisů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o sdružování občanů, z. č. 83/1990 Sb., o sdružování občanů, ve znění pozdějších předpisů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právní řád, z. č. 500/2004 Sb.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ákon č. 99/1963 Sb., občanský soudní řád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řízení vlády č. 16/1991 Sb., o zprostředkovatelích, rozhodcích                a ukládání kolektivních smluv vyššího stupně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Nařízení vlády č. 114/1991 Sb., o odměně zprostředkovateli             a rozhodci, výši poplatku za stejnopis kolektivní smlouvy vyššího stupně a výši a způsobu úhrady nákladů řízení před rozhodce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Řízení před rozhodc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může pro podjatost přijetí návrhu odmítnout. Přijme-li žádost a sepíše zápis o zahájení řízení, vylučuje tak možnost řešit spor alternativní cestou (stávka, výluka)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je povinen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nout spor do 15 dnů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d zahájení řízení. Ve svém rozhodování je omezen a vázán návrhem, tj. žádostí o řešení sporu a předmětem sporu, který byl v žádosti vymezen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Výsledkem řízení  je rozhodnutí, které vychází ze skutečného stavu věci, který by se měl ověřit. Platí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zásada dispoziční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, tj. do vydání rozhodnutí mohou strany sporu od stanoviska ustoup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m může být jen fyzická osoba, plnoletá, zapsaná do seznamu rozhodců, který vede ministerstvo práce a sociálních věcí. Nesmí jím být ten, kdo vystupoval v témž sporu jako zprostředkovat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Rozhodce si stanoví na základě dohody strany nebo ho určí ministerstvo práce a sociálních věc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Okamžikem doručení rozhodnutí o určení rozhodce MPSV samotnému  rozhodci je zahájeno řízení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V případě rozhodnutí o plnění z kolektivní smlouvy je možné se proti rozhodnutí obrátit na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krajský soud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a podat návrh na zrušení rozhodnutí, </a:t>
            </a:r>
            <a:r>
              <a:rPr b="1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tzv. kasační princip</a:t>
            </a:r>
            <a:r>
              <a:rPr b="0" lang="cs-CZ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, § 244 a následující OSŘ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távk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Stávka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namená přerušení plnění povinností zaměstnanců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V takovém případě se jedná o překážku na straně zaměstnance a zaměstnanci nepřísluší mzda ani náhrada mzdy. Odbory mohou ale poskytnout určité prostředky ze svých fondů za tuto dobu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čl. 27 odst. 4 L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istiny základních práv a svobod  - právo na stávku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- čl. 41 odst. 1 LZPS - je možné se tohoto práva domáhat pouze v mezích zákona, které Listinu základních práv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a svobod prováděj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ý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Výluka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je obdobným prostředkem, který má možnost využívat zaměstnavatel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vatel přeruší plnění jeho povinností. Může jít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o částečné nebo úplné hromadné zastavení práce zaměstnavatel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ncům není přidělována práce, nedostávají mzdu. Jedná se o prostředek řešení sporu mezi subjekty kolektivního vyjednávání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řistoupí-li  k tomuto řešení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vatel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, jedná se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o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překážku na jeho straně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a </a:t>
            </a:r>
            <a:r>
              <a:rPr b="1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zaměstnancům náleží proto náhrada mzdy ve výši 50 % průměrného měsíčního výdělku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, § 30 odst. 1 zák. o kol. vyj.  Je-li výluka nezákonná, náleží zaměstnancům náhrada mzdy ve výši průměrného výdělku, § 130 odst. 1 Z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 (§ 208 NZP)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4520" y="4568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ážení posluchači,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ěkuji Vám za pozornost.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ji příjemný zbytek dnešního dne.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981080" y="3505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Mgr. Ilona Kostadinovová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ilda@seznam.cz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rávnická fakulta Západočeské univerzity       v Plzn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Vysoká škola Karlovy Vary, o. p. 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Arial"/>
              </a:rPr>
              <a:t>Spolupráce MPSV Č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zaměstnance, §§ 224 – 247 Z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racovní podmínky pro bezpečný výkon prá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Úloha kolektivního vyjednává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e4828"/>
                </a:solidFill>
                <a:latin typeface="Arial"/>
              </a:rPr>
              <a:t>Př.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Fond kulturních a sociálních potřeb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počtová sféra – Vyhláška č. 114/2002 Sb., o fondu kulturních a sociálních potřeb, v platném znění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ae4828"/>
                </a:solidFill>
                <a:latin typeface="Arial"/>
              </a:rPr>
              <a:t>Př.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Stravování, § 236 ZP – umožnit, konkrétní podobu si určí zaměstnavatel sá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Rozpočtová sféra – Vyhláška č. 430/2001 Sb., o nákladech na závodní stravování a jejich úhradě v organizačních složkách sátu a státních příspěvkových organizacích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33"/>
                </a:solidFill>
                <a:uFillTx/>
                <a:latin typeface="Arial"/>
              </a:rPr>
              <a:t>Odborný rozvoj zaměstnanců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Prohlubování kvalifikace, § 230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- účast se považuje za výkon práce, za který přísluší zaměstnanci mzda, § 230 odst. 3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33"/>
                </a:solidFill>
                <a:latin typeface="Arial"/>
              </a:rPr>
              <a:t>Zvýšení kvalifikace, § 231 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hoda o zvyšování/prohlubování kvalifikace,  234 odst. 1 Z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Závazek zaměstnance setrvat u zaměstnavatele v zaměstnání po sjednanou dobu, nejdéle po dobu 5 let, nebo uhradit náklady spojené se získáním kvalifikace, které zaměstnavatel vynaložil, i tehdy, skončí-li pracovní poměr před ukončením studi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ři prohlubování kvalifikace, dosahují-li náklady alespoň 75 000, - Kč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Musí být uzavřena písemně, jinak je neplatná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Musí obsahovat druh kvalifikace, dobu setrvání u zaměstnavatele a druhy nákladů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mluvní svob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Vznik pracovního poměru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Ujednání o právech a povinnostech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Podle soukromoprávní zásady „co není zakázáno, je dovoleno“, nelze tedy kogentní ustanovení zákoníku práce vyloučit ani smluvním ujednání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Funkce pracovního práva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a) Ochranná – minimální standar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b) Organizační – organizace prác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33"/>
                </a:solidFill>
                <a:latin typeface="Arial"/>
              </a:rPr>
              <a:t>c) Výchovná – jednání v souladu s dobrými mrav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smluvní volnosti - je možné se odchýlit od určitého ustanovení zákoníku práce?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chylná úprava práv a povinností, § 2 odst. 2 Z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74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jistit, zda není ustanovení v § 363 odst. 2 nebo není výslovně zakázáno, že se od něj není možné odchýlit - § 2 odst. 1 NZP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jistit, zda není v § 363 odst.1 nebo nejde o ustanovení ukládající povinno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 textu ustanovení zjisti, zda umožňuje odchylnou úpravu, upravuje-li minimální nebo maximální hranici, pak ji nelze překroč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Mzdová, platová a ostatní práva nemohou být nižší nebo vyšší, než je právo, které stanoví zákon, kolektivní smlouva nebo vnitřní předpis, § 2 odst. 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3333"/>
                </a:solidFill>
                <a:uFillTx/>
                <a:latin typeface="Arial"/>
              </a:rPr>
              <a:t>Jakým způsobem se lze odchýlit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mlouvou – nepojmenované smlouv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Vnitřním předpisem - § 30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Kolektivní smlouvou - §§ 22- 2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nformování a projednání, zaměstnavatel je povinen zaměstnance informov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263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ekonomické a finanční situaci zaměstnavatele, důsledcích jeho činnosti na životní prostředí a jeho ekologických opatřeních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pravděpodobném vývoji zaměstnanosti u zaměstnavate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zamýšlených strukturálních změnách, racionalizačních nebo organizačních opatřeních a opatřeních v souvislosti s hromadným propouštěním zaměstnanců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bezpečnosti a ochraně zdraví při práci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opatřeních zaměstnavatele směřujících k zajištění rovného zacházení a k zamezení diskriminac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 nabídce volných pracovních míst na dobu neurčitou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borová organ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15 ZP odborové orgány mají právo účastnit se pracovněprávních vztahů včetně kolektivního vyjednávání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§ 15, 22 NZ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2 zákona o sdružování občanů, z. č.  83/1990 Sb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Občané mohou zakládat odborové organizace (sdružení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Dobrovolnost sdružení. Nikdo nesmí být nucen k členství ani k účasti na jejich činnosti. Ze sdružení může každý svobodně vystoupi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Sdružení je právnickou osobou. Do jejich postavení a činnosti mohou státní orgány zasahovat jen v mezích zákona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Práva a povinnosti člena upravují stanov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Založit ji mohou nejméně 3 občané, z nichž alespoň jeden musí být starší 18 let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Arial"/>
              </a:rPr>
              <a:t>§ 9a zákona o sdružování občanů, vzniká dnem následujícím po doručení návrhu na evidenci příslušnému Ministerstvu vnitra ČR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24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novy odborov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0000" y="137160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§ 6 odst. 2 zákona o sdružování občanů, z. č. 83/1990 Sb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a) Název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b) Sídlo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c) Cíl jeho činnost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d) Orgány sdružení, způsob jejich ustavování, určení orgánů a funkcionářů oprávněných jednat jménem sdruž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e) Ustanovení o organizačních jednotkách, pokud budou zřízeny a pokud budou jednat svým jmén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f) Zásady hospodaření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5:51:09Z</dcterms:created>
  <dc:creator>kostadinovovaI</dc:creator>
  <dc:description/>
  <dc:language>en-US</dc:language>
  <cp:lastModifiedBy>Ilona</cp:lastModifiedBy>
  <dcterms:modified xsi:type="dcterms:W3CDTF">2008-11-20T07:19:58Z</dcterms:modified>
  <cp:revision>420</cp:revision>
  <dc:subject/>
  <dc:title>Prezentace aplikace PowerPoint</dc:title>
</cp:coreProperties>
</file>