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4332-B9E3-4869-BF91-E8FA898B8D6D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 u="sng">
                <a:solidFill>
                  <a:srgbClr val="000000"/>
                </a:solidFill>
                <a:uFillTx/>
                <a:latin typeface="Times New Roman"/>
              </a:rPr>
              <a:t>Fond kulturních a sociálních potř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Rozpočtová sféra – Vyhláška č. 114/2002 Sb., o fondu kulturních a sociálních potřeb, v platném zněn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Stravován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- Rozpočtová sféra – Vyhláška č. 430/2001 Sb., o nákladech na závodní stravování a jejich úhradě v organizačních složkách sátu a státních příspěvkových organizací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D68B-0470-48BB-A2D0-BE48646A3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9303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9A42-24B2-4A54-9FFF-26408998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9303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102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0F75-C1A5-4173-94C4-3838CE6B8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0942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8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9303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0942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8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9732-8F27-4C70-89A0-DC91C1030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34AD-CFE6-4152-9FEC-3D840A1BE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E2F6-CE9E-47AC-A43E-CCE17AD2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9A40-6A8F-411B-B8E4-6B7873D0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ED9F-3846-4589-8E12-171D3099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9CF7-D4B4-430E-A19D-D80AFE3B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44520" y="12474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06E3-E562-4DE2-B64C-6CA6A049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9303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D890-5210-49E5-812B-0683F8C2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9091-6461-46AF-8A57-A8426EA7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102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5463-30EE-49FA-8E63-D65311C6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9303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D0C8-8309-4CA3-8B14-F9BB718F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9303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4338-A1D9-47CA-8CED-A3325C31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9303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102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A50E-2699-4745-BC4D-D3DE53A56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0942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58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9303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40942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258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8E76-ED16-4D35-84C9-BCC5595E1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8D88-5541-4124-8EC9-90CF9F7E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4FA9-2CB6-4F10-B5ED-AD479D4C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1DCD-0FBB-4358-A716-265CF64D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44520" y="12474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3E48-7895-445F-8833-6F8D90F1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03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FC63-7C15-42D1-AA57-F3FA97C3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102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1C27-7F30-492F-A3FC-5A715A7F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303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92BC-88D1-4C59-9B9A-DEDD14F4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9B6A-CC65-4340-AA23-AC9544064C13}" type="slidenum">
              <a:rPr b="0" lang="cs-CZ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34DC-18B6-4682-9455-621C70AACC2C}" type="slidenum">
              <a:rPr b="0" lang="cs-CZ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http://www.sweb.cz/ilda" TargetMode="External"/><Relationship Id="rId3" Type="http://schemas.openxmlformats.org/officeDocument/2006/relationships/hyperlink" Target="http://www.sweb.cz/ilda" TargetMode="External"/><Relationship Id="rId4" Type="http://schemas.openxmlformats.org/officeDocument/2006/relationships/hyperlink" Target="http://www.sweb.cz/ilda" TargetMode="External"/><Relationship Id="rId5" Type="http://schemas.openxmlformats.org/officeDocument/2006/relationships/hyperlink" Target="http://www.sweb.cz/ilda" TargetMode="External"/><Relationship Id="rId6" Type="http://schemas.openxmlformats.org/officeDocument/2006/relationships/hyperlink" Target="http://www.sweb.cz/ilda" TargetMode="External"/><Relationship Id="rId7" Type="http://schemas.openxmlformats.org/officeDocument/2006/relationships/hyperlink" Target="http://www.sweb.cz/ilda" TargetMode="External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mpsv.cz/" TargetMode="External"/><Relationship Id="rId2" Type="http://schemas.openxmlformats.org/officeDocument/2006/relationships/hyperlink" Target="http://www.sbirkazakonu.cz/" TargetMode="External"/><Relationship Id="rId3" Type="http://schemas.openxmlformats.org/officeDocument/2006/relationships/hyperlink" Target="http://www.sbirkazakonu.cz/" TargetMode="External"/><Relationship Id="rId4" Type="http://schemas.openxmlformats.org/officeDocument/2006/relationships/hyperlink" Target="http://www.sbirkazakonu.cz/" TargetMode="External"/><Relationship Id="rId5" Type="http://schemas.openxmlformats.org/officeDocument/2006/relationships/hyperlink" Target="http://www.sbirkazakonu.cz/" TargetMode="External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9502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28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lektivní pracovní právo, kolektivní vyjednávání, řešení kolektivních sporů.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2. 11. 2008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19320" y="3645000"/>
            <a:ext cx="7696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33"/>
                </a:solidFill>
                <a:latin typeface="Arial"/>
              </a:rPr>
              <a:t>Mgr. Ilona Kostadinovová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e4828"/>
                </a:solidFill>
                <a:uFillTx/>
                <a:latin typeface="Arial"/>
                <a:hlinkClick r:id="rId1"/>
              </a:rPr>
              <a:t>ilda@seznam.cz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ae4828"/>
                </a:solidFill>
                <a:uFillTx/>
                <a:latin typeface="Arial"/>
                <a:hlinkClick r:id="rId2"/>
              </a:rPr>
              <a:t>www.</a:t>
            </a:r>
            <a:r>
              <a:rPr b="0" lang="cs-CZ" sz="3200" spc="-1" strike="noStrike" u="sng">
                <a:solidFill>
                  <a:srgbClr val="ae4828"/>
                </a:solidFill>
                <a:uFillTx/>
                <a:latin typeface="Arial"/>
                <a:hlinkClick r:id="rId3"/>
              </a:rPr>
              <a:t>sweb</a:t>
            </a:r>
            <a:r>
              <a:rPr b="0" lang="cs-CZ" sz="3200" spc="-1" strike="noStrike" u="sng">
                <a:solidFill>
                  <a:srgbClr val="ae4828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3200" spc="-1" strike="noStrike" u="sng">
                <a:solidFill>
                  <a:srgbClr val="ae4828"/>
                </a:solidFill>
                <a:uFillTx/>
                <a:latin typeface="Arial"/>
                <a:hlinkClick r:id="rId5"/>
              </a:rPr>
              <a:t>cz</a:t>
            </a:r>
            <a:r>
              <a:rPr b="0" lang="cs-CZ" sz="3200" spc="-1" strike="noStrike" u="sng">
                <a:solidFill>
                  <a:srgbClr val="ae4828"/>
                </a:solidFill>
                <a:uFillTx/>
                <a:latin typeface="Arial"/>
                <a:hlinkClick r:id="rId6"/>
              </a:rPr>
              <a:t>/</a:t>
            </a:r>
            <a:r>
              <a:rPr b="0" lang="cs-CZ" sz="3200" spc="-1" strike="noStrike" u="sng">
                <a:solidFill>
                  <a:srgbClr val="ae4828"/>
                </a:solidFill>
                <a:uFillTx/>
                <a:latin typeface="Arial"/>
                <a:hlinkClick r:id="rId7"/>
              </a:rPr>
              <a:t>ild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P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rávnická fakulta Západočeské univerzity v Plzn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Vysoká škola Karlovy Vary, o. p. 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748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Oprávnění odborové organiz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57480" y="1268280"/>
            <a:ext cx="77724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Odborové organizace jsou oprávněny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vystupovat v pracovněprávních vztazích, včetně kolektivního vyjednávání za podmínek stanovených zákonem nebo sjednaných v kolektivní smlouvě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Za odborovou organizaci jedná orgán určený jejími stanovami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Zaměstnavatel informuje odborovou organizac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zejména o vývoji mezd, platů, průměrné mzdy a jejich jednotlivých složek včetně členění podle jednotlivých profesních skupin, pokud není dohodnuto jinak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Zaměstnavatel je povinen projednat s odborovou organizací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zejmén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ekonomickou situaci zaměstnavate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množství práce a pracovní tempo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změny organizace prác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systém odměňování a hodnocení zaměstnanců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systém školení a vzdělávání zaměstnanců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748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Účast odborů při rozvázání pracovního poměru - § 61 Z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57480" y="1628280"/>
            <a:ext cx="7635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Výpověď či okamžité zrušení pracovního poměru je zaměstnavatel povinen </a:t>
            </a:r>
            <a:r>
              <a:rPr b="1" lang="cs-CZ" sz="2400" spc="-1" strike="noStrike">
                <a:solidFill>
                  <a:srgbClr val="333333"/>
                </a:solidFill>
                <a:latin typeface="Arial"/>
              </a:rPr>
              <a:t>předem projednat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s odborovou organizací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U člena orgánu odborové organizace v době jeho funkčního období a v době 1 roku po jeho skončení, je potřeba </a:t>
            </a:r>
            <a:r>
              <a:rPr b="1" lang="cs-CZ" sz="2400" spc="-1" strike="noStrike">
                <a:solidFill>
                  <a:srgbClr val="333333"/>
                </a:solidFill>
                <a:latin typeface="Arial"/>
              </a:rPr>
              <a:t>souhlas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odborové organizace. Bez souhlasu, jsou výpověď nebo okamžité zrušení pracovního poměru neplatné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Za souhlas se považuje též, jestliže odborová organizace písemně neodmítla udělit souhlas v době 15 dnů ode dne, kdy byla o něj zaměstnavatelem požádána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Souhlas lze použít ve lhůtě 2 měsíců od jeho udělení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Pokud jsou však všechny ostatní podmínky výpovědi nebo okamžitého zrušení pracovního poměru splněny a soud ve sporu o neplatnost rozvázání pracovního poměru podle § 72 ZP shledá, že na zaměstnavateli nelze spravedlivě požadovat, aby zaměstnance nadále zaměstnával, jsou výpověď i okamžité zrušení pracovního poměru platné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748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borové sdružování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748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33"/>
                </a:solidFill>
                <a:latin typeface="Arial"/>
              </a:rPr>
              <a:t>Oborové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33"/>
                </a:solidFill>
                <a:latin typeface="Arial"/>
              </a:rPr>
              <a:t>Profesní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33"/>
                </a:solidFill>
                <a:latin typeface="Arial"/>
              </a:rPr>
              <a:t>Sdružení odborových organizací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33"/>
                </a:solidFill>
                <a:latin typeface="Arial"/>
              </a:rPr>
              <a:t>ČMKOS – Českomoravská konfederace odborových svazů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33"/>
                </a:solidFill>
                <a:latin typeface="Arial"/>
              </a:rPr>
              <a:t>Svazy zaměstnavatelů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33"/>
                </a:solidFill>
                <a:latin typeface="Arial"/>
              </a:rPr>
              <a:t>AKV - Asociace pro kolektivní vyjednávání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ada zaměstnanc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33"/>
                </a:solidFill>
                <a:latin typeface="Arial"/>
              </a:rPr>
              <a:t>K zajištění práva na informace a projednání si mohou zaměstnanci zaměstnavatele, u něhož nepůsobí odborová organizace, zvolit </a:t>
            </a:r>
            <a:r>
              <a:rPr b="1" lang="cs-CZ" sz="3200" spc="-1" strike="noStrike">
                <a:solidFill>
                  <a:srgbClr val="333333"/>
                </a:solidFill>
                <a:latin typeface="Arial"/>
              </a:rPr>
              <a:t>radu zaměstnanců</a:t>
            </a:r>
            <a:r>
              <a:rPr b="0" lang="cs-CZ" sz="3200" spc="-1" strike="noStrike">
                <a:solidFill>
                  <a:srgbClr val="333333"/>
                </a:solidFill>
                <a:latin typeface="Arial"/>
              </a:rPr>
              <a:t>, popřípadě zástupce pro oblast bezpečnosti a ochrany zdraví při práci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748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vropská rada zaměstnanc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57480" y="1484280"/>
            <a:ext cx="77724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Zaměstnanci velkých nadnárodních zaměstnavatelů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v Evropském společenství mají právo, aby byli informováni a aby s nimi byly projednány nejdůležitější záležitosti, zejména změny v činnosti podniku či v organizaci práce. Postup předávání informací a projednání se dohodne mezi vedením a zaměstnanci, zpravidla je ustavena evropská rada zaměstnanců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Evropská rada zaměstnanců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se ustavuje na základě ujednání vyjednávacího výboru s ústředím. Zaměstnavatel s působností na území Evropských společenství je povinen vytvořit na svůj náklad podmínky pro ustavení a řádnou činnost vyjednávacího výboru, evropské rady zaměstnanců nebo jiný ujednaný postup pro nadnárodní informace a projednání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U mnoha nadnárodních zaměstnavatelů, kteří u nás působí, evropská rada zaměstnanců existuje a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od 1. května 2004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jsou do ní postupně zapojováni i zástupci zaměstnanců z České republiky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§ 281 až 285, § 288 až 299 zákoníku prác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lektivní smlou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33"/>
                </a:solidFill>
                <a:latin typeface="Arial"/>
              </a:rPr>
              <a:t>upravují individuální a kolektivní vztahy mezi zaměstnavateli a zaměstnanci a práva a povinnosti smluvních stran.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33"/>
                </a:solidFill>
                <a:latin typeface="Arial"/>
              </a:rPr>
              <a:t>Příslušný odborový orgán uzavírá kolektivní smlouvu i za zaměstnance, kteří nejsou odborově organizováni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33"/>
                </a:solidFill>
                <a:latin typeface="Arial"/>
              </a:rPr>
              <a:t>§ 15, § 22 až 29, § 276 až 287 zákoníku práce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33"/>
                </a:solidFill>
                <a:latin typeface="Arial"/>
              </a:rPr>
              <a:t>zákon o kolektivním vyjednávání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lektivní smlou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00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Arial"/>
              </a:rPr>
              <a:t>Postup při uzavírání kolektivních smluv podnikových a vyššího stupně stanoví zákon o kolektivním vyjednávání, z. č. 2/1991 Sb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Arial"/>
              </a:rPr>
              <a:t>§§ 22 – 29 ZP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Arial"/>
              </a:rPr>
              <a:t>Kolektivní smlouvy podle § 2 odst. 3 zákona o kolektivním vyjednávání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Arial"/>
              </a:rPr>
              <a:t>a) Podniková – uzavřená mezi příslušným odborovým orgánem (§ 32 odst. 1 zákona o kol. vyj.) a zaměstnavatelem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Arial"/>
              </a:rPr>
              <a:t>b) Vyššího stupně – uzavřená  pro větší počet zaměstnavatelů mezi příslušným vyšším odborovým orgánem a organizací nebo organizacemi zaměstnavatelů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Arial"/>
              </a:rPr>
              <a:t>Platnost a účinnost - § 4 zákona o kolektivním vyjednávání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Arial"/>
              </a:rPr>
              <a:t>- písemně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Arial"/>
              </a:rPr>
              <a:t>- podepsané na téže listině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Arial"/>
              </a:rPr>
              <a:t>- uzavřena na dobu, která je v ní výslovně určena, není-li sjednána na 1 rok (§ 6 odst. 1 zákona o kol. vyj. 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Arial"/>
              </a:rPr>
              <a:t>Nově:  § 26 odst. 1 ZP – na dobu určitou nebo neurčitou s výpovědní dobou       v délce 6 měsíců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41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Rozšiřování závaznosti kolektivních smluv vyššího stupn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57480" y="2349000"/>
            <a:ext cx="777240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33"/>
                </a:solidFill>
                <a:latin typeface="Arial"/>
              </a:rPr>
              <a:t>§ 7 zákona o kolektivním vyjednávání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ae4828"/>
                </a:solidFill>
                <a:uFillTx/>
                <a:latin typeface="Arial"/>
                <a:hlinkClick r:id="rId1"/>
              </a:rPr>
              <a:t>www.mpsv.cz</a:t>
            </a:r>
            <a:r>
              <a:rPr b="0" lang="cs-CZ" sz="3200" spc="-1" strike="noStrike">
                <a:solidFill>
                  <a:srgbClr val="333333"/>
                </a:solidFill>
                <a:latin typeface="Arial"/>
              </a:rPr>
              <a:t> – informace o uložených kolektivních smlouvách, jejichž závaznost byla rozšířena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33"/>
                </a:solidFill>
                <a:latin typeface="Arial"/>
              </a:rPr>
              <a:t>Sdělení Ministerstva práce a sociálních věcí ve  Sbírce zákonů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3200" spc="-1" strike="noStrike" u="sng">
                <a:solidFill>
                  <a:srgbClr val="ae4828"/>
                </a:solidFill>
                <a:uFillTx/>
                <a:latin typeface="Arial"/>
                <a:hlinkClick r:id="rId2"/>
              </a:rPr>
              <a:t>www.</a:t>
            </a:r>
            <a:r>
              <a:rPr b="0" lang="cs-CZ" sz="3200" spc="-1" strike="noStrike" u="sng">
                <a:solidFill>
                  <a:srgbClr val="ae4828"/>
                </a:solidFill>
                <a:uFillTx/>
                <a:latin typeface="Arial"/>
                <a:hlinkClick r:id="rId3"/>
              </a:rPr>
              <a:t>sbirkazakonu</a:t>
            </a:r>
            <a:r>
              <a:rPr b="0" lang="cs-CZ" sz="3200" spc="-1" strike="noStrike" u="sng">
                <a:solidFill>
                  <a:srgbClr val="ae4828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3200" spc="-1" strike="noStrike" u="sng">
                <a:solidFill>
                  <a:srgbClr val="ae4828"/>
                </a:solidFill>
                <a:uFillTx/>
                <a:latin typeface="Arial"/>
                <a:hlinkClick r:id="rId5"/>
              </a:rPr>
              <a:t>cz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lektivní sp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00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33"/>
                </a:solidFill>
                <a:latin typeface="Arial"/>
              </a:rPr>
              <a:t>Spory o uzavření kolektivní smlouv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33"/>
                </a:solidFill>
                <a:latin typeface="Arial"/>
              </a:rPr>
              <a:t>Spory o plnění závazků kolektivní smlouvy, ze kterých vznikají nároky jednotlivým zaměstnancům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33"/>
                </a:solidFill>
                <a:latin typeface="Arial"/>
              </a:rPr>
              <a:t>Zprostředkovatel, §§ 11, 12 zákona o kolektivním vyjednávání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33"/>
                </a:solidFill>
                <a:latin typeface="Arial"/>
              </a:rPr>
              <a:t>Rozhodce,  §§ 13, 14 zákona o kolektivním vyjednávání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33"/>
                </a:solidFill>
                <a:latin typeface="Arial"/>
              </a:rPr>
              <a:t>Stávka, §§ 16 – 26 zákona o kolektivním vyjednávání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33"/>
                </a:solidFill>
                <a:latin typeface="Arial"/>
              </a:rPr>
              <a:t>Výluka, §§  27 – 31 zákona o kolektivním vyjednávání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840" y="0"/>
            <a:ext cx="911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5748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Řízení před zprostředkovate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0000" y="1066320"/>
            <a:ext cx="77724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Zprostředkovatelem může být plnoletý občan způsobilý k právním úkonům nebo právnická osoba, pokud souhlasí s výkonem této funkce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Jde-li o případy administrativního určení, musí jít o zprostředkovatele zapsaného v seznamu zprostředkovatelů vedeném příslušným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M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inisterstvem práce a sociálních věcí České republiky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Do seznamu může být zapsána jen osoba plnoletá, plně způsobilá k právním úkonům, občansky bezúhonná, s ukončeným VŠ vzděláním právnického nebo ekonomického směru a splňující osobnostní vlastnosti předpokládané pro řádný a nestranný výkon činnosti zprostředkovatele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Zprostředkovatel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písemně sdělí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 smluvním stranám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návrh na řešení sporu do 15 dnů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 ode dne, kdy byl seznámen s předmětem sporu, nedohodnou-li se smluvní strany na jiné délce lhůty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Jedná se o sociální tip řízení, jde o snahu najít kompromis pro obě strany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748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ameny kolektivního pracovního prá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58920" y="1219320"/>
            <a:ext cx="7656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Zákoník práce, z. č. 262/2006 Sb., účinnost od 1. 1. 2007 (ZP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Zákon o kolektivním vyjednávání, z. č. 2/1991 Sb., ve znění pozdějších předpisů, předseda vlády vyhlásil ve Sbírce zákonů pod č. </a:t>
            </a:r>
            <a:r>
              <a:rPr b="0" lang="cs-CZ" sz="2000" spc="-1" strike="noStrike">
                <a:solidFill>
                  <a:srgbClr val="ae4828"/>
                </a:solidFill>
                <a:latin typeface="Arial"/>
              </a:rPr>
              <a:t>25/2007 Sb. úplné znění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Zákon č. 120/1990 Sb., kterým se upravují některé vztahy mezi odborovými orgány a zaměstnavateli, ve znění pozdějších předpisů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Zákon o sdružování občanů, z. č. 83/1990 Sb., o sdružování občanů, ve znění pozdějších předpisů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Správní řád, z. č. 500/2004 Sb., v platném znění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Zákon č. 99/1963 Sb., občanský soudní řád, v platném znění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Nařízení vlády č. 16/1991 Sb., o zprostředkovatelích, rozhodcích                a ukládání kolektivních smluv vyššího stupně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Nařízení vlády č. 114/1991 Sb., o odměně zprostředkovateli             a rozhodci, výši poplatku za stejnopis kolektivní smlouvy vyššího stupně a výši a způsobu úhrady nákladů řízení před rozhodcem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840" y="0"/>
            <a:ext cx="911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Řízení před rozhodc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0000" y="7617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Rozhodce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může pro podjatost přijetí návrhu odmítnout. Přijme-li žádost a sepíše zápis o zahájení řízení, vylučuje tak možnost řešit spor alternativní cestou (stávka, výluka)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Rozhodce je povinen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rozhodnout spor do 15 dnů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od zahájení řízení. Ve svém rozhodování je omezen a vázán návrhem, tj. žádostí o řešení sporu a předmětem sporu, který byl v žádosti vymezen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Výsledkem řízení  je rozhodnutí, které vychází ze skutečného stavu věci, který by se měl ověřit. Platí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zásada dispoziční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, tj. do vydání rozhodnutí mohou strany sporu od stanoviska ustoupit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Rozhodcem může být jen fyzická osoba, plnoletá, zapsaná do seznamu rozhodců, který vede ministerstvo práce a sociálních věcí. Nesmí jím být ten, kdo vystupoval v témž sporu jako zprostředkovatel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Rozhodce si stanoví na základě dohody strany nebo ho určí ministerstvo práce a sociálních věcí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Okamžikem doručení rozhodnutí o určení rozhodce MPSV samotnému  rozhodci je zahájeno řízení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V případě rozhodnutí o plnění z kolektivní smlouvy je možné se proti rozhodnutí obrátit na </a:t>
            </a:r>
            <a:r>
              <a:rPr b="1" lang="cs-CZ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krajský soud</a:t>
            </a:r>
            <a:r>
              <a:rPr b="0" lang="cs-CZ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 a podat návrh na zrušení rozhodnutí, </a:t>
            </a:r>
            <a:r>
              <a:rPr b="1" lang="cs-CZ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tzv. kasační princip</a:t>
            </a:r>
            <a:r>
              <a:rPr b="0" lang="cs-CZ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, § 244 a následující OSŘ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840" y="0"/>
            <a:ext cx="911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57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Stávk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00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Stávka</a:t>
            </a:r>
            <a:r>
              <a:rPr b="1" lang="cs-CZ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znamená přerušení plnění povinností zaměstnanců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V takovém případě se jedná o překážku na straně zaměstnance a zaměstnanci nepřísluší mzda ani náhrada mzdy. Odbory mohou ale poskytnout určité prostředky ze svých fondů za tuto dobu</a:t>
            </a:r>
            <a:r>
              <a:rPr b="0" lang="cs-CZ" sz="24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čl. 27 odst. 4 L</a:t>
            </a:r>
            <a:r>
              <a:rPr b="0" lang="cs-CZ" sz="2400" spc="-1" strike="noStrike">
                <a:solidFill>
                  <a:srgbClr val="333333"/>
                </a:solidFill>
                <a:latin typeface="Arial"/>
              </a:rPr>
              <a:t>istiny základních práv a svobod  - právo na stávku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- čl. 41 odst. 1 LZPS - je možné se tohoto práva domáhat pouze v mezích zákona, které Listinu základních práv </a:t>
            </a:r>
            <a:r>
              <a:rPr b="0" lang="cs-CZ" sz="24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a svobod provádějí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57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Výlu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00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Výluka </a:t>
            </a:r>
            <a:r>
              <a:rPr b="0" lang="cs-CZ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je obdobným prostředkem, který má možnost využívat zaměstnavatel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Zaměstnavatel přeruší plnění jeho povinností. Může jít </a:t>
            </a:r>
            <a:r>
              <a:rPr b="0" lang="cs-CZ" sz="24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o částečné nebo úplné hromadné zastavení práce zaměstnavatelem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Zaměstnancům není přidělována práce, nedostávají mzdu. Jedná se o prostředek řešení sporu mezi subjekty kolektivního vyjednávání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33"/>
                </a:solidFill>
                <a:latin typeface="Arial"/>
              </a:rPr>
              <a:t>P</a:t>
            </a:r>
            <a:r>
              <a:rPr b="0" lang="cs-CZ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řistoupí-li  k tomuto řešení </a:t>
            </a:r>
            <a:r>
              <a:rPr b="1" lang="cs-CZ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zaměstnavatel</a:t>
            </a:r>
            <a:r>
              <a:rPr b="0" lang="cs-CZ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, jedná se </a:t>
            </a:r>
            <a:r>
              <a:rPr b="0" lang="cs-CZ" sz="24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o </a:t>
            </a:r>
            <a:r>
              <a:rPr b="1" lang="cs-CZ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překážku na jeho straně</a:t>
            </a:r>
            <a:r>
              <a:rPr b="0" lang="cs-CZ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 a </a:t>
            </a:r>
            <a:r>
              <a:rPr b="1" lang="cs-CZ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zaměstnancům náleží proto náhrada mzdy ve výši 50 % průměrného měsíčního výdělku</a:t>
            </a:r>
            <a:r>
              <a:rPr b="0" lang="cs-CZ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, § 30 odst. 1 zák. o kol. vyj.  Je-li výluka nezákonná, náleží zaměstnancům náhrada mzdy ve výši průměrného výdělku, § 130 odst. 1 ZP</a:t>
            </a:r>
            <a:r>
              <a:rPr b="0" lang="cs-CZ" sz="2400" spc="-1" strike="noStrike">
                <a:solidFill>
                  <a:srgbClr val="333333"/>
                </a:solidFill>
                <a:latin typeface="Arial"/>
              </a:rPr>
              <a:t> (§ 208 NZP)</a:t>
            </a:r>
            <a:r>
              <a:rPr b="0" lang="cs-CZ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3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840" y="0"/>
            <a:ext cx="911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44520" y="45684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Vážení posluchači,</a:t>
            </a:r>
            <a:br>
              <a:rPr sz="36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děkuji Vám za pozornost. </a:t>
            </a:r>
            <a:br>
              <a:rPr sz="36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eji příjemný zbytek dnešního dne.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981080" y="35053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33"/>
                </a:solidFill>
                <a:latin typeface="Arial"/>
              </a:rPr>
              <a:t>Mgr. Ilona Kostadinovová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e4828"/>
                </a:solidFill>
                <a:uFillTx/>
                <a:latin typeface="Arial"/>
                <a:hlinkClick r:id="rId1"/>
              </a:rPr>
              <a:t>ilda@seznam.cz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</a:t>
            </a:r>
            <a:r>
              <a:rPr b="0" lang="cs-CZ" sz="2400" spc="-1" strike="noStrike">
                <a:solidFill>
                  <a:srgbClr val="333333"/>
                </a:solidFill>
                <a:latin typeface="Arial"/>
              </a:rPr>
              <a:t>rávnická fakulta Západočeské univerzity       v Plzn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33"/>
                </a:solidFill>
                <a:latin typeface="Arial"/>
              </a:rPr>
              <a:t>Vysoká škola Karlovy Vary, o. p. s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33"/>
                </a:solidFill>
                <a:latin typeface="Arial"/>
              </a:rPr>
              <a:t>Spolupráce MPSV Č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7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éče o zaměstnance, §§ 224 – 247 Z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748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Pracovní podmínky pro bezpečný výkon prác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Úloha kolektivního vyjednávání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ae4828"/>
                </a:solidFill>
                <a:latin typeface="Arial"/>
              </a:rPr>
              <a:t>Př.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 Fond kulturních a sociálních potřeb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Rozpočtová sféra – Vyhláška č. 114/2002 Sb., o fondu kulturních a sociálních potřeb, v platném znění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ae4828"/>
                </a:solidFill>
                <a:latin typeface="Arial"/>
              </a:rPr>
              <a:t>Př.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 Stravování, § 236 ZP – umožnit, konkrétní podobu si určí zaměstnavatel sám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Rozpočtová sféra – Vyhláška č. 430/2001 Sb., o nákladech na závodní stravování a jejich úhradě v organizačních složkách sátu a státních příspěvkových organizacích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333333"/>
                </a:solidFill>
                <a:uFillTx/>
                <a:latin typeface="Arial"/>
              </a:rPr>
              <a:t>Odborný rozvoj zaměstnanců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Prohlubování kvalifikace, § 230 ZP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- účast se považuje za výkon práce, za který přísluší zaměstnanci mzda, § 230 odst. 3 ZP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Zvýšení kvalifikace, § 231 ZP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5748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Dohoda o zvyšování/prohlubování kvalifikace,  234 odst. 1 Z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574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33"/>
                </a:solidFill>
                <a:latin typeface="Arial"/>
              </a:rPr>
              <a:t>Závazek zaměstnance setrvat u zaměstnavatele v zaměstnání po sjednanou dobu, nejdéle po dobu 5 let, nebo uhradit náklady spojené se získáním kvalifikace, které zaměstnavatel vynaložil, i tehdy, skončí-li pracovní poměr před ukončením studia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33"/>
                </a:solidFill>
                <a:latin typeface="Arial"/>
              </a:rPr>
              <a:t>Při prohlubování kvalifikace, dosahují-li náklady alespoň 75 000, - Kč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33"/>
                </a:solidFill>
                <a:latin typeface="Arial"/>
              </a:rPr>
              <a:t>Musí být uzavřena písemně, jinak je neplatná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33"/>
                </a:solidFill>
                <a:latin typeface="Arial"/>
              </a:rPr>
              <a:t>Musí obsahovat druh kvalifikace, dobu setrvání u zaměstnavatele a druhy nákladů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748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mluvní svob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748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33"/>
                </a:solidFill>
                <a:latin typeface="Arial"/>
              </a:rPr>
              <a:t>Vznik pracovního poměru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33"/>
                </a:solidFill>
                <a:latin typeface="Arial"/>
              </a:rPr>
              <a:t>Ujednání o právech a povinnostech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33"/>
                </a:solidFill>
                <a:latin typeface="Arial"/>
              </a:rPr>
              <a:t>Podle soukromoprávní zásady „co není zakázáno, je dovoleno“, nelze tedy kogentní ustanovení zákoníku práce vyloučit ani smluvním ujednáním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33"/>
                </a:solidFill>
                <a:latin typeface="Arial"/>
              </a:rPr>
              <a:t>Funkce pracovního práva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33"/>
                </a:solidFill>
                <a:latin typeface="Arial"/>
              </a:rPr>
              <a:t>a) Ochranná – minimální standard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33"/>
                </a:solidFill>
                <a:latin typeface="Arial"/>
              </a:rPr>
              <a:t>b) Organizační – organizace prác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33"/>
                </a:solidFill>
                <a:latin typeface="Arial"/>
              </a:rPr>
              <a:t>c) Výchovná – jednání v souladu s dobrými mrav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smluvní volnosti - je možné se odchýlit od určitého ustanovení zákoníku práce?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chylná úprava práv a povinností, § 2 odst. 2 Z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57480" y="2286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Zjistit, zda není ustanovení v § 363 odst. 2 nebo není výslovně zakázáno, že se od něj není možné odchýlit - § 2 odst. 1 NZP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Zjistit, zda není v § 363 odst.1 nebo nejde o ustanovení ukládající povinnos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Z textu ustanovení zjisti, zda umožňuje odchylnou úpravu, upravuje-li minimální nebo maximální hranici, pak ji nelze překročit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Mzdová, platová a ostatní práva nemohou být nižší nebo vyšší, než je právo, které stanoví zákon, kolektivní smlouva nebo vnitřní předpis, § 2 odst. 3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333333"/>
                </a:solidFill>
                <a:uFillTx/>
                <a:latin typeface="Arial"/>
              </a:rPr>
              <a:t>Jakým způsobem se lze odchýlit?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Smlouvou – nepojmenované smlouvy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Vnitřním předpisem - § 305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Kolektivní smlouvou - §§ 22- 29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6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Informování a projednání, zaměstnavatel je povinen zaměstnance informova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7480" y="263664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o ekonomické a finanční situaci zaměstnavatele, důsledcích jeho činnosti na životní prostředí a jeho ekologických opatřeních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o pravděpodobném vývoji zaměstnanosti u zaměstnavate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o zamýšlených strukturálních změnách, racionalizačních nebo organizačních opatřeních a opatřeních v souvislosti s hromadným propouštěním zaměstnanců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o bezpečnosti a ochraně zdraví při práci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o opatřeních zaměstnavatele směřujících k zajištění rovného zacházení a k zamezení diskriminac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o nabídce volných pracovních míst na dobu neurčitou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borová organiz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§ 15 ZP odborové orgány mají právo účastnit se pracovněprávních vztahů včetně kolektivního vyjednávání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§§ 15, 22 NZP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§ 2 zákona o sdružování občanů, z. č.  83/1990 Sb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Občané mohou zakládat odborové organizace (sdružení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Dobrovolnost sdružení. Nikdo nesmí být nucen k členství ani k účasti na jejich činnosti. Ze sdružení může každý svobodně vystoupit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Sdružení je právnickou osobou. Do jejich postavení a činnosti mohou státní orgány zasahovat jen v mezích zákona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Práva a povinnosti člena upravují stanovy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Založit ji mohou nejméně 3 občané, z nichž alespoň jeden musí být starší 18 let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§ 9a zákona o sdružování občanů, vzniká dnem následujícím po doručení návrhu na evidenci příslušnému Ministerstvu vnitra ČR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24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anovy odborové organ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0000" y="1371600"/>
            <a:ext cx="777240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33"/>
                </a:solidFill>
                <a:latin typeface="Arial"/>
              </a:rPr>
              <a:t>§ 6 odst. 2 zákona o sdružování občanů, z. č. 83/1990 Sb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33"/>
                </a:solidFill>
                <a:latin typeface="Arial"/>
              </a:rPr>
              <a:t>a) Název sdružení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33"/>
                </a:solidFill>
                <a:latin typeface="Arial"/>
              </a:rPr>
              <a:t>b) Sídlo sdružení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33"/>
                </a:solidFill>
                <a:latin typeface="Arial"/>
              </a:rPr>
              <a:t>c) Cíl jeho činnost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33"/>
                </a:solidFill>
                <a:latin typeface="Arial"/>
              </a:rPr>
              <a:t>d) Orgány sdružení, způsob jejich ustavování, určení orgánů a funkcionářů oprávněných jednat jménem sdružení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33"/>
                </a:solidFill>
                <a:latin typeface="Arial"/>
              </a:rPr>
              <a:t>e) Ustanovení o organizačních jednotkách, pokud budou zřízeny a pokud budou jednat svým jménem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33"/>
                </a:solidFill>
                <a:latin typeface="Arial"/>
              </a:rPr>
              <a:t>f) Zásady hospodaření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15:51:09Z</dcterms:created>
  <dc:creator>kostadinovovaI</dc:creator>
  <dc:description/>
  <dc:language>en-US</dc:language>
  <cp:lastModifiedBy>Ilona</cp:lastModifiedBy>
  <dcterms:modified xsi:type="dcterms:W3CDTF">2008-11-20T07:19:58Z</dcterms:modified>
  <cp:revision>420</cp:revision>
  <dc:subject/>
  <dc:title>Prezentace aplikace PowerPoint</dc:title>
</cp:coreProperties>
</file>