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57B-86DB-4161-B81E-828CE6F758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BBE-EE2A-410D-830B-D9DC575B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25F-B937-42A9-A4A6-988AF55C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E75-34C5-4B85-B5AA-D0B840C6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E47-1C13-4146-A983-6F50BFAD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9C1-CF00-4739-9E8F-43EA0060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DA7-C573-4A3A-94CC-9A81F819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7FAB-2CC6-4A97-B229-3CC1627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9F2A-FBF8-4630-8C21-9A0A6A2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5011-8C24-4530-A311-2D15951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5216-04DC-4000-B341-FB6B0F3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2FE6-2646-4A56-9F95-FAAB394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5DE-05D8-4CC6-AE68-6059E67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95B1-EA93-4C89-9088-84506EC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51EA-221E-42C3-9A6F-EA87634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18C-7765-4BDE-83CB-0DAD657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F63-04BA-415B-9C34-0A256FA0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5F72-D416-404D-84FF-3334C455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128-5034-4DA2-BF3A-5F818D59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9B8-740C-4AD5-AC48-74DAB19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1D0-8E9F-41B9-A222-B0201F9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045-A88E-44CC-9F1D-0B8A4DED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D67-84C0-4AFB-95FE-F45AD961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1C0-9613-476E-A722-DF22390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D1C-3AF7-4F18-ABC2-ABBF51D3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F16-7303-4F7D-A501-8642D1D3CEE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E7F-F064-4C16-80E4-FEB7BB40EFD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26. 11. 2008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Vysoká škola Karlovy Vary, o. p. s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řad práce, 435/2004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ují dodržování zákona o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ění povinného podílu zaměstnávání osob zdravotně znevýhodně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lášení volných pracovních mí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idence občanů EU pracujících na našem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Inspekce práce, 251/2005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74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trola dodržování pracovně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spektor se ohlásí, zaměstnavatel je povinen poskytnout součin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mátkové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ě plánované v kal.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dně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upky 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rávní delikty 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ákon č. 118/2000 Sb., o ochraně zaměstnanců při platební neschopnosti zaměstnavatele,         v platném zně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požádat kterýkoliv úřad práce, místně příslušný je úřad práce, v jehož obvodu má sídlo nebo místo podnikání zaměstnava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uplatnit mzdové nároky nejvýše v rozsahu odpovídajícím splatným mzdovým nárokům za 3 měsíce rozhodného období, zpětně od prvního dne kalendářního měsíce, ve kterém byl podán návrh na prohlášení konkurs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ově lze vyplatit 1 zaměstnanci za 1 měsíc částku jeden a půl násobku průměrné mzdy v národním hospodářství za předchozí kalendářní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4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on o zaměstnanosti, z. č. 435/2004 Sb., v platném znění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roc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57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382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262/2006 Sb. bude dávky nemocenského pojištění vyplácet vždy okresní správa sociálního zabezpe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43000" y="838080"/>
          <a:ext cx="8001000" cy="605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Ilona</cp:lastModifiedBy>
  <dcterms:modified xsi:type="dcterms:W3CDTF">2008-11-25T13:04:51Z</dcterms:modified>
  <cp:revision>244</cp:revision>
  <dc:subject/>
  <dc:title>Základy pracovního práva Vysoká škola Karlovy Vary,o.p.s.</dc:title>
</cp:coreProperties>
</file>