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FEBD-1A90-4B31-919A-5A151C16342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46F51-AB8E-48EE-8EE8-D2C842BD7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BF30E-A59C-4BBA-85E5-B4104E9B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5FE98-AFDC-4F89-951C-A0F2DDB11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4A6B7-D8E2-4A97-9AE9-3706D43E4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B232A-FF92-4E2A-A40C-4E659D14A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B7A6D-ED83-4810-9356-A0DBE6171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40860-4E8C-4AA9-B043-F19898711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929F-E404-4A79-85DC-CD3A7A877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DDCA0-104E-4CC9-B2FE-93ABAC18B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9B520-D1FB-4922-8993-41B31EA77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A7E0E-B568-4E90-9B3C-079444273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2078E-8153-429A-868A-79EF9992D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43AE5-C852-4778-AE96-11D8D4401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9FEB8-3675-4CC9-B189-20D28475B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D0B91-6ABA-4210-947E-51028BF89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4518B-859A-4EEC-9D98-3B52FB153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483FF-C517-439E-B821-12B153258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E0EC5-E49F-402F-BC84-320864743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77AD-66DA-49FF-9ACF-DA63830A4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535E-A95A-418E-A761-7E2D48D8D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A480-7235-4F83-830C-6CC3E8DE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A114-77F8-4D68-8FDC-37A191554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AE52-75F8-43A1-BC8A-1321B3F5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14E2-2E8C-4ADA-AA19-0D80F88E3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905F-9A39-40C2-9CFD-0C36658F76F7}"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3454-1541-4B0C-AFEC-FD087D97B3E3}"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rscr.cz/"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sluzbyprevence.mpsv.cz/" TargetMode="External"/><Relationship Id="rId2" Type="http://schemas.openxmlformats.org/officeDocument/2006/relationships/hyperlink" Target="http://www.sluzbyprevence.mpsv.cz/" TargetMode="External"/><Relationship Id="rId3" Type="http://schemas.openxmlformats.org/officeDocument/2006/relationships/hyperlink" Target="http://www.sluzbyprevence.mpsv.cz/" TargetMode="External"/><Relationship Id="rId4" Type="http://schemas.openxmlformats.org/officeDocument/2006/relationships/hyperlink" Target="http://www.sluzbyprevence.mpsv.cz/" TargetMode="External"/><Relationship Id="rId5" Type="http://schemas.openxmlformats.org/officeDocument/2006/relationships/hyperlink" Target="http://www.sluzbyprevence.mpsv.cz/" TargetMode="External"/><Relationship Id="rId6" Type="http://schemas.openxmlformats.org/officeDocument/2006/relationships/hyperlink" Target="http://www.sluzbyprevence.mpsv.cz/" TargetMode="External"/><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i="1" lang="cs-CZ" sz="4000" spc="-1" strike="noStrike">
                <a:solidFill>
                  <a:srgbClr val="ffcc66"/>
                </a:solidFill>
                <a:latin typeface="Times New Roman"/>
              </a:rPr>
              <a:t>Sociální péče</a:t>
            </a:r>
            <a:br>
              <a:rPr sz="4000"/>
            </a:br>
            <a:r>
              <a:rPr b="0" i="1" lang="cs-CZ" sz="4000" spc="-1" strike="noStrike">
                <a:solidFill>
                  <a:srgbClr val="ffcc66"/>
                </a:solidFill>
                <a:latin typeface="Times New Roman"/>
              </a:rPr>
              <a:t>Vysoká škola Karlovy Vary, o. p. s.</a:t>
            </a:r>
            <a:br>
              <a:rPr sz="4000"/>
            </a:br>
            <a:r>
              <a:rPr b="0" i="1" lang="cs-CZ" sz="4000" spc="-1" strike="noStrike">
                <a:solidFill>
                  <a:srgbClr val="ffcc66"/>
                </a:solidFill>
                <a:latin typeface="Times New Roman"/>
              </a:rPr>
              <a:t> 10. 12.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Zvýšení příjmu vlastním přičiněním</a:t>
            </a:r>
            <a:endParaRPr b="0" i="1" lang="en-US" sz="4000" spc="-1" strike="noStrike">
              <a:solidFill>
                <a:srgbClr val="ffcc66"/>
              </a:solidFill>
              <a:latin typeface="Times New Roman"/>
            </a:endParaRPr>
          </a:p>
        </p:txBody>
      </p:sp>
      <p:sp>
        <p:nvSpPr>
          <p:cNvPr id="128"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dostatečný příjem je pouze jednou z podmínek hmotné nouze, podstatné je, že osoba/společně posuzované osoby si ho nemohou zvýšit vlastním přičiněním.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výšením příjmu vlastním přičiněním se rozumí zvýšení příjmu</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lastní prací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řádným uplatněním nároků a pohledávek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dejem nebo jiným využitím majetku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blíže stanoví, co se rozumí jednotlivými formami vlastního přičinění, stanoví i situace, okruh osob, u nichž se některá forma vlastního přičinění nevyžaduje a vliv snahy osoby na nárok na dávku a její výši.</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zaopatřenost dítěte se posuzuje podle zákona o státní sociální podpoře.</a:t>
            </a: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ávky pomoci v hmotná nouzi</a:t>
            </a:r>
            <a:endParaRPr b="0" i="1" lang="en-US" sz="4400" spc="-1" strike="noStrike">
              <a:solidFill>
                <a:srgbClr val="ffcc66"/>
              </a:solidFill>
              <a:latin typeface="Times New Roman"/>
            </a:endParaRPr>
          </a:p>
        </p:txBody>
      </p:sp>
      <p:sp>
        <p:nvSpPr>
          <p:cNvPr id="131"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ek na živobyt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doplatek na bydlen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imořádná okamžitá pomoc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4" name="PlaceHolder 2"/>
          <p:cNvSpPr>
            <a:spLocks noGrp="1"/>
          </p:cNvSpPr>
          <p:nvPr>
            <p:ph/>
          </p:nvPr>
        </p:nvSpPr>
        <p:spPr>
          <a:xfrm>
            <a:off x="250560" y="1267920"/>
            <a:ext cx="8569080" cy="51850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říspěvek na živobytí</a:t>
            </a:r>
            <a:r>
              <a:rPr b="1" lang="cs-CZ" sz="2000" spc="-1" strike="noStrike">
                <a:solidFill>
                  <a:srgbClr val="ffffcc"/>
                </a:solidFill>
                <a:latin typeface="Times New Roman"/>
              </a:rPr>
              <a:t> a na </a:t>
            </a:r>
            <a:r>
              <a:rPr b="1" lang="cs-CZ" sz="2000" spc="-1" strike="noStrike" u="sng">
                <a:solidFill>
                  <a:srgbClr val="ffffcc"/>
                </a:solidFill>
                <a:uFillTx/>
                <a:latin typeface="Times New Roman"/>
              </a:rPr>
              <a:t>doplatek na bydlení</a:t>
            </a:r>
            <a:r>
              <a:rPr b="1" lang="cs-CZ" sz="2000" spc="-1" strike="noStrike">
                <a:solidFill>
                  <a:srgbClr val="ffffcc"/>
                </a:solidFill>
                <a:latin typeface="Times New Roman"/>
              </a:rPr>
              <a:t> má nárok: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á je na území České republiky hlášena k trvalému pobytu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é byl udělen azyl nebo doplňková ochran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bez trvalého pobytu na území České republiky, kterému tato práva zaručuje mezinárodní smlouva (Evropská sociální chart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U, kterému nárok na sociální výhody vyplývá z přímo použitelného předpisu Evropských společenství a jeho rodinný příslušník (např. Nařízení Rady EHS)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občana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který je držitelem povolení k trvalému pobytu s přiznaným právním postavením dlouhodobě pobývajícího rezidenta v Evropském společenství na území jiného členského státu EU a bylo mu uděleno povolení k dlouhodobému pobytu na území České republiky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cizince uvedeného v předchozí odrážce, kterému bylo uděleno povolení k dlouhodobému pobytu na území České republiky. </a:t>
            </a:r>
            <a:endParaRPr b="0" lang="en-US" sz="2000" spc="-1" strike="noStrike">
              <a:solidFill>
                <a:srgbClr val="ffffcc"/>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7" name="PlaceHolder 2"/>
          <p:cNvSpPr>
            <a:spLocks noGrp="1"/>
          </p:cNvSpPr>
          <p:nvPr>
            <p:ph/>
          </p:nvPr>
        </p:nvSpPr>
        <p:spPr>
          <a:xfrm>
            <a:off x="323640" y="2421000"/>
            <a:ext cx="8280360" cy="3744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kruh oprávněných osob pro </a:t>
            </a:r>
            <a:r>
              <a:rPr b="0" lang="cs-CZ" sz="2800" spc="-1" strike="noStrike" u="sng">
                <a:solidFill>
                  <a:srgbClr val="ffffcc"/>
                </a:solidFill>
                <a:uFillTx/>
                <a:latin typeface="Times New Roman"/>
              </a:rPr>
              <a:t>mimořádnou okamžitou pomoci</a:t>
            </a:r>
            <a:r>
              <a:rPr b="1" lang="cs-CZ" sz="2800" spc="-1" strike="noStrike">
                <a:solidFill>
                  <a:srgbClr val="ffffcc"/>
                </a:solidFill>
                <a:latin typeface="Times New Roman"/>
              </a:rPr>
              <a:t> je širší, kromě osob uvedených výše jsou oprávněnými osobami při splnění podmínek rovněž osoby pobývající na území České republiky na základě zákona o pobytu cizinců. V odůvodněných případech – je-li osoba vážně ohrožena na zdraví – může jí být mimořádná okamžitá pomoc poskytnuta, i když pobývá na území České republiky v rozporu se zákonem o pobytu cizinců.</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íspěvek na živobytí</a:t>
            </a:r>
            <a:endParaRPr b="0" i="1" lang="en-US" sz="4400" spc="-1" strike="noStrike">
              <a:solidFill>
                <a:srgbClr val="ffcc66"/>
              </a:solidFill>
              <a:latin typeface="Times New Roman"/>
            </a:endParaRPr>
          </a:p>
        </p:txBody>
      </p:sp>
      <p:sp>
        <p:nvSpPr>
          <p:cNvPr id="139" name="PlaceHolder 2"/>
          <p:cNvSpPr>
            <a:spLocks noGrp="1"/>
          </p:cNvSpPr>
          <p:nvPr>
            <p:ph/>
          </p:nvPr>
        </p:nvSpPr>
        <p:spPr>
          <a:xfrm>
            <a:off x="250560" y="2060280"/>
            <a:ext cx="8569080" cy="4492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živobytí je základní dávka pomoci v hmotné nouzi, která řeší nedostatečný příjem osoby/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příspěvek na živobytí má osoba v hmotné nouzi, pokud její příjem/příjem společně posuzovaných osob nedosahuje částky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je dán zákonem o životním a existenčním minim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však stanoví několik odchylek, např. do okruhu společně posuzovaných osob nepatř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nastoupila výkon trestu odnětí svobody nebo byla vzata do vazby (a výkon trestu nebo vazby trval celý kalendářní měsí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je umístěna k celoročnímu pobytu v ústavu sociální péče nebo obdobném zařízení apod.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zhledem k tomu, že v praxi dochází k různým situacím, které jsou zcela individuálního charakteru, má orgán pomoci v hmotné nouzi možnost z okruhu společně posuzovaných osob některou osobu vylouči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Živobytí</a:t>
            </a:r>
            <a:endParaRPr b="0" i="1" lang="en-US" sz="4400" spc="-1" strike="noStrike">
              <a:solidFill>
                <a:srgbClr val="ffcc66"/>
              </a:solidFill>
              <a:latin typeface="Times New Roman"/>
            </a:endParaRPr>
          </a:p>
        </p:txBody>
      </p:sp>
      <p:sp>
        <p:nvSpPr>
          <p:cNvPr id="142" name="PlaceHolder 2"/>
          <p:cNvSpPr>
            <a:spLocks noGrp="1"/>
          </p:cNvSpPr>
          <p:nvPr>
            <p:ph/>
          </p:nvPr>
        </p:nvSpPr>
        <p:spPr>
          <a:xfrm>
            <a:off x="250920" y="1916280"/>
            <a:ext cx="8130960" cy="4636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Živobytí osoby/společně posuzovaných osob je stanoveno s ohledem na příjem, možnost jeho zvýšení, majetkové poměry a další okolnosti (jako je např. nákladné dietní stravování, délka setrvání ve stavu hmotné nouze, aktivní přístup k hledání zaměstnání apo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a živobytí se odvíjí od výše existenčního a životního minima a stanoví se individuálně pro každou osobu na základě zhodnocení její snahy, možností a potřeb.</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Výše příspěvku na živobytí se stanoví jako rozdíl mezi živobytím osoby/společně posuzovaných osob a příjmem osoby/společně posuzovaných osob, který je snížený o přiměřené náklady na bydlení.</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oplatek na bydlení</a:t>
            </a:r>
            <a:endParaRPr b="0" i="1" lang="en-US" sz="4400" spc="-1" strike="noStrike">
              <a:solidFill>
                <a:srgbClr val="ffcc66"/>
              </a:solidFill>
              <a:latin typeface="Times New Roman"/>
            </a:endParaRPr>
          </a:p>
        </p:txBody>
      </p:sp>
      <p:sp>
        <p:nvSpPr>
          <p:cNvPr id="145" name="PlaceHolder 2"/>
          <p:cNvSpPr>
            <a:spLocks noGrp="1"/>
          </p:cNvSpPr>
          <p:nvPr>
            <p:ph/>
          </p:nvPr>
        </p:nvSpPr>
        <p:spPr>
          <a:xfrm>
            <a:off x="250920" y="1844640"/>
            <a:ext cx="8130960" cy="4464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s vlastními příjmy pomáhá uhradit odůvodněné náklady na bydlení.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še doplatku na bydlení je stanovena tak, aby po zaplacení odůvodněných nákladů na bydlení (tj. nájmu, služeb s bydlením spojených a nákladů za dodávku energií) zůstala osobě/společně posuzovaným osobám částka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doplatek na bydlení má vlastník nebo nájemce bytu, který užívá byt, a jehož příjem/příjem společně posuzovaných osob je po úhradě odůvodněných nákladů na bydlení nižší než částka jeho živobytí/částka živobytí 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pro účely doplatku na bydlení je stejný jako pro účel příspěvku na bydlení ze systému státní sociální podpor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dmínkou nároku na doplatek na bydlení je získání nároku na příspěvek na živobytí a nárok na příspěvek na bydlení ze systému státní sociální podpory. </a:t>
            </a:r>
            <a:endParaRPr b="0" lang="en-US" sz="20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iznání doplatku na bydlení</a:t>
            </a:r>
            <a:endParaRPr b="0" i="1" lang="en-US" sz="4400" spc="-1" strike="noStrike">
              <a:solidFill>
                <a:srgbClr val="ffcc66"/>
              </a:solidFill>
              <a:latin typeface="Times New Roman"/>
            </a:endParaRPr>
          </a:p>
        </p:txBody>
      </p:sp>
      <p:sp>
        <p:nvSpPr>
          <p:cNvPr id="148" name="PlaceHolder 2"/>
          <p:cNvSpPr>
            <a:spLocks noGrp="1"/>
          </p:cNvSpPr>
          <p:nvPr>
            <p:ph/>
          </p:nvPr>
        </p:nvSpPr>
        <p:spPr>
          <a:xfrm>
            <a:off x="250920" y="1413000"/>
            <a:ext cx="8130960" cy="525600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Doplatek na bydlení lze přiznat (s přihlédnutím k celkovým sociálním a majetkovým poměrům), i osobě, které příspěvek na živobytí nebyl přiznán, protože její příjem/příjem společně posuzovaných osob přesáhl částku živobytí osoby/společně posuzovaných osob, ale nepřesáhl 1,3násobek této částky.</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árok na doplatek na bydlení nevznikne, pokud osoba bez vážného důvodu odmítne možnost levnějšího přiměřeného bydlení nabídnutou nebo zprostředkovanou obcí, v níž má trvalý pobyt. Toto neplatí pro osoby starší 65 let a poživatele starobního důchodu.</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pamatuje i na specifické situace spojené s bydlením. V případech hodných zvláštního zřetele může orgán pomoci v hmotné nouzi rozhodnout, že za nájemce považuje pro účely doplatku na bydlení i osobu dlouhodobě užívající jinou než nájemní formu bydlení. Nárok na doplatek na bydlení má také nezletilé nezaopatřené dítě, které je v plném přímém zaopatření ústavu (zařízení) pro péči o děti nebo mládež nebo které žije v náhradní rodinné péči, na které přešlo vlastnictví nebo nájem bytu a dítě nemá dostatečný příjem nebo majetek k úhradě odůvodněných nákladů na bydlení.</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cc"/>
                </a:solidFill>
                <a:uFillTx/>
                <a:latin typeface="Times New Roman"/>
              </a:rPr>
              <a:t>Výše doplatku</a:t>
            </a:r>
            <a:r>
              <a:rPr b="1" lang="cs-CZ" sz="1800" spc="-1" strike="noStrike">
                <a:solidFill>
                  <a:srgbClr val="ffffcc"/>
                </a:solidFill>
                <a:latin typeface="Times New Roman"/>
              </a:rPr>
              <a:t> na bydlení se vypočte tak, že se od částky odůvodněných nákladů na bydlení připadajících na kalendářní měsíc (snížené o příspěvek na bydlení náležející za předchozí kalendářní měsíc) odečte částka, o kterou příjem osoby/společně posuzovaných osob (včetně vyplaceného příspěvku na živobytí) převyšuje částku živobytí osoby/společně posuzovaných osob.</a:t>
            </a:r>
            <a:endParaRPr b="0" lang="en-US" sz="1800" spc="-1" strike="noStrike">
              <a:solidFill>
                <a:srgbClr val="ffffcc"/>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mořádná okamžitá pomoc</a:t>
            </a:r>
            <a:endParaRPr b="0" i="1" lang="en-US" sz="4000" spc="-1" strike="noStrike">
              <a:solidFill>
                <a:srgbClr val="ffcc66"/>
              </a:solidFill>
              <a:latin typeface="Times New Roman"/>
            </a:endParaRPr>
          </a:p>
        </p:txBody>
      </p:sp>
      <p:sp>
        <p:nvSpPr>
          <p:cNvPr id="151" name="PlaceHolder 2"/>
          <p:cNvSpPr>
            <a:spLocks noGrp="1"/>
          </p:cNvSpPr>
          <p:nvPr>
            <p:ph/>
          </p:nvPr>
        </p:nvSpPr>
        <p:spPr>
          <a:xfrm>
            <a:off x="250560" y="1197000"/>
            <a:ext cx="8569080" cy="54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rostřednictvím mimořádné okamžité pomoci může být poskytnuta pomoc v situacích nepříznivého a mimořádného charakteru, kdy není osoba v hmotné nouzi, ale je jí vhodné bezprostředně poskytnout pomo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stanoví několik situací, v nichž lze tuto dávku pomoci v hmotné nouzi poskytnout:</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rvní</a:t>
            </a:r>
            <a:r>
              <a:rPr b="1" lang="cs-CZ" sz="2000" spc="-1" strike="noStrike">
                <a:solidFill>
                  <a:srgbClr val="ffffcc"/>
                </a:solidFill>
                <a:latin typeface="Times New Roman"/>
              </a:rPr>
              <a:t> situací je ta, kdy osoba sice neplní podmínky hmotné nouze, ale kvůli nedostatku finančních prostředků jí hrozí vážná újma na zdraví. Dávka doplní příjem osoby do existenčního minima (v případě nezaopatřeného dítěte do životního minim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Druhá</a:t>
            </a:r>
            <a:r>
              <a:rPr b="1" lang="cs-CZ" sz="2000" spc="-1" strike="noStrike">
                <a:solidFill>
                  <a:srgbClr val="ffffcc"/>
                </a:solidFill>
                <a:latin typeface="Times New Roman"/>
              </a:rPr>
              <a:t> situace, v níž lze poskytnout mimořádnou okamžitou pomoc, je spojena s vážnou mimořádnou událostí. Mimořádná okamžitá pomoc může být poskytnuta osobě, která není v hmotné nouzi a kterou postihne vážná mimořádná událost a celkové sociální a majetkové poměry této osoby jí neumožňují překonat událost vlastními silami. Takovou událostí je např. živelní pohroma (povodeň, vichřice a vyšší stupně větrné pohromy, zemětřesení apod.), požár nebo jiná destruktivní událost, ekologická nebo průmyslová havárie. Při rozhodování o výši mimořádné okamžité pomoci se přihlíží k majetkovým poměrům a příjmové situaci osoby; maximální výše dávky činí 15násobek částky životního minima jednotlivce.</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4"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Třetí</a:t>
            </a:r>
            <a:r>
              <a:rPr b="1" lang="cs-CZ" sz="2000" spc="-1" strike="noStrike">
                <a:solidFill>
                  <a:srgbClr val="ffffcc"/>
                </a:solidFill>
                <a:latin typeface="Times New Roman"/>
              </a:rPr>
              <a:t> situace, v níž lze poskytnout mimořádnou okamžitou pomoc, je situace, kdy osoba není v hmotné nouzi, ale nemá vzhledem k příjmům a celkovým sociálním a majetkovým poměrům dostatečné prostředk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 úhradě nezbytného jednorázového výdaje, spojeného zejména se zaplacením správního poplatku při prokázané ztrátě osobních dokladů, při vydání duplikátu rodného listu nebo dokladů potřebných k přijetí do zaměstnání, s úhradou jízdného v případě ztráty peněžních prostředků, a v případě nezbytné potřeby s úhradou noclehu; výše dávky se stanoví s ohledem na konkrétní výdaj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úhradu nákladů spojených s pořízením nezbytných základních předmětů dlouhodobé potřeby a na základní vybavení domácnosti a odůvodněných nákladů souvisejících se vzděláním nebo zájmovou činností nezaopatřeného dítěte; výše dávky se stanoví až do výše konkrétního nákladu, ale součet poskytnutých dávek nesmí překročit v kalendářním roce 10násobek částky životního minima jednotlivc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7"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oslední situace</a:t>
            </a:r>
            <a:r>
              <a:rPr b="0" lang="cs-CZ" sz="2000" spc="-1" strike="noStrike">
                <a:solidFill>
                  <a:srgbClr val="ffffcc"/>
                </a:solidFill>
                <a:latin typeface="Times New Roman"/>
              </a:rPr>
              <a:t> se týká osob, které nesplňují podmínky hmotné nouze, ale které nemohou v daném čase, s ohledem na neuspokojivé sociální zázemí a nedostatek finančních prostředků úspěšně řešit svoji situaci a jsou ohroženy sociálním vyloučením. Jde zejména o osobu, která je:</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 výkonu vazby nebo z výkonu trestu odnětí svobody,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o ukončení léčby chorobných závislostí propuštěna ze zdravotnického zařízení, psychiatrické léčebny nebo léčebného zařízení pro chorobné závislosti,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e školského zařízení pro výkon ústavní či ochranné výchovy nebo z pěstounské péče po dosažení zletilosti, respektive v 19 letech,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má uspokojivě naplněny životně důležité potřeby vzhledem k tomu, že je osobou bez přístřeší,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osobou, jejíž práva a zájmy jsou ohroženy trestnou činností jiné osoby.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tomto případě lze poskytnout dávku ve výši 1 000 Kč. Součet dávek poskytnutých v kalendářním roce nesmí přesáhnout 4násobek částky životního minima jednotlivce. Tuto dávku poskytuje obecní úřad obce s rozšířenou působností!</a:t>
            </a:r>
            <a:endParaRPr b="0" lang="en-US" sz="2000" spc="-1" strike="noStrike">
              <a:solidFill>
                <a:srgbClr val="ffffcc"/>
              </a:solidFill>
              <a:latin typeface="Times New Roman"/>
            </a:endParaRPr>
          </a:p>
        </p:txBody>
      </p:sp>
      <p:sp>
        <p:nvSpPr>
          <p:cNvPr id="1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 způsoby pomoci</a:t>
            </a:r>
            <a:br>
              <a:rPr sz="4000"/>
            </a:br>
            <a:endParaRPr b="0" i="1" lang="en-US" sz="4000" spc="-1" strike="noStrike">
              <a:solidFill>
                <a:srgbClr val="ffcc66"/>
              </a:solidFill>
              <a:latin typeface="Times New Roman"/>
            </a:endParaRPr>
          </a:p>
        </p:txBody>
      </p:sp>
      <p:sp>
        <p:nvSpPr>
          <p:cNvPr id="160" name="PlaceHolder 2"/>
          <p:cNvSpPr>
            <a:spLocks noGrp="1"/>
          </p:cNvSpPr>
          <p:nvPr>
            <p:ph/>
          </p:nvPr>
        </p:nvSpPr>
        <p:spPr>
          <a:xfrm>
            <a:off x="250560" y="1268280"/>
            <a:ext cx="8569080" cy="528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střednictvím sociálních služeb je 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Cílem služeb bývá mimo jiné</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dporovat rozvoj nebo alespoň zachování stávající soběstačnosti uživatele, jeho návrat do vlastního domácího prostředí, obnovení nebo zachování původního životního stylu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rozvíjet schopnosti uživatelů služeb a umožnit jim, pokud toho mohou být schopni, vést samostatný život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snížit sociální a zdravotní rizika související se způsobem života uživatelů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ladními činnostmi při poskytování sociálních služeb jsou pomoc při zvládání běžných úkonů péče o vlastní osobu, pomoc při osobní hygieně nebo poskytnutí podmínek pro osobní hygienu, poskytnutí stravy nebo pomoc při zajištění stravy, poskytnutí ubytování nebo pomoc při zajištění bydlení, pomoc při zajištění chodu domácnosti, výchovné, vzdělávací a aktivizační činnosti, poradenství, zprostředkování kontaktu se společenským prostředím, terapeutické činnosti a pomoc při prosazování práv a zájmů. Obsah základních činností u jednotlivých druhů sociálních služeb stanoví prováděcí předpis.</a:t>
            </a:r>
            <a:endParaRPr b="0" lang="en-US" sz="18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a:t>
            </a:r>
            <a:endParaRPr b="0" i="1" lang="en-US" sz="4000" spc="-1" strike="noStrike">
              <a:solidFill>
                <a:srgbClr val="ffcc66"/>
              </a:solidFill>
              <a:latin typeface="Times New Roman"/>
            </a:endParaRPr>
          </a:p>
        </p:txBody>
      </p:sp>
      <p:sp>
        <p:nvSpPr>
          <p:cNvPr id="163" name="PlaceHolder 2"/>
          <p:cNvSpPr>
            <a:spLocks noGrp="1"/>
          </p:cNvSpPr>
          <p:nvPr>
            <p:ph/>
          </p:nvPr>
        </p:nvSpPr>
        <p:spPr>
          <a:xfrm>
            <a:off x="250560" y="907560"/>
            <a:ext cx="8569080" cy="5645160"/>
          </a:xfrm>
          <a:prstGeom prst="rect">
            <a:avLst/>
          </a:prstGeom>
          <a:noFill/>
          <a:ln w="0">
            <a:noFill/>
          </a:ln>
        </p:spPr>
        <p:txBody>
          <a:bodyPr lIns="92160" rIns="92160" tIns="46080" bIns="46080"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oradenstv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ě zdravotn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rehabilitac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ní asistence, pečovatels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růvodcovská, předčitatelská a tlumočnic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lužby rané péč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dporované bydle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dlehčovac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entra denních služeb</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acionáře denní a týden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osoby se zdravotním postižením</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senior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Azylové dom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y na půl cest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hráněné bydlení</a:t>
            </a: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a:t>
            </a:r>
            <a:endParaRPr b="0" i="1" lang="en-US" sz="4000" spc="-1" strike="noStrike">
              <a:solidFill>
                <a:srgbClr val="ffcc66"/>
              </a:solidFill>
              <a:latin typeface="Times New Roman"/>
            </a:endParaRPr>
          </a:p>
        </p:txBody>
      </p:sp>
      <p:sp>
        <p:nvSpPr>
          <p:cNvPr id="166" name="PlaceHolder 2"/>
          <p:cNvSpPr>
            <a:spLocks noGrp="1"/>
          </p:cNvSpPr>
          <p:nvPr>
            <p:ph/>
          </p:nvPr>
        </p:nvSpPr>
        <p:spPr>
          <a:xfrm>
            <a:off x="250560" y="1341000"/>
            <a:ext cx="8569080" cy="52117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ontaktní centra</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lefonická krizová intervence</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rizová pomoc</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ízkoprahová denní centra, nízkoprahová zařízení pro děti a mládež</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oclehárn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lužby následné péče a doléčovací</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ociálně aktivizační služby pro rodiny s dětmi</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apeutické komunit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énní programy</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dostupnost</a:t>
            </a:r>
            <a:endParaRPr b="0" i="1" lang="en-US" sz="4000" spc="-1" strike="noStrike">
              <a:solidFill>
                <a:srgbClr val="ffcc66"/>
              </a:solidFill>
              <a:latin typeface="Times New Roman"/>
            </a:endParaRPr>
          </a:p>
        </p:txBody>
      </p:sp>
      <p:sp>
        <p:nvSpPr>
          <p:cNvPr id="169"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O sociální službu musí člověk obvykle sám požádat.</a:t>
            </a: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a příspěvek na péči jsou při splnění podmínek stanovených v zákoně č. 108/2006 Sb., o sociálních službách, s účinností od 1.1. 2007, poskytová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á je na území České republiky hlášena k trvalému pobytu,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é byl udělen azyl,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bčanovi a rodinnému příslušníkovi občana členského státu Evropské uni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izinci, který je držitelem povolení k dlouhodobému pobytu po dobu delší než 3 měsíce. </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i="1" lang="cs-CZ" sz="2800" spc="-1" strike="noStrike">
                <a:solidFill>
                  <a:srgbClr val="ffcc66"/>
                </a:solidFill>
                <a:latin typeface="Times New Roman"/>
              </a:rPr>
              <a:t>Příspěvek na péči, zákon č. 108/2006 Sb., o sociálních službách, s účinností od 1.1. 2007, </a:t>
            </a:r>
            <a:endParaRPr b="0" i="1" lang="en-US" sz="2800" spc="-1" strike="noStrike">
              <a:solidFill>
                <a:srgbClr val="ffcc66"/>
              </a:solidFill>
              <a:latin typeface="Times New Roman"/>
            </a:endParaRPr>
          </a:p>
        </p:txBody>
      </p:sp>
      <p:sp>
        <p:nvSpPr>
          <p:cNvPr id="17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graphicFrame>
        <p:nvGraphicFramePr>
          <p:cNvPr id="173" name=""/>
          <p:cNvGraphicFramePr/>
          <p:nvPr/>
        </p:nvGraphicFramePr>
        <p:xfrm>
          <a:off x="250920" y="2060640"/>
          <a:ext cx="8641800" cy="4392360"/>
        </p:xfrm>
        <a:graphic>
          <a:graphicData uri="http://schemas.openxmlformats.org/drawingml/2006/table">
            <a:tbl>
              <a:tblPr/>
              <a:tblGrid>
                <a:gridCol w="3557160"/>
                <a:gridCol w="2542320"/>
                <a:gridCol w="2542320"/>
              </a:tblGrid>
              <a:tr h="14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ávislost na pomoci jiné osoby, § 8 zákona o sociálních službá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spěvku osoby ve věku do 18 let</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11 odst. 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spěvku osoby ve věku od 18 let</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11 odst. 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2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hká – stupeň I.</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3 000, - Kč</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2 000,-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2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ředně těžká – stupeň II. </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5 000, - Kč</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4 000, -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2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žká – stupeň III.</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9 000, - Kč </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8 000, -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2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plná – stupeň I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000, - Kč</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000, -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poskytovatelé</a:t>
            </a:r>
            <a:endParaRPr b="0" i="1" lang="en-US" sz="4000" spc="-1" strike="noStrike">
              <a:solidFill>
                <a:srgbClr val="ffcc66"/>
              </a:solidFill>
              <a:latin typeface="Times New Roman"/>
            </a:endParaRPr>
          </a:p>
        </p:txBody>
      </p:sp>
      <p:sp>
        <p:nvSpPr>
          <p:cNvPr id="175"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ce a kraje dbají na vytváření vhodných podmínek pro rozvoj sociálních služeb, zejména zjišťováním skutečných potřeb lidí a zdrojů k jejich uspokojení; kromě toho sami zřizují organizace poskytující sociální služby.</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Nestátní neziskové organizace a fyzické osoby, které nabízejí široké spektrum služeb, jsou rovněž významnými poskytovateli sociálních služeb.</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Ministerstvo práce a sociálních věcí je nyní zřizovatelem pěti specializovaných ústavů sociální péče.</a:t>
            </a:r>
            <a:endParaRPr b="0" lang="en-US" sz="28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Lékařská posudková služba sociálního zabezpečení od 1. 1. 2007</a:t>
            </a:r>
            <a:endParaRPr b="0" i="1" lang="en-US" sz="3200" spc="-1" strike="noStrike">
              <a:solidFill>
                <a:srgbClr val="ffcc66"/>
              </a:solidFill>
              <a:latin typeface="Times New Roman"/>
            </a:endParaRPr>
          </a:p>
        </p:txBody>
      </p:sp>
      <p:sp>
        <p:nvSpPr>
          <p:cNvPr id="178"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Organizační struktura Ministerstva práce a sociálních věcí, výkon je součástí veřejné správy.</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 </a:t>
            </a:r>
            <a:r>
              <a:rPr b="1" lang="cs-CZ" sz="1800" spc="-1" strike="noStrike" u="sng">
                <a:solidFill>
                  <a:srgbClr val="ffffcc"/>
                </a:solidFill>
                <a:uFillTx/>
                <a:latin typeface="Times New Roman"/>
              </a:rPr>
              <a:t>prvém stupni</a:t>
            </a:r>
            <a:r>
              <a:rPr b="1" lang="cs-CZ" sz="1800" spc="-1" strike="noStrike">
                <a:solidFill>
                  <a:srgbClr val="ffffcc"/>
                </a:solidFill>
                <a:latin typeface="Times New Roman"/>
              </a:rPr>
              <a:t> pro účely sociálního zabezpečení vypracovávají posudky:</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 Lékaři okresních správ sociálního zabezpečení – pro pojistné systémy (posudkoví lékaři České správy sociálního zabezpečení) – lhůta pro posouzení nepříznivého zdravotního stavu není stanovena</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I. Lékaři úřadů práce – pro nepojistné systémy – lhůta pro posouzení nepříznivého zdravotního stavu činí 30 kalendářních dnů, nestanoví-li žádající orgán lhůtu delší. Z vážných důvodů může být lhůta prodloužena o 30 dnů.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udky nejsou rozhodnutím, ale podkladem pro jeho vydání.</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ouzení zdravotního stavu si vyžádá orgán, který o dávce nebo službě rozhoduje.</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e </a:t>
            </a:r>
            <a:r>
              <a:rPr b="1" lang="cs-CZ" sz="1800" spc="-1" strike="noStrike" u="sng">
                <a:solidFill>
                  <a:srgbClr val="ffffcc"/>
                </a:solidFill>
                <a:uFillTx/>
                <a:latin typeface="Times New Roman"/>
              </a:rPr>
              <a:t>druhém stupni</a:t>
            </a:r>
            <a:r>
              <a:rPr b="1" lang="cs-CZ" sz="1800" spc="-1" strike="noStrike">
                <a:solidFill>
                  <a:srgbClr val="ffffcc"/>
                </a:solidFill>
                <a:latin typeface="Times New Roman"/>
              </a:rPr>
              <a:t> pro účely opravného řízení vypracovávaní posudky o zdravotním stavu posudkové komise Ministerstva práce a sociálních věcí, tvořeny minimálně 3 členy – posudkovým lékařem, který je předsedou komise, tajemnicí a tzv. přísedícím lékařem, který je odborným lékařem některého klinického oboru.</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Rozhodování a opravné prostředky</a:t>
            </a:r>
            <a:endParaRPr b="0" i="1" lang="en-US" sz="4000" spc="-1" strike="noStrike">
              <a:solidFill>
                <a:srgbClr val="ffcc66"/>
              </a:solidFill>
              <a:latin typeface="Times New Roman"/>
            </a:endParaRPr>
          </a:p>
        </p:txBody>
      </p:sp>
      <p:sp>
        <p:nvSpPr>
          <p:cNvPr id="181"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osudky o nepříznivém zdravotním stavu jsou podkladem pro správní rozhodnutí, proti kterému lze podat </a:t>
            </a:r>
            <a:r>
              <a:rPr b="1" lang="cs-CZ" sz="2800" spc="-1" strike="noStrike" u="sng">
                <a:solidFill>
                  <a:srgbClr val="ffffcc"/>
                </a:solidFill>
                <a:uFillTx/>
                <a:latin typeface="Times New Roman"/>
              </a:rPr>
              <a:t>odvolání</a:t>
            </a:r>
            <a:r>
              <a:rPr b="1" lang="cs-CZ" sz="2800" spc="-1" strike="noStrike">
                <a:solidFill>
                  <a:srgbClr val="ffffcc"/>
                </a:solidFill>
                <a:latin typeface="Times New Roman"/>
              </a:rPr>
              <a:t>, o kterém rozhoduje nadřízený orgá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li rozhodováno o nárocích na plný invalidní důchod nebo částečný invalidní důchod – proti rozhodnutí lze podat </a:t>
            </a:r>
            <a:r>
              <a:rPr b="1" lang="cs-CZ" sz="2800" spc="-1" strike="noStrike" u="sng">
                <a:solidFill>
                  <a:srgbClr val="ffffcc"/>
                </a:solidFill>
                <a:uFillTx/>
                <a:latin typeface="Times New Roman"/>
              </a:rPr>
              <a:t>žalobu k soudu</a:t>
            </a:r>
            <a:r>
              <a:rPr b="1"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U vymezených dávek sociální péče a o mimořádných výhodách osobám těžce zdravotně postiženým je však podání žaloby k soudu vyloučeno; pak lze využít mimořádných opravných prostředků podle správního řádu (obnova řízení, přezkumná řízení).</a:t>
            </a:r>
            <a:endParaRPr b="0" lang="en-US" sz="2800" spc="-1" strike="noStrike">
              <a:solidFill>
                <a:srgbClr val="ffffcc"/>
              </a:solidFill>
              <a:latin typeface="Times New Roman"/>
            </a:endParaRPr>
          </a:p>
        </p:txBody>
      </p:sp>
      <p:sp>
        <p:nvSpPr>
          <p:cNvPr id="18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Posudkoví lékaři České správy sociálního zabezpečení</a:t>
            </a:r>
            <a:endParaRPr b="0" i="1" lang="en-US" sz="3200" spc="-1" strike="noStrike">
              <a:solidFill>
                <a:srgbClr val="ffcc66"/>
              </a:solidFill>
              <a:latin typeface="Times New Roman"/>
            </a:endParaRPr>
          </a:p>
        </p:txBody>
      </p:sp>
      <p:sp>
        <p:nvSpPr>
          <p:cNvPr id="184" name="PlaceHolder 2"/>
          <p:cNvSpPr>
            <a:spLocks noGrp="1"/>
          </p:cNvSpPr>
          <p:nvPr>
            <p:ph/>
          </p:nvPr>
        </p:nvSpPr>
        <p:spPr>
          <a:xfrm>
            <a:off x="250560" y="1628280"/>
            <a:ext cx="8569080" cy="49244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Lékaři lékařské posudkové služby České správy sociálního zabezpečení (LPS ČSSZ) vypracovávají posudky pro systém důchodového pojištění a pro systém nemocenského pojištění, provádí kompetence spojené s kontrolou posuzování dočasné pracovní neschopnosti ošetřujícími lékaři.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sudkoví lékaři, jako vysoce odborný expertní útvar ČSSZ, objektivně hodnotí vliv nemoci, úrazu či postižení na celkový stav jedinc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podkladě posudku je rozhodováno o nárocích na plný invalidní důchod nebo částečný invalidní důchod – proti rozhodnutí lze podat </a:t>
            </a:r>
            <a:r>
              <a:rPr b="1" lang="cs-CZ" sz="2000" spc="-1" strike="noStrike" u="sng">
                <a:solidFill>
                  <a:srgbClr val="ffffcc"/>
                </a:solidFill>
                <a:uFillTx/>
                <a:latin typeface="Times New Roman"/>
              </a:rPr>
              <a:t>žalobu k soudu</a:t>
            </a:r>
            <a:r>
              <a:rPr b="1"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zvýšení důchodu pro bezmocnost a příspěvek při péči o blízkou nebo jinou osobu byly ke dni 1. ledna 2007 transformovány do nové dávky - příspěvku na péči, zkráceně „příspěvek“.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d 1. 1. 2007 není možno žádat o zvýšení důchodu pro bezmocnost. </a:t>
            </a:r>
            <a:endParaRPr b="0" lang="en-US" sz="2000" spc="-1" strike="noStrike">
              <a:solidFill>
                <a:srgbClr val="ffffcc"/>
              </a:solidFill>
              <a:latin typeface="Times New Roman"/>
            </a:endParaRPr>
          </a:p>
        </p:txBody>
      </p:sp>
      <p:sp>
        <p:nvSpPr>
          <p:cNvPr id="18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05"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06"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600" spc="-1" strike="noStrike">
                <a:solidFill>
                  <a:srgbClr val="ffcc66"/>
                </a:solidFill>
                <a:latin typeface="Times New Roman"/>
              </a:rPr>
              <a:t>Posudkoví lékaři úřadu práce (LPS ÚP)</a:t>
            </a:r>
            <a:endParaRPr b="0" i="1" lang="en-US" sz="3600" spc="-1" strike="noStrike">
              <a:solidFill>
                <a:srgbClr val="ffcc66"/>
              </a:solidFill>
              <a:latin typeface="Times New Roman"/>
            </a:endParaRPr>
          </a:p>
        </p:txBody>
      </p:sp>
      <p:sp>
        <p:nvSpPr>
          <p:cNvPr id="187"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Rozhodují o nepojistných systémech:</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éče – např. mimořádné výhody pro občany těžce zdravotně postižené, příspěvek při péči o osobu blízkou nebo jinou osobu, příspěvek na zakoupení a celkovou opravu nebo zvláštní úpravu motorového vozidla, příspěvek na provoz motorového vozidla, příspěvek na individuální dopravu, příspěvek na úpravu byt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tní sociální podpora – posouzení nepříznivého zdravotního stavu, stanovení určitého stupně závislosti na pomoci jiné osoby určuje výši poskytovaných dávek nebo dobu jejich poskytování (např. sociální příplatek nebo rodičovský příspěvek).</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 příspěvek na péči.</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moc v hmotné nouzi – zda je osoba schopná zvýšit si příjem vlastní prací. </a:t>
            </a:r>
            <a:endParaRPr b="0" lang="en-US" sz="2400" spc="-1" strike="noStrike">
              <a:solidFill>
                <a:srgbClr val="ffffcc"/>
              </a:solidFill>
              <a:latin typeface="Times New Roman"/>
            </a:endParaRPr>
          </a:p>
        </p:txBody>
      </p:sp>
      <p:sp>
        <p:nvSpPr>
          <p:cNvPr id="18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senioři</a:t>
            </a:r>
            <a:endParaRPr b="0" i="1" lang="en-US" sz="4000" spc="-1" strike="noStrike">
              <a:solidFill>
                <a:srgbClr val="ffcc66"/>
              </a:solidFill>
              <a:latin typeface="Times New Roman"/>
            </a:endParaRPr>
          </a:p>
        </p:txBody>
      </p:sp>
      <p:sp>
        <p:nvSpPr>
          <p:cNvPr id="190"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Rada seniorů ČR – kontakt se seniory, řešení                                                                                                                        jejich problémů a poskytování pomoci při jednáních na úřadech, rozšiřování informovanosti a vědomosti. Konzultační a poradenská střediska v Praze, Brně, Hradci Králově a Ostravě. </a:t>
            </a:r>
            <a:r>
              <a:rPr b="0" lang="cs-CZ" sz="3200" spc="-1" strike="noStrike" u="sng">
                <a:solidFill>
                  <a:srgbClr val="cc00cc"/>
                </a:solidFill>
                <a:uFillTx/>
                <a:latin typeface="Times New Roman"/>
                <a:hlinkClick r:id="rId1"/>
              </a:rPr>
              <a:t>www.rscr.cz</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Sociální služby – sociální prevence pro osoby ohrožené sociálním vyloučením</a:t>
            </a:r>
            <a:endParaRPr b="0" i="1" lang="en-US" sz="3200" spc="-1" strike="noStrike">
              <a:solidFill>
                <a:srgbClr val="ffcc66"/>
              </a:solidFill>
              <a:latin typeface="Times New Roman"/>
            </a:endParaRPr>
          </a:p>
        </p:txBody>
      </p:sp>
      <p:sp>
        <p:nvSpPr>
          <p:cNvPr id="193" name="PlaceHolder 2"/>
          <p:cNvSpPr>
            <a:spLocks noGrp="1"/>
          </p:cNvSpPr>
          <p:nvPr>
            <p:ph/>
          </p:nvPr>
        </p:nvSpPr>
        <p:spPr>
          <a:xfrm>
            <a:off x="250560" y="1844280"/>
            <a:ext cx="8569080" cy="47084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cc00cc"/>
                </a:solidFill>
                <a:uFillTx/>
                <a:latin typeface="Times New Roman"/>
                <a:hlinkClick r:id="rId1"/>
              </a:rPr>
              <a:t>www.</a:t>
            </a:r>
            <a:r>
              <a:rPr b="0" lang="cs-CZ" sz="2800" spc="-1" strike="noStrike" u="sng">
                <a:solidFill>
                  <a:srgbClr val="cc00cc"/>
                </a:solidFill>
                <a:uFillTx/>
                <a:latin typeface="Times New Roman"/>
                <a:hlinkClick r:id="rId2"/>
              </a:rPr>
              <a:t>sluzbyprevence</a:t>
            </a:r>
            <a:r>
              <a:rPr b="0" lang="cs-CZ" sz="2800" spc="-1" strike="noStrike" u="sng">
                <a:solidFill>
                  <a:srgbClr val="cc00cc"/>
                </a:solidFill>
                <a:uFillTx/>
                <a:latin typeface="Times New Roman"/>
                <a:hlinkClick r:id="rId3"/>
              </a:rPr>
              <a:t>.</a:t>
            </a:r>
            <a:r>
              <a:rPr b="0" lang="cs-CZ" sz="2800" spc="-1" strike="noStrike" u="sng">
                <a:solidFill>
                  <a:srgbClr val="cc00cc"/>
                </a:solidFill>
                <a:uFillTx/>
                <a:latin typeface="Times New Roman"/>
                <a:hlinkClick r:id="rId4"/>
              </a:rPr>
              <a:t>mpsv</a:t>
            </a:r>
            <a:r>
              <a:rPr b="0" lang="cs-CZ" sz="2800" spc="-1" strike="noStrike" u="sng">
                <a:solidFill>
                  <a:srgbClr val="cc00cc"/>
                </a:solidFill>
                <a:uFillTx/>
                <a:latin typeface="Times New Roman"/>
                <a:hlinkClick r:id="rId5"/>
              </a:rPr>
              <a:t>.</a:t>
            </a:r>
            <a:r>
              <a:rPr b="0" lang="cs-CZ" sz="2800" spc="-1" strike="noStrike" u="sng">
                <a:solidFill>
                  <a:srgbClr val="cc00cc"/>
                </a:solidFill>
                <a:uFillTx/>
                <a:latin typeface="Times New Roman"/>
                <a:hlinkClick r:id="rId6"/>
              </a:rPr>
              <a:t>cz</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Internetový informační portál je zaměřen na zprostředkování informací o všech subjektech působících v oblasti sociálních služeb pro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hrožené sociálním vyloučením z důvodu předchozí ústavní péče nebo ochranné výchovy nebo výkonu tres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práva a zájmy jsou ohroženy trestnou činností jiné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způsob života může vést ke konfliktu se společností</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9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zdravotní postižení</a:t>
            </a:r>
            <a:endParaRPr b="0" i="1" lang="en-US" sz="4000" spc="-1" strike="noStrike">
              <a:solidFill>
                <a:srgbClr val="ffcc66"/>
              </a:solidFill>
              <a:latin typeface="Times New Roman"/>
            </a:endParaRPr>
          </a:p>
        </p:txBody>
      </p:sp>
      <p:sp>
        <p:nvSpPr>
          <p:cNvPr id="196"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Zvýšená ochrana v zaměstnání, zákon o zaměstnanosti, z. č. 435/2004 Sb. – pracovní rehabilitace, příprava k práci, specializované rekvalifikační kurzy.</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Chráněné pracovní místo a chráněná pracovní dílna</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ky pro zaměstnavatel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ovinný podíl zaměstnávání osob se zdravotním postižením</a:t>
            </a:r>
            <a:endParaRPr b="0" lang="en-US" sz="3200" spc="-1" strike="noStrike">
              <a:solidFill>
                <a:srgbClr val="ffffcc"/>
              </a:solidFill>
              <a:latin typeface="Times New Roman"/>
            </a:endParaRPr>
          </a:p>
        </p:txBody>
      </p:sp>
      <p:sp>
        <p:nvSpPr>
          <p:cNvPr id="19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319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ýčet dávek sociální péče pro osoby se zdravotním postižením</a:t>
            </a:r>
            <a:endParaRPr b="0" i="1" lang="en-US" sz="4000" spc="-1" strike="noStrike">
              <a:solidFill>
                <a:srgbClr val="ffcc66"/>
              </a:solidFill>
              <a:latin typeface="Times New Roman"/>
            </a:endParaRPr>
          </a:p>
        </p:txBody>
      </p:sp>
      <p:sp>
        <p:nvSpPr>
          <p:cNvPr id="199" name="PlaceHolder 2"/>
          <p:cNvSpPr>
            <a:spLocks noGrp="1"/>
          </p:cNvSpPr>
          <p:nvPr>
            <p:ph/>
          </p:nvPr>
        </p:nvSpPr>
        <p:spPr>
          <a:xfrm>
            <a:off x="250560" y="1557000"/>
            <a:ext cx="8569080" cy="4995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dnorázové příspěvky na opatření zvláštních pomůcek</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pravu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akoupení, celkovou opravu, zvláštní úpravu či provoz motorového vozidla</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individuální doprav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výšené životní náklad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bezbariérového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garáž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úplně nebo prakticky nevidomým občanům</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edle dávek sociální péče se poskytují</a:t>
            </a:r>
            <a:endParaRPr b="0" i="1" lang="en-US" sz="4000" spc="-1" strike="noStrike">
              <a:solidFill>
                <a:srgbClr val="ffcc66"/>
              </a:solidFill>
              <a:latin typeface="Times New Roman"/>
            </a:endParaRPr>
          </a:p>
        </p:txBody>
      </p:sp>
      <p:sp>
        <p:nvSpPr>
          <p:cNvPr id="202"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yhláška č. 182/1991 Sb., kterou se provádí zákon o sociálním zabezpečení a zákon o působnosti orgánů ČR v sociálním zabezpečení, v  platném znění</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Mimořádné výhody</a:t>
            </a:r>
            <a:r>
              <a:rPr b="1" lang="cs-CZ" sz="2400" spc="-1" strike="noStrike">
                <a:solidFill>
                  <a:srgbClr val="ffffcc"/>
                </a:solidFill>
                <a:latin typeface="Times New Roman"/>
              </a:rPr>
              <a:t> (průkazy TP, ZTP a ZTP/P) – občanům starším 1 roku s těžkým zdravotním postižením (příloha č. 2 zmíněné vyhlášky), které podstatně omezuje jejich pohybovou nebo orientační schopnost, se poskytují podle druhu a stupně postižení výhody I., II. a III. Stupně</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Úlevy a slevy jsou rovněž upraveny v předpisech jiných resortů, zejména ministerstva financí a dopravy – snižování základu pro daň z příjmů, bezplatné užití dálnic a rychlostních silnic, vyhrazená místa k parkován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Bezúročné půjčky</a:t>
            </a:r>
            <a:r>
              <a:rPr b="1" lang="cs-CZ" sz="2400" spc="-1" strike="noStrike">
                <a:solidFill>
                  <a:srgbClr val="ffffcc"/>
                </a:solidFill>
                <a:latin typeface="Times New Roman"/>
              </a:rPr>
              <a:t> – nenárokovou formu pomoci poskytuje obecní úřad s rozšířeno působností – je-li splněna podmínka pro přiznání příspěvku na zakoupení motorového vozidla. Výše až 40 000, - Kč, nutné splatit do 5 let.</a:t>
            </a:r>
            <a:endParaRPr b="0" lang="en-US" sz="2400" spc="-1" strike="noStrike">
              <a:solidFill>
                <a:srgbClr val="ffffcc"/>
              </a:solidFill>
              <a:latin typeface="Times New Roman"/>
            </a:endParaRPr>
          </a:p>
        </p:txBody>
      </p:sp>
      <p:sp>
        <p:nvSpPr>
          <p:cNvPr id="2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Podpora rodiny</a:t>
            </a:r>
            <a:endParaRPr b="0" i="1" lang="en-US" sz="4000" spc="-1" strike="noStrike">
              <a:solidFill>
                <a:srgbClr val="ffcc66"/>
              </a:solidFill>
              <a:latin typeface="Times New Roman"/>
            </a:endParaRPr>
          </a:p>
        </p:txBody>
      </p:sp>
      <p:sp>
        <p:nvSpPr>
          <p:cNvPr id="205" name="PlaceHolder 2"/>
          <p:cNvSpPr>
            <a:spLocks noGrp="1"/>
          </p:cNvSpPr>
          <p:nvPr>
            <p:ph/>
          </p:nvPr>
        </p:nvSpPr>
        <p:spPr>
          <a:xfrm>
            <a:off x="250560" y="1700280"/>
            <a:ext cx="8569080" cy="4852800"/>
          </a:xfrm>
          <a:prstGeom prst="rect">
            <a:avLst/>
          </a:prstGeom>
          <a:noFill/>
          <a:ln w="0">
            <a:noFill/>
          </a:ln>
        </p:spPr>
        <p:txBody>
          <a:bodyPr lIns="92160" rIns="92160" tIns="46080" bIns="4608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aňová opatření – od roku 2005 společné zdanění manželů, § 13a zákona o daních z příjmů, z. č. 586/1992 Sb.</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ystém sociálního zabezpečení – rodinné dávky lze čerpat:</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ociálního pojištění – nemocenské (peněžitá pomoc v mateřství, vyrovnávací příspěvek v těhotenství a mateřství, podpora při ošetřování člena rodiny) či důchodové (starobní důchod, invalidní důchod, vdovský a vdovecký důchod, sirotčí důchod)</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tátní sociální podpory – přídavek na dítě, rodičovský příspěvek, sociální příplatek, příspěvek na bydlení, porodné, pohřebné, dávky pěstounské péč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moc v hmotné nouzi – pomoc rodině, nemá-li rodina dostatečný příjem a celkové sociální a majetkové příjmy rodiny neumožňují uspokojení základních životních potřeb jejích členů a příjem nemůže být z objektivních důvodů zvýšen. Řešení naléhavých nárazových životních situací, které nelze vyřešit jinak než okamžitou pomocí. </a:t>
            </a:r>
            <a:endParaRPr b="0" lang="en-US" sz="2000" spc="-1" strike="noStrike">
              <a:solidFill>
                <a:srgbClr val="ffffcc"/>
              </a:solidFill>
              <a:latin typeface="Times New Roman"/>
            </a:endParaRPr>
          </a:p>
        </p:txBody>
      </p:sp>
      <p:sp>
        <p:nvSpPr>
          <p:cNvPr id="20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Hodnocení snahy o zvýšení příjmu vlastním přičiněním</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ýhody spojené s přiznáním mimořádných výhod osob zdravotně postižených</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 Nevidomého držitele průkazu ZTP/P doprovázel desetiletý vnuk. Řidičem autobusu nebyl uznán průvodcem, avšak věková hranice průvodce není stanoven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10" name="PlaceHolder 2"/>
          <p:cNvSpPr>
            <a:spLocks noGrp="1"/>
          </p:cNvSpPr>
          <p:nvPr>
            <p:ph/>
          </p:nvPr>
        </p:nvSpPr>
        <p:spPr>
          <a:xfrm>
            <a:off x="685800" y="2057040"/>
            <a:ext cx="7772400" cy="42512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ůkaz zaměstnance oprávněného k provádění sociálního šetření</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zory tiskopis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formace pro osoby se zdravotním postižením v oblasti zaměstnanost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12"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i</a:t>
            </a:r>
            <a:r>
              <a:rPr b="0" lang="cs-CZ" sz="3200" spc="-1" strike="noStrike" u="sng">
                <a:solidFill>
                  <a:srgbClr val="cc00cc"/>
                </a:solidFill>
                <a:uFillTx/>
                <a:latin typeface="Times New Roman"/>
                <a:hlinkClick r:id="rId2"/>
              </a:rPr>
              <a:t>lda</a:t>
            </a:r>
            <a:r>
              <a:rPr b="0" lang="en-US" sz="3200" spc="-1" strike="noStrike" u="sng">
                <a:solidFill>
                  <a:srgbClr val="cc00cc"/>
                </a:solidFill>
                <a:uFillTx/>
                <a:latin typeface="Times New Roman"/>
                <a:hlinkClick r:id="rId3"/>
              </a:rPr>
              <a:t>@seznam.cz</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cc00cc"/>
                </a:solidFill>
                <a:uFillTx/>
                <a:latin typeface="Times New Roman"/>
                <a:hlinkClick r:id="rId4"/>
              </a:rPr>
              <a:t>www.sweb.cz/ilda</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09"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10"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11"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Sociální péče, pomoc v hmotné nouzi</a:t>
            </a:r>
            <a:endParaRPr b="0" i="1" lang="en-US" sz="4000" spc="-1" strike="noStrike">
              <a:solidFill>
                <a:srgbClr val="ffcc66"/>
              </a:solidFill>
              <a:latin typeface="Times New Roman"/>
            </a:endParaRPr>
          </a:p>
        </p:txBody>
      </p:sp>
      <p:sp>
        <p:nvSpPr>
          <p:cNvPr id="11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nem 1. ledna 2007 nabyl účinnosti zákon č. 111/2006 Sb., o pomoci v hmotné nouzi, a došlo tak k řadě změn v původní oblasti, dávek sociální péč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rušil ke stejnému datu zákon č. 482/1991 Sb., o sociální potřebnosti, ve znění pozdějších předpisů, podle kterého byly poskytovány některé dávky sociální péč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oučasně s tím zanikly i dávky sociální péče poskytované podle vyhlášky MPSV ČR č. 182/1991 Sb., kterou se provádí zákon o sociálním zabezpečení a zákon o působnosti orgánů ČR v sociálním zabezpečení, ve znění pozdějších předpisů, které byly vázány na sociální potřebnost.</a:t>
            </a:r>
            <a:endParaRPr b="0" lang="en-US" sz="24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20280"/>
            <a:ext cx="7772400" cy="1079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cs-CZ" sz="3600" spc="-1" strike="noStrike">
                <a:solidFill>
                  <a:srgbClr val="ffcc66"/>
                </a:solidFill>
                <a:latin typeface="Times New Roman"/>
              </a:rPr>
              <a:t>Základní charakteristiky systému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6" name="PlaceHolder 2"/>
          <p:cNvSpPr>
            <a:spLocks noGrp="1"/>
          </p:cNvSpPr>
          <p:nvPr>
            <p:ph/>
          </p:nvPr>
        </p:nvSpPr>
        <p:spPr>
          <a:xfrm>
            <a:off x="609480" y="1844280"/>
            <a:ext cx="7772400" cy="47084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moderním systémem pomoci osobám s nedostatečnými příjmy,systém motivuje osoby k aktivní snaze zajistit si prostředky k uspokojení životních potře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ím z opatření, kterými Česká republika bojuje proti sociálnímu vyloučení oso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otný na celém území České republik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ložen na ideovém principu, že „každá osoba, která pracuje, se musí mít lépe než ta, která nepracuje, popřípadě se práci vyhýbá“; jedním z nástrojů je např. výhodnější zápočet příjmů z pracovní aktivit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ystémem, jehož nedílnou součástí je sociální práce s klienty a sociální poradenství (pro tyto účely využívá např. aktivizační plány a programy individuálního motivačního postup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Rozhodování o dávkách– orgány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9"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cc"/>
                </a:solidFill>
                <a:uFillTx/>
                <a:latin typeface="Times New Roman"/>
              </a:rPr>
              <a:t>Pověřené obecní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území vojenských újezdů rozhodují o dávkách a vyplácejí je újezdní úřady vojenských újezd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imořádnou okamžitou pomoc osobám ohroženým sociálním vyloučením poskytují </a:t>
            </a:r>
            <a:r>
              <a:rPr b="1" lang="cs-CZ" sz="3200" spc="-1" strike="noStrike" u="sng">
                <a:solidFill>
                  <a:srgbClr val="ffffcc"/>
                </a:solidFill>
                <a:uFillTx/>
                <a:latin typeface="Times New Roman"/>
              </a:rPr>
              <a:t>obecní úřady obcí s rozšířenou působností</a:t>
            </a:r>
            <a:r>
              <a:rPr b="0" lang="cs-CZ"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volacím orgánem jsou </a:t>
            </a:r>
            <a:r>
              <a:rPr b="1" lang="cs-CZ" sz="3200" spc="-1" strike="noStrike" u="sng">
                <a:solidFill>
                  <a:srgbClr val="ffffcc"/>
                </a:solidFill>
                <a:uFillTx/>
                <a:latin typeface="Times New Roman"/>
              </a:rPr>
              <a:t>krajské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Co je to hmotná nouze a kdo je v hmotné nouzi?</a:t>
            </a:r>
            <a:endParaRPr b="0" i="1" lang="en-US" sz="4000" spc="-1" strike="noStrike">
              <a:solidFill>
                <a:srgbClr val="ffcc66"/>
              </a:solidFill>
              <a:latin typeface="Times New Roman"/>
            </a:endParaRPr>
          </a:p>
        </p:txBody>
      </p:sp>
      <p:sp>
        <p:nvSpPr>
          <p:cNvPr id="122" name="PlaceHolder 2"/>
          <p:cNvSpPr>
            <a:spLocks noGrp="1"/>
          </p:cNvSpPr>
          <p:nvPr>
            <p:ph/>
          </p:nvPr>
        </p:nvSpPr>
        <p:spPr>
          <a:xfrm>
            <a:off x="250920" y="1700280"/>
            <a:ext cx="8130960" cy="4852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stanovuje situace spojené s nedostatečným zabezpečením základní obživy, bydlení a mimořádnými událostmi, tyto situace nazývá hmotnou nouz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de v zásadě o situace, kdy osoba/společně posuzované osoby nemá dostatečné příjmy a její celkové sociální a majetkové poměry neumožňují uspokojení základních životních potřeb. Současně si tyto příjmy nemůže z objektivních důvodů zvýšit.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ároveň napomáhá řešení některých nárazových životních situací, které nelze vyřešit jinak, než okamžitou pomoc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ůležité je, že každá osoba má nárok na poskytnutí základních informací, které vedou nejenom k řešení její situace hmotné nouze, ale i k předcházení jejího vznik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88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jem </a:t>
            </a:r>
            <a:endParaRPr b="0" i="1" lang="en-US" sz="4400" spc="-1" strike="noStrike">
              <a:solidFill>
                <a:srgbClr val="ffcc66"/>
              </a:solidFill>
              <a:latin typeface="Times New Roman"/>
            </a:endParaRPr>
          </a:p>
        </p:txBody>
      </p:sp>
      <p:sp>
        <p:nvSpPr>
          <p:cNvPr id="125" name="PlaceHolder 2"/>
          <p:cNvSpPr>
            <a:spLocks noGrp="1"/>
          </p:cNvSpPr>
          <p:nvPr>
            <p:ph/>
          </p:nvPr>
        </p:nvSpPr>
        <p:spPr>
          <a:xfrm>
            <a:off x="609480" y="1989000"/>
            <a:ext cx="7772400" cy="4564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se zjišťuje zpravidla za období tří kalendářních měsíců před podáním žádosti o dávku.</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kruh příjmů, které se berou v úvahu při posuzování nároku na dávku a její výši, je stanoven v zákoně o životním a existenčním minimu.</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Nicméně zákon o pomoci v hmotné nouzi stanoví určité odchylky:</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zv. čisté příjmy ze závislé činnosti a z funkčních požitků uvedených v zákoně o daních z příjmů a ze mzdových nároků vyplácených úřadem práce se započítávají ve výši 7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my z dávky nemocenského pojištění, z podpory v nezaměstnanosti a podpory při rekvalifikaci se započítávají ve výši 8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statní příjmy uvedené v zákoně o životním a existenčním minimu se započítávají ze 100% (příspěvek na živobytí se nezapočítává). </a:t>
            </a:r>
            <a:endParaRPr b="0" lang="en-US" sz="2000" spc="-1" strike="noStrike">
              <a:solidFill>
                <a:srgbClr val="ffffcc"/>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04T21:03:19Z</dcterms:modified>
  <cp:revision>287</cp:revision>
  <dc:subject/>
  <dc:title>Prezentace aplikace PowerPoint</dc:title>
</cp:coreProperties>
</file>