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746E-9C0C-4F07-8D4E-0393E1539E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pravo.cz/" TargetMode="External"/><Relationship Id="rId2" Type="http://schemas.openxmlformats.org/officeDocument/2006/relationships/hyperlink" Target="http://www.novinky.cz/clanek/132842-kvuli-vysoke-inflaci-zrejme-porostou-duchody.html" TargetMode="External"/><Relationship Id="rId3" Type="http://schemas.openxmlformats.org/officeDocument/2006/relationships/hyperlink" Target="http://www.ctk.cz/" TargetMode="External"/><Relationship Id="rId4" Type="http://schemas.openxmlformats.org/officeDocument/2006/relationships/slide" Target="../slides/slide17.xml"/><Relationship Id="rId5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. 154 příručka ANAG – Pojistné – Ženíšková, Trnkov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11640"/>
            <a:ext cx="5029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Ministr práce Petr Nečas (ODS)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foto: Michaela Říhová,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ávo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Důchody v Česku se letos v srpnu zřejmě mimořádně zvýší. Ministr práce Petr Nečas (ODS) navrhl potřebné legislativní změny vládě. </a:t>
            </a:r>
            <a:r>
              <a:rPr b="1" lang="cs-CZ" sz="1000" spc="-1" strike="noStrike">
                <a:solidFill>
                  <a:srgbClr val="00cc99"/>
                </a:solidFill>
                <a:latin typeface="Times New Roman"/>
              </a:rPr>
              <a:t>Důchody by se podle ministra měly zvednout v průměru o 465 koru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28. 2. 2008 14:58 - 28. 2. 2008 16:41 Aktualizováno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- PRAH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Avizované zvýšení penzí má nastat kvůli vyšší než očekávané inflaci. Starobní, pozůstalostní a invalidní důchody pobírá zhruba 2,7 milionu lidí. Zvýšení penzí bude podle Nečase znamenat výdaj 6,6 miliardy, důchodový účet to ale podle ministra do deficitu nedostan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dle zákona se penze zvyšují vždy k 1. lednu. Mimořádně je možné valorizovat je tehdy, pokud inflace překročí 10 procent. Nečas vládě navrhl změnit zákon tak, aby bylo možné zvyšovat penze již při pětiprocentní inflaci, a to i do budoucn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Až novelu posoudí kabinet, poputuje návrh do parlamentu, který o něm rozhodne. Nečas věří, že se mu podaří získat takovou politickou podporu, která umožní zrychlené projednání předlohy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a důchody letos půjde kolem 300 miliard koru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V lednu ceny meziročně vzrostly o 7,5 procenta, což je nejvíc za posledních deset let. Ministerstvo financí původně odhadovalo pro letošek inflaci ve výši 3,8 procenta. Podle lednových výsledků odhad upravilo na 5,5 procent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Letos na začátku roku se důchody zvedly v průměru o necelá čtyři procenta, tedy asi o 346 korun. Průměrná penze tak činí 9111 korun. Důchod se skládá z pevné části, která je pro všechny stejná. Od ledna se zvýšila o 130 korun na 1700 korun. Druhý díl je procentní. Vypočítává se podle výdělků a odvodů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Na důchody se mělo letos vydat asi 298 miliard korun. Náměstek ministra financí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ard Janota před nedávnem uvedl, že by do penzí mohla dodatečně putovat částka do pěti miliard korun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Ke zvýšení důchodů vyzvali vládu před nedávnem odboráři. Sociální demokraté přišli s nápadem, že by každý důchodce měl letos dostat k důchodu jednorázově 6000 korun na dorovnání dopadů reformy. Návrh zákona, který by to umožnil, chtěli sněmovně podle svého místopředsedy Zdeňka Škromacha předložit zhruba do poloviny břez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ovinky, </a:t>
            </a: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Č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ana 136 učebnice modrá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trana 19 zelená praktická příruč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EC je pro účely pojistného definován šířeji, rozumí se jím nejen zaměstnanec v základním pracovním poměru ve smyslu zákoníku práce, ale i v jiných právních vztazích, které jsou pro účely této povinnosti kladeny na roveň pracovnímu poměru za předpokladu, že zakládají účast na nemocenském pojištění podle předpisů o nemocenském pojištění. Mezi zaměstnance pak patří podle § 3 odst. 1 písm. c) bod 1 až 13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ci v pracovním poměru a dále osoby činné v poměru, který má obsah pracovního poměru, avšak pracovní poměr nevznikl, neboť nebyly splněny všechny podmínky stanovené pracovněprávními předpisy pro jeho vz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zaměstnanci činní na základě dohody o pracovní čin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členové družstev, jestliže nejsou v pracovněprávním vztahu k družstvu, ale vykonávají pro družstvo práci, za kterou jsou jím odměňová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polečníci a jednatelé společnosti s ručením omezeným a komanditisté komanditní společnosti, jestliže nejsou v pracovněprávním vztahu k této společnosti, ale vykonávají pro ni práci, za kterou jsou touto společností odměňová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oud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poslanci PS, senátoři Senátu Parlamentu a poslanci Evropského parlamentu zvolení na území Č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členové zastupitelstev územních samosprávných celků, jestliže jsou jim vypláceny odměny jako dlouhodobě uvolněným členům  zastupitelst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9D1-9698-4E1A-99ED-502E0A09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6AF-BE60-4A8A-9F75-5E694B0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934-6FD7-4FE4-8D30-B03A0C7D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573-8321-4745-B469-A8F92CC5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090-2B04-4559-9FE2-0C9250EE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1B19-9129-44C2-8B6D-ED08B95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509-4CFB-4C8E-9E65-FD52517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A43-E85A-45A7-A5D3-BE567C6B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F9C1-CD11-4D8E-8DE0-B629B2E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3FE-AAF9-4BC0-BEDA-F9684168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B741-A16E-47E6-90F9-87185CE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443-4D4A-467F-B9BC-B5AD703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318E-BC2B-46B3-9522-3B5B065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4E5-6921-41D2-A47F-767F8CF1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2634-8F6B-4EBD-823F-B15472C3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EF8-87B0-4754-A930-97207863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FBD1-EFC8-4D73-937E-84A3FCC9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A6D-4B44-4A74-8E76-8C90028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E89-9923-4CAB-8035-68967223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76B-A21A-4F31-9D03-777E743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556-2D28-4D33-A088-1DCCC36B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61B-39FF-4830-AE54-EFB8125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A17-9C94-4E68-9966-98B3313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4F8-13C9-4D2A-81AD-16A2B895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57C-C44E-4EBF-AB77-9BDECE9C6AA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DA59-DB4F-4089-B843-1AE3925F302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aměstnavatelské penzijní systé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činností institucí zaměstnaneckého penzijního pojištění z členských států Evropské unie se počítá, z. č. 340/2006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rodukty komerčních pojišťoven – ži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ové pojištění v ČR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etos na začátku roku se důchody zvedly v průměru o necelá čtyři procenta, tedy asi o 346 koru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mořádné zvýšení zvýšení. Ministr práce Petr Nečas (ODS) navrhl potřebné legislativní změny vládě, navýšení v průměru o 465 koru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ůměrná penze činila 9111 koru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 se skládá z pevné části, která je pro všechny stejná. Od ledna 2008  se zvýšila z 1570, - Kč o 130 korun na 1700 korun, od srpna na 2170,- Kč. Druhý díl je procentní. Vypočítává se podle výdělků a odvod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AZBY POJISTNÉH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447920"/>
          <a:ext cx="8001000" cy="51051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33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VČ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SVČ, rovněž spolupracující osoba, která zahajuje nebo znovuzahajuje samostatnou výdělečnou činnost, je povinna podat „Oznámení o zahájení/ukončení činnosti“ na tiskopise okresní správy sociálního zabezpečení do 8. dne měsíce následující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. Zahájení činnosti 1. nebo 31. května, oznámení musí být podáno do 8. červ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základě oznámení se zálohy neplatí v roce zaháje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ísto oznámení může podat přihláš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lohy na pojistné platí osoba samostatně výdělečně činná vždy za příslušný kalendářní měsíc, záloha je splatná od 1. dne tohoto měsíce do 8. dne měsíce následujícíh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oročně podává Přehled o příjmech a výdajích za předchozí kalendářní rok, podává rovněž OSVČ zaměstnaná nebo pobírá důchod, je studentem nebo je ve ztrátě nebo zahájila spolupráci – do 1 měsíce ode dne podání daňového přiznání – tj. nemá-li daňového poradce do 31. 3., Přehled tedy do 30.4., má-li daňového poradce do 30.6., Přehled do 30.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SVČ – hlavní a vedlejší – od 1. 1. 2004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ílné podmínky pro účast v důchodovém pojištění a rozdílná minimální výše ročního i měsíčního vyměřovacího zákla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VČ je automaticky považována za hlavní, pokud sama neprojeví vůli být OSVČ vedle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DLEJŠÍ OSVČ po celý měsí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zaměstnána, ze zaměstnání byla účastna nemocenského pojištění a započitatelný příjem ze zaměstnání činí alespoň 12ti násobek minimální mzdy u jednoho nebo více zaměstnavate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poživatel starobního, plného invalidního nebo částečného invalidního důcho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) má nárok na rodičovský příspěvek nebo pečuje o osobu závislou na péči jiné osoby ve stupni II., III. a I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) je nezaopatřeným dítě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stavení OSVČ v důchodovém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lavní – účastna vžd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dlejší – účastna, pokud rozdíl mezi příjmy a výdaji dosáhl určité hranice – v roce 2007 částka 48 334,- Kč - částka se za každý kalendářní měsíc, v němž nepodnikala, snižuje o  4082 Kč, trvaly „kvalifikované důvody“ (pobírala nemocenské nebo peněžitou pomoc v mateřstv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ěsíční vyměřovací základ pro placení záloh na pojistné  je částka, kterou si urč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inimální výše zálohy 597,- Kč, maximální výše 143 856,- Kč, tj. částka odpovídající pojistnému z maximálního vyměřovacího základu 486 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9 bude navýšena minimální část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Jaké jsou v Česku důchody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1989000"/>
          <a:ext cx="7772400" cy="44722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ýše důchodu (v Kč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čet lidí (září 2006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čet lidí (září 2007)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–1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716 647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493 26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000–2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7 51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9 23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000–3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000–40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 000–71 00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droj: ČSS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ůchodové pojištění v Č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správa sociálního zabezpečení (ČSSZ) řídí     a kontroluje činnost okresních správ sociálního zabezpečení (OSS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raze Pražská správa sociálního zabezpečení (PSS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SSZ rozhoduje o nároku na důchody, jejich výši    a výplat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ány sociálního zabezpečení ministerstva vnitra rozhodují otázky týkající se vojáků z povolání, policistů, příslušníků Vězeňské stráže a jejich pozůstal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dávání žádostí o důchody,                         § 82 zákona č. 582/1991 Sb., o organizaci        a provádění sociálního zabezpečení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4216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ádosti o přiznání dávky důchodového pojištění je povinna sepsat s občany okresní správa sociálního zabezpečení příslušná podle místa trvalého pobytu občana; rodinní příslušníci či jiný občan na základě plné mo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SSZ rozhoduje o nároku na důchody, jejich výši a výplatě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Žádost lze podat nejdřív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ři měs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řede dnem, od kterého občan žádá dávku důchodového pojištění přizn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d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8 dn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ode dne, kdy obdržel výzvu okresní správy sociálního zabezpečení sepisující žádost o dávku důchodového pojištění, sdělit písemně požadované úd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řehled výuky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 do práva sociálního zabezpečení, pojem, předmět, systém a prameny práva sociálního zabezpeče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v ČR a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istné na sociální zabezpečení a příspěvek na státní politiku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ho pojištění -  právní úprava, vazby, význ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ůchodového pojištění – právní úprava, vazby a výz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tátní politika zaměstna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otnictví a zdravotní pojištěn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pom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y práva sociálního zabezpečení v E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cc66"/>
                </a:solidFill>
                <a:uFillTx/>
                <a:latin typeface="Arial"/>
              </a:rPr>
              <a:t>Prvky konstrukce výpočtu důchodu,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on č. 155/1995 Sb., </a:t>
            </a:r>
            <a:br>
              <a:rPr sz="3600"/>
            </a:b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 důchodovém pojištění, v platném znění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2492280"/>
            <a:ext cx="8642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ěřovací základ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šeobecné vyměřovací základ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počítací koeficient pro úpravu naposledy stanoveného všeobecného vyměřovacího základu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eficienty nárůstu všeobecných vyměřovacích základů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obní vyměřovací základ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počtový zákl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ozhodné obdob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něhož se zjišťuj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rubé příj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 výdělečné činnosti, je období 30 kalendářních roků bezprostředně před rokem přiznání důcho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hoto cílového stavu však bude dosaženo postup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případě důchodů přiznávaných v prvním roce účinnosti zákona o důchodovém pojištění (tj. v roce 1996) bylo rozhodné období desetileté, určené roky 1986 až 1995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každý další rok účinnosti zákona o důchodovém pojištění se toto desetileté období prodlužuje o jeden r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Roční vyměřovací základ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utečně dosažené vyměřovací základy ("hrubé příjmy") za jednotlivé kalendářní roky rozhodného obdob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 výjimkou kalendářního roku, který bezprostředně předchází roku přiznání důchodu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koeficientem nárůstu všeobecného vyměřovacího zákla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33"/>
                </a:solidFill>
                <a:latin typeface="Arial"/>
              </a:rPr>
              <a:t>Koeficient nárůstu všeobecného vyměřovacího zákla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í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obecného vyměřovacího základu za kalendářní rok, který o dva roky předchází roku přiznání důchodu, vynásobeného přepočítacím koeficientem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všeobecného vyměřovacího základu za kalendářní rok, za který se vypočítává roční vyměřovací zákl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oeficient nárůstu všeobecného vyměřovacího zákla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určuje za použití příslušných všeobecných vyměřovacích základů (stanoví vláda nařízením do 30. září následujícího kalendářního roku ve výši průměrné měsíční mzdy za kalendářní rok zjištěné ČSU)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počítacího koeficientu (stanoví vláda nařízením podle údajů ČSU o průměrné měsíční mzdě za stanovená pololetí - určuje se jako podíl průměrné měsíční mzdy za první pololetí kalendářního roku, který o jeden rok předchází roku přiznání důchodu, a průměrné měsíční mzdy za první pololetí kalendářního roku, který o dva roky předchází roku přiznání důchod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sobní vyměřovací zá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ěsíční průměr úhrnu ročních vyměřovacích základ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stanovení osobního vyměřovacího základu se vychází z rozhodného období, z něhož se zjišťují příjmy pro výpočet důchodu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lučují některé zákonem stanovené doby, tzv. vyloučené doby (náhradní doby pojištění spadající do rozhodného období a některé další v zákoně o důchodovém pojištění taxativně vyjmenované doby), nedojde k jeho "rozmělnění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Výpočtový zákla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dukce osobního vyměřovacího základu, § 15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přijetí zákona o důchodovém pojištění se pro stanovení výpočtového základu započítávala částka osobního vyměřovacího základu do 5 000 Kč v plné výši, z částky osobního vyměřovacího základu nad 5 000 Kč do 10 000 Kč se počítalo 30% a z částky nad 10 000 Kč se počítalo 10%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hranice redukce zvyšuje vláda nařízením, a to od 1. led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ůchody přiznávané ode dne spadajícího do roku 2007 činila hranice redukcí 9 600 Kč a 23 300 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8 činí hranice 10 000 Kč a 24 800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2009 budou 10 500, - Kč a 27 000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Zvyšování vyplácených důchodů (základní pravidla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idelně každý rok v lednu; odchylný postup je stanoven pouze při velmi nízké inflaci (zvýšení by činilo méně než 2 %) a při vysoké inflaci (aspoň 10 %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ýšení důchodů se stanoví tak, aby u průměrného starobního důchodu činilo nejméně 100 % růstu cen a dále též nejméně jednu třetinu růstu reálné mzd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krétní částku zvýšení stanoví vláda nařízením, přičemž zvýšení může být vyšší než zvýšení, které zákon stanoví jako minimál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st úhrnného indexu spotřebitelských cen za domácnosti celkem je při pravidelném zvýšení od ledna zjišťován v období dvanácti měsíců, a to do července kalendářního roku přecházejícího roku zvýšení důchodů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mimořádném termínu se důchody zvýší, pokud růst cen ve sledovaném období dosáhl aspoň 10 %; o takovém zvýšení rozhodne vláda do 50 dnů od posledního dne kalendářního měsíce, v němž došlo ke splnění uvedené podmínk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Mimořádná valorizace důchodů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inistr práce a sociálních věcí Petr Nečas navrhl mimořádnou valorizaci důchodů od srpna 2008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ládě ČR předložil návrh novely zákona o důchodovém pojištění, která změní podmínku desetiprocentní inflace pro mimořádné zvýšení důchodů na 5 proc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mimořádném zvýšení důchodů od srpna 2008 bude zohledněn skutečný růst cen od srpna 2007 do ledna 2008 ve výši 5,1 %, což znamená zvýšení průměrného starobního důchodu o 465 Kč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robní důchod - §§ 28 – 3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třebná doba 25 let pojištění  a dosažení důchodového věku (§ 3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15 let pojištění a dosažení věku 6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§§ 30, 31 – před dosažením důchodového věku – 25 let pojištění a do důchodového věku chybí 3 roky, je poživatelem částečného invalidního důchodu a do důchodového věku mu chybí 2 roky, u plného invalidního důchodu 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výše - §§ 33 - 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ouběh starobního důchodu s příjmem z výdělečné činnosti - § 37, jen je-li  sjednán pracovní poměr na dobu určitou, nejdéle však na dobu 1 ro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ůchodové pojiště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ní úprava, vazby a význ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13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še starobního důchod,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§§ 33 – 36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výmě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iní 2170, - K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ntní výmě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iní za každý celý rok doby pojištění získané do vzniku nároku na tento důchod 1,5 % výpočtového základu, nejméně 770, 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13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klady určení důchodového věk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ištěnec získal 17 let zaměstnání a dosáhl věku 64 let. Kdy vzniká tomuto pojištěnci nárok na starobní důcho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ena vychovala 2 děti, získala 35 let doby pojištění a věku 55 let dosáhne 10. června 2008. Stanovte její důchodový věk a datum nároku na starobní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validní důch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Plný invalidní důchod - §§ 38 – 4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z důvodu dlouhodobě nepříznivého zdravotního stavu snížena schopnost soustavné výdělečné činnosti nejméně o 66%, je schopen pro zdravotní postižení pracovat jen za zcela mimořádných podmín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plnění potřebné doby pojištění -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ákladní výměra činí 2170, 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Částečný - §§ 43 – 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pracovní schopnost snížena nejméně o 33%, zdravotní stav značně ztěžuje obecné životní podmín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splnění potřebné doby pojištění dle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ákladní výměra činí 2170, 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89840" cy="6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Invalidní důchod – plný, §§ 38 - 42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765000"/>
            <a:ext cx="883908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-li  z důvodu dlouhodobě nepříznivého zdravotního stavu snížena schopnost soustavné výdělečné činnosti nejméně o 66%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schopen pro zdravotní postižení pracovat jen za zcela mimořádných podmín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plnění potřebn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by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§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20 let méně než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0 let do 22 let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2 let do 24 let dva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4 let do 26 let tři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6 let do 28 let čtyři roky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d 28 let pět rok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ákladní výměra činí 2170, - K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ýše procentní výměry důchodu činí za každý celý rok doby pojištění 1,5 % výpočtového základu, nejméně 770,- Kč měsíč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9898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Zjišťování doby pojištění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907560"/>
            <a:ext cx="86598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třebná doba pojištění se zjišťuje z období před vznikem plné invalidi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 jde-li o pojištěnce ve věku nad 28 let, z posledních 10 let před vznikem plné invalid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byla-li získána v kterémkoliv období 10 roků po vzniku plné invalidity (u pojištěnce mladšího 24 let činí přitom potřebná doba pojištění dva roky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vznikla-li plná invalidita následkem pracovního úrazu (nemoci z povolání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i tzv. dopočtená doba, kterou je doba ode dne vzniku nároku na plný invalidní důchod do dosažení důchodového věku (u žen se přitom bere v úvahu důchodový věk stanovený pro bezdětné že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rovněž tzv. náhradní doba pojištění (stejně jako v případě starobního důchod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9898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Plný invalidní důchod a jeho výše v mimořádných případech (§ 42 zákona o důchodovém pojištění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413000"/>
            <a:ext cx="86598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m dosažení věku 18 let vzniká nárok na plný invalidní důchod i osobám s trvalým pobytem na území ČR, které z důvodu dlouhodobě nepříznivého zdravotního stavu nemohly být účastny pojištění po potřebnou dobu a jejichž plná invalidita vznikla před dosažením 18 let vě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ocentní výměra plného invalidního důchodu činí v těchto případech 45 % výpočtového základu. Pro účely stanovení výpočtového základu se za osobní vyměřovací základ považuje všeobecný vyměřovací základ, který o dva roky předchází roku přiznání plného invalidního důchodu, vynásobený příslušným koeficient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kto stanovená výše procentní výměry je i minimální výší procentní výměry plného invalidního důchodu osob, které se stanou plně invalidními před dosažením věku 28 let, je-li tento důchod přiznán před dosažením věku 18 let a dále pojištěnce, který ke dni vzniku nároku na tento důchod získal aspoň 15 roků pojištění bez náhradních dob pojiště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validní důchod – částečný, §§ 43 - 45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83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je-li  pracovní schopnost snížena nejméně o 33%, zdravotní stav značně ztěžuje obecné životní podmín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splnění potřebné doby pojištění dle § 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základní výměra činí 2170, - Kč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še procentní výměry důchodu činí za každý celý rok doby pojištění 0,75 % výpočtového základu, nejméně 385 Kč měsíč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29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Invalidní důchod – částečný, </a:t>
            </a:r>
            <a:br>
              <a:rPr sz="2400"/>
            </a:b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§§ 43 - 45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907560"/>
            <a:ext cx="858816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třebná doba pojištění činí u pojištěnce ve věk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20 let méně než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0 let do 22 let jeden r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2 let do 24 let dva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4 let do 26 let tři rok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 26 let do 28 let čtyři roky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d 28 let pět rok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třebná doba pojištění se zjišťuje z období před vznikem částečné invalidity, a jde-li o pojištěnce ve věku nad 28 let, z posledních 10 let před vznikem částečné invalidity. Podmínka potřebné doby pojištění se považuje za splněnou, byla-li získána v kterémkoliv období 10 roků po vzniku částečné invalidity (u pojištěnce mladšího 24 let činí přitom potřebná doba pojištění dva roky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mínka potřebné doby pojištění se považuje za splněnou, vznikla-li částečná invalidita následkem pracovního úrazu (nemoci z povolání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i tzv. dopočtená doba, kterou je doba ode dne vzniku nároku na plný invalidní důchod do dosažení důchodového věku (u žen se přitom bere v úvahu důchodový věk stanovený pro bezdětné že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 doby pojištění se započítává rovněž tzv. náhradní doba pojištění (stejně jako v případě starobního důchodu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uběh částečného invalidního důchodu s příjmem z výdělečné činnosti </a:t>
            </a: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(§ 46 až 48 zákona o důchodovém pojištění)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2997000"/>
            <a:ext cx="858816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em č. 24/2006 Sb. byl s účinností od 1. února 2006 zrušen institut souběhu částečného invalidního důchodu s příjmem z výdělečné činnosti, takže výše příjmů z výdělečné činnosti poživatele tohoto důchodu nemá na výši důchodu a jeho výplatu vli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Zvláštní ustanovení o minimální výši částečného invalidního důchodu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484280"/>
            <a:ext cx="8588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inimální výše procentní výměry částečného invalidního důchodu osob, které se stanou plně invalidními před dosažením věku 28 let, je-li tento důchod přiznán před dosažením věku 18 let a dále pojištěnce, který ke dni vzniku nároku na tento důchod získal aspoň 15 roků pojištění bez náhradních dob pojištění, činí 22,5 % výpočtového základu. Pro účely stanovení výpočtového základu se za osobní vyměřovací základ považuje všeobecný vyměřovací základ, který o dva roky předchází roku přiznání částečného invalidního důchodu, vynásobený příslušným koeficien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Literatur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říklad invalidní důcho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588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●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už 40 let byl dnem 1. 3. 2008 uznán plně invalidní. Od skončení povinné školní docházky v roce 1982 nepřetržitě pracoval až do 31. 12.1993 . Poté odešel do ciziny a po návratu v roce 1997 od 30. 09. 1997 byl důchodově pojištěn jako OSVČ až do vzniku invalidity. Zjistěte, zda tento muž splnil podmínku potřebné doby pojištění pro nárok na plný invalidní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Vdovský a vdovecký důchod - §§ 49 – 51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o dobu 1 roku od smrti manž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jimečně i déle - § 50 odst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nárok zaniká uzavřením nového manželství, způsobil-li vdovec úmyslně smrt manžela spácháním trestného č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še základní výměry 2170,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še procentní výměry důchodu činí 50 % procentní výměry důchodu, na který měl nebo by měl nárok zemřelý v době smr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o registrovaném partnerství – analogick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odloužení a obnovení nároku</a:t>
            </a:r>
            <a:br>
              <a:rPr sz="28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 uplynutí  doby má vdova nárok na vdovský důchod, jestliž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nezaopatřené dítě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nezletilé dlouhodobě těžce zdravotně postižené dítě vyžadující mimořádnou péči nebo o zletilé dítě, které je převážně nebo úplně bezmocné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čuje o převážně nebo úplně bezmocného svého rodiče nebo rodiče zemřelého manžela, který s ní žije v domácnosti, nebo o takového rodiče, který je částečně bezmocný a starší 80 le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plně invalid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sáhla věku 55 let nebo důchodového věku, je-li důchodový věk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ok na vdovský důchod vznikne znovu, jestliže se splní některá z uvedených podmínek do pěti roků po zániku dřívějšího nároku na vdovský důc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o platí obdobně i pro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dovecký důchod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 tím, že věk pro další nárok na vdovecký důchod činí 58 l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vdovský důc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4582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dově zanikl nárok na vdovský důchod uplynutím jednoho roku od smrti manžela. Po uplynutí 2 let od zániku nároku na důchod začal syn studovat na vysoké škole. Ve třetím ročníku vysoké školy syn dosáhl 26 let. Ke dni dovršení 26 let bylo vdově 52 l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jistěte, kdy vznikl nárok na obnovu vdoveckého důchodu, po jakou dobu tento nárok trval a kdy vdově vznikne opětovně nárok na obnovu nároku na vdovský důc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irotčí důchod - §§ 52 - 53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nárok má nezaopatřené dítě po každém z rodič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rt rodiče (osvojitele), jiné osoby (převzala dítě do péče nahrazující péči rodičů, byl-li v době smrti poživatelem starobního, plného invalidního nebo částečného invalidního důchod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nikoli po pěstouno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výše činí 40% procentní výměr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u, na který měl nebo by měl nárok zemřelý v době smr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základní výměra činí 2170, -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 sirotčí důc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4582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těti zemřel otec, který ke dni smrti nesplnil podmínku potřebné doby pojištění pro nárok na plný invalidní důchod ani podmínky nároku na starobní důchod a ani nebyl poživatelem žádného z uvedených důchodů           a k úmrtí nedošlo následkem pracovního úrazu. Vznikne v takovém případě nárok na sirotčí důchod po otc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těti zemřeli při autohavárii oba rodiče. Matka byla poživatelkou invalidního důchodu, otec ke dni smrti splnil podmínku doby pojištění potřebnou pro nárok na plný invalidní důchod. Jaké nároky z důchodového pojištění v tomto případě vzniknou dítěti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obrovolné doplňkové penzijní připojiště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16280"/>
            <a:ext cx="85341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doživotní příjem jako doplněk k systému důchodového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daňové úlevy penzijním fondům, zaměstnavatelům, zaměstnanc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ojistné se nezahrnuje do vyměřovacího základu pro výpočet pojistného na sociální zabezpečení a 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2400" spc="-1" strike="noStrike">
                <a:solidFill>
                  <a:srgbClr val="ffcc66"/>
                </a:solidFill>
                <a:latin typeface="Arial"/>
              </a:rPr>
              <a:t>Výše státních příspěvků penzijního připojištění: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26920" y="1052640"/>
          <a:ext cx="7631280" cy="5616000"/>
        </p:xfrm>
        <a:graphic>
          <a:graphicData uri="http://schemas.openxmlformats.org/drawingml/2006/table">
            <a:tbl>
              <a:tblPr/>
              <a:tblGrid>
                <a:gridCol w="3816360"/>
                <a:gridCol w="3814920"/>
              </a:tblGrid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ěsíční přípěvek účastníka</a:t>
                      </a: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átní příspěve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- 1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Kč + 40% z částky přesahující 1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 - 2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 Kč + 30% z částky přesahující 2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 - 3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 Kč + 20% z částky přesahující 3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 - 499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 Kč + 10% z částky přesahující 40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Kč a ví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 Kč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1640" cy="17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Zaměstnanecké penzijní pojiště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 rámci E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2349000"/>
            <a:ext cx="85341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penzijního pojištění z členských států EU nebo jiných států, které jsou smluvní stranou Dohody o Evropském hospodářském prostoru na území ČR a o změně zákona č. 48/1997 Sb., o veřejném zdravotním pojištění a o změně a doplnění některých souvisejících zákonů, ve znění pozdějších předpi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Kontrolní otázky, opakování důchodové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844280"/>
            <a:ext cx="84582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é pojm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dlouhodobě nepříznivý zdravotní st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ákladní výměra důcho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starobní důchod, souběh starobního důchodu s příjmem                  z výdělečné čin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částečný a plný invalidní důc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dovský a vdovecký důchod, sirotčí důch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rgány sociálního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Sociální zabezpečení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Sociální po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jistné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>
                <a:solidFill>
                  <a:srgbClr val="ff0033"/>
                </a:solidFill>
                <a:latin typeface="Times New Roman"/>
              </a:rPr>
              <a:t>důchodov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příspěvek na státní politiku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. 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Účast zaměstnanců na D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Zaměstnavatel („firma“) SIBA, s.r.o. se sídlem v ČR má od 1.1. 2008 čtyři zaměstnance – pana Dvořáka, který studuje 4. ročník VŠE, je mu 22 let a má uzavřen pracovní poměr na dobu 1 roku (mzda 17.000,- Kč měsíčně), pana Junka, který je v pracovním poměru na dobu neurčitou (mzda 25.000,- Kč měsíčně) a je též členem dozorčí rady; paní Hronovskou, která je momentálně na mateřské dovolené a má pracovní poměr na dobu neurčitou (peněžitá pomoc v mateřství 11.000,- Kč měsíčně), a pana Svobodu, který vykonává pomocné práce, pracuje na dohodu o provedení práce uzavřenou na 1 rok (odměna 5.000,- Kč měsíčně). Společnost SIBA, s.r.o. v měsíci dubnu 08 neodvedla z důvodu finančních problémů pojistné na důchodové pojištění za žádného ze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sou všichni zaměstnanci z  titulu zaměstnání důchodově pojištěni v měsíci dubnu 08 ? Zdůvodně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Dvořá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Jun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Hronov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. Svobo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</a:rPr>
              <a:t>Souběh zaměstnání a pobírání starobního důchodu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36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Firma SIBA, s.r.o. přijme od 1.1.08 do pracovního poměru na dobu určitou, konkrétně na 2 roky, zaměstnance, pana Kováče. Panu Kováčovi je 63 let, je poživatelem starobního důchodu (8.000,- Kč měsíčně) a bude s ním dohodnuta mzda 12.000,- Kč měsíč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ůže pan Kováč souběžně pobírat mzdu i starobní důchod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Důchodové pojištění OSVČ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avel Koutný je v pracovním poměru od 1.1.2007 do 31.8.2008 a jeho měsíční příjem ze zaměstnání představuje částku v průměru 20.000,- Kč. Od 1.1.2008 začal podnikat a do konce roku 2008 dosáhne z titulu samostatné výdělečné činnosti „čistý“ příjem 100.000,- Kč. Je v  roce 2008 podnikání hlavní nebo vedlejší ? Je v roce 2008 povinně důchodově pojištěn jako podnikate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ůchodové pojištění v Č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upravuje důchodové pojištění pro příp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ř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alid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☼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mrtí živi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opis systému důchodové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vinné základní důchodové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. č. 155/1995 Sb., o důchodovém pojištění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ávkově financovan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růběžně financovan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univerzální, zabezpečuje všechny pojiště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důchod pobírá více než 99% obyv. ve věku vyšším než je věková hranice pro nárok na starobní důc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brovolné doplňkové penzijní připojišt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zákon č. 42/1994 Sb., o penzijním připojištění se státním příspěvkem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ruhy dávek ze základního důchodového pojištění – z. č. 155/1995 Sb., o důchodovém pojiště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. Starobní důchod - §§ 28 – 37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. Invalidní důc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Plný - §§ 38 – 4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Částečný - §§ 43 -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II. Vdovský a vdovecký důchod - §§ 49 – 5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V. Sirotčí důchod - §§ 52 - 5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1-07T10:17:13Z</dcterms:modified>
  <cp:revision>216</cp:revision>
  <dc:subject/>
  <dc:title>Úvod do práva sociálního zabezpečení  Právo sociálního zabezpečení pro podnikatele                             a zaměstnavatele</dc:title>
</cp:coreProperties>
</file>