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_rels/notesSlide5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1EDC-D8D0-44A9-BAF0-1643C776357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www.pravo.cz/" TargetMode="External"/><Relationship Id="rId2" Type="http://schemas.openxmlformats.org/officeDocument/2006/relationships/hyperlink" Target="http://www.novinky.cz/clanek/132842-kvuli-vysoke-inflaci-zrejme-porostou-duchody.html" TargetMode="External"/><Relationship Id="rId3" Type="http://schemas.openxmlformats.org/officeDocument/2006/relationships/hyperlink" Target="http://www.ctk.cz/" TargetMode="External"/><Relationship Id="rId4" Type="http://schemas.openxmlformats.org/officeDocument/2006/relationships/slide" Target="../slides/slide17.xml"/><Relationship Id="rId5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Sazby pojistného jsou sou diferencovány podle jednotlivých poplatníků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Str. 154 příručka ANAG – Pojistné – Ženíšková, Trnkov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211640"/>
            <a:ext cx="50292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Ministr práce Petr Nečas (ODS) 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foto: Michaela Říhová, </a:t>
            </a:r>
            <a:r>
              <a:rPr b="0" lang="cs-CZ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rávo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Důchody v Česku se letos v srpnu zřejmě mimořádně zvýší. Ministr práce Petr Nečas (ODS) navrhl potřebné legislativní změny vládě. </a:t>
            </a:r>
            <a:r>
              <a:rPr b="1" lang="cs-CZ" sz="1000" spc="-1" strike="noStrike">
                <a:solidFill>
                  <a:srgbClr val="00cc99"/>
                </a:solidFill>
                <a:latin typeface="Times New Roman"/>
              </a:rPr>
              <a:t>Důchody by se podle ministra měly zvednout v průměru o 465 koru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28. 2. 2008 14:58 - 28. 2. 2008 16:41 Aktualizováno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- PRAH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Avizované zvýšení penzí má nastat kvůli vyšší než očekávané inflaci. Starobní, pozůstalostní a invalidní důchody pobírá zhruba 2,7 milionu lidí. Zvýšení penzí bude podle Nečase znamenat výdaj 6,6 miliardy, důchodový účet to ale podle ministra do deficitu nedostan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Podle zákona se penze zvyšují vždy k 1. lednu. Mimořádně je možné valorizovat je tehdy, pokud inflace překročí 10 procent. Nečas vládě navrhl změnit zákon tak, aby bylo možné zvyšovat penze již při pětiprocentní inflaci, a to i do budoucna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Až novelu posoudí kabinet, poputuje návrh do parlamentu, který o něm rozhodne. Nečas věří, že se mu podaří získat takovou politickou podporu, která umožní zrychlené projednání předlohy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Na důchody letos půjde kolem 300 miliard koru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V lednu ceny meziročně vzrostly o 7,5 procenta, což je nejvíc za posledních deset let. Ministerstvo financí původně odhadovalo pro letošek inflaci ve výši 3,8 procenta. Podle lednových výsledků odhad upravilo na 5,5 procenta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Letos na začátku roku se důchody zvedly v průměru o necelá čtyři procenta, tedy asi o 346 korun. Průměrná penze tak činí 9111 korun. Důchod se skládá z pevné části, která je pro všechny stejná. Od ledna se zvýšila o 130 korun na 1700 korun. Druhý díl je procentní. Vypočítává se podle výdělků a odvodů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Na důchody se mělo letos vydat asi 298 miliard korun. Náměstek ministra financí </a:t>
            </a:r>
            <a:r>
              <a:rPr b="0" lang="cs-CZ" sz="1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Eduard Janota před nedávnem uvedl, že by do penzí mohla dodatečně putovat částka do pěti miliard korun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Ke zvýšení důchodů vyzvali vládu před nedávnem odboráři. Sociální demokraté přišli s nápadem, že by každý důchodce měl letos dostat k důchodu jednorázově 6000 korun na dorovnání dopadů reformy. Návrh zákona, který by to umožnil, chtěli sněmovně podle svého místopředsedy Zdeňka Škromacha předložit zhruba do poloviny březn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Novinky, </a:t>
            </a:r>
            <a:r>
              <a:rPr b="0" lang="cs-CZ" sz="1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ČT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Strana 136 učebnice modrá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Strana 19 zelená praktická příruč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ZAMĚSTNANEC je pro účely pojistného definován šířeji, rozumí se jím nejen zaměstnanec v základním pracovním poměru ve smyslu zákoníku práce, ale i v jiných právních vztazích, které jsou pro účely této povinnosti kladeny na roveň pracovnímu poměru za předpokladu, že zakládají účast na nemocenském pojištění podle předpisů o nemocenském pojištění. Mezi zaměstnance pak patří podle § 3 odst. 1 písm. c) bod 1 až 13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zaměstnanci v pracovním poměru a dále osoby činné v poměru, který má obsah pracovního poměru, avšak pracovní poměr nevznikl, neboť nebyly splněny všechny podmínky stanovené pracovněprávními předpisy pro jeho vzni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zaměstnanci činní na základě dohody o pracovní činnos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členové družstev, jestliže nejsou v pracovněprávním vztahu k družstvu, ale vykonávají pro družstvo práci, za kterou jsou jím odměňová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společníci a jednatelé společnosti s ručením omezeným a komanditisté komanditní společnosti, jestliže nejsou v pracovněprávním vztahu k této společnosti, ale vykonávají pro ni práci, za kterou jsou touto společností odměňová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soudc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poslanci PS, senátoři Senátu Parlamentu a poslanci Evropského parlamentu zvolení na území Č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členové zastupitelstev územních samosprávných celků, jestliže jsou jim vypláceny odměny jako dlouhodobě uvolněným členům  zastupitelst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8813-E6CC-4E11-BA77-D3AA31599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FDEA-E871-4364-B48D-917BFCEF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4C7D-344A-43FF-86D5-FDC8D531B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8EAC-C769-4240-B15F-688162FA7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79BF-DE75-412B-9DFD-A711FE62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DA69-AF43-4BD9-824C-62B868EF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BF9E-B7E2-489B-8C33-312B275B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BD28-5ED6-494B-A312-94529035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3F80-9670-416A-B717-DAF4FEFA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788C-3741-4384-8228-732349D4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19F7-7588-434E-A2F7-CFD64538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8B16-C7B0-4E2D-BFBB-53B2058F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A325-AF4F-451D-AD5D-CD5E43F5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099E-7674-470A-8F52-87E3CEE6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6E40-FEB9-4262-9927-3EB38886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BA37-AF25-4FDD-BABF-A976C4C87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CCFD-F1CD-4A63-971B-B5E40107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2A55-738A-4696-A07F-FBCCE996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9EFD-0927-4AEE-8671-FB9CBECA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B453-CA9B-45B2-88FF-FEF5E4F4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0042-5360-42E3-92BE-A4B09E79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A23E-4D21-4E4C-B6A1-911E6EAC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2F81-D510-441E-A687-2CFA7050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9FF5-777A-4EBC-ABEA-3E9AAD67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4BC0-300E-4B54-B167-25ED62F907A2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8E99-6649-46E9-94AD-FD777898EF6D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http://www.sweb.cz/ilda" TargetMode="External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456840"/>
            <a:ext cx="8209080" cy="441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Úvod do práva sociálního zabezpečení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Právo sociálního zabezpečení pro podnikatele a zaměstnavatele</a:t>
            </a:r>
            <a:br>
              <a:rPr sz="4000"/>
            </a:br>
            <a:br>
              <a:rPr sz="4000"/>
            </a:b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ysoká škola Karlovy Vary, o. p. s.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0920" y="4941720"/>
            <a:ext cx="7561080" cy="16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i</a:t>
            </a: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lda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www.sweb.cz/il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Zaměstnavatelské penzijní systémy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 činností institucí zaměstnaneckého penzijního pojištění z členských států Evropské unie se počítá, z. č. 340/2006 S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produkty komerčních pojišťoven – životní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Důchodové pojištění v ČR 2008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●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Letos na začátku roku se důchody zvedly v průměru o necelá čtyři procenta, tedy asi o 346 koru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●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mořádné zvýšení zvýšení. Ministr práce Petr Nečas (ODS) navrhl potřebné legislativní změny vládě, navýšení v průměru o 465 korun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●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ůměrná penze činila 9111 koru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●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ůchod se skládá z pevné části, která je pro všechny stejná. Od ledna 2008  se zvýšila z 1570, - Kč o 130 korun na 1700 korun, od srpna na 2170,- Kč. Druhý díl je procentní. Vypočítává se podle výdělků a odvod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02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Sociální zabezpečení – pojistné na nemocenské a důchodové pojištění a příspěvek na státní politiku zaměstnanosti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3068280"/>
            <a:ext cx="77724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Z – sociální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on č. 589/1992 Sb., o pojistném na sociální zabezpečení a příspěvku na státní politiku zaměstnanosti, v platném zn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AZBY POJISTNÉH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85800" y="1447920"/>
          <a:ext cx="8001000" cy="510516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782720"/>
              </a:tblGrid>
              <a:tr h="84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platní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zb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mocenské pojiště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0033"/>
                          </a:solidFill>
                          <a:latin typeface="Times New Roman"/>
                        </a:rPr>
                        <a:t>Důchodové pojiště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.pol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aměstna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ganiz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lá organiz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 3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33"/>
                          </a:solidFill>
                          <a:latin typeface="Times New Roman"/>
                        </a:rPr>
                        <a:t>21, 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 2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aměstnane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 1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33"/>
                          </a:solidFill>
                          <a:latin typeface="Times New Roman"/>
                        </a:rPr>
                        <a:t>6, 5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 4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SVČ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, 6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e-li účastna</a:t>
                      </a: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4, 4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33"/>
                          </a:solidFill>
                          <a:latin typeface="Times New Roman"/>
                        </a:rPr>
                        <a:t>28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 6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soba dobrovolně účastná na důch. poj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OSVČ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7138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SVČ, rovněž spolupracující osoba, která zahajuje nebo znovuzahajuje samostatnou výdělečnou činnost, je povinna podat „Oznámení o zahájení/ukončení činnosti“ na tiskopise okresní správy sociálního zabezpečení do 8. dne měsíce následujícíh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ř. Zahájení činnosti 1. nebo 31. května, oznámení musí být podáno do 8. červ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a základě oznámení se zálohy neplatí v roce zahájení činnost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ísto oznámení může podat přihlášk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lohy na pojistné platí osoba samostatně výdělečně činná vždy za příslušný kalendářní měsíc, záloha je splatná od 1. dne tohoto měsíce do 8. dne měsíce následujícíh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aždoročně podává Přehled o příjmech a výdajích za předchozí kalendářní rok, podává rovněž OSVČ zaměstnaná nebo pobírá důchod, je studentem nebo je ve ztrátě nebo zahájila spolupráci – do 1 měsíce ode dne podání daňového přiznání – tj. nemá-li daňového poradce do 31. 3., Přehled tedy do 30.4., má-li daňového poradce do 30.6., Přehled do 30.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OSVČ – hlavní a vedlejší – od 1. 1. 2004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dílné podmínky pro účast v důchodovém pojištění a rozdílná minimální výše ročního i měsíčního vyměřovacího základ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SVČ je automaticky považována za hlavní, pokud sama neprojeví vůli být OSVČ vedlej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EDLEJŠÍ OSVČ po celý měsíc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) zaměstnána, ze zaměstnání byla účastna nemocenského pojištění a započitatelný příjem ze zaměstnání činí alespoň 12ti násobek minimální mzdy u jednoho nebo více zaměstnavatel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) poživatel starobního, plného invalidního nebo částečného invalidního důcho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) má nárok na rodičovský příspěvek nebo pečuje o osobu závislou na péči jiné osoby ve stupni II., III. a I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) je nezaopatřeným dítě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ostavení OSVČ v důchodovém pojištění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496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lavní – účastna vžd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edlejší – účastna, pokud rozdíl mezi příjmy a výdaji dosáhl určité hranice – v roce 2007 částka 48 334,- Kč - částka se za každý kalendářní měsíc, v němž nepodnikala, snižuje o  4082 Kč, trvaly „kvalifikované důvody“ (pobírala nemocenské nebo peněžitou pomoc v mateřství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ěsíční vyměřovací základ pro placení záloh na pojistné  je částka, kterou si urč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inimální výše zálohy 597,- Kč, maximální výše 143 856,- Kč, tj. částka odpovídající pojistnému z maximálního vyměřovacího základu 486 000,- K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roce 2009 bude navýšena minimální částk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Jaké jsou v Česku důchody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84360" y="1989000"/>
          <a:ext cx="7772400" cy="447228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ýše důchodu (v Kč)</a:t>
                      </a: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čet lidí (září 2006)</a:t>
                      </a: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čet lidí (září 2007)</a:t>
                      </a: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–10 0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716 647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493 26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000–20 0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7 51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29 23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 000–30 0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 000–40 0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 000–71 0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droj: ČSS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Důchodové pojištění v Č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eská správa sociálního zabezpečení (ČSSZ) řídí     a kontroluje činnost okresních správ sociálního zabezpečení (OSSZ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Praze Pražská správa sociálního zabezpečení (PSSZ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SSZ rozhoduje o nároku na důchody, jejich výši    a výplat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rgány sociálního zabezpečení ministerstva vnitra rozhodují otázky týkající se vojáků z povolání, policistů, příslušníků Vězeňské stráže a jejich pozůstalý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24720" cy="16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odávání žádostí o důchody,                         § 82 zákona č. 582/1991 Sb., o organizaci        a provádění sociálního zabezpečení</a:t>
            </a: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64216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Žádosti o přiznání dávky důchodového pojištění je povinna sepsat s občany okresní správa sociálního zabezpečení příslušná podle místa trvalého pobytu občana; rodinní příslušníci či jiný občan na základě plné moc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ČSSZ rozhoduje o nároku na důchody, jejich výši a výplatě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Žádost lze podat nejdříve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tři měsíc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přede dnem, od kterého občan žádá dávku důchodového pojištění přizn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městnavatel je povinen do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8 dnů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ode dne, kdy obdržel výzvu okresní správy sociálního zabezpečení sepisující žádost o dávku důchodového pojištění, sdělit písemně požadované údaj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92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Přehled výuky 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Úvod do práva sociálního zabezpečení, pojem, předmět, systém a prameny práva sociálního zabezpečení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v ČR a v E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jistné na sociální zabezpečení a příspěvek na státní politiku zaměstnanos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mocenského pojištění -  právní úprava, vazby, význ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Důchodového pojištění – právní úprava, vazby a význ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tátní politika zaměstnanos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dravotnictví a zdravotní pojištění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átní sociální podpora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ální pomo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áklady práva sociálního zabezpečení v E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24720" cy="23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cc66"/>
                </a:solidFill>
                <a:uFillTx/>
                <a:latin typeface="Arial"/>
              </a:rPr>
              <a:t>Prvky konstrukce výpočtu důchodu, </a:t>
            </a:r>
            <a:br>
              <a:rPr sz="3600"/>
            </a:b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zákon č. 155/1995 Sb., </a:t>
            </a:r>
            <a:br>
              <a:rPr sz="3600"/>
            </a:b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o důchodovém pojištění, v platném znění</a:t>
            </a: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2492280"/>
            <a:ext cx="8642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měřovací základy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šeobecné vyměřovací základy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počítací koeficient pro úpravu naposledy stanoveného všeobecného vyměřovacího základu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eficienty nárůstu všeobecných vyměřovacích základů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sobní vyměřovací základ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počtový zákla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92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24720" cy="6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Rozhodné období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 něhož se zjišťují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hrubé příjm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 výdělečné činnosti, je období 30 kalendářních roků bezprostředně před rokem přiznání důchod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ohoto cílového stavu však bude dosaženo postupn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 případě důchodů přiznávaných v prvním roce účinnosti zákona o důchodovém pojištění (tj. v roce 1996) bylo rozhodné období desetileté, určené roky 1986 až 1995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a každý další rok účinnosti zákona o důchodovém pojištění se toto desetileté období prodlužuje o jeden ro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92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24720" cy="6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Roční vyměřovací základy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kutečně dosažené vyměřovací základy ("hrubé příjmy") za jednotlivé kalendářní roky rozhodného obdob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s výjimkou kalendářního roku, který bezprostředně předchází roku přiznání důchodu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zv. </a:t>
            </a:r>
            <a:r>
              <a:rPr b="0" lang="cs-CZ" sz="3200" spc="-1" strike="noStrike">
                <a:solidFill>
                  <a:srgbClr val="ff0033"/>
                </a:solidFill>
                <a:latin typeface="Times New Roman"/>
              </a:rPr>
              <a:t>koeficientem nárůstu všeobecného vyměřovacího základ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92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33"/>
                </a:solidFill>
                <a:latin typeface="Arial"/>
              </a:rPr>
              <a:t>Koeficient nárůstu všeobecného vyměřovacího základu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dí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šeobecného vyměřovacího základu za kalendářní rok, který o dva roky předchází roku přiznání důchodu, vynásobeného přepočítacím koeficientem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všeobecného vyměřovacího základu za kalendářní rok, za který se vypočítává roční vyměřovací zákl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92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Koeficient nárůstu všeobecného vyměřovacího základu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e určuje za použití příslušných všeobecných vyměřovacích základů (stanoví vláda nařízením do 30. září následujícího kalendářního roku ve výši průměrné měsíční mzdy za kalendářní rok zjištěné ČSU)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počítacího koeficientu (stanoví vláda nařízením podle údajů ČSU o průměrné měsíční mzdě za stanovená pololetí - určuje se jako podíl průměrné měsíční mzdy za první pololetí kalendářního roku, který o jeden rok předchází roku přiznání důchodu, a průměrné měsíční mzdy za první pololetí kalendářního roku, který o dva roky předchází roku přiznání důchodu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92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42472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Osobní vyměřovací zákl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měsíční průměr úhrnu ročních vyměřovacích základ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i stanovení osobního vyměřovacího základu se vychází z rozhodného období, z něhož se zjišťují příjmy pro výpočet důchodu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lučují některé zákonem stanovené doby, tzv. vyloučené doby (náhradní doby pojištění spadající do rozhodného období a některé další v zákoně o důchodovém pojištění taxativně vyjmenované doby), nedojde k jeho "rozmělnění"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92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2472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Výpočtový základ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64216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dukce osobního vyměřovacího základu, § 15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i přijetí zákona o důchodovém pojištění se pro stanovení výpočtového základu započítávala částka osobního vyměřovacího základu do 5 000 Kč v plné výši, z částky osobního vyměřovacího základu nad 5 000 Kč do 10 000 Kč se počítalo 30% a z částky nad 10 000 Kč se počítalo 10%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yto hranice redukce zvyšuje vláda nařízením, a to od 1. ledn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důchody přiznávané ode dne spadajícího do roku 2007 činila hranice redukcí 9 600 Kč a 23 300 Kč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roce 2008 činí hranice 10 000 Kč a 24 800 Kč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roce 2009 budou 10 500, - Kč a 27 000 Kč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92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2472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66"/>
                </a:solidFill>
                <a:latin typeface="Arial"/>
              </a:rPr>
              <a:t>Zvyšování vyplácených důchodů (základní pravidla)</a:t>
            </a: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ravidelně každý rok v lednu; odchylný postup je stanoven pouze při velmi nízké inflaci (zvýšení by činilo méně než 2 %) a při vysoké inflaci (aspoň 10 %)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výšení důchodů se stanoví tak, aby u průměrného starobního důchodu činilo nejméně 100 % růstu cen a dále též nejméně jednu třetinu růstu reálné mzdy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onkrétní částku zvýšení stanoví vláda nařízením, přičemž zvýšení může být vyšší než zvýšení, které zákon stanoví jako minimální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ůst úhrnného indexu spotřebitelských cen za domácnosti celkem je při pravidelném zvýšení od ledna zjišťován v období dvanácti měsíců, a to do července kalendářního roku přecházejícího roku zvýšení důchodů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 mimořádném termínu se důchody zvýší, pokud růst cen ve sledovaném období dosáhl aspoň 10 %; o takovém zvýšení rozhodne vláda do 50 dnů od posledního dne kalendářního měsíce, v němž došlo ke splnění uvedené podmínk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92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2472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66"/>
                </a:solidFill>
                <a:latin typeface="Arial"/>
              </a:rPr>
              <a:t>Mimořádná valorizace důchodů</a:t>
            </a: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421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Ministr práce a sociálních věcí Petr Nečas navrhl mimořádnou valorizaci důchodů od srpna 2008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ládě ČR předložil návrh novely zákona o důchodovém pojištění, která změní podmínku desetiprocentní inflace pro mimořádné zvýšení důchodů na 5 procen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ři mimořádném zvýšení důchodů od srpna 2008 bude zohledněn skutečný růst cen od srpna 2007 do ledna 2008 ve výši 5,1 %, což znamená zvýšení průměrného starobního důchodu o 465 Kč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2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robní důchod - §§ 28 – 37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potřebná doba 25 let pojištění  a dosažení důchodového věku (§ 3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 15 let pojištění a dosažení věku 65 l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 §§ 30, 31 – před dosažením důchodového věku – 25 let pojištění a do důchodového věku chybí 3 roky, je poživatelem částečného invalidního důchodu a do důchodového věku mu chybí 2 roky, u plného invalidního důchodu 5 l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výše - §§ 33 - 3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souběh starobního důchodu s příjmem z výdělečné činnosti - § 37, jen je-li  sjednán pracovní poměr na dobu určitou, nejdéle však na dobu 1 rok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Důchodové pojiště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99640" y="414936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ní úprava, vazby a význ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09480"/>
            <a:ext cx="8062920" cy="130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ýše starobního důchod,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§§ 33 – 36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ákladní výměr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činí 2170, - Kč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ocentní výměr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činí za každý celý rok doby pojištění získané do vzniku nároku na tento důchod 1,5 % výpočtového základu, nejméně 770, - K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4920" y="609480"/>
            <a:ext cx="8062920" cy="130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Příklady určení důchodového věku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jištěnec získal 17 let zaměstnání a dosáhl věku 64 let. Kdy vzniká tomuto pojištěnci nárok na starobní důcho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Žena vychovala 2 děti, získala 35 let doby pojištění a věku 55 let dosáhne 10. června 2008. Stanovte její důchodový věk a datum nároku na starobní důch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nvalidní důchod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) Plný invalidní důchod - §§ 38 – 4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 je-li  z důvodu dlouhodobě nepříznivého zdravotního stavu snížena schopnost soustavné výdělečné činnosti nejméně o 66%, je schopen pro zdravotní postižení pracovat jen za zcela mimořádných podmín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splnění potřebné doby pojištění - § 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 základní výměra činí 2170, - K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) Částečný - §§ 43 – 4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 je-li  pracovní schopnost snížena nejméně o 33%, zdravotní stav značně ztěžuje obecné životní podmín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 splnění potřebné doby pojištění dle § 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základní výměra činí 2170, - K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89840" cy="66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Invalidní důchod – plný, §§ 38 - 42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765000"/>
            <a:ext cx="8839080" cy="57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e-li  z důvodu dlouhodobě nepříznivého zdravotního stavu snížena schopnost soustavné výdělečné činnosti nejméně o 66%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e schopen pro zdravotní postižení pracovat jen za zcela mimořádných podmín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plnění potřebné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doby pojiště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- § 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o 20 let méně než jeden rok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d 20 let do 22 let jeden rok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d 22 let do 24 let dva roky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d 24 let do 26 let tři roky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d 26 let do 28 let čtyři roky 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ad 28 let pět roků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základní výměra činí 2170, - K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výše procentní výměry důchodu činí za každý celý rok doby pojištění 1,5 % výpočtového základu, nejméně 770,- Kč měsíčn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98984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Zjišťování doby pojištění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560" y="907560"/>
            <a:ext cx="8659800" cy="56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třebná doba pojištění se zjišťuje z období před vznikem plné invalidity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 jde-li o pojištěnce ve věku nad 28 let, z posledních 10 let před vznikem plné invalid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dmínka potřebné doby pojištění se považuje za splněnou, byla-li získána v kterémkoliv období 10 roků po vzniku plné invalidity (u pojištěnce mladšího 24 let činí přitom potřebná doba pojištění dva roky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dmínka potřebné doby pojištění se považuje za splněnou, vznikla-li plná invalidita následkem pracovního úrazu (nemoci z povolání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o doby pojištění se započítává i tzv. dopočtená doba, kterou je doba ode dne vzniku nároku na plný invalidní důchod do dosažení důchodového věku (u žen se přitom bere v úvahu důchodový věk stanovený pro bezdětné ženy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o doby pojištění se započítává rovněž tzv. náhradní doba pojištění (stejně jako v případě starobního důchodu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798984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66"/>
                </a:solidFill>
                <a:latin typeface="Arial"/>
              </a:rPr>
              <a:t>Plný invalidní důchod a jeho výše v mimořádných případech (§ 42 zákona o důchodovém pojištění)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560" y="1413000"/>
            <a:ext cx="86598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nem dosažení věku 18 let vzniká nárok na plný invalidní důchod i osobám s trvalým pobytem na území ČR, které z důvodu dlouhodobě nepříznivého zdravotního stavu nemohly být účastny pojištění po potřebnou dobu a jejichž plná invalidita vznikla před dosažením 18 let věku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ocentní výměra plného invalidního důchodu činí v těchto případech 45 % výpočtového základu. Pro účely stanovení výpočtového základu se za osobní vyměřovací základ považuje všeobecný vyměřovací základ, který o dva roky předchází roku přiznání plného invalidního důchodu, vynásobený příslušným koeficiente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Takto stanovená výše procentní výměry je i minimální výší procentní výměry plného invalidního důchodu osob, které se stanou plně invalidními před dosažením věku 28 let, je-li tento důchod přiznán před dosažením věku 18 let a dále pojištěnce, který ke dni vzniku nároku na tento důchod získal aspoň 15 roků pojištění bez náhradních dob pojištěn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609120"/>
            <a:ext cx="80629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nvalidní důchod – částečný, §§ 43 - 45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628280"/>
            <a:ext cx="8839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 je-li  pracovní schopnost snížena nejméně o 33%, zdravotní stav značně ztěžuje obecné životní podmín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 splnění potřebné doby pojištění dle § 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základní výměra činí 2170, - Kč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výše procentní výměry důchodu činí za každý celý rok doby pojištění 0,75 % výpočtového základu, nejméně 385 Kč měsíčn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06292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Invalidní důchod – částečný, </a:t>
            </a:r>
            <a:br>
              <a:rPr sz="2400"/>
            </a:b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§§ 43 - 45</a:t>
            </a: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907560"/>
            <a:ext cx="8588160" cy="56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třebná doba pojištění činí u pojištěnce ve věk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o 20 let méně než jeden rok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d 20 let do 22 let jeden rok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d 22 let do 24 let dva roky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d 24 let do 26 let tři roky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d 26 let do 28 let čtyři roky 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ad 28 let pět roků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třebná doba pojištění se zjišťuje z období před vznikem částečné invalidity, a jde-li o pojištěnce ve věku nad 28 let, z posledních 10 let před vznikem částečné invalidity. Podmínka potřebné doby pojištění se považuje za splněnou, byla-li získána v kterémkoliv období 10 roků po vzniku částečné invalidity (u pojištěnce mladšího 24 let činí přitom potřebná doba pojištění dva roky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dmínka potřebné doby pojištění se považuje za splněnou, vznikla-li částečná invalidita následkem pracovního úrazu (nemoci z povolání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o doby pojištění se započítává i tzv. dopočtená doba, kterou je doba ode dne vzniku nároku na plný invalidní důchod do dosažení důchodového věku (u žen se přitom bere v úvahu důchodový věk stanovený pro bezdětné ženy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o doby pojištění se započítává rovněž tzv. náhradní doba pojištění (stejně jako v případě starobního důchodu 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4920" y="609480"/>
            <a:ext cx="8062920" cy="209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Souběh částečného invalidního důchodu s příjmem z výdělečné činnosti </a:t>
            </a:r>
            <a:br>
              <a:rPr sz="2800"/>
            </a:b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(§ 46 až 48 zákona o důchodovém pojištění)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2997000"/>
            <a:ext cx="8588160" cy="35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onem č. 24/2006 Sb. byl s účinností od 1. února 2006 zrušen institut souběhu částečného invalidního důchodu s příjmem z výdělečné činnosti, takže výše příjmů z výdělečné činnosti poživatele tohoto důchodu nemá na výši důchodu a jeho výplatu vliv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4920" y="609120"/>
            <a:ext cx="80629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Zvláštní ustanovení o minimální výši částečného invalidního důchodu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484280"/>
            <a:ext cx="85881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inimální výše procentní výměry částečného invalidního důchodu osob, které se stanou plně invalidními před dosažením věku 28 let, je-li tento důchod přiznán před dosažením věku 18 let a dále pojištěnce, který ke dni vzniku nároku na tento důchod získal aspoň 15 roků pojištění bez náhradních dob pojištění, činí 22,5 % výpočtového základu. Pro účely stanovení výpočtového základu se za osobní vyměřovací základ považuje všeobecný vyměřovací základ, který o dva roky předchází roku přiznání částečného invalidního důchodu, vynásobený příslušným koeficient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Literatura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ůchodové předpisy, Přib, J., Voříšek, V., ANAG 2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dy do důchodu a za kolik, Přib. J. , GRADA, Jihlava 20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řízení sociální péče pro seniory a zdravotně postižené občany, ANAG, Brno, 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ociální pomoc a právo, Koldinská, K. , Marková, H. , Orac, Praha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ákon o zaměstnanosti s komentářem, včetně prováděcích předpisů k 15. 2. 2006 s aktualizací k 1. 1. 2007, Anag, Olomouc 2006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mentář k Ústavě ČR a Listině základních práv a svobod, Klíma K. a kol., Vydavatelství a nakladatelství Aleš Čeněk, s. r. o. , Plzeň  2006, zejména část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 Listině základních práv a svobod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sociální práv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inisterstvo práce a sociálních věcí, Sociální zabezpečení osoby pohybujících se v  rámci Evropské unie, Praha 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bírka příkladů z práva sociálního zabezpečení, Trinnerová, D. , Vacík, A. , Vydavatelství a nakladatelství Aleš Čeněk, Pelhřimov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bírka příkladů z pracovního práva a práva sociálního zabezpečení, Galvas, M. , Gregorová, Z. , Zachariáš, J. , Vydavatelství a nakladatelství Aleš Čeněk, Pelhřimov 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4920" y="609120"/>
            <a:ext cx="8062920" cy="10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Příklad invalidní důcho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844280"/>
            <a:ext cx="8588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●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už 40 let byl dnem 1. 3. 2008 uznán plně invalidní. Od skončení povinné školní docházky v roce 1982 nepřetržitě pracoval až do 31. 12.1993 . Poté odešel do ciziny a po návratu v roce 1997 od 30. 09. 1997 byl důchodově pojištěn jako OSVČ až do vzniku invalidity. Zjistěte, zda tento muž splnil podmínku potřebné doby pojištění pro nárok na plný invalidní důch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Vdovský a vdovecký důchod - §§ 49 – 51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po dobu 1 roku od smrti manže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výjimečně i déle - § 50 odst.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 nárok zaniká uzavřením nového manželství, způsobil-li vdovec úmyslně smrt manžela spácháním trestného čin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še základní výměry 2170,- K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še procentní výměry důchodu činí 50 % procentní výměry důchodu, na který měl nebo by měl nárok zemřelý v době smrt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on o registrovaném partnerství – analogick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rodloužení a obnovení nároku</a:t>
            </a:r>
            <a:br>
              <a:rPr sz="28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 uplynutí  doby má vdova nárok na vdovský důchod, jestliž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ečuje o nezaopatřené dítě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ečuje o nezletilé dlouhodobě těžce zdravotně postižené dítě vyžadující mimořádnou péči nebo o zletilé dítě, které je převážně nebo úplně bezmocné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ečuje o převážně nebo úplně bezmocného svého rodiče nebo rodiče zemřelého manžela, který s ní žije v domácnosti, nebo o takového rodiče, který je částečně bezmocný a starší 80 let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e plně invalidní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osáhla věku 55 let nebo důchodového věku, je-li důchodový věk nižší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árok na vdovský důchod vznikne znovu, jestliže se splní některá z uvedených podmínek do pěti roků po zániku dřívějšího nároku na vdovský důch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To platí obdobně i pro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dovecký důchod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s tím, že věk pro další nárok na vdovecký důchod činí 58 l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vdovský důcho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45820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dově zanikl nárok na vdovský důchod uplynutím jednoho roku od smrti manžela. Po uplynutí 2 let od zániku nároku na důchod začal syn studovat na vysoké škole. Ve třetím ročníku vysoké školy syn dosáhl 26 let. Ke dni dovršení 26 let bylo vdově 52 le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jistěte, kdy vznikl nárok na obnovu vdoveckého důchodu, po jakou dobu tento nárok trval a kdy vdově vznikne opětovně nárok na obnovu nároku na vdovský důch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irotčí důchod - §§ 52 - 53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nárok má nezaopatřené dítě po každém z rodič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mrt rodiče (osvojitele), jiné osoby (převzala dítě do péče nahrazující péči rodičů, byl-li v době smrti poživatelem starobního, plného invalidního nebo částečného invalidního důchod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 nikoli po pěstounov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výše činí 40% procentní výměr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ůchodu, na který měl nebo by měl nárok zemřelý v době smr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 základní výměra činí 2170, - K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y sirotčí důcho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45820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ítěti zemřel otec, který ke dni smrti nesplnil podmínku potřebné doby pojištění pro nárok na plný invalidní důchod ani podmínky nároku na starobní důchod a ani nebyl poživatelem žádného z uvedených důchodů           a k úmrtí nedošlo následkem pracovního úrazu. Vznikne v takovém případě nárok na sirotčí důchod po otci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ítěti zemřeli při autohavárii oba rodiče. Matka byla poživatelkou invalidního důchodu, otec ke dni smrti splnil podmínku doby pojištění potřebnou pro nárok na plný invalidní důchod. Jaké nároky z důchodového pojištění v tomto případě vzniknou dítěti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Dobrovolné doplňkové penzijní připojištění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16280"/>
            <a:ext cx="85341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on č. 42/1994 Sb., o penzijním připojištění se státním příspěvkem, v platném zn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doživotní příjem jako doplněk k systému důchodového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daňové úlevy penzijním fondům, zaměstnavatelům, zaměstnanců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pojistné se nezahrnuje do vyměřovacího základu pro výpočet pojistného na sociální zabezpečení a zdravotní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Výše státních příspěvků penzijního připojištění:</a:t>
            </a: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826920" y="1052640"/>
          <a:ext cx="7631280" cy="5616000"/>
        </p:xfrm>
        <a:graphic>
          <a:graphicData uri="http://schemas.openxmlformats.org/drawingml/2006/table">
            <a:tbl>
              <a:tblPr/>
              <a:tblGrid>
                <a:gridCol w="3816360"/>
                <a:gridCol w="3814920"/>
              </a:tblGrid>
              <a:tr h="98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ěsíční přípěvek účastníka</a:t>
                      </a: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átní příspěvek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 - 199 Kč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 Kč + 40% z částky přesahující 100 Kč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 - 299 Kč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 Kč + 30% z částky přesahující 200 Kč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 - 399 Kč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0 Kč + 20% z částky přesahující 300 Kč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 - 499 Kč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0 Kč + 10% z částky přesahující 400 Kč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 Kč a víc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0 Kč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351640" cy="17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Zaměstnanecké penzijní pojištění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 rámci EU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2349000"/>
            <a:ext cx="853416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on č. 340/2006 Sb., o činnosti institucí penzijního pojištění z členských států EU nebo jiných států, které jsou smluvní stranou Dohody o Evropském hospodářském prostoru na území ČR a o změně zákona č. 48/1997 Sb., o veřejném zdravotním pojištění a o změně a doplnění některých souvisejících zákonů, ve znění pozdějších předpis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Kontrolní otázky, opakování důchodové pojištění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844280"/>
            <a:ext cx="84582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líčové pojm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dlouhodobě nepříznivý zdravotní sta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základní výměra důchod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starobní důchod, souběh starobního důchodu s příjmem                  z výdělečné činnos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částečný a plný invalidní důch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vdovský a vdovecký důchod, sirotčí důch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orgány sociálního zabezpeče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Sociální zabezpečení v ČR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. </a:t>
            </a:r>
            <a:r>
              <a:rPr b="0" lang="cs-CZ" sz="3200" spc="-1" strike="noStrike">
                <a:solidFill>
                  <a:srgbClr val="ff0033"/>
                </a:solidFill>
                <a:latin typeface="Times New Roman"/>
              </a:rPr>
              <a:t>Sociální pojiště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pojistné n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) </a:t>
            </a:r>
            <a:r>
              <a:rPr b="0" lang="cs-CZ" sz="3200" spc="-1" strike="noStrike">
                <a:solidFill>
                  <a:srgbClr val="ff0033"/>
                </a:solidFill>
                <a:latin typeface="Times New Roman"/>
              </a:rPr>
              <a:t>nemocenské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) </a:t>
            </a:r>
            <a:r>
              <a:rPr b="0" lang="cs-CZ" sz="3200" spc="-1" strike="noStrike">
                <a:solidFill>
                  <a:srgbClr val="ff0033"/>
                </a:solidFill>
                <a:latin typeface="Times New Roman"/>
              </a:rPr>
              <a:t>důchodové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) příspěvek na státní politiku zaměstna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I. Zdravotní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V. Státní sociální podp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. Sociální pom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Účast zaměstnanců na DP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Zaměstnavatel („firma“) SIBA, s.r.o. se sídlem v ČR má od 1.1. 2008 čtyři zaměstnance – pana Dvořáka, který studuje 4. ročník VŠE, je mu 22 let a má uzavřen pracovní poměr na dobu 1 roku (mzda 17.000,- Kč měsíčně), pana Junka, který je v pracovním poměru na dobu neurčitou (mzda 25.000,- Kč měsíčně) a je též členem dozorčí rady; paní Hronovskou, která je momentálně na mateřské dovolené a má pracovní poměr na dobu neurčitou (peněžitá pomoc v mateřství 11.000,- Kč měsíčně), a pana Svobodu, který vykonává pomocné práce, pracuje na dohodu o provedení práce uzavřenou na 1 rok (odměna 5.000,- Kč měsíčně). Společnost SIBA, s.r.o. v měsíci dubnu 08 neodvedla z důvodu finančních problémů pojistné na důchodové pojištění za žádného ze zaměstnanců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sou všichni zaměstnanci z  titulu zaměstnání důchodově pojištěni v měsíci dubnu 08 ? Zdůvodně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. Dvořá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. Jun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. Hronovsk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. Svobo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74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66"/>
                </a:solidFill>
                <a:latin typeface="Arial"/>
              </a:rPr>
              <a:t>Souběh zaměstnání a pobírání starobního důchodu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7361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Firma SIBA, s.r.o. přijme od 1.1.08 do pracovního poměru na dobu určitou, konkrétně na 2 roky, zaměstnance, pana Kováče. Panu Kováčovi je 63 let, je poživatelem starobního důchodu (8.000,- Kč měsíčně) a bude s ním dohodnuta mzda 12.000,- Kč měsíčně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Může pan Kováč souběžně pobírat mzdu i starobní důchod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cc66"/>
                </a:solidFill>
                <a:latin typeface="Arial"/>
              </a:rPr>
              <a:t>Důchodové pojištění OSVČ</a:t>
            </a: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240" y="1197000"/>
            <a:ext cx="8915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avel Koutný je v pracovním poměru od 1.1.2007 do 31.8.2008 a jeho měsíční příjem ze zaměstnání představuje částku v průměru 20.000,- Kč. Od 1.1.2008 začal podnikat a do konce roku 2008 dosáhne z titulu samostatné výdělečné činnosti „čistý“ příjem 100.000,- Kč. Je v  roce 2008 podnikání hlavní nebo vedlejší ? Je v roce 2008 povinně důchodově pojištěn jako podnikatel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Děkuji za pozornost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4190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d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Základní pramen práva důchodového pojištění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8134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Z – sociální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on č. 155 /1995 Sb., o důchodovém pojištění, v platném zn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Důchodové pojištění v Č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upravuje důchodové pojištění pro přípa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☼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ář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☼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valid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☼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mrtí živite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Popis systému důchodového pojištění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.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vinné základní důchodové pojišt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z. č. 155/1995 Sb., o důchodovém pojištění, ve znění pozdějších předpis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dávkově financované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průběžně financovan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univerzální, zabezpečuje všechny pojiště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důchod pobírá více než 99% obyv. ve věku vyšším než je věková hranice pro nárok na starobní důc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I.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brovolné doplňkové penzijní připojiště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zákon č. 42/1994 Sb., o penzijním připojištění se státním příspěvkem, ve znění pozdějších předpis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Druhy dávek ze základního důchodového pojištění – z. č. 155/1995 Sb., o důchodovém pojištění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. Starobní důchod - §§ 28 – 37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I. Invalidní důc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) Plný - §§ 38 – 4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) Částečný - §§ 43 - 4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II. Vdovský a vdovecký důchod - §§ 49 – 5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V. Sirotčí důchod - §§ 52 - 5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7:14:46Z</dcterms:created>
  <dc:creator>Ilona Kostadinovová</dc:creator>
  <dc:description/>
  <dc:language>en-US</dc:language>
  <cp:lastModifiedBy>Ilona</cp:lastModifiedBy>
  <dcterms:modified xsi:type="dcterms:W3CDTF">2008-11-07T10:17:13Z</dcterms:modified>
  <cp:revision>216</cp:revision>
  <dc:subject/>
  <dc:title>Úvod do práva sociálního zabezpečení  Právo sociálního zabezpečení pro podnikatele                             a zaměstnavatele</dc:title>
</cp:coreProperties>
</file>