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18D50-13CB-4A34-A196-CE14BD0A2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636E8-8A6E-46A2-A4AB-B23E8370C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F5CD3-9602-4A43-8482-1012C1C10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93934-905E-4175-9528-22B10BC33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C9179-095E-4EDF-A1FB-E4B34D1A8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624F3-06BF-4983-BCD8-2831FA3D5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C2A88-D591-40D6-9D0F-52EAB898D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4D239-DE55-4636-A683-54F58EE9F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B275A-295F-46C5-8FF9-B3A7E68BE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5BFFC-D8A5-4AD5-A17C-C5B2C17B5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AC509-3273-4AF3-86DC-420112D18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BA2B7-1371-491B-A67B-4CE6F82C6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DAC04-3200-4A33-975B-301EC7098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1B309-C730-47DF-86C8-AE5F0D124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D27EE-7056-4395-9A7C-339799A22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C4EF2-23C1-4BE2-AA13-7151EC974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A72AD-24A1-432F-A56C-D58D2CD92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FD17E-9CB2-40CC-AD1D-A327C406E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6FAEE-F6A6-4F90-BFA9-D05F2DF76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345C7-2D73-4E2F-A957-838056FF2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F6496-AD3E-4C0E-BD33-8061B1765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93467-1E14-4CFD-842B-D49EA7312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2633-1746-41CA-BFDB-1041A9129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DDF3C-8064-463E-A5A8-ABAFE8DBB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7FA0-B156-4EE2-A6B1-9282F0B90FE3}"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C6BC-FA3F-4CA0-9438-B18B3DC82CDE}"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456840"/>
            <a:ext cx="8209080" cy="441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Úvod do práva sociálního zabezpečení</a:t>
            </a:r>
            <a:br>
              <a:rPr sz="4000"/>
            </a:br>
            <a:br>
              <a:rPr sz="4000"/>
            </a:br>
            <a:r>
              <a:rPr b="0" lang="cs-CZ" sz="4000" spc="-1" strike="noStrike">
                <a:solidFill>
                  <a:srgbClr val="ffffff"/>
                </a:solidFill>
                <a:latin typeface="Arial"/>
              </a:rPr>
              <a:t>Právo sociálního zabezpečení pro podnikatele a zaměstnavatele</a:t>
            </a:r>
            <a:br>
              <a:rPr sz="4000"/>
            </a:br>
            <a:br>
              <a:rPr sz="4000"/>
            </a:br>
            <a:r>
              <a:rPr b="0" lang="cs-CZ" sz="3600" spc="-1" strike="noStrike">
                <a:solidFill>
                  <a:srgbClr val="ffffff"/>
                </a:solidFill>
                <a:latin typeface="Arial"/>
              </a:rPr>
              <a:t>Vysoká škola Karlovy Vary, o. p. s.</a:t>
            </a:r>
            <a:endParaRPr b="0" lang="en-US" sz="3600" spc="-1" strike="noStrike">
              <a:solidFill>
                <a:srgbClr val="ffcc66"/>
              </a:solidFill>
              <a:latin typeface="Arial"/>
            </a:endParaRPr>
          </a:p>
        </p:txBody>
      </p:sp>
      <p:sp>
        <p:nvSpPr>
          <p:cNvPr id="89" name="PlaceHolder 2"/>
          <p:cNvSpPr>
            <a:spLocks noGrp="1"/>
          </p:cNvSpPr>
          <p:nvPr>
            <p:ph type="subTitle"/>
          </p:nvPr>
        </p:nvSpPr>
        <p:spPr>
          <a:xfrm>
            <a:off x="610920" y="4941720"/>
            <a:ext cx="7561080" cy="1656000"/>
          </a:xfrm>
          <a:prstGeom prst="rect">
            <a:avLst/>
          </a:prstGeom>
          <a:noFill/>
          <a:ln w="0">
            <a:noFill/>
          </a:ln>
        </p:spPr>
        <p:txBody>
          <a:bodyPr lIns="92160" rIns="92160" tIns="46080" bIns="4608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i</a:t>
            </a:r>
            <a:r>
              <a:rPr b="0" lang="cs-CZ" sz="2400" spc="-1" strike="noStrike" u="sng">
                <a:solidFill>
                  <a:srgbClr val="ff0033"/>
                </a:solidFill>
                <a:uFillTx/>
                <a:latin typeface="Times New Roman"/>
                <a:hlinkClick r:id="rId2"/>
              </a:rPr>
              <a:t>lda</a:t>
            </a:r>
            <a:r>
              <a:rPr b="0" lang="en-US" sz="2400" spc="-1" strike="noStrike" u="sng">
                <a:solidFill>
                  <a:srgbClr val="ff0033"/>
                </a:solidFill>
                <a:uFillTx/>
                <a:latin typeface="Times New Roman"/>
                <a:hlinkClick r:id="rId3"/>
              </a:rPr>
              <a:t>@seznam.cz</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0033"/>
                </a:solidFill>
                <a:uFillTx/>
                <a:latin typeface="Times New Roman"/>
                <a:hlinkClick r:id="rId4"/>
              </a:rPr>
              <a:t>www.sweb.cz/ilda</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PŘÍKLAD</a:t>
            </a:r>
            <a:endParaRPr b="0" lang="en-US" sz="3600" spc="-1" strike="noStrike">
              <a:solidFill>
                <a:srgbClr val="ffcc66"/>
              </a:solidFill>
              <a:latin typeface="Arial"/>
            </a:endParaRPr>
          </a:p>
        </p:txBody>
      </p:sp>
      <p:sp>
        <p:nvSpPr>
          <p:cNvPr id="114" name="PlaceHolder 2"/>
          <p:cNvSpPr>
            <a:spLocks noGrp="1"/>
          </p:cNvSpPr>
          <p:nvPr>
            <p:ph/>
          </p:nvPr>
        </p:nvSpPr>
        <p:spPr>
          <a:xfrm>
            <a:off x="304920" y="1052280"/>
            <a:ext cx="8153280" cy="5500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 Společník s. r. o. je jednatelem společnosti zaměstnávající 20 zaměstnanců. Tuto činnost vykonává za 10 000,- Kč měsíčně. Zároveň je personalistou, tuto činnost vykonává za 5 000,- Kč měsíčně. Na činnost personalisty neuzavřel žádný pracovněprávní vztah, tuto činnost vykonává jako společník s. r. o. V tomto případě je účasten nemocenského pojištění jen jednou, bude-li uznán práce neschopným, bude mu nemocenské poskytováno jen z jedno pojištění a bude vypočteno z částky 15 000,- Kč. Pokud by činnost personalisty vykonával v pracovním poměru, byl by účasten nemocenského pojištění dvakrát, a to jako zaměstnanec v pracovním poměru a jako jednatel s. r. o. Nemocenské by mu náleželo dvakrát, a to z částky 10 000,- Kč a z částky 5000,- Kč. V obou případech platí pojistné na sociální zabezpečení z 15 000,- Kč.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čal-li společník s. r. o. vykonávat činnost jednatele od 1. července a činnost personalisty jako společník od 1. října, oznamuje společnost s ručením omezeným jako  zaměstnavatel, který je malou organizací, nástup do zaměstnání tohoto společníka jen jednou, a to do 8 dnů ode dne vstupu do zaměstnání, tj. do 9. července. Zahájení činnosti jako personalisty se již neoznamuje.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Nárok OSVČ na nemocenské a ppm</a:t>
            </a:r>
            <a:endParaRPr b="0" lang="en-US" sz="2800" spc="-1" strike="noStrike">
              <a:solidFill>
                <a:srgbClr val="ffcc66"/>
              </a:solidFill>
              <a:latin typeface="Arial"/>
            </a:endParaRPr>
          </a:p>
        </p:txBody>
      </p:sp>
      <p:sp>
        <p:nvSpPr>
          <p:cNvPr id="117"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ea typeface="Times New Roman"/>
              </a:rPr>
              <a:t>Nemocenské – účast na nemocenském pojištění trvala alespoň 3 měsíce bezprostředně předcházející před měsícem, v němž vzniká pracovní neschopnost.Vznikla-li účast na nemocenském pojištění OSVČ podáním přihlášky do 8 dnů po zahájení/znovuzahájení samostatné výdělečné činnosti, je nárok na nemocenské od vzniku pracovní neschop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ea typeface="Times New Roman"/>
              </a:rPr>
              <a:t>Peněžitá pomoc v mateřství – účast na nemocenském pojištění před porodem alespoň 180 dnů a zároveň v době posledních 2 let před porodem byla účastna nemocenského pojištění po dobu alespoň 270 dnů. </a:t>
            </a:r>
            <a:endParaRPr b="0" lang="en-US" sz="2800" spc="-1" strike="noStrike">
              <a:solidFill>
                <a:srgbClr val="ffffff"/>
              </a:solidFill>
              <a:latin typeface="Times New Roman"/>
            </a:endParaRPr>
          </a:p>
        </p:txBody>
      </p:sp>
      <p:sp>
        <p:nvSpPr>
          <p:cNvPr id="118"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33360"/>
            <a:ext cx="777240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Redukční hranice DVZ, stanovuje nařízení vlády</a:t>
            </a:r>
            <a:endParaRPr b="0" lang="en-US" sz="2400" spc="-1" strike="noStrike">
              <a:solidFill>
                <a:srgbClr val="ffcc66"/>
              </a:solidFill>
              <a:latin typeface="Arial"/>
            </a:endParaRPr>
          </a:p>
        </p:txBody>
      </p:sp>
      <p:sp>
        <p:nvSpPr>
          <p:cNvPr id="120" name="PlaceHolder 2"/>
          <p:cNvSpPr>
            <a:spLocks noGrp="1"/>
          </p:cNvSpPr>
          <p:nvPr>
            <p:ph/>
          </p:nvPr>
        </p:nvSpPr>
        <p:spPr>
          <a:xfrm>
            <a:off x="324000" y="836280"/>
            <a:ext cx="3743280" cy="5761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VZ - úhrn započitatelných příjmů se dělí počtem kalendářních dnů rozhodného období.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esahuje-li DVZ stanovenou redukční hranici, tak se snižuje.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o první redukční hranice se započítává částka DVZ </a:t>
            </a:r>
            <a:r>
              <a:rPr b="0" lang="cs-CZ" sz="2000" spc="-1" strike="noStrike">
                <a:solidFill>
                  <a:srgbClr val="ff0033"/>
                </a:solidFill>
                <a:latin typeface="Times New Roman"/>
              </a:rPr>
              <a:t>celá</a:t>
            </a:r>
            <a:r>
              <a:rPr b="0" lang="cs-CZ" sz="2000" spc="-1" strike="noStrike">
                <a:solidFill>
                  <a:srgbClr val="ffffff"/>
                </a:solidFill>
                <a:latin typeface="Times New Roman"/>
              </a:rPr>
              <a:t>(vyrovnávací příspěvek v těhotenství a mateřství,peněžitá pomoc v mateřství) nebo </a:t>
            </a:r>
            <a:r>
              <a:rPr b="0" lang="cs-CZ" sz="2000" spc="-1" strike="noStrike">
                <a:solidFill>
                  <a:srgbClr val="ff0033"/>
                </a:solidFill>
                <a:latin typeface="Times New Roman"/>
              </a:rPr>
              <a:t>90%</a:t>
            </a:r>
            <a:r>
              <a:rPr b="0" lang="cs-CZ" sz="2000" spc="-1" strike="noStrike">
                <a:solidFill>
                  <a:srgbClr val="ffffff"/>
                </a:solidFill>
                <a:latin typeface="Times New Roman"/>
              </a:rPr>
              <a:t> (nemocenské, podpora při ošetřování člena rodiny), z částky mezi první a druhou hranicí se započítává 60% a k částce nad druhou redukční hranici se nepřihlíží. </a:t>
            </a:r>
            <a:endParaRPr b="0" lang="en-US" sz="2000" spc="-1" strike="noStrike">
              <a:solidFill>
                <a:srgbClr val="ffffff"/>
              </a:solidFill>
              <a:latin typeface="Times New Roman"/>
            </a:endParaRPr>
          </a:p>
        </p:txBody>
      </p:sp>
      <p:sp>
        <p:nvSpPr>
          <p:cNvPr id="12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graphicFrame>
        <p:nvGraphicFramePr>
          <p:cNvPr id="122" name=""/>
          <p:cNvGraphicFramePr/>
          <p:nvPr/>
        </p:nvGraphicFramePr>
        <p:xfrm>
          <a:off x="4211640" y="1168560"/>
          <a:ext cx="4246560" cy="5428800"/>
        </p:xfrm>
        <a:graphic>
          <a:graphicData uri="http://schemas.openxmlformats.org/drawingml/2006/table">
            <a:tbl>
              <a:tblPr/>
              <a:tblGrid>
                <a:gridCol w="1415880"/>
                <a:gridCol w="1414800"/>
                <a:gridCol w="1415880"/>
              </a:tblGrid>
              <a:tr h="2745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vní redukční hranice, z částky se započte částka </a:t>
                      </a:r>
                      <a:r>
                        <a:rPr b="0" lang="cs-CZ" sz="2000" spc="-1" strike="noStrike">
                          <a:solidFill>
                            <a:srgbClr val="ff0033"/>
                          </a:solidFill>
                          <a:latin typeface="Times New Roman"/>
                        </a:rPr>
                        <a:t>celá</a:t>
                      </a:r>
                      <a:r>
                        <a:rPr b="0" lang="cs-CZ" sz="2000" spc="-1" strike="noStrike">
                          <a:solidFill>
                            <a:srgbClr val="ffffff"/>
                          </a:solidFill>
                          <a:latin typeface="Times New Roman"/>
                        </a:rPr>
                        <a:t> nebo</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9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ruhá redukční hranic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 rozdílu se započte 6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1.2006-31.12.200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4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6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8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1.2006-31.12.200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5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73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9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d1.1.2007</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5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7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609480"/>
            <a:ext cx="8134200" cy="80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DVZ - redukční hranice 2009, z. č. 187/2006 Sb., </a:t>
            </a:r>
            <a:br>
              <a:rPr sz="2800"/>
            </a:br>
            <a:r>
              <a:rPr b="0" lang="cs-CZ" sz="2800" spc="-1" strike="noStrike">
                <a:solidFill>
                  <a:srgbClr val="ffcc66"/>
                </a:solidFill>
                <a:latin typeface="Arial"/>
              </a:rPr>
              <a:t>účinnost 1. 1. 2009</a:t>
            </a:r>
            <a:endParaRPr b="0" lang="en-US" sz="2800" spc="-1" strike="noStrike">
              <a:solidFill>
                <a:srgbClr val="ffcc66"/>
              </a:solidFill>
              <a:latin typeface="Arial"/>
            </a:endParaRPr>
          </a:p>
        </p:txBody>
      </p:sp>
      <p:sp>
        <p:nvSpPr>
          <p:cNvPr id="124" name="PlaceHolder 2"/>
          <p:cNvSpPr>
            <a:spLocks noGrp="1"/>
          </p:cNvSpPr>
          <p:nvPr>
            <p:ph/>
          </p:nvPr>
        </p:nvSpPr>
        <p:spPr>
          <a:xfrm>
            <a:off x="394920" y="1557360"/>
            <a:ext cx="8497800" cy="49672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a50021"/>
                </a:solidFill>
                <a:latin typeface="Times New Roman"/>
              </a:rPr>
              <a:t>re</a:t>
            </a:r>
            <a:r>
              <a:rPr b="1" lang="cs-CZ" sz="2400" spc="-1" strike="noStrike">
                <a:solidFill>
                  <a:srgbClr val="a50021"/>
                </a:solidFill>
                <a:latin typeface="Times New Roman"/>
                <a:ea typeface="Times New Roman"/>
              </a:rPr>
              <a:t>dukce DVZ:</a:t>
            </a: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redukční hranice - dle metodiky uvedené v zákoně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pro rok 2009 </a:t>
            </a:r>
            <a:r>
              <a:rPr b="0" lang="cs-CZ" sz="2000" spc="-1" strike="noStrike">
                <a:solidFill>
                  <a:srgbClr val="ffffff"/>
                </a:solidFill>
                <a:latin typeface="Times New Roman"/>
              </a:rPr>
              <a:t>(sdělení MPSV č.396/2008 Sb.)</a:t>
            </a:r>
            <a:r>
              <a:rPr b="0" lang="cs-CZ" sz="2400" spc="-1" strike="noStrike">
                <a:solidFill>
                  <a:srgbClr val="ffffff"/>
                </a:solidFill>
                <a:latin typeface="Times New Roman"/>
              </a:rPr>
              <a:t>:</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redukční hranice … 786,-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redukční hranice … 1.178,-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redukční hranice … 2.356,- Kč</a:t>
            </a:r>
            <a:endParaRPr b="0" lang="en-US" sz="2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redukce se provede tak, že do:</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1. redukční hranice se započte 100 % DVZ</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2. redukční hranice se započte 60 % DVZ</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do 3. redukční hranice se započte 30 % DVZ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k části nad 3. redukční hranicí se nebude přihlíže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26" name="PlaceHolder 2"/>
          <p:cNvSpPr>
            <a:spLocks noGrp="1"/>
          </p:cNvSpPr>
          <p:nvPr>
            <p:ph/>
          </p:nvPr>
        </p:nvSpPr>
        <p:spPr>
          <a:xfrm>
            <a:off x="380520" y="2209680"/>
            <a:ext cx="8077320" cy="33530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byl uznán práce neschopným od 1. 3. 2006 do 11. 3. 2006. Denní vyměřovací základ činí 420 Kč. Z jakého denního vyměřovacího základu se bude počítat nemocenské?</a:t>
            </a:r>
            <a:endParaRPr b="0" lang="en-US" sz="2800" spc="-1" strike="noStrike">
              <a:solidFill>
                <a:srgbClr val="ffffff"/>
              </a:solidFill>
              <a:latin typeface="Times New Roman"/>
            </a:endParaRPr>
          </a:p>
        </p:txBody>
      </p:sp>
      <p:sp>
        <p:nvSpPr>
          <p:cNvPr id="12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Denní vyměřovací základ/DVZ, § 18 zákona      o nemocenském pojištění zaměstnanců</a:t>
            </a:r>
            <a:endParaRPr b="0" lang="en-US" sz="2800" spc="-1" strike="noStrike">
              <a:solidFill>
                <a:srgbClr val="ffcc66"/>
              </a:solidFill>
              <a:latin typeface="Arial"/>
            </a:endParaRPr>
          </a:p>
        </p:txBody>
      </p:sp>
      <p:sp>
        <p:nvSpPr>
          <p:cNvPr id="129" name="PlaceHolder 2"/>
          <p:cNvSpPr>
            <a:spLocks noGrp="1"/>
          </p:cNvSpPr>
          <p:nvPr>
            <p:ph/>
          </p:nvPr>
        </p:nvSpPr>
        <p:spPr>
          <a:xfrm>
            <a:off x="685800" y="1981080"/>
            <a:ext cx="141120" cy="4114800"/>
          </a:xfrm>
          <a:prstGeom prst="rect">
            <a:avLst/>
          </a:prstGeom>
          <a:noFill/>
          <a:ln w="0">
            <a:noFill/>
          </a:ln>
        </p:spPr>
        <p:txBody>
          <a:bodyPr lIns="90000" rIns="90000" tIns="46800" bIns="46800" anchor="t">
            <a:normAutofit fontScale="7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000" spc="-1" strike="noStrike">
              <a:solidFill>
                <a:srgbClr val="ffffff"/>
              </a:solidFill>
              <a:latin typeface="Times New Roman"/>
            </a:endParaRPr>
          </a:p>
        </p:txBody>
      </p:sp>
      <p:sp>
        <p:nvSpPr>
          <p:cNvPr id="13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graphicFrame>
        <p:nvGraphicFramePr>
          <p:cNvPr id="131" name=""/>
          <p:cNvGraphicFramePr/>
          <p:nvPr/>
        </p:nvGraphicFramePr>
        <p:xfrm>
          <a:off x="826920" y="1916280"/>
          <a:ext cx="7631280" cy="4259160"/>
        </p:xfrm>
        <a:graphic>
          <a:graphicData uri="http://schemas.openxmlformats.org/drawingml/2006/table">
            <a:tbl>
              <a:tblPr/>
              <a:tblGrid>
                <a:gridCol w="3981600"/>
                <a:gridCol w="1216080"/>
                <a:gridCol w="1217520"/>
                <a:gridCol w="12160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7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ad 79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25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emocenské</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pora při ošetřování člena rodin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yrovnávací příspěvek v těhotenství a mateřství</a:t>
                      </a:r>
                      <a:endParaRPr b="0" lang="en-US" sz="20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eněžitá pomoc v mateřství</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3360"/>
            <a:ext cx="7772400" cy="719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Denní vyměřovací základ pro výpočet nemocenské ,</a:t>
            </a:r>
            <a:br>
              <a:rPr sz="2400"/>
            </a:br>
            <a:r>
              <a:rPr b="0" lang="cs-CZ" sz="2400" spc="-1" strike="noStrike">
                <a:solidFill>
                  <a:srgbClr val="ffcc66"/>
                </a:solidFill>
                <a:latin typeface="Arial"/>
              </a:rPr>
              <a:t>§ 18 z. č. 54/1956 Sb.</a:t>
            </a:r>
            <a:endParaRPr b="0" lang="en-US" sz="2400" spc="-1" strike="noStrike">
              <a:solidFill>
                <a:srgbClr val="ffcc66"/>
              </a:solidFill>
              <a:latin typeface="Arial"/>
            </a:endParaRPr>
          </a:p>
        </p:txBody>
      </p:sp>
      <p:sp>
        <p:nvSpPr>
          <p:cNvPr id="133" name="PlaceHolder 2"/>
          <p:cNvSpPr>
            <a:spLocks noGrp="1"/>
          </p:cNvSpPr>
          <p:nvPr>
            <p:ph/>
          </p:nvPr>
        </p:nvSpPr>
        <p:spPr>
          <a:xfrm>
            <a:off x="250920" y="1125360"/>
            <a:ext cx="8207280" cy="53992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VZ – úhrn započitatelných příjmů se dělí počtem kalendářních dnů rozhodného období – 365 dní (žádné dny omluvené nepřítomnosti v práci)</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acovní neschopnost –od 8. března do 17. března 2008–10dní</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ozhodné období – od 1. března 2007 do 28. února 2008, ve kterém činila měsíční mzda 13000,- Kč, v červnu a listopadu odměna 3000,- Kč</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62 000,- Kč (12x13000 Kč + 2x 3000 Kč) : 365 dny = 443,8356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90%</a:t>
            </a:r>
            <a:r>
              <a:rPr b="0" lang="cs-CZ" sz="2000" spc="-1" strike="noStrike">
                <a:solidFill>
                  <a:srgbClr val="ffffff"/>
                </a:solidFill>
                <a:latin typeface="Times New Roman"/>
              </a:rPr>
              <a:t> z 443,8356 = 399,452 Kč, po zaokrouhl. na celé koruny nahoru 400,-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NEMOCENSKÉ!</a:t>
            </a:r>
            <a:r>
              <a:rPr b="0" lang="cs-CZ" sz="2000" spc="-1" strike="noStrike">
                <a:solidFill>
                  <a:srgbClr val="ffffff"/>
                </a:solidFill>
                <a:latin typeface="Times New Roman"/>
              </a:rPr>
              <a:t> Trvá-li pracovní neschopnost déle než 3 dn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od 4. do 30. kalendářního dne pracovní neschopnosti 60% DVZ za kalendářní den – tj. 60% z 400,- Kč, tedy </a:t>
            </a:r>
            <a:r>
              <a:rPr b="1" lang="cs-CZ" sz="2000" spc="-1" strike="noStrike" u="sng">
                <a:solidFill>
                  <a:srgbClr val="ff0033"/>
                </a:solidFill>
                <a:uFillTx/>
                <a:latin typeface="Times New Roman"/>
              </a:rPr>
              <a:t>240,- Kč na den</a:t>
            </a:r>
            <a:endParaRPr b="0" lang="en-US" sz="2000" spc="-1" strike="noStrike">
              <a:solidFill>
                <a:srgbClr val="ffffff"/>
              </a:solidFill>
              <a:latin typeface="Times New Roman"/>
            </a:endParaRPr>
          </a:p>
        </p:txBody>
      </p:sp>
      <p:sp>
        <p:nvSpPr>
          <p:cNvPr id="13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33000"/>
            <a:ext cx="7772400" cy="93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cc66"/>
                </a:solidFill>
                <a:latin typeface="Arial"/>
              </a:rPr>
              <a:t>Redukce denního vyměřovacího základu pro výpočet všech dávek nemocenského pojištění,</a:t>
            </a:r>
            <a:br>
              <a:rPr sz="2400"/>
            </a:br>
            <a:r>
              <a:rPr b="0" lang="cs-CZ" sz="2400" spc="-1" strike="noStrike">
                <a:solidFill>
                  <a:srgbClr val="ffcc66"/>
                </a:solidFill>
                <a:latin typeface="Arial"/>
              </a:rPr>
              <a:t>§ 18 z. č. 54/1956 Sb.</a:t>
            </a:r>
            <a:endParaRPr b="0" lang="en-US" sz="2400" spc="-1" strike="noStrike">
              <a:solidFill>
                <a:srgbClr val="ffcc66"/>
              </a:solidFill>
              <a:latin typeface="Arial"/>
            </a:endParaRPr>
          </a:p>
        </p:txBody>
      </p:sp>
      <p:sp>
        <p:nvSpPr>
          <p:cNvPr id="136" name="PlaceHolder 2"/>
          <p:cNvSpPr>
            <a:spLocks noGrp="1"/>
          </p:cNvSpPr>
          <p:nvPr>
            <p:ph/>
          </p:nvPr>
        </p:nvSpPr>
        <p:spPr>
          <a:xfrm>
            <a:off x="250920" y="1267920"/>
            <a:ext cx="8207280" cy="525636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enní vyměřovací základ činí </a:t>
            </a:r>
            <a:r>
              <a:rPr b="0" lang="cs-CZ" sz="2000" spc="-1" strike="noStrike">
                <a:solidFill>
                  <a:srgbClr val="ff0033"/>
                </a:solidFill>
                <a:latin typeface="Times New Roman"/>
              </a:rPr>
              <a:t>570 Kč</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enní vyměřovací základ činí </a:t>
            </a:r>
            <a:r>
              <a:rPr b="0" lang="cs-CZ" sz="2000" spc="-1" strike="noStrike">
                <a:solidFill>
                  <a:srgbClr val="ff0033"/>
                </a:solidFill>
                <a:latin typeface="Times New Roman"/>
              </a:rPr>
              <a:t>970 Kč</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Redukce DVZ! </a:t>
            </a:r>
            <a:r>
              <a:rPr b="0" lang="cs-CZ" sz="2000" spc="-1" strike="noStrike">
                <a:solidFill>
                  <a:srgbClr val="ff0033"/>
                </a:solidFill>
                <a:latin typeface="Times New Roman"/>
              </a:rPr>
              <a:t>570, -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redukční hranice 550 Kč, tj. 570-550 = 20 Kč/60% - 12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 DVZ činí 550+12= </a:t>
            </a:r>
            <a:r>
              <a:rPr b="1" lang="cs-CZ" sz="2000" spc="-1" strike="noStrike" u="sng">
                <a:solidFill>
                  <a:srgbClr val="ff0033"/>
                </a:solidFill>
                <a:uFillTx/>
                <a:latin typeface="Times New Roman"/>
              </a:rPr>
              <a:t>562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Redukce DVZ! </a:t>
            </a:r>
            <a:r>
              <a:rPr b="0" lang="cs-CZ" sz="2000" spc="-1" strike="noStrike">
                <a:solidFill>
                  <a:srgbClr val="ff0033"/>
                </a:solidFill>
                <a:latin typeface="Times New Roman"/>
              </a:rPr>
              <a:t>970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redukční hranice 550 Kč (celá částka), z částky 790-550=240Kč/60%, tj.144 Kč</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redukční hranice 790 Kč, tj. 970-790=180 Kč, k této částce se nepřihlíží</a:t>
            </a:r>
            <a:endParaRPr b="0" lang="en-US" sz="2000" spc="-1" strike="noStrike">
              <a:solidFill>
                <a:srgbClr val="ffffff"/>
              </a:solidFill>
              <a:latin typeface="Times New Roman"/>
            </a:endParaRPr>
          </a:p>
          <a:p>
            <a:pPr marL="343080" indent="-343080">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VZ činí 550,- Kč + 144,- Kč = </a:t>
            </a:r>
            <a:r>
              <a:rPr b="1" lang="cs-CZ" sz="2000" spc="-1" strike="noStrike" u="sng">
                <a:solidFill>
                  <a:srgbClr val="ff0033"/>
                </a:solidFill>
                <a:uFillTx/>
                <a:latin typeface="Times New Roman"/>
              </a:rPr>
              <a:t>694 Kč</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60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rPr>
              <a:t>Nemocenské od 1. 1. 2008</a:t>
            </a:r>
            <a:endParaRPr b="0" lang="en-US" sz="2800" spc="-1" strike="noStrike">
              <a:solidFill>
                <a:srgbClr val="ffcc66"/>
              </a:solidFill>
              <a:latin typeface="Arial"/>
            </a:endParaRPr>
          </a:p>
        </p:txBody>
      </p:sp>
      <p:sp>
        <p:nvSpPr>
          <p:cNvPr id="139" name="PlaceHolder 2"/>
          <p:cNvSpPr>
            <a:spLocks noGrp="1"/>
          </p:cNvSpPr>
          <p:nvPr>
            <p:ph/>
          </p:nvPr>
        </p:nvSpPr>
        <p:spPr>
          <a:xfrm>
            <a:off x="-360" y="1066680"/>
            <a:ext cx="8915400" cy="54864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racovní neschopnost trvá déle než 3 dn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Nenáleží za období pracovní neschopnosti, za které náleží zaměstnanci započitatelný příjem</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oskytuje se za kalendářní dn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Podpůrčí doba – 1 rok</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Stanoví se z tzv. denního vyměřovacího základu, dále jen DVZ - § 18 zákona o nemocenském pojištění zaměstnanců</a:t>
            </a:r>
            <a:endParaRPr b="0" lang="en-US" sz="32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ea typeface="Times New Roman"/>
              </a:rPr>
              <a:t>Výše: </a:t>
            </a:r>
            <a:r>
              <a:rPr b="1" lang="cs-CZ" sz="32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od 4. do 30. dne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60% DVZ</a:t>
            </a:r>
            <a:endParaRPr b="0" lang="en-US" sz="2400" spc="-1" strike="noStrike">
              <a:solidFill>
                <a:srgbClr val="ffffff"/>
              </a:solidFill>
              <a:latin typeface="Times New Roman"/>
            </a:endParaRPr>
          </a:p>
          <a:p>
            <a:pPr lvl="4" marL="2057400" indent="0" algn="just">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od 31. do 60. dne</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 66% DVZ</a:t>
            </a:r>
            <a:endParaRPr b="0" lang="en-US" sz="2400" spc="-1" strike="noStrike">
              <a:solidFill>
                <a:srgbClr val="ffffff"/>
              </a:solidFill>
              <a:latin typeface="Times New Roman"/>
            </a:endParaRPr>
          </a:p>
          <a:p>
            <a:pPr lvl="4" marL="2057400" indent="0" algn="just">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od 61. dne</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 72% DVZ</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2008 po Nálezu ÚS, č. 166/2008 Sb.</a:t>
            </a:r>
            <a:endParaRPr b="0" lang="en-US" sz="4400" spc="-1" strike="noStrike">
              <a:solidFill>
                <a:srgbClr val="ffcc66"/>
              </a:solidFill>
              <a:latin typeface="Arial"/>
            </a:endParaRPr>
          </a:p>
        </p:txBody>
      </p:sp>
      <p:sp>
        <p:nvSpPr>
          <p:cNvPr id="142"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54/1956 S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vní 3 dny nepřísluší - od 30. června 2008 náleželo 60% DVZ, od 1. září 2008 25% DV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60% DVZ od 4. do 30. d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66% DVZ od 31 do 61. dn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72% DVZ od 61. d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řehled výuky </a:t>
            </a:r>
            <a:br>
              <a:rPr sz="2800"/>
            </a:br>
            <a:endParaRPr b="0" lang="en-US" sz="2800" spc="-1" strike="noStrike">
              <a:solidFill>
                <a:srgbClr val="ffcc66"/>
              </a:solidFill>
              <a:latin typeface="Arial"/>
            </a:endParaRPr>
          </a:p>
        </p:txBody>
      </p:sp>
      <p:sp>
        <p:nvSpPr>
          <p:cNvPr id="91"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Úvod do práva sociálního zabezpečení, pojem, předmět, systém a prameny práva sociálního zabezpečení</a:t>
            </a:r>
            <a:r>
              <a:rPr b="1" lang="cs-CZ" sz="2400" spc="-1" strike="noStrike">
                <a:solidFill>
                  <a:srgbClr val="ffffff"/>
                </a:solidFill>
                <a:latin typeface="Times New Roman"/>
              </a:rPr>
              <a:t> v ČR a v EU</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Pojistné na sociální zabezpečení a příspěvek na státní politiku zaměstnanosti</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33"/>
                </a:solidFill>
                <a:latin typeface="Times New Roman"/>
                <a:ea typeface="Times New Roman"/>
              </a:rPr>
              <a:t>Nemocenského pojištění -  právní úprava, vazby, význam.</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Důchodového pojištění – právní úprava, vazby a význam</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dravotnictví a zdravotní pojištění</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tátní sociální podpora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ociální pomoc</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áklady práva sociálního zabezpečení v E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404280"/>
            <a:ext cx="7772400" cy="158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Nárok na nemocenské nemá, kdo si přivodil pracovní neschopnost:</a:t>
            </a:r>
            <a:endParaRPr b="0" lang="en-US" sz="4000" spc="-1" strike="noStrike">
              <a:solidFill>
                <a:srgbClr val="ffcc66"/>
              </a:solidFill>
              <a:latin typeface="Arial"/>
            </a:endParaRPr>
          </a:p>
        </p:txBody>
      </p:sp>
      <p:sp>
        <p:nvSpPr>
          <p:cNvPr id="144" name="PlaceHolder 2"/>
          <p:cNvSpPr>
            <a:spLocks noGrp="1"/>
          </p:cNvSpPr>
          <p:nvPr>
            <p:ph/>
          </p:nvPr>
        </p:nvSpPr>
        <p:spPr>
          <a:xfrm>
            <a:off x="250920" y="2133360"/>
            <a:ext cx="8778960" cy="439092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úmyslu vylákat nemocenské</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viněnou účastí ve rvačce</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ako bezprostřední následek své opilosti nebo zneužití omamných prostředků neb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i spáchání úmyslného trestného činu, za nějž zákon stanoví trest odnětí svobody, jehož horní hranice přesahuje jeden rok.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odpora při ošetřování člena rodiny</a:t>
            </a:r>
            <a:endParaRPr b="0" lang="en-US" sz="3200" spc="-1" strike="noStrike">
              <a:solidFill>
                <a:srgbClr val="ffcc66"/>
              </a:solidFill>
              <a:latin typeface="Arial"/>
            </a:endParaRPr>
          </a:p>
        </p:txBody>
      </p:sp>
      <p:sp>
        <p:nvSpPr>
          <p:cNvPr id="146" name="PlaceHolder 2"/>
          <p:cNvSpPr>
            <a:spLocks noGrp="1"/>
          </p:cNvSpPr>
          <p:nvPr>
            <p:ph/>
          </p:nvPr>
        </p:nvSpPr>
        <p:spPr>
          <a:xfrm>
            <a:off x="304920" y="1341360"/>
            <a:ext cx="8153280" cy="55166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ítě nebo nemocný žijí se zaměstnancem v domácnosti, výj. ošetřování dítěte do 10 let rodičem</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 člen rodiny, jestliže to nezbytně vyžaduje jeho zdravotní stav</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půrčí doba – 9 kalendářních dní, 16 dní jde-li o osamělého rodiče pečujícího alespoň o 1 dítě ve věku do skončení povinné školní docházk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še: 60% DVZ</a:t>
            </a:r>
            <a:endParaRPr b="0" lang="en-US" sz="3200" spc="-1" strike="noStrike">
              <a:solidFill>
                <a:srgbClr val="ffffff"/>
              </a:solidFill>
              <a:latin typeface="Times New Roman"/>
            </a:endParaRPr>
          </a:p>
        </p:txBody>
      </p:sp>
      <p:sp>
        <p:nvSpPr>
          <p:cNvPr id="14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Peněžitá pomoc v mateřství</a:t>
            </a:r>
            <a:endParaRPr b="0" lang="en-US" sz="4000" spc="-1" strike="noStrike">
              <a:solidFill>
                <a:srgbClr val="ffcc66"/>
              </a:solidFill>
              <a:latin typeface="Arial"/>
            </a:endParaRPr>
          </a:p>
        </p:txBody>
      </p:sp>
      <p:sp>
        <p:nvSpPr>
          <p:cNvPr id="149" name="PlaceHolder 2"/>
          <p:cNvSpPr>
            <a:spLocks noGrp="1"/>
          </p:cNvSpPr>
          <p:nvPr>
            <p:ph/>
          </p:nvPr>
        </p:nvSpPr>
        <p:spPr>
          <a:xfrm>
            <a:off x="304920" y="1484280"/>
            <a:ext cx="8153280" cy="5068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88/1968 S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še: </a:t>
            </a:r>
            <a:r>
              <a:rPr b="0" lang="cs-CZ" sz="3200" spc="-1" strike="noStrike">
                <a:solidFill>
                  <a:srgbClr val="ffffff"/>
                </a:solidFill>
                <a:latin typeface="Times New Roman"/>
              </a:rPr>
              <a:t>	</a:t>
            </a:r>
            <a:r>
              <a:rPr b="0" lang="cs-CZ" sz="3200" spc="-1" strike="noStrike">
                <a:solidFill>
                  <a:srgbClr val="ffffff"/>
                </a:solidFill>
                <a:latin typeface="Times New Roman"/>
              </a:rPr>
              <a:t>69% DVZ</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Žena byla účastna v době posledních 2 let alespoň 270 dní na nemocenském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půrčí doba: 28 týdnů</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jištění DVZ ke dni nástupu na mateřskou dovol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Vyrovnávací příspěvek v těhotenství a mateřství</a:t>
            </a:r>
            <a:endParaRPr b="0" lang="en-US" sz="3600" spc="-1" strike="noStrike">
              <a:solidFill>
                <a:srgbClr val="ffcc66"/>
              </a:solidFill>
              <a:latin typeface="Arial"/>
            </a:endParaRPr>
          </a:p>
        </p:txBody>
      </p:sp>
      <p:sp>
        <p:nvSpPr>
          <p:cNvPr id="152" name="PlaceHolder 2"/>
          <p:cNvSpPr>
            <a:spLocks noGrp="1"/>
          </p:cNvSpPr>
          <p:nvPr>
            <p:ph/>
          </p:nvPr>
        </p:nvSpPr>
        <p:spPr>
          <a:xfrm>
            <a:off x="304920" y="1773000"/>
            <a:ext cx="8153280" cy="47797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88/1968 Sb.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očasné převedení v těhotenství, koná-li  práce ženám zakázané (288/2003 Sb.) nebo pokud podle lékařského posudku práce ohrožuje její těhotenstv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osahuje bez svého zavinění nižšího započitatelného příjmu</a:t>
            </a:r>
            <a:endParaRPr b="0" lang="en-US" sz="3200" spc="-1" strike="noStrike">
              <a:solidFill>
                <a:srgbClr val="ffffff"/>
              </a:solidFill>
              <a:latin typeface="Times New Roman"/>
            </a:endParaRPr>
          </a:p>
        </p:txBody>
      </p:sp>
      <p:sp>
        <p:nvSpPr>
          <p:cNvPr id="15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404640"/>
            <a:ext cx="8569080" cy="64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Vyrovnávací příspěvek v těhotenství a mateřství</a:t>
            </a:r>
            <a:r>
              <a:rPr b="0" lang="cs-CZ" sz="4000" spc="-1" strike="noStrike">
                <a:solidFill>
                  <a:srgbClr val="ffcc66"/>
                </a:solidFill>
                <a:latin typeface="Arial"/>
              </a:rPr>
              <a:t>,     </a:t>
            </a:r>
            <a:r>
              <a:rPr b="0" lang="cs-CZ" sz="2000" spc="-1" strike="noStrike">
                <a:solidFill>
                  <a:srgbClr val="ffcc66"/>
                </a:solidFill>
                <a:latin typeface="Arial"/>
              </a:rPr>
              <a:t>§ 5 zákona č. 88/1968 Sb.</a:t>
            </a:r>
            <a:endParaRPr b="0" lang="en-US" sz="2000" spc="-1" strike="noStrike">
              <a:solidFill>
                <a:srgbClr val="ffcc66"/>
              </a:solidFill>
              <a:latin typeface="Arial"/>
            </a:endParaRPr>
          </a:p>
        </p:txBody>
      </p:sp>
      <p:sp>
        <p:nvSpPr>
          <p:cNvPr id="155" name="PlaceHolder 2"/>
          <p:cNvSpPr>
            <a:spLocks noGrp="1"/>
          </p:cNvSpPr>
          <p:nvPr>
            <p:ph/>
          </p:nvPr>
        </p:nvSpPr>
        <p:spPr>
          <a:xfrm>
            <a:off x="250560" y="1341360"/>
            <a:ext cx="8569080" cy="518328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kyně byla dne 7. března 2008 převedena na jinou práci z důvodu těhotenství. Denní vyměřovací základ se stanoví stejně, jako kdyby  dne 7. března 2008 byla uznána práce neschopnou. Rozhodným obdobím je doba od 1. března 2007 do 29. února 2008, denní vyměřovací základ činí před redukcí </a:t>
            </a:r>
            <a:r>
              <a:rPr b="0" lang="cs-CZ" sz="2400" spc="-1" strike="noStrike">
                <a:solidFill>
                  <a:srgbClr val="ff0033"/>
                </a:solidFill>
                <a:latin typeface="Times New Roman"/>
              </a:rPr>
              <a:t>570,- Kč</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 redukci </a:t>
            </a:r>
            <a:r>
              <a:rPr b="0" lang="cs-CZ" sz="2400" spc="-1" strike="noStrike">
                <a:solidFill>
                  <a:srgbClr val="ff0033"/>
                </a:solidFill>
                <a:latin typeface="Times New Roman"/>
              </a:rPr>
              <a:t>562,- Kč</a:t>
            </a:r>
            <a:r>
              <a:rPr b="0" lang="cs-CZ" sz="2400" spc="-1" strike="noStrike">
                <a:solidFill>
                  <a:srgbClr val="ffffff"/>
                </a:solidFill>
                <a:latin typeface="Times New Roman"/>
              </a:rPr>
              <a:t> (550,- Kč + 60% z rozdílu mezi 570,-Kč a 550,- Kč).</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ůměr započitatelných příjmů připadající na jeden kalendářní den v měsíci březnu činí </a:t>
            </a:r>
            <a:r>
              <a:rPr b="0" lang="cs-CZ" sz="2400" spc="-1" strike="noStrike">
                <a:solidFill>
                  <a:srgbClr val="ff0033"/>
                </a:solidFill>
                <a:latin typeface="Times New Roman"/>
              </a:rPr>
              <a:t>370,- Kč</a:t>
            </a:r>
            <a:r>
              <a:rPr b="0" lang="cs-CZ" sz="2400" spc="-1" strike="noStrike">
                <a:solidFill>
                  <a:srgbClr val="ffffff"/>
                </a:solidFill>
                <a:latin typeface="Times New Roman"/>
              </a:rPr>
              <a:t>, neboť </a:t>
            </a:r>
            <a:r>
              <a:rPr b="0" lang="cs-CZ" sz="2400" spc="-1" strike="noStrike">
                <a:solidFill>
                  <a:srgbClr val="ff0033"/>
                </a:solidFill>
                <a:latin typeface="Times New Roman"/>
              </a:rPr>
              <a:t>úhrn započitatelných příjmů</a:t>
            </a:r>
            <a:r>
              <a:rPr b="0" lang="cs-CZ" sz="2400" spc="-1" strike="noStrike">
                <a:solidFill>
                  <a:srgbClr val="ffffff"/>
                </a:solidFill>
                <a:latin typeface="Times New Roman"/>
              </a:rPr>
              <a:t> zúčtovaných do března činil 11100,- Kč; po vydělení této částky 30 kalendářními dny měsíce března se dostaneme k částce 370,- Kč.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33"/>
                </a:solidFill>
                <a:latin typeface="Times New Roman"/>
              </a:rPr>
              <a:t>VPTM</a:t>
            </a:r>
            <a:r>
              <a:rPr b="0" lang="cs-CZ" sz="2400" spc="-1" strike="noStrike">
                <a:solidFill>
                  <a:srgbClr val="ffffff"/>
                </a:solidFill>
                <a:latin typeface="Times New Roman"/>
              </a:rPr>
              <a:t> činí za kalendářní den 192,- Kč (562 Kč po odpočtu 370 Kč. VPTM náleží </a:t>
            </a:r>
            <a:r>
              <a:rPr b="0" lang="cs-CZ" sz="2400" spc="-1" strike="noStrike">
                <a:solidFill>
                  <a:srgbClr val="ff0033"/>
                </a:solidFill>
                <a:latin typeface="Times New Roman"/>
              </a:rPr>
              <a:t>za dny 7. až 30. března, tj. v celkové výši 4 608 Kč</a:t>
            </a:r>
            <a:r>
              <a:rPr b="0" lang="cs-CZ" sz="2400" spc="-1" strike="noStrike">
                <a:solidFill>
                  <a:srgbClr val="ffffff"/>
                </a:solidFill>
                <a:latin typeface="Times New Roman"/>
              </a:rPr>
              <a:t> (192 x 24 kalendářní dn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0" y="0"/>
            <a:ext cx="9853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Mgr. Ilona Kostadinovová</a:t>
            </a:r>
            <a:r>
              <a:rPr b="0" lang="cs-CZ" sz="1400" spc="-1" strike="noStrike">
                <a:solidFill>
                  <a:srgbClr val="ffffff"/>
                </a:solidFill>
                <a:latin typeface="Times New Roman"/>
              </a:rPr>
              <a:t>	</a:t>
            </a:r>
            <a:r>
              <a:rPr b="0" lang="cs-CZ"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cs-CZ" sz="1400" spc="-1" strike="noStrike">
                <a:solidFill>
                  <a:srgbClr val="ffffff"/>
                </a:solidFill>
                <a:latin typeface="Times New Roman"/>
              </a:rPr>
              <a:t>ilda</a:t>
            </a:r>
            <a:r>
              <a:rPr b="0" lang="en-US" sz="1400" spc="-1" strike="noStrike">
                <a:solidFill>
                  <a:srgbClr val="ffffff"/>
                </a:solidFill>
                <a:latin typeface="Times New Roman"/>
              </a:rPr>
              <a:t>@seznam.cz</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60280"/>
            <a:ext cx="8351640" cy="115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Dočasná pracovní neschopnost (karanténa), § 191 a násl. ZP</a:t>
            </a:r>
            <a:endParaRPr b="0" lang="en-US" sz="3600" spc="-1" strike="noStrike">
              <a:solidFill>
                <a:srgbClr val="ffcc66"/>
              </a:solidFill>
              <a:latin typeface="Arial"/>
            </a:endParaRPr>
          </a:p>
        </p:txBody>
      </p:sp>
      <p:sp>
        <p:nvSpPr>
          <p:cNvPr id="158" name="PlaceHolder 2"/>
          <p:cNvSpPr>
            <a:spLocks noGrp="1"/>
          </p:cNvSpPr>
          <p:nvPr>
            <p:ph/>
          </p:nvPr>
        </p:nvSpPr>
        <p:spPr>
          <a:xfrm>
            <a:off x="250920" y="1557000"/>
            <a:ext cx="8778960" cy="5040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Náhrada mzdy při dočasné pracovní neschopnosti je upravena v § 192 </a:t>
            </a:r>
            <a:r>
              <a:rPr b="0" lang="cs-CZ" sz="2000" spc="-1" strike="noStrike">
                <a:solidFill>
                  <a:srgbClr val="ffffff"/>
                </a:solidFill>
                <a:latin typeface="Times New Roman"/>
              </a:rPr>
              <a:t>nového </a:t>
            </a:r>
            <a:r>
              <a:rPr b="0" lang="cs-CZ" sz="2000" spc="-1" strike="noStrike">
                <a:solidFill>
                  <a:srgbClr val="ffffff"/>
                </a:solidFill>
                <a:latin typeface="Times New Roman"/>
                <a:ea typeface="Times New Roman"/>
              </a:rPr>
              <a:t>zákoníku práce</a:t>
            </a:r>
            <a:r>
              <a:rPr b="0" lang="cs-CZ" sz="2000" spc="-1" strike="noStrike">
                <a:solidFill>
                  <a:srgbClr val="ffffff"/>
                </a:solidFill>
                <a:latin typeface="Times New Roman"/>
              </a:rPr>
              <a:t>, zaměstnavatelé ji budou poskytovat </a:t>
            </a:r>
            <a:r>
              <a:rPr b="1" lang="cs-CZ" sz="2000" spc="-1" strike="noStrike" u="sng">
                <a:solidFill>
                  <a:srgbClr val="ffffff"/>
                </a:solidFill>
                <a:uFillTx/>
                <a:latin typeface="Times New Roman"/>
              </a:rPr>
              <a:t>až v roce 2009</a:t>
            </a:r>
            <a:r>
              <a:rPr b="0" lang="cs-CZ"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 první 3 dny nepřísluší,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d 4. dne do 14. dne </a:t>
            </a:r>
            <a:r>
              <a:rPr b="0" lang="cs-CZ" sz="2000" spc="-1" strike="noStrike">
                <a:solidFill>
                  <a:srgbClr val="ffffff"/>
                </a:solidFill>
                <a:latin typeface="Times New Roman"/>
                <a:ea typeface="Times New Roman"/>
              </a:rPr>
              <a:t>ve výši 60% průměrného výdělku v rámci trvání dočasné pracovní neschopnosti. </a:t>
            </a:r>
            <a:endParaRPr b="0" lang="en-US" sz="2000" spc="-1" strike="noStrike">
              <a:solidFill>
                <a:srgbClr val="ffffff"/>
              </a:solidFill>
              <a:latin typeface="Times New Roman"/>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a dobu prvních 3 dní může být dohodnutá nebo vnitřním předpisem stanovená výše náhrady mzdy nebo platu, nesmí však převýšit průměrný výdělek.</a:t>
            </a:r>
            <a:endParaRPr b="0" lang="en-US" sz="18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Po dobu prvních 14 kalendářních dnů trvání pracovní neschopnosti přísluší náhrada mzdy zaměstnanci od zaměstnavatele</a:t>
            </a:r>
            <a:r>
              <a:rPr b="0" lang="cs-CZ" sz="2000" spc="-1" strike="noStrike">
                <a:solidFill>
                  <a:srgbClr val="ffffff"/>
                </a:solidFill>
                <a:latin typeface="Times New Roman"/>
              </a:rPr>
              <a:t> za dny, které jsou pro zaměstnance pracovními dny, a za svátky, za které jinak přísluší zaměstnanci náhrada mzdy nebo se mu plat nekrátí, </a:t>
            </a:r>
            <a:r>
              <a:rPr b="0" lang="cs-CZ"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od 15. Dne</a:t>
            </a:r>
            <a:r>
              <a:rPr b="0" lang="cs-CZ" sz="2000" spc="-1" strike="noStrike">
                <a:solidFill>
                  <a:srgbClr val="ffffff"/>
                </a:solidFill>
                <a:latin typeface="Times New Roman"/>
              </a:rPr>
              <a:t> bude</a:t>
            </a:r>
            <a:r>
              <a:rPr b="0" lang="cs-CZ" sz="2000" spc="-1" strike="noStrike">
                <a:solidFill>
                  <a:srgbClr val="ffffff"/>
                </a:solidFill>
                <a:latin typeface="Times New Roman"/>
                <a:ea typeface="Times New Roman"/>
              </a:rPr>
              <a:t> přísluší zaměstnanci dávka nemocenského pojištění podle nového </a:t>
            </a:r>
            <a:r>
              <a:rPr b="1" lang="cs-CZ" sz="2000" spc="-1" strike="noStrike">
                <a:solidFill>
                  <a:srgbClr val="ffffff"/>
                </a:solidFill>
                <a:latin typeface="Times New Roman"/>
                <a:ea typeface="Times New Roman"/>
              </a:rPr>
              <a:t>zákona o nemocenském pojištění</a:t>
            </a:r>
            <a:r>
              <a:rPr b="0" lang="cs-CZ" sz="2000" spc="-1" strike="noStrike">
                <a:solidFill>
                  <a:srgbClr val="ffffff"/>
                </a:solidFill>
                <a:latin typeface="Times New Roman"/>
                <a:ea typeface="Times New Roman"/>
              </a:rPr>
              <a:t>, z. č. 187/2006 Sb., který nabývá účinnosti dnem 1. ledna 2009.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480" y="475920"/>
            <a:ext cx="7772400" cy="36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Dočasná pracovní neschopnost 2009</a:t>
            </a:r>
            <a:endParaRPr b="0" lang="en-US" sz="3200" spc="-1" strike="noStrike">
              <a:solidFill>
                <a:srgbClr val="ffcc66"/>
              </a:solidFill>
              <a:latin typeface="Arial"/>
            </a:endParaRPr>
          </a:p>
        </p:txBody>
      </p:sp>
      <p:sp>
        <p:nvSpPr>
          <p:cNvPr id="160" name="PlaceHolder 2"/>
          <p:cNvSpPr>
            <a:spLocks noGrp="1"/>
          </p:cNvSpPr>
          <p:nvPr>
            <p:ph/>
          </p:nvPr>
        </p:nvSpPr>
        <p:spPr>
          <a:xfrm>
            <a:off x="971640" y="907560"/>
            <a:ext cx="8058240" cy="5187960"/>
          </a:xfrm>
          <a:prstGeom prst="rect">
            <a:avLst/>
          </a:prstGeom>
          <a:noFill/>
          <a:ln w="0">
            <a:noFill/>
          </a:ln>
        </p:spPr>
        <p:txBody>
          <a:bodyPr lIns="90000" rIns="90000" tIns="46800" bIns="46800" anchor="t">
            <a:normAutofit/>
          </a:bodyPr>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u="sng">
                <a:solidFill>
                  <a:srgbClr val="ffffff"/>
                </a:solidFill>
                <a:uFillTx/>
                <a:latin typeface="Times New Roman"/>
                <a:ea typeface="Times New Roman"/>
              </a:rPr>
              <a:t>§ 192 odst. 2 zákoníku práce</a:t>
            </a:r>
            <a:r>
              <a:rPr b="0" lang="cs-CZ" sz="2400" spc="-1" strike="noStrike">
                <a:solidFill>
                  <a:srgbClr val="ffffff"/>
                </a:solidFill>
                <a:latin typeface="Times New Roman"/>
                <a:ea typeface="Times New Roman"/>
              </a:rPr>
              <a:t>, zjištěný průměrný výdělek se upraví stejným způsobem, jakým se upravuje denní vyměřovací základ pro výpočet nemocenského  z nemocenského pojištění - § 21 odst. 1 písm. a) zákona č. 187/2006 Sb., o nemocenském pojištění,            v platném znění. Příslušná redukční hranice stanovená pro účely nemocenského pojištění dle § 22 zákona č. 187/2006 Sb., se vynásobí koeficientem 0,175 a poté se zaokrouhlí na haléře směrem nahoru. </a:t>
            </a:r>
            <a:endParaRPr b="0" lang="en-US" sz="2400" spc="-1" strike="noStrike">
              <a:solidFill>
                <a:srgbClr val="ffffff"/>
              </a:solidFill>
              <a:latin typeface="Times New Roman"/>
            </a:endParaRPr>
          </a:p>
          <a:p>
            <a:pPr lvl="1" marL="743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a dobu prvních 3 dní může být dohodnutá nebo vnitřním předpisem stanovená výše náhrady mzdy nebo platu, nesmí však převýšit průměrný výdělek.</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održování léčebného režimu</a:t>
            </a:r>
            <a:endParaRPr b="0" lang="en-US" sz="4400" spc="-1" strike="noStrike">
              <a:solidFill>
                <a:srgbClr val="ffcc66"/>
              </a:solidFill>
              <a:latin typeface="Arial"/>
            </a:endParaRPr>
          </a:p>
        </p:txBody>
      </p:sp>
      <p:sp>
        <p:nvSpPr>
          <p:cNvPr id="16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věření pracovníci jednotlivých pracovišť ČSSZ, tedy okresní (v Praze Pražské, v Brně Městské) správy sociálního zabezpečení – prokazují se oprávněním ke kontrole, zaznamenají datum a čas kontrol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latí i nadále podobná pravidla jako v roce 2006.</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 porušení léčebného režimu může být nemocenské sníženo nebo odejmuto.</a:t>
            </a:r>
            <a:endParaRPr b="0" lang="en-US" sz="24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vatel bude oprávněn kontrolovat, zda zaměstnanec dodržuje v době prvních 14 kalendářních dnů dočasné pracovní neschopnosti stanovený režim dočasně práce neschopného pojištěnce až v roce 2009, nebude moci dát zaměstnanci výpověď ani s ním okamžitě zrušit pracovní poměr pro porušení povinnosti, pokud jde o režim dočasně práce neschopného pojiště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Opakování nemocenské pojištění</a:t>
            </a:r>
            <a:endParaRPr b="0" lang="en-US" sz="3200" spc="-1" strike="noStrike">
              <a:solidFill>
                <a:srgbClr val="ffcc66"/>
              </a:solidFill>
              <a:latin typeface="Arial"/>
            </a:endParaRPr>
          </a:p>
        </p:txBody>
      </p:sp>
      <p:sp>
        <p:nvSpPr>
          <p:cNvPr id="164" name="PlaceHolder 2"/>
          <p:cNvSpPr>
            <a:spLocks noGrp="1"/>
          </p:cNvSpPr>
          <p:nvPr>
            <p:ph/>
          </p:nvPr>
        </p:nvSpPr>
        <p:spPr>
          <a:xfrm>
            <a:off x="304920" y="1371240"/>
            <a:ext cx="81532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nní vyměřovací zákla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látce dávek</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půrčí dob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chranná lhůt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mlčení dávek</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se postupuje při poskytování nemocenské, koná-li zaměstnanec několik souběžných pracovních poměrů?</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se rozumí pojmem mateřské dovolené a jaká dávka se po její dobu poskytuje.</a:t>
            </a:r>
            <a:endParaRPr b="0" lang="en-US" sz="2800" spc="-1" strike="noStrike">
              <a:solidFill>
                <a:srgbClr val="ffffff"/>
              </a:solidFill>
              <a:latin typeface="Times New Roman"/>
            </a:endParaRPr>
          </a:p>
        </p:txBody>
      </p:sp>
      <p:sp>
        <p:nvSpPr>
          <p:cNvPr id="16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404280"/>
            <a:ext cx="7772400" cy="107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Arial"/>
              </a:rPr>
              <a:t>Nemocenské pojištění v roce 2008</a:t>
            </a:r>
            <a:br>
              <a:rPr sz="3200"/>
            </a:br>
            <a:r>
              <a:rPr b="1" lang="cs-CZ" sz="3200" spc="-1" strike="noStrike">
                <a:solidFill>
                  <a:srgbClr val="ffcc66"/>
                </a:solidFill>
                <a:latin typeface="Arial"/>
              </a:rPr>
              <a:t>Případové studie</a:t>
            </a:r>
            <a:endParaRPr b="0" lang="en-US" sz="3200" spc="-1" strike="noStrike">
              <a:solidFill>
                <a:srgbClr val="ffcc66"/>
              </a:solidFill>
              <a:latin typeface="Arial"/>
            </a:endParaRPr>
          </a:p>
        </p:txBody>
      </p:sp>
      <p:sp>
        <p:nvSpPr>
          <p:cNvPr id="167" name="PlaceHolder 2"/>
          <p:cNvSpPr>
            <a:spLocks noGrp="1"/>
          </p:cNvSpPr>
          <p:nvPr>
            <p:ph/>
          </p:nvPr>
        </p:nvSpPr>
        <p:spPr>
          <a:xfrm>
            <a:off x="228240" y="1484280"/>
            <a:ext cx="8736120" cy="511344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Paní Svobodová má na SŠ, kde pracuje v pracovním poměru, plat ve výši 20.000,- Kč měsíčně; v zaměstnání u podnikatele, kde pracuje na dohodu o pracovní činnosti, má odměnu 15.000,- Kč měsíčně. Paní Svobodová onemocní na zápal plic. Telefonicky kontaktuje oba zaměstnavatele s dotazem, který z nich jí bude vyplácet nemocenské a jak má postupovat.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romyslete, jaké údaje potřebujete znát, abyste mohli posoudit, zda je zaměstnankyně nemocensky pojištěna.</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Dále potřebujete zvážit následující: </a:t>
            </a:r>
            <a:endParaRPr b="0" lang="en-US" sz="2400" spc="-1" strike="noStrike">
              <a:solidFill>
                <a:srgbClr val="ff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a) Pokud by byly splněny veškeré podmínky účasti na nemocenském pojištění a veškeré podmínky nároku na nemocenské, má zaměstnankyně </a:t>
            </a:r>
            <a:r>
              <a:rPr b="0" lang="cs-CZ" sz="2400" spc="-1" strike="noStrike" u="sng">
                <a:solidFill>
                  <a:srgbClr val="ffffff"/>
                </a:solidFill>
                <a:uFillTx/>
                <a:latin typeface="Times New Roman"/>
              </a:rPr>
              <a:t>nárok na dávku</a:t>
            </a:r>
            <a:r>
              <a:rPr b="0" lang="cs-CZ" sz="2400" spc="-1" strike="noStrike">
                <a:solidFill>
                  <a:srgbClr val="ffffff"/>
                </a:solidFill>
                <a:latin typeface="Times New Roman"/>
              </a:rPr>
              <a:t> 1x nebo 2x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bb) Co má paní Svobodová udělat pro to, aby jí dávka byla </a:t>
            </a:r>
            <a:r>
              <a:rPr b="0" lang="cs-CZ" sz="2400" spc="-1" strike="noStrike" u="sng">
                <a:solidFill>
                  <a:srgbClr val="ffffff"/>
                </a:solidFill>
                <a:uFillTx/>
                <a:latin typeface="Times New Roman"/>
              </a:rPr>
              <a:t>vyplácena</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bc) Kdo bude plátcem ?</a:t>
            </a:r>
            <a:endParaRPr b="0" lang="en-US" sz="2400" spc="-1" strike="noStrike">
              <a:solidFill>
                <a:srgbClr val="ffffff"/>
              </a:solidFill>
              <a:latin typeface="Times New Roman"/>
            </a:endParaRPr>
          </a:p>
        </p:txBody>
      </p:sp>
      <p:sp>
        <p:nvSpPr>
          <p:cNvPr id="16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rameny práva nemocenského pojištění</a:t>
            </a:r>
            <a:endParaRPr b="0" lang="en-US" sz="3200" spc="-1" strike="noStrike">
              <a:solidFill>
                <a:srgbClr val="ffcc66"/>
              </a:solidFill>
              <a:latin typeface="Arial"/>
            </a:endParaRPr>
          </a:p>
        </p:txBody>
      </p:sp>
      <p:sp>
        <p:nvSpPr>
          <p:cNvPr id="94"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ÚZ, Sociální pojištění a Nemocenské pojištění 2009</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88/1968 Sb., o prodloužení mateřské dovolené, o dávkách v mateřství a o přídavcích na děti z nemocenského pojištění, v platném znění</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54/1956 Sb., o nemocenském pojištění zaměstnanců, v platném znění</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187/2006 Sb., o nemocenském pojištění, účinnost 1. 1. 2009</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100/1988 Sb., o sociálním zabezpečení, část šestá, nemocenské pojištění osob samostatně výdělečně činných</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262/2006 Sb., zákoník práce, náhrada mzdy po dobu prvních 14 dní trvání dočasné pracovní neschopnosti, od 1. 1. 2009</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 č. 266/2006 Sb., o úrazovém pojištění zaměstnanců, účinnost 1. 1. 2010</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
          <p:cNvSpPr/>
          <p:nvPr/>
        </p:nvSpPr>
        <p:spPr>
          <a:xfrm>
            <a:off x="250920" y="0"/>
            <a:ext cx="960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880"/>
            <a:ext cx="7772400" cy="45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řípadová studie - nemocenské pojištění</a:t>
            </a:r>
            <a:endParaRPr b="0" lang="en-US" sz="3200" spc="-1" strike="noStrike">
              <a:solidFill>
                <a:srgbClr val="ffcc66"/>
              </a:solidFill>
              <a:latin typeface="Arial"/>
            </a:endParaRPr>
          </a:p>
        </p:txBody>
      </p:sp>
      <p:sp>
        <p:nvSpPr>
          <p:cNvPr id="170" name="PlaceHolder 2"/>
          <p:cNvSpPr>
            <a:spLocks noGrp="1"/>
          </p:cNvSpPr>
          <p:nvPr>
            <p:ph/>
          </p:nvPr>
        </p:nvSpPr>
        <p:spPr>
          <a:xfrm>
            <a:off x="228240" y="692280"/>
            <a:ext cx="8915400" cy="5976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Times New Roman"/>
              </a:rPr>
              <a:t>Zaměstnavatel („firma“) SIBA, s.r.o. se sídlem v ČR má od 1.1. 2008 čtyři zaměstnance – pana Dvořáka, který studuje 3. ročník VŠE, je mu 21 let a má uzavřen pracovní poměr na 1 rok, paní Hronovskou, která je momentálně na mateřské dovolené a má pracovní poměr na dobu neurčitou, pana Svobodu, který vykonává pomocné práce, pracuje na dohodu o pracovní činnosti uzavřenou na tři roky, má sjednánu pracovní dobu 10 hodin týdně, a slečnu Markovou, která má na celý rok 2008 uzavřenou dohodu o provedení práce. Zaměstnavatel si nechává zpracovávat mzdovou agendu od společnosti ACO, s.r.o., která vykonává účetní práce svými 30 zaměstnanci.</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Times New Roman"/>
              </a:rPr>
              <a:t>Další údaje k případu – příjmy zaměstnanců v březnu 2008</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1. zaměstnanec p. Dvořák</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a:t>
            </a:r>
            <a:r>
              <a:rPr b="0" i="1" lang="cs-CZ" sz="2000" spc="-1" strike="noStrike">
                <a:solidFill>
                  <a:srgbClr val="ffffff"/>
                </a:solidFill>
                <a:latin typeface="Times New Roman"/>
              </a:rPr>
              <a:t>mzda  ...................................................................           7.0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2. zaměstnankyně p. Hronovská</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sjednaná mzda  ……………………………….          20.000,- Kč </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peněžitá pomoc v mateřství  .... …….…….......          9.8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3. zaměstnanec p. Svoboda</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měsíční odměna  ..…………………….………..          3.000,- Kč.</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4.zaměstnankyně sl. Marková</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imes New Roman"/>
              </a:rPr>
              <a:t>- měsíční odměna  ..…………………….………….          15.000,- Kč.</a:t>
            </a:r>
            <a:endParaRPr b="0" lang="en-US" sz="2000" spc="-1" strike="noStrike">
              <a:solidFill>
                <a:srgbClr val="ffffff"/>
              </a:solidFill>
              <a:latin typeface="Times New Roman"/>
            </a:endParaRPr>
          </a:p>
        </p:txBody>
      </p:sp>
      <p:sp>
        <p:nvSpPr>
          <p:cNvPr id="17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76280"/>
            <a:ext cx="7772400" cy="172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Vypočítejte, popřípadě rozhodněte následující</a:t>
            </a:r>
            <a:r>
              <a:rPr b="0" lang="cs-CZ" sz="4400" spc="-1" strike="noStrike">
                <a:solidFill>
                  <a:srgbClr val="ffcc66"/>
                </a:solidFill>
                <a:latin typeface="Arial"/>
              </a:rPr>
              <a:t>:</a:t>
            </a:r>
            <a:br>
              <a:rPr sz="4400"/>
            </a:br>
            <a:endParaRPr b="0" lang="en-US" sz="4400" spc="-1" strike="noStrike">
              <a:solidFill>
                <a:srgbClr val="ffcc66"/>
              </a:solidFill>
              <a:latin typeface="Arial"/>
            </a:endParaRPr>
          </a:p>
        </p:txBody>
      </p:sp>
      <p:sp>
        <p:nvSpPr>
          <p:cNvPr id="173" name="PlaceHolder 2"/>
          <p:cNvSpPr>
            <a:spLocks noGrp="1"/>
          </p:cNvSpPr>
          <p:nvPr>
            <p:ph/>
          </p:nvPr>
        </p:nvSpPr>
        <p:spPr>
          <a:xfrm>
            <a:off x="228240" y="1700280"/>
            <a:ext cx="8915400" cy="46814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sou všichni zaměstnanci nemocensky pojištěni ?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é nároky mají zaměstnanci z titulu nemocenského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yla společnost SIBA, s.r.o. povinna přihlásit své zaměstnance k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é povinnosti má zaměstnavatel vůči příslušné správě nemocenského pojištění ?</a:t>
            </a:r>
            <a:endParaRPr b="0" lang="en-US" sz="2800" spc="-1" strike="noStrike">
              <a:solidFill>
                <a:srgbClr val="ffffff"/>
              </a:solidFill>
              <a:latin typeface="Times New Roman"/>
            </a:endParaRPr>
          </a:p>
          <a:p>
            <a:pPr marL="609480" indent="-6094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má paní Hronovská postupovat, aby obdržela v době mateřské dovolené příslušnou nemocenskou dávku ? Kdo bude plátcem ?</a:t>
            </a:r>
            <a:endParaRPr b="0" lang="en-US" sz="2800" spc="-1" strike="noStrike">
              <a:solidFill>
                <a:srgbClr val="ffffff"/>
              </a:solidFill>
              <a:latin typeface="Times New Roman"/>
            </a:endParaRPr>
          </a:p>
        </p:txBody>
      </p:sp>
      <p:sp>
        <p:nvSpPr>
          <p:cNvPr id="17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rPr>
              <a:t>Podmínky nároku na nemocenské a platba náhrady mzdy v době PN</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76" name="PlaceHolder 2"/>
          <p:cNvSpPr>
            <a:spLocks noGrp="1"/>
          </p:cNvSpPr>
          <p:nvPr>
            <p:ph/>
          </p:nvPr>
        </p:nvSpPr>
        <p:spPr>
          <a:xfrm>
            <a:off x="228240" y="1916280"/>
            <a:ext cx="8915400" cy="446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aní Lewitová je nemocensky pojištěná v pracovním poměru. Byla uznána práce neschopnou. Leží doma a od března do května 08 pobírá nemocenské. V dubnu jí zaměstnavatel navíc dodatečně vyplatil náhradu mzdy za dovolenou, kterou omylem neuhradil. Přijde paní Lewitová v dubnu o nemocenské ?</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Arial"/>
              </a:rPr>
              <a:t>Podmínky nároku na nemocenské při souběhu zaměstnání</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79" name="PlaceHolder 2"/>
          <p:cNvSpPr>
            <a:spLocks noGrp="1"/>
          </p:cNvSpPr>
          <p:nvPr>
            <p:ph/>
          </p:nvPr>
        </p:nvSpPr>
        <p:spPr>
          <a:xfrm>
            <a:off x="228240" y="1557000"/>
            <a:ext cx="89154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an Jareš je nemocensky pojištěn u společnosti JALTA, a.s. ve dvou pracovních poměrech. V jednom je uznán práce neschopným a dostává nemocenské. Ve druhém pracovním poměru (pracuje doma jako překladatel) nadále pokračuje v práci (lékař usoudil, že ji může při komplikované zlomenině dolní končetiny i nadále vykonávat) a za výkon práce dostává mzdu.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 společnost JALTA, a.s. skutečně oprávněna vyplácet v prvním pracovním poměru nemocenské ?</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880"/>
            <a:ext cx="7772400" cy="146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Podmínky nároku na POČR a podpůrčí doba</a:t>
            </a:r>
            <a:endParaRPr b="0" lang="en-US" sz="4400" spc="-1" strike="noStrike">
              <a:solidFill>
                <a:srgbClr val="ffcc66"/>
              </a:solidFill>
              <a:latin typeface="Arial"/>
            </a:endParaRPr>
          </a:p>
        </p:txBody>
      </p:sp>
      <p:sp>
        <p:nvSpPr>
          <p:cNvPr id="182" name="PlaceHolder 2"/>
          <p:cNvSpPr>
            <a:spLocks noGrp="1"/>
          </p:cNvSpPr>
          <p:nvPr>
            <p:ph/>
          </p:nvPr>
        </p:nvSpPr>
        <p:spPr>
          <a:xfrm>
            <a:off x="228240" y="2060280"/>
            <a:ext cx="8915400" cy="432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Janě je 5 let a je svěřena do péče matky. Po dobu ošetřování si ji vezme k sobě otec-lékař, který je v zaměstnání nemocensky pojištěn. Délka ošetřování je určena na 51 dní.  Vznikne otci nárok na dávku ? ANO/NE   Pokud ano, jak dlouho ji bude pobírat ? ……………</a:t>
            </a:r>
            <a:endParaRPr b="0" lang="en-US" sz="3200" spc="-1" strike="noStrike">
              <a:solidFill>
                <a:srgbClr val="ffffff"/>
              </a:solidFill>
              <a:latin typeface="Times New Roman"/>
            </a:endParaRPr>
          </a:p>
        </p:txBody>
      </p:sp>
      <p:sp>
        <p:nvSpPr>
          <p:cNvPr id="18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Podmínky nároku na VPTM</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85" name="PlaceHolder 2"/>
          <p:cNvSpPr>
            <a:spLocks noGrp="1"/>
          </p:cNvSpPr>
          <p:nvPr>
            <p:ph/>
          </p:nvPr>
        </p:nvSpPr>
        <p:spPr>
          <a:xfrm>
            <a:off x="228240" y="1197000"/>
            <a:ext cx="8915400" cy="518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aní Marešová se až dosud věnovala v podniku na výrobu oděvů ručnímu vyšívání a vydělala si v průměru 10.000,- Kč. Nyní je těhotná a necítí se dobře. Proto požádala svého zaměstnavatele, aby ji přeřadil do administrativního oddělení. Vedoucí jí vyhověl. Paní Marešová však po převedení na jinou práci z výplatní pásky zjistila, že pobírá mzdu nižší cca o 900,- Kč měsíčně a požádala o doplacení z nemocenského pojištění, jak jí poradila kamarádka.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O jakou dávku zřejmě požádala ? Má na ni nárok ? Pokud ano, v jaké výši ?</a:t>
            </a:r>
            <a:endParaRPr b="0" lang="en-US" sz="2800" spc="-1" strike="noStrike">
              <a:solidFill>
                <a:srgbClr val="ffffff"/>
              </a:solidFill>
              <a:latin typeface="Times New Roman"/>
            </a:endParaRPr>
          </a:p>
        </p:txBody>
      </p:sp>
      <p:sp>
        <p:nvSpPr>
          <p:cNvPr id="18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Výpočet NEMOCENSKÉ</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88" name="PlaceHolder 2"/>
          <p:cNvSpPr>
            <a:spLocks noGrp="1"/>
          </p:cNvSpPr>
          <p:nvPr>
            <p:ph/>
          </p:nvPr>
        </p:nvSpPr>
        <p:spPr>
          <a:xfrm>
            <a:off x="228240" y="1197000"/>
            <a:ext cx="89154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OSVČ je uznána práce neschopnou od 1.2.08 do 8.2.08. Vyměřovací základ (neredukovaný) činí 880,- Kč. Z jakého denního vyměřovacího základu se bude počítat nemocenské ? Vypočítejte výši nemocenského za první den P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ostup a výsledek:</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Souběh několika SVČ</a:t>
            </a:r>
            <a:r>
              <a:rPr b="0" lang="cs-CZ" sz="4400" spc="-1" strike="noStrike">
                <a:solidFill>
                  <a:srgbClr val="ffcc66"/>
                </a:solidFill>
                <a:latin typeface="Arial"/>
              </a:rPr>
              <a:t> </a:t>
            </a:r>
            <a:endParaRPr b="0" lang="en-US" sz="4400" spc="-1" strike="noStrike">
              <a:solidFill>
                <a:srgbClr val="ffcc66"/>
              </a:solidFill>
              <a:latin typeface="Arial"/>
            </a:endParaRPr>
          </a:p>
        </p:txBody>
      </p:sp>
      <p:sp>
        <p:nvSpPr>
          <p:cNvPr id="191" name="PlaceHolder 2"/>
          <p:cNvSpPr>
            <a:spLocks noGrp="1"/>
          </p:cNvSpPr>
          <p:nvPr>
            <p:ph/>
          </p:nvPr>
        </p:nvSpPr>
        <p:spPr>
          <a:xfrm>
            <a:off x="228240" y="1413000"/>
            <a:ext cx="8915400" cy="49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Podnikatel, pan Brzobohatý, provozuje živnost, dále podniká dle zvláštního právního předpisu a také pravidelně píše publikace (činnost dle autorského zákona).  Je nemocensky pojištěn a splňuje veškeré podmínky nároku na nemocenské. Dne 7.3.2008 je uznán práce neschopným.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Obdrží nemocenské 1x, 2x nebo 3x ? Zdůvodněte.</a:t>
            </a:r>
            <a:endParaRPr b="0" lang="en-US" sz="3200" spc="-1" strike="noStrike">
              <a:solidFill>
                <a:srgbClr val="ffffff"/>
              </a:solidFill>
              <a:latin typeface="Times New Roman"/>
            </a:endParaRPr>
          </a:p>
        </p:txBody>
      </p:sp>
      <p:sp>
        <p:nvSpPr>
          <p:cNvPr id="1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093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ěkuji za pozornost.</a:t>
            </a:r>
            <a:endParaRPr b="0" lang="en-US" sz="4400" spc="-1" strike="noStrike">
              <a:solidFill>
                <a:srgbClr val="ffcc66"/>
              </a:solidFill>
              <a:latin typeface="Arial"/>
            </a:endParaRPr>
          </a:p>
        </p:txBody>
      </p:sp>
      <p:sp>
        <p:nvSpPr>
          <p:cNvPr id="194" name="PlaceHolder 2"/>
          <p:cNvSpPr>
            <a:spLocks noGrp="1"/>
          </p:cNvSpPr>
          <p:nvPr>
            <p:ph/>
          </p:nvPr>
        </p:nvSpPr>
        <p:spPr>
          <a:xfrm>
            <a:off x="685800" y="4190760"/>
            <a:ext cx="7772400" cy="236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Novela č. 585/2006 Sb., kterou se mění zákoník práce, zákon č. 262/2006 Sb. a další právní předpisy</a:t>
            </a:r>
            <a:endParaRPr b="0" lang="en-US" sz="32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66</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191</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363 odst. 1</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 393 a</a:t>
            </a:r>
            <a:r>
              <a:rPr b="0" lang="cs-CZ" sz="2800" spc="-1" strike="noStrike">
                <a:solidFill>
                  <a:srgbClr val="ffffff"/>
                </a:solidFill>
                <a:latin typeface="Times New Roman"/>
              </a:rPr>
              <a:t> – náhrada mzdy, platu nebo odměny z dohody o pracovní činnosti podle § 192 až 194 nepřísluší po dobu dočasné pracovní neschopnosti přede dnem účinnosti zákona č. 187/2006 Sb., o nemocenském pojištění</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známka pod čarou č. 60 – odkaz na zákon o nemocenském pojištění, z. č. 54/1956 S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Sociální zabezpečení v ČR</a:t>
            </a:r>
            <a:endParaRPr b="0" lang="en-US" sz="3600" spc="-1" strike="noStrike">
              <a:solidFill>
                <a:srgbClr val="ffcc66"/>
              </a:solidFill>
              <a:latin typeface="Arial"/>
            </a:endParaRPr>
          </a:p>
        </p:txBody>
      </p:sp>
      <p:sp>
        <p:nvSpPr>
          <p:cNvPr id="99" name="PlaceHolder 2"/>
          <p:cNvSpPr>
            <a:spLocks noGrp="1"/>
          </p:cNvSpPr>
          <p:nvPr>
            <p:ph/>
          </p:nvPr>
        </p:nvSpPr>
        <p:spPr>
          <a:xfrm>
            <a:off x="304920" y="1294920"/>
            <a:ext cx="8153280" cy="5257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 </a:t>
            </a:r>
            <a:r>
              <a:rPr b="0" lang="cs-CZ" sz="3200" spc="-1" strike="noStrike">
                <a:solidFill>
                  <a:srgbClr val="ff0033"/>
                </a:solidFill>
                <a:latin typeface="Times New Roman"/>
              </a:rPr>
              <a:t>Sociální pojištění</a:t>
            </a:r>
            <a:r>
              <a:rPr b="0" lang="cs-CZ" sz="3200" spc="-1" strike="noStrike">
                <a:solidFill>
                  <a:srgbClr val="ffffff"/>
                </a:solidFill>
                <a:latin typeface="Times New Roman"/>
              </a:rPr>
              <a:t> – pojistné n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 </a:t>
            </a:r>
            <a:r>
              <a:rPr b="0" lang="cs-CZ" sz="3200" spc="-1" strike="noStrike">
                <a:solidFill>
                  <a:srgbClr val="ff0033"/>
                </a:solidFill>
                <a:latin typeface="Times New Roman"/>
              </a:rPr>
              <a:t>nemocenské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důchodové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příspěvek na státní politiku zaměstnanosti</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 Zdravotní pojištění</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V. Státní sociální podpor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Sociální pomoc</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pojištění</a:t>
            </a:r>
            <a:endParaRPr b="0" lang="en-US" sz="4400" spc="-1" strike="noStrike">
              <a:solidFill>
                <a:srgbClr val="ffcc66"/>
              </a:solidFill>
              <a:latin typeface="Arial"/>
            </a:endParaRPr>
          </a:p>
        </p:txBody>
      </p:sp>
      <p:sp>
        <p:nvSpPr>
          <p:cNvPr id="102" name="PlaceHolder 2"/>
          <p:cNvSpPr>
            <a:spLocks noGrp="1"/>
          </p:cNvSpPr>
          <p:nvPr>
            <p:ph/>
          </p:nvPr>
        </p:nvSpPr>
        <p:spPr>
          <a:xfrm>
            <a:off x="380520" y="1066680"/>
            <a:ext cx="845820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kruh oprávněných osob - § 2 zákona o nemocenském pojištění zaměstnanců, z. č. 54/1956 Sb., v platném zně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jištění vzniká dnem  vstupu do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říležitostné zaměstnání</a:t>
            </a:r>
            <a:r>
              <a:rPr b="0" lang="cs-CZ" sz="2800" spc="-1" strike="noStrike">
                <a:solidFill>
                  <a:srgbClr val="ffffff"/>
                </a:solidFill>
                <a:latin typeface="Times New Roman"/>
              </a:rPr>
              <a:t> - § 6 – netrvá-li déle než 7 dní, jeho započitatelný příjem nepřesahuje částku 400,- Kč za kalendářní měsíc</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jištění zaniká dnem skončení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znik nároku na dávku - § 42 zákona o nemocenském pojištění zaměstnanců</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chranná lhůta – 7 dní od skončení zaměstnání</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kon několika činností – pojištěn z každé z nich, výj. jednatel s.r.o. a zároveň společník</a:t>
            </a:r>
            <a:endParaRPr b="0" lang="en-US" sz="2800" spc="-1" strike="noStrike">
              <a:solidFill>
                <a:srgbClr val="ffffff"/>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Nemocenské pojištění</a:t>
            </a:r>
            <a:endParaRPr b="0" lang="en-US" sz="4400" spc="-1" strike="noStrike">
              <a:solidFill>
                <a:srgbClr val="ffcc66"/>
              </a:solidFill>
              <a:latin typeface="Arial"/>
            </a:endParaRPr>
          </a:p>
        </p:txBody>
      </p:sp>
      <p:sp>
        <p:nvSpPr>
          <p:cNvPr id="105" name="PlaceHolder 2"/>
          <p:cNvSpPr>
            <a:spLocks noGrp="1"/>
          </p:cNvSpPr>
          <p:nvPr>
            <p:ph/>
          </p:nvPr>
        </p:nvSpPr>
        <p:spPr>
          <a:xfrm>
            <a:off x="304920" y="1447560"/>
            <a:ext cx="815328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še dávek se odvozuje procentní sazbou z denního vyměřovacího základu/DVZ</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dukční hranice od 1. 1. 2006 činily 510, - Kč a 730, -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dukční hranice od 1. 1. 2007 činí 550, - Kč a 790,- Kč</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33"/>
                </a:solidFill>
                <a:latin typeface="Times New Roman"/>
              </a:rPr>
              <a:t>Dávky do konce roku 2007:</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Nemocenské – 25% DVZ za první 3 dny, 69% od čtvrtého dn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Podpora při ošetřování člena rodiny – 69% DVZ</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 Peněžitá pomoc v mateřství – 69% DVZ</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 Vyrovnávací příspěvek v těhotenství a mateřství </a:t>
            </a:r>
            <a:endParaRPr b="0" lang="en-US" sz="2800" spc="-1" strike="noStrike">
              <a:solidFill>
                <a:srgbClr val="ffffff"/>
              </a:solidFill>
              <a:latin typeface="Times New Roman"/>
            </a:endParaRPr>
          </a:p>
        </p:txBody>
      </p:sp>
      <p:sp>
        <p:nvSpPr>
          <p:cNvPr id="10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75920"/>
            <a:ext cx="7772400" cy="57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ostavení OSVČ v nemocenském pojištění</a:t>
            </a:r>
            <a:endParaRPr b="0" lang="en-US" sz="2800" spc="-1" strike="noStrike">
              <a:solidFill>
                <a:srgbClr val="ffcc66"/>
              </a:solidFill>
              <a:latin typeface="Arial"/>
            </a:endParaRPr>
          </a:p>
        </p:txBody>
      </p:sp>
      <p:sp>
        <p:nvSpPr>
          <p:cNvPr id="108" name="PlaceHolder 2"/>
          <p:cNvSpPr>
            <a:spLocks noGrp="1"/>
          </p:cNvSpPr>
          <p:nvPr>
            <p:ph/>
          </p:nvPr>
        </p:nvSpPr>
        <p:spPr>
          <a:xfrm>
            <a:off x="323640" y="1125360"/>
            <a:ext cx="8134200" cy="532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ea typeface="Times New Roman"/>
              </a:rPr>
              <a:t>● </a:t>
            </a:r>
            <a:r>
              <a:rPr b="0" lang="cs-CZ" sz="3200" spc="-1" strike="noStrike">
                <a:solidFill>
                  <a:srgbClr val="ffffff"/>
                </a:solidFill>
                <a:latin typeface="Times New Roman"/>
                <a:ea typeface="Times New Roman"/>
              </a:rPr>
              <a:t>Nemocenské pojištění je dobrovolné, vzniká na základě přihlášk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ea typeface="Times New Roman"/>
              </a:rPr>
              <a:t>● </a:t>
            </a:r>
            <a:r>
              <a:rPr b="0" lang="cs-CZ" sz="3200" spc="-1" strike="noStrike">
                <a:solidFill>
                  <a:srgbClr val="ffffff"/>
                </a:solidFill>
                <a:latin typeface="Times New Roman"/>
                <a:ea typeface="Times New Roman"/>
              </a:rPr>
              <a:t>Účastna jen v měsících, ve kterých je povinna platit zálohy na důchodové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lohy na pojistné se neplatí za kalendářní měsíce, v nichž byla OSVČ uznána práce neschopnou po celý měsíc nebo jí byla nařízena karanténa, event. pobírala peněžitou pomoc v mateřstv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476280"/>
            <a:ext cx="8207280" cy="216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Výkon několika činností z pohledu nemocenského pojištění, § 4 zákona č. 54/1956 Sb., o nemocenském pojištění zaměstnanců</a:t>
            </a:r>
            <a:endParaRPr b="0" lang="en-US" sz="3600" spc="-1" strike="noStrike">
              <a:solidFill>
                <a:srgbClr val="ffcc66"/>
              </a:solidFill>
              <a:latin typeface="Arial"/>
            </a:endParaRPr>
          </a:p>
        </p:txBody>
      </p:sp>
      <p:sp>
        <p:nvSpPr>
          <p:cNvPr id="111" name="PlaceHolder 2"/>
          <p:cNvSpPr>
            <a:spLocks noGrp="1"/>
          </p:cNvSpPr>
          <p:nvPr>
            <p:ph/>
          </p:nvPr>
        </p:nvSpPr>
        <p:spPr>
          <a:xfrm>
            <a:off x="304920" y="2492280"/>
            <a:ext cx="8153280" cy="406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každý uzavřený pracovní vztah se z hlediska nemocenského pojištění posuzuje samostat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zaměstnanec nemá povinnost oznamovat žádnému zaměstnavateli, že je ještě účasten nemocenského pojištění z dalších zaměstná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výjimka: společník s. r. o., který je zároveň jednatelem společnost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7:14:46Z</dcterms:created>
  <dc:creator>Ilona Kostadinovová</dc:creator>
  <dc:description/>
  <dc:language>en-US</dc:language>
  <cp:lastModifiedBy>Ilona</cp:lastModifiedBy>
  <dcterms:modified xsi:type="dcterms:W3CDTF">2008-11-20T19:59:39Z</dcterms:modified>
  <cp:revision>202</cp:revision>
  <dc:subject/>
  <dc:title>Úvod do práva sociálního zabezpečení  Právo sociálního zabezpečení pro podnikatele                             a zaměstnavatele</dc:title>
</cp:coreProperties>
</file>