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DD7D-3B51-42B4-AECE-55B695E8DE9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ůchodci, kteří do 31. 12. 2006 nepobírali zvýšení důchodu pro bezmocnost a do 31. 12. 2006 nepodali žádost o zvýšení důchodu pro bezmocnost mohou nyní požádat o tuto novou dávku. Žádost je třeba podat na sociálním odboru obecního úřadu obce s rozšířenou působností. Zdravotní stav žadatele v těchto případech posoudí lékař posudkové služby úřadu práce, místně příslušného dle místa trvalého pobytu žadate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Řízení o zvýšení důchodu pro bezmocnost a řízení o příspěvek při péči o blízkou nebo jinou osobu zahájená a pravomocně neskončená před 1. lednem 2007 se dokončují podle dosavadních právních předpisů ve znění platném do 31. prosince 2006. V těchto případech lékaři LPS ČSSZ dokončí posuzování zdravotního stavu pro účely bezmocnosti a zda jde o dítě dlouhodobě těžce zdravotně postižené vyžadující mimořádnou péči podle právních předpisů ve znění platném do 31. 12. 2006.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Osoby, které do 31. 12. 2006 pobíraly zvýšení důchodu pro bezmocnost se nemusí obávat zhoršení své sociální situace, neboť tato dávka je automaticky, aniž je třeba ze strany důchodce vyvíjet jakoukoli aktivitu (není třeba podávat žádost apod.), transformována do příspěvku na péči, který bude pravidelně důchodci vyplác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ojem </a:t>
            </a:r>
            <a:r>
              <a:rPr b="1" lang="cs-CZ" sz="1200" spc="-1" strike="noStrike" u="sng">
                <a:solidFill>
                  <a:srgbClr val="00cc99"/>
                </a:solidFill>
                <a:uFillTx/>
                <a:latin typeface="Times New Roman"/>
              </a:rPr>
              <a:t>záchranná sociální síť/“Social safety Net“</a:t>
            </a:r>
            <a:r>
              <a:rPr b="0" lang="cs-CZ" sz="1200" spc="-1" strike="noStrike">
                <a:solidFill>
                  <a:srgbClr val="000000"/>
                </a:solidFill>
                <a:latin typeface="Times New Roman"/>
              </a:rPr>
              <a:t> použila poprvé Světová banka začátkem 80. let minulého století v souvislosti se ekonomickými reformami v Latinské Americe a v Asii. Označuje systémové uspořádání sociálního pojištění, sociálních(státních) podpor a sociální pomoci způsobem, aby žádný občan nebyl existenčně ohrožen v době ekonomických reforem.      V důsledku ekonomické transformace by tedy občan neměl klesnout pod úroveň existenčního nebo sociálního minima. Záchranná sociální síť jako produkt liberální představy má zajistit jen důstojnou minimální hranici životních potřeb a ponechat na iniciativě jednotlivce, aby si zajistil ví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íklady jsou ve sbírce příklad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Řešení str. 7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8E8C6-E608-4766-B197-4EB33AA25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0A6B-1D0E-4168-B862-639B3E525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88897-4DFB-40FB-8F21-F85766388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7F826-0392-44B2-9FFD-F474B5D2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57066-FED8-4B64-8536-5812EDF5C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34DA0-D119-4018-948B-FBC4BD848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4CA15-E9F9-4A14-B25A-E9A50DDF3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2FCB6-0ABD-41E1-9429-01E2A3886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CD26C-8151-42B3-A6C1-BA23325A4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84074-21D1-48F9-9F0A-D12C6F9DF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5B7D6-489E-4A65-9AF3-921539DC2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4D79A-3B8C-4D87-AAA6-5011E8F7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0E20D-A6AC-4F7B-AE80-569D5556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7EFBB-C555-4CBC-84E1-346B41C4A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2FF56-DE8F-40B6-B9FF-54CD54905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4C651-4482-4516-AE8B-E04E0345D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C9B13-C91E-4FDC-9ADF-F1A471DDA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0C69-E7A9-4FF4-8D83-687F2AC02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157B9-2C71-4A43-BCBF-512088F1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6F18-E260-4D4E-8E8F-4EC713F1D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A03A5-F3BE-4714-AFE5-55FCD1354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FB55A-D919-4958-A4DD-B024B028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4E1AC-74A7-4C4E-9282-AE785441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F1758-C21F-499D-A69F-D9F9C0DA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8E65-DD7D-4A36-8790-D0647DE49637}"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C2AB-8314-4AEA-B711-95E4024C13C0}"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http://www.sweb.cz/ilda"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456840"/>
            <a:ext cx="8209080" cy="4411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a:rPr>
              <a:t>Úvod do práva sociálního zabezpečení</a:t>
            </a:r>
            <a:br>
              <a:rPr sz="4000"/>
            </a:br>
            <a:br>
              <a:rPr sz="4000"/>
            </a:br>
            <a:r>
              <a:rPr b="0" lang="cs-CZ" sz="4000" spc="-1" strike="noStrike">
                <a:solidFill>
                  <a:srgbClr val="ffffff"/>
                </a:solidFill>
                <a:latin typeface="Arial"/>
              </a:rPr>
              <a:t>Právo sociálního zabezpečení pro podnikatele a zaměstnavatele</a:t>
            </a:r>
            <a:br>
              <a:rPr sz="4000"/>
            </a:br>
            <a:br>
              <a:rPr sz="4000"/>
            </a:br>
            <a:r>
              <a:rPr b="0" lang="cs-CZ" sz="3600" spc="-1" strike="noStrike">
                <a:solidFill>
                  <a:srgbClr val="ffffff"/>
                </a:solidFill>
                <a:latin typeface="Arial"/>
              </a:rPr>
              <a:t>Vysoká škola Karlovy Vary, o. p. s.</a:t>
            </a:r>
            <a:endParaRPr b="0" lang="en-US" sz="3600" spc="-1" strike="noStrike">
              <a:solidFill>
                <a:srgbClr val="ffcc66"/>
              </a:solidFill>
              <a:latin typeface="Arial"/>
            </a:endParaRPr>
          </a:p>
        </p:txBody>
      </p:sp>
      <p:sp>
        <p:nvSpPr>
          <p:cNvPr id="96" name="PlaceHolder 2"/>
          <p:cNvSpPr>
            <a:spLocks noGrp="1"/>
          </p:cNvSpPr>
          <p:nvPr>
            <p:ph type="subTitle"/>
          </p:nvPr>
        </p:nvSpPr>
        <p:spPr>
          <a:xfrm>
            <a:off x="610920" y="4941720"/>
            <a:ext cx="7561080" cy="1656000"/>
          </a:xfrm>
          <a:prstGeom prst="rect">
            <a:avLst/>
          </a:prstGeom>
          <a:noFill/>
          <a:ln w="0">
            <a:noFill/>
          </a:ln>
        </p:spPr>
        <p:txBody>
          <a:bodyPr lIns="92160" rIns="92160" tIns="46080" bIns="4608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1"/>
              </a:rPr>
              <a:t>i</a:t>
            </a:r>
            <a:r>
              <a:rPr b="0" lang="cs-CZ" sz="2400" spc="-1" strike="noStrike" u="sng">
                <a:solidFill>
                  <a:srgbClr val="ff0033"/>
                </a:solidFill>
                <a:uFillTx/>
                <a:latin typeface="Times New Roman"/>
                <a:hlinkClick r:id="rId2"/>
              </a:rPr>
              <a:t>lda</a:t>
            </a:r>
            <a:r>
              <a:rPr b="0" lang="en-US" sz="2400" spc="-1" strike="noStrike" u="sng">
                <a:solidFill>
                  <a:srgbClr val="ff0033"/>
                </a:solidFill>
                <a:uFillTx/>
                <a:latin typeface="Times New Roman"/>
                <a:hlinkClick r:id="rId3"/>
              </a:rPr>
              <a:t>@seznam.cz</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0033"/>
                </a:solidFill>
                <a:uFillTx/>
                <a:latin typeface="Times New Roman"/>
                <a:hlinkClick r:id="rId4"/>
              </a:rPr>
              <a:t>www.sweb.cz/ilda</a:t>
            </a:r>
            <a:endParaRPr b="0" lang="en-US" sz="2400" spc="-1" strike="noStrike">
              <a:solidFill>
                <a:srgbClr val="ffffff"/>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200" spc="-1" strike="noStrike">
                <a:solidFill>
                  <a:srgbClr val="ffcc66"/>
                </a:solidFill>
                <a:latin typeface="Arial"/>
              </a:rPr>
              <a:t>Rozhodování a opravné prostředky</a:t>
            </a:r>
            <a:endParaRPr b="0" lang="en-US" sz="3200" spc="-1" strike="noStrike">
              <a:solidFill>
                <a:srgbClr val="ffcc66"/>
              </a:solidFill>
              <a:latin typeface="Arial"/>
            </a:endParaRPr>
          </a:p>
        </p:txBody>
      </p:sp>
      <p:sp>
        <p:nvSpPr>
          <p:cNvPr id="122" name="PlaceHolder 2"/>
          <p:cNvSpPr>
            <a:spLocks noGrp="1"/>
          </p:cNvSpPr>
          <p:nvPr>
            <p:ph/>
          </p:nvPr>
        </p:nvSpPr>
        <p:spPr>
          <a:xfrm>
            <a:off x="250560" y="1413000"/>
            <a:ext cx="8569080" cy="514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sudky o nepříznivém zdravotním stavu jsou podkladem pro správní rozhodnutí, proti kterému lze podat </a:t>
            </a:r>
            <a:r>
              <a:rPr b="1" lang="cs-CZ" sz="2800" spc="-1" strike="noStrike" u="sng">
                <a:solidFill>
                  <a:srgbClr val="ffffff"/>
                </a:solidFill>
                <a:uFillTx/>
                <a:latin typeface="Times New Roman"/>
              </a:rPr>
              <a:t>odvolání</a:t>
            </a:r>
            <a:r>
              <a:rPr b="1" lang="cs-CZ" sz="2800" spc="-1" strike="noStrike">
                <a:solidFill>
                  <a:srgbClr val="ffffff"/>
                </a:solidFill>
                <a:latin typeface="Times New Roman"/>
              </a:rPr>
              <a:t>, o kterém rozhoduje nadřízený orgán.</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li rozhodováno o nárocích na plný invalidní důchod nebo částečný invalidní důchod – proti rozhodnutí lze podat </a:t>
            </a:r>
            <a:r>
              <a:rPr b="1" lang="cs-CZ" sz="2800" spc="-1" strike="noStrike" u="sng">
                <a:solidFill>
                  <a:srgbClr val="ffffff"/>
                </a:solidFill>
                <a:uFillTx/>
                <a:latin typeface="Times New Roman"/>
              </a:rPr>
              <a:t>žalobu k soudu</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 vymezených dávek sociální péče a o mimořádných výhodách osobám těžce zdravotně postiženým je však podání žaloby k soudu vyloučeno; pak lze využít mimořádných opravných prostředků podle správního řádu (obnova řízení, přezkumná řízení).</a:t>
            </a:r>
            <a:endParaRPr b="0" lang="en-US" sz="2800" spc="-1" strike="noStrike">
              <a:solidFill>
                <a:srgbClr val="ffffff"/>
              </a:solidFill>
              <a:latin typeface="Times New Roman"/>
            </a:endParaRPr>
          </a:p>
        </p:txBody>
      </p:sp>
      <p:sp>
        <p:nvSpPr>
          <p:cNvPr id="123"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2800" spc="-1" strike="noStrike">
                <a:solidFill>
                  <a:srgbClr val="ffcc66"/>
                </a:solidFill>
                <a:latin typeface="Arial"/>
              </a:rPr>
              <a:t>Posudkoví lékaři České správy sociálního zabezpečení</a:t>
            </a:r>
            <a:endParaRPr b="0" lang="en-US" sz="2800" spc="-1" strike="noStrike">
              <a:solidFill>
                <a:srgbClr val="ffcc66"/>
              </a:solidFill>
              <a:latin typeface="Arial"/>
            </a:endParaRPr>
          </a:p>
        </p:txBody>
      </p:sp>
      <p:sp>
        <p:nvSpPr>
          <p:cNvPr id="125" name="PlaceHolder 2"/>
          <p:cNvSpPr>
            <a:spLocks noGrp="1"/>
          </p:cNvSpPr>
          <p:nvPr>
            <p:ph/>
          </p:nvPr>
        </p:nvSpPr>
        <p:spPr>
          <a:xfrm>
            <a:off x="250560" y="1341000"/>
            <a:ext cx="8569080" cy="5211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i lékařské posudkové služby České správy sociálního zabezpečení (LPS ČSSZ) vypracovávají posudky pro systém důchodového pojištění a pro systém </a:t>
            </a:r>
            <a:r>
              <a:rPr b="0" lang="cs-CZ" sz="2000" spc="-1" strike="noStrike" u="sng">
                <a:solidFill>
                  <a:srgbClr val="ff0033"/>
                </a:solidFill>
                <a:uFillTx/>
                <a:latin typeface="Times New Roman"/>
              </a:rPr>
              <a:t>nemocenského pojištění</a:t>
            </a:r>
            <a:r>
              <a:rPr b="1" lang="cs-CZ" sz="2000" spc="-1" strike="noStrike">
                <a:solidFill>
                  <a:srgbClr val="ffffff"/>
                </a:solidFill>
                <a:latin typeface="Times New Roman"/>
              </a:rPr>
              <a:t>, provádí kompetence spojené s kontrolou posuzování dočasné pracovní neschopnosti ošetřujícími lékaři.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udkoví lékaři, jako vysoce odborný expertní útvar ČSSZ, objektivně hodnotí vliv nemoci, úrazu či postižení na celkový stav jedince.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Na podkladě posudku je rozhodováno o nárocích na plný invalidní důchod nebo částečný invalidní důchod – proti rozhodnutí lze podat </a:t>
            </a:r>
            <a:r>
              <a:rPr b="1" lang="cs-CZ" sz="2000" spc="-1" strike="noStrike" u="sng">
                <a:solidFill>
                  <a:srgbClr val="ffffff"/>
                </a:solidFill>
                <a:uFillTx/>
                <a:latin typeface="Times New Roman"/>
              </a:rPr>
              <a:t>žalobu k soudu</a:t>
            </a:r>
            <a:r>
              <a:rPr b="1" lang="cs-CZ"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Dávky zvýšení důchodu pro bezmocnost a příspěvek při péči o blízkou nebo jinou osobu byly ke dni 1. ledna 2007 transformovány do nové dávky - příspěvku na péči, zkráceně „příspěvek“. Závislost na péči jiné osoby (zákon o sociálních službách, z. č. 108/2006 Sb.)</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Od 1. 1. 2007 není možno žádat o zvýšení důchodu pro bezmocnost. </a:t>
            </a:r>
            <a:endParaRPr b="0" lang="en-US" sz="2000" spc="-1" strike="noStrike">
              <a:solidFill>
                <a:srgbClr val="ffffff"/>
              </a:solidFill>
              <a:latin typeface="Times New Roman"/>
            </a:endParaRPr>
          </a:p>
        </p:txBody>
      </p:sp>
      <p:sp>
        <p:nvSpPr>
          <p:cNvPr id="126"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3300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3200" spc="-1" strike="noStrike">
                <a:solidFill>
                  <a:srgbClr val="ffcc66"/>
                </a:solidFill>
                <a:latin typeface="Arial"/>
              </a:rPr>
              <a:t>Posudkoví lékaři úřadu práce (LPS ÚP)</a:t>
            </a:r>
            <a:endParaRPr b="0" lang="en-US" sz="3200" spc="-1" strike="noStrike">
              <a:solidFill>
                <a:srgbClr val="ffcc66"/>
              </a:solidFill>
              <a:latin typeface="Arial"/>
            </a:endParaRPr>
          </a:p>
        </p:txBody>
      </p:sp>
      <p:sp>
        <p:nvSpPr>
          <p:cNvPr id="128" name="PlaceHolder 2"/>
          <p:cNvSpPr>
            <a:spLocks noGrp="1"/>
          </p:cNvSpPr>
          <p:nvPr>
            <p:ph/>
          </p:nvPr>
        </p:nvSpPr>
        <p:spPr>
          <a:xfrm>
            <a:off x="250560" y="1413000"/>
            <a:ext cx="8569080" cy="5140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Rozhodují o nepojistných systémech:</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ociální péče – např. mimořádné výhody pro občany těžce zdravotně postižené, příspěvek při péči o osobu blízkou nebo jinou osobu, příspěvek na zakoupení a celkovou opravu nebo zvláštní úpravu motorového vozidla, příspěvek na provoz motorového vozidla, příspěvek na individuální dopravu, příspěvek na úpravu bytu.</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tátní sociální podpora – posouzení nepříznivého zdravotního stavu, stanovení určitého stupně závislosti na pomoci jiné osoby určuje výši poskytovaných dávek nebo dobu jejich poskytování (např. sociální příplatek nebo rodičovský příspěvek).</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Sociální služby – příspěvek na péči.</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moc v hmotné nouzi – zda je osoba schopná zvýšit si příjem vlastní prací. </a:t>
            </a:r>
            <a:endParaRPr b="0" lang="en-US" sz="2400" spc="-1" strike="noStrike">
              <a:solidFill>
                <a:srgbClr val="ffffff"/>
              </a:solidFill>
              <a:latin typeface="Times New Roman"/>
            </a:endParaRPr>
          </a:p>
        </p:txBody>
      </p:sp>
      <p:sp>
        <p:nvSpPr>
          <p:cNvPr id="12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Příklady, opakování:</a:t>
            </a:r>
            <a:endParaRPr b="0" lang="en-US" sz="4400" spc="-1" strike="noStrike">
              <a:solidFill>
                <a:srgbClr val="ffcc66"/>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líčové pojm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lá organizace, organize, OSVČ</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jistné,plátce pojistného, poplatník pojistného, promlčení pojistnéh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enále, sank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kresní správa sociálního zabezpečení rozhodla platebním výměrem o povinnosti zaměstnavatele zaplatit přirážku k pojistnému na sociální zabezpečení, protože jeho výrobní zařízení nevyhovuje zdravotnickým předpisům. Zaměstnavatel se domnívá, že mu přirážka byla stanovena nepráve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Může se zaměstnavatel proti rozhodnutí Okresní správy sociálního zabezpečení brán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Který orgán bude rozhodovat o odvolání a bude jeho rozhodnutí konečné?</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093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cc66"/>
                </a:solidFill>
                <a:latin typeface="Arial"/>
              </a:rPr>
              <a:t>Děkuji za pozornost.</a:t>
            </a:r>
            <a:endParaRPr b="0" lang="en-US" sz="4400" spc="-1" strike="noStrike">
              <a:solidFill>
                <a:srgbClr val="ffcc66"/>
              </a:solidFill>
              <a:latin typeface="Arial"/>
            </a:endParaRPr>
          </a:p>
        </p:txBody>
      </p:sp>
      <p:sp>
        <p:nvSpPr>
          <p:cNvPr id="134" name="PlaceHolder 2"/>
          <p:cNvSpPr>
            <a:spLocks noGrp="1"/>
          </p:cNvSpPr>
          <p:nvPr>
            <p:ph/>
          </p:nvPr>
        </p:nvSpPr>
        <p:spPr>
          <a:xfrm>
            <a:off x="685800" y="4190760"/>
            <a:ext cx="7772400" cy="2361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66"/>
                </a:solidFill>
                <a:latin typeface="Arial"/>
              </a:rPr>
              <a:t>Přehled výuky </a:t>
            </a:r>
            <a:br>
              <a:rPr sz="2800"/>
            </a:br>
            <a:endParaRPr b="0" lang="en-US" sz="2800" spc="-1" strike="noStrike">
              <a:solidFill>
                <a:srgbClr val="ffcc66"/>
              </a:solidFill>
              <a:latin typeface="Arial"/>
            </a:endParaRPr>
          </a:p>
        </p:txBody>
      </p:sp>
      <p:sp>
        <p:nvSpPr>
          <p:cNvPr id="98" name="PlaceHolder 2"/>
          <p:cNvSpPr>
            <a:spLocks noGrp="1"/>
          </p:cNvSpPr>
          <p:nvPr>
            <p:ph/>
          </p:nvPr>
        </p:nvSpPr>
        <p:spPr>
          <a:xfrm>
            <a:off x="685800" y="1371240"/>
            <a:ext cx="7772400" cy="518148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Úvod do práva sociálního zabezpečení, pojem, předmět, systém a prameny práva sociálního zabezpečení</a:t>
            </a:r>
            <a:r>
              <a:rPr b="1" lang="cs-CZ" sz="2400" spc="-1" strike="noStrike">
                <a:solidFill>
                  <a:srgbClr val="ffffff"/>
                </a:solidFill>
                <a:latin typeface="Times New Roman"/>
              </a:rPr>
              <a:t> v ČR a v EU</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Pojistné na sociální zabezpečení a příspěvek na státní politiku zaměstnanosti</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rPr>
              <a:t>Organizace a řízení sociálního zabezpečení</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33"/>
                </a:solidFill>
                <a:latin typeface="Times New Roman"/>
                <a:ea typeface="Times New Roman"/>
              </a:rPr>
              <a:t>Nemocenského pojištění -  právní úprava, vazby, význam.</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Důchodového pojištění – právní úprava, vazby a význam</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dravotnictví a zdravotní pojištění</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tátní sociální podpora </a:t>
            </a:r>
            <a:r>
              <a:rPr b="1"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Sociální pomoc</a:t>
            </a:r>
            <a:endParaRPr b="0" lang="en-US" sz="2400" spc="-1" strike="noStrike">
              <a:solidFill>
                <a:srgbClr val="ffffff"/>
              </a:solidFill>
              <a:latin typeface="Times New Roman"/>
            </a:endParaRPr>
          </a:p>
          <a:p>
            <a:pPr marL="335880" indent="-3358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Základy práva sociálního zabezpečení v EU</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76280"/>
            <a:ext cx="7772400" cy="374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cc66"/>
                </a:solidFill>
                <a:latin typeface="Arial"/>
              </a:rPr>
              <a:t>Organizace a řízení v sociálním zabezpečení</a:t>
            </a:r>
            <a:endParaRPr b="0" lang="en-US" sz="4400" spc="-1" strike="noStrike">
              <a:solidFill>
                <a:srgbClr val="ffcc66"/>
              </a:solidFill>
              <a:latin typeface="Arial"/>
            </a:endParaRPr>
          </a:p>
        </p:txBody>
      </p:sp>
      <p:sp>
        <p:nvSpPr>
          <p:cNvPr id="101" name="PlaceHolder 2"/>
          <p:cNvSpPr>
            <a:spLocks noGrp="1"/>
          </p:cNvSpPr>
          <p:nvPr>
            <p:ph/>
          </p:nvPr>
        </p:nvSpPr>
        <p:spPr>
          <a:xfrm>
            <a:off x="899640" y="4149360"/>
            <a:ext cx="7993080" cy="1079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ávní úprava, vazby a význam.</a:t>
            </a:r>
            <a:endParaRPr b="0" lang="en-US" sz="3200" spc="-1" strike="noStrike">
              <a:solidFill>
                <a:srgbClr val="ffffff"/>
              </a:solidFill>
              <a:latin typeface="Times New Roman"/>
            </a:endParaRPr>
          </a:p>
        </p:txBody>
      </p:sp>
      <p:sp>
        <p:nvSpPr>
          <p:cNvPr id="102"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75920"/>
            <a:ext cx="7772400" cy="136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cc66"/>
                </a:solidFill>
                <a:latin typeface="Arial"/>
              </a:rPr>
              <a:t>Prameny práva – organizace        a systém sociálního zabezpečení</a:t>
            </a:r>
            <a:endParaRPr b="0" lang="en-US" sz="4000" spc="-1" strike="noStrike">
              <a:solidFill>
                <a:srgbClr val="ffcc66"/>
              </a:solidFill>
              <a:latin typeface="Arial"/>
            </a:endParaRPr>
          </a:p>
        </p:txBody>
      </p:sp>
      <p:sp>
        <p:nvSpPr>
          <p:cNvPr id="104" name="PlaceHolder 2"/>
          <p:cNvSpPr>
            <a:spLocks noGrp="1"/>
          </p:cNvSpPr>
          <p:nvPr>
            <p:ph/>
          </p:nvPr>
        </p:nvSpPr>
        <p:spPr>
          <a:xfrm>
            <a:off x="323640" y="1773360"/>
            <a:ext cx="856908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Sociální zabezpeče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100/1998 Sb. , o sociálním zabezpečení,  v platném zně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ÚZ, Sociální pojiště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ákon č. 582/1991 Sb., o organizaci a provádění sociálního zabezpečení</a:t>
            </a:r>
            <a:endParaRPr b="0" lang="en-US" sz="3200" spc="-1" strike="noStrike">
              <a:solidFill>
                <a:srgbClr val="ffffff"/>
              </a:solidFill>
              <a:latin typeface="Times New Roman"/>
            </a:endParaRPr>
          </a:p>
        </p:txBody>
      </p:sp>
      <p:sp>
        <p:nvSpPr>
          <p:cNvPr id="105" name=""/>
          <p:cNvSpPr/>
          <p:nvPr/>
        </p:nvSpPr>
        <p:spPr>
          <a:xfrm>
            <a:off x="0" y="0"/>
            <a:ext cx="985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cc66"/>
                </a:solidFill>
                <a:latin typeface="Arial"/>
                <a:ea typeface="Times New Roman"/>
              </a:rPr>
              <a:t>Vazba na jiné oblasti právních úprav</a:t>
            </a:r>
            <a:br>
              <a:rPr sz="2400"/>
            </a:br>
            <a:endParaRPr b="0" lang="en-US" sz="2800" spc="-1" strike="noStrike">
              <a:solidFill>
                <a:srgbClr val="ffcc66"/>
              </a:solidFill>
              <a:latin typeface="Arial"/>
            </a:endParaRPr>
          </a:p>
        </p:txBody>
      </p:sp>
      <p:sp>
        <p:nvSpPr>
          <p:cNvPr id="107" name="PlaceHolder 2"/>
          <p:cNvSpPr>
            <a:spLocks noGrp="1"/>
          </p:cNvSpPr>
          <p:nvPr>
            <p:ph/>
          </p:nvPr>
        </p:nvSpPr>
        <p:spPr>
          <a:xfrm>
            <a:off x="228600" y="1341360"/>
            <a:ext cx="868680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Správní právo</a:t>
            </a:r>
            <a:r>
              <a:rPr b="1" lang="cs-CZ" sz="3200" spc="-1" strike="noStrike">
                <a:solidFill>
                  <a:srgbClr val="ffffff"/>
                </a:solidFill>
                <a:latin typeface="Times New Roman"/>
              </a:rPr>
              <a:t> – z. č. 500/2004 Sb., o správním řízení (správní řá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Subsidiární platnost</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atí teprve tehdy, neexistuje-li zvláštní procesní úprav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 č. 582/1991 Sb., o organizaci a provádění sociálního zabezpečení - § 108 použití správního řádu, § 104g vyloučení správního řádu v případě řízení o vydání výkazu nedoplatků na dlužné pojistné a pená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Vazba na jiné právní odvětví</a:t>
            </a:r>
            <a:br>
              <a:rPr sz="2400"/>
            </a:br>
            <a:endParaRPr b="0" lang="en-US" sz="2800" spc="-1" strike="noStrike">
              <a:solidFill>
                <a:srgbClr val="ffcc66"/>
              </a:solidFill>
              <a:latin typeface="Arial"/>
            </a:endParaRPr>
          </a:p>
        </p:txBody>
      </p:sp>
      <p:sp>
        <p:nvSpPr>
          <p:cNvPr id="110" name="PlaceHolder 2"/>
          <p:cNvSpPr>
            <a:spLocks noGrp="1"/>
          </p:cNvSpPr>
          <p:nvPr>
            <p:ph/>
          </p:nvPr>
        </p:nvSpPr>
        <p:spPr>
          <a:xfrm>
            <a:off x="228600" y="1484280"/>
            <a:ext cx="8686800" cy="5145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Trestní právo</a:t>
            </a:r>
            <a:r>
              <a:rPr b="0" lang="cs-CZ" sz="3200" spc="-1" strike="noStrike">
                <a:solidFill>
                  <a:srgbClr val="ffffff"/>
                </a:solidFill>
                <a:latin typeface="Times New Roman"/>
              </a:rPr>
              <a:t> - § 147 trestního zákona, z. č. 140/1961 Sb. – postih za neodvedení pojistného na sociální zabezpečení, na zdravotní pojištění a příspěvku na státní politiku zaměstnanost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do jako plátce ve větším rozsahu neodvede za poplatníka pojistné – odnětí svobody 6 měsíců až 3 léta nebo peněžitý trest</a:t>
            </a:r>
            <a:endParaRPr b="0" lang="en-US" sz="3200" spc="-1" strike="noStrike">
              <a:solidFill>
                <a:srgbClr val="ffffff"/>
              </a:solidFill>
              <a:latin typeface="Times New Roman"/>
            </a:endParaRPr>
          </a:p>
        </p:txBody>
      </p:sp>
      <p:sp>
        <p:nvSpPr>
          <p:cNvPr id="111"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880"/>
            <a:ext cx="7772400" cy="744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Dvoustupňové řízení</a:t>
            </a:r>
            <a:br>
              <a:rPr sz="2400"/>
            </a:br>
            <a:endParaRPr b="0" lang="en-US" sz="2800" spc="-1" strike="noStrike">
              <a:solidFill>
                <a:srgbClr val="ffcc66"/>
              </a:solidFill>
              <a:latin typeface="Arial"/>
            </a:endParaRPr>
          </a:p>
        </p:txBody>
      </p:sp>
      <p:sp>
        <p:nvSpPr>
          <p:cNvPr id="113"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ávní rozhodnutí – meritorní rozhodnutí          o existenci dávkového nároku a jeho výši, doplatku pojistného či sankce ve formě pokut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ti rozhodnutí územní složky okresní správy sociálního zabezpečení je možno se odvolat k České správě sociálního zabezpečení (regionální referát v sídle každého kraj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utoremedura u rozhodnutí o dávkách důchodového pojištění, tato rozhodnutí vydává celostátně Česká správa sociálního zabezpečení</a:t>
            </a:r>
            <a:endParaRPr b="0" lang="en-US" sz="3200" spc="-1" strike="noStrike">
              <a:solidFill>
                <a:srgbClr val="ffffff"/>
              </a:solidFill>
              <a:latin typeface="Times New Roman"/>
            </a:endParaRPr>
          </a:p>
        </p:txBody>
      </p:sp>
      <p:sp>
        <p:nvSpPr>
          <p:cNvPr id="114"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03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cs-CZ" sz="2800" spc="-1" strike="noStrike">
                <a:solidFill>
                  <a:srgbClr val="ffcc66"/>
                </a:solidFill>
                <a:latin typeface="Arial"/>
              </a:rPr>
              <a:t>Rozhodování o dávkách nemocenského pojištění</a:t>
            </a:r>
            <a:br>
              <a:rPr sz="2400"/>
            </a:br>
            <a:endParaRPr b="0" lang="en-US" sz="2800" spc="-1" strike="noStrike">
              <a:solidFill>
                <a:srgbClr val="ffcc66"/>
              </a:solidFill>
              <a:latin typeface="Arial"/>
            </a:endParaRPr>
          </a:p>
        </p:txBody>
      </p:sp>
      <p:sp>
        <p:nvSpPr>
          <p:cNvPr id="116" name="PlaceHolder 2"/>
          <p:cNvSpPr>
            <a:spLocks noGrp="1"/>
          </p:cNvSpPr>
          <p:nvPr>
            <p:ph/>
          </p:nvPr>
        </p:nvSpPr>
        <p:spPr>
          <a:xfrm>
            <a:off x="380520" y="1700280"/>
            <a:ext cx="8534520" cy="4929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kresní správa sociálního zabezpečen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Přiznání na základě tiskopisu</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stav posuzuje ošetřující lékař</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eprve jedná-li se o spornou dávku, např. vliv alkoholu, odvolání proti výši dávky, vydá se </a:t>
            </a:r>
            <a:r>
              <a:rPr b="1" lang="cs-CZ" sz="3200" spc="-1" strike="noStrike" u="sng">
                <a:solidFill>
                  <a:srgbClr val="ffffff"/>
                </a:solidFill>
                <a:uFillTx/>
                <a:latin typeface="Times New Roman"/>
              </a:rPr>
              <a:t>meritorní rozhodnutí</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7"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33000"/>
            <a:ext cx="77724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cc66"/>
                </a:solidFill>
                <a:latin typeface="Arial"/>
              </a:rPr>
              <a:t>Lékařská posudková služba sociálního zabezpečení od 1. 1. 2007</a:t>
            </a:r>
            <a:endParaRPr b="0" lang="en-US" sz="2400" spc="-1" strike="noStrike">
              <a:solidFill>
                <a:srgbClr val="ffcc66"/>
              </a:solidFill>
              <a:latin typeface="Arial"/>
            </a:endParaRPr>
          </a:p>
        </p:txBody>
      </p:sp>
      <p:sp>
        <p:nvSpPr>
          <p:cNvPr id="119" name="PlaceHolder 2"/>
          <p:cNvSpPr>
            <a:spLocks noGrp="1"/>
          </p:cNvSpPr>
          <p:nvPr>
            <p:ph/>
          </p:nvPr>
        </p:nvSpPr>
        <p:spPr>
          <a:xfrm>
            <a:off x="250560" y="1052640"/>
            <a:ext cx="8569080" cy="580536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Organizační struktura Ministerstva práce a sociálních věcí, výkon je součástí veřejné správy.</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 </a:t>
            </a:r>
            <a:r>
              <a:rPr b="1" lang="cs-CZ" sz="2000" spc="-1" strike="noStrike" u="sng">
                <a:solidFill>
                  <a:srgbClr val="ffffff"/>
                </a:solidFill>
                <a:uFillTx/>
                <a:latin typeface="Times New Roman"/>
              </a:rPr>
              <a:t>prvém stupni</a:t>
            </a:r>
            <a:r>
              <a:rPr b="1" lang="cs-CZ" sz="2000" spc="-1" strike="noStrike">
                <a:solidFill>
                  <a:srgbClr val="ffffff"/>
                </a:solidFill>
                <a:latin typeface="Times New Roman"/>
              </a:rPr>
              <a:t> pro účely sociálního zabezpečení vypracovávají posudky:</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I. Lékaři okresních správ sociálního zabezpečení – pro pojistné systémy (posudkoví lékaři České správy sociálního zabezpečení) – lhůta pro posouzení nepříznivého zdravotního stavu není stanovena</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II. Lékaři úřadů práce – pro nepojistné systémy – lhůta pro posouzení nepříznivého zdravotního stavu činí 30 kalendářních dnů, nestanoví-li žádající orgán lhůtu delší. Z vážných důvodů může být lhůta prodloužena o 30 dnů.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udky nejsou rozhodnutím, ale podkladem pro jeho vydání.</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souzení zdravotního stavu si vyžádá orgán, který o dávce nebo službě rozhoduje.</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e </a:t>
            </a:r>
            <a:r>
              <a:rPr b="1" lang="cs-CZ" sz="2000" spc="-1" strike="noStrike" u="sng">
                <a:solidFill>
                  <a:srgbClr val="ffffff"/>
                </a:solidFill>
                <a:uFillTx/>
                <a:latin typeface="Times New Roman"/>
              </a:rPr>
              <a:t>druhém stupni</a:t>
            </a:r>
            <a:r>
              <a:rPr b="1" lang="cs-CZ" sz="2000" spc="-1" strike="noStrike">
                <a:solidFill>
                  <a:srgbClr val="ffffff"/>
                </a:solidFill>
                <a:latin typeface="Times New Roman"/>
              </a:rPr>
              <a:t> pro účely opravného řízení vypracovávaní posudky o zdravotním stavu posudkové komise Ministerstva práce a sociálních věcí, tvořeny minimálně 3 členy – posudkovým lékařem, který je předsedou komise, tajemnicí a tzv. přísedícím lékařem, který je odborným lékařem některého klinického oboru.</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0" name=""/>
          <p:cNvSpPr/>
          <p:nvPr/>
        </p:nvSpPr>
        <p:spPr>
          <a:xfrm>
            <a:off x="4680" y="0"/>
            <a:ext cx="913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gr. Ilona Kostadinovová</a:t>
            </a:r>
            <a:r>
              <a:rPr b="0" lang="cs-CZ" sz="2000" spc="-1" strike="noStrike">
                <a:solidFill>
                  <a:srgbClr val="ffffff"/>
                </a:solidFill>
                <a:latin typeface="Times New Roman"/>
              </a:rPr>
              <a:t>	</a:t>
            </a:r>
            <a:r>
              <a:rPr b="0" lang="cs-CZ"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cs-CZ" sz="2000" spc="-1" strike="noStrike">
                <a:solidFill>
                  <a:srgbClr val="ffffff"/>
                </a:solidFill>
                <a:latin typeface="Times New Roman"/>
              </a:rPr>
              <a:t>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17:14:46Z</dcterms:created>
  <dc:creator>Ilona Kostadinovová</dc:creator>
  <dc:description/>
  <dc:language>en-US</dc:language>
  <cp:lastModifiedBy>PC</cp:lastModifiedBy>
  <dcterms:modified xsi:type="dcterms:W3CDTF">2008-10-24T23:15:29Z</dcterms:modified>
  <cp:revision>159</cp:revision>
  <dc:subject/>
  <dc:title>Úvod do práva sociálního zabezpečení  Právo sociálního zabezpečení pro podnikatele                             a zaměstnavatele</dc:title>
</cp:coreProperties>
</file>