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CB3B-55FF-4797-8D02-17B296B3DEA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 u="sng">
                <a:solidFill>
                  <a:srgbClr val="00cc99"/>
                </a:solidFill>
                <a:uFillTx/>
                <a:latin typeface="Times New Roman"/>
              </a:rPr>
              <a:t>Chudinská péče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představuje soustavu komunálních a státních opatření na pomoc chudým, jimiž nejprve obec a pak stát navázal na církevní filantropickou charitu v době, kdy feudalismus přecházel do své poslední, tržní fáze a chudých velmi rychle přibýval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 u="sng">
                <a:solidFill>
                  <a:srgbClr val="00cc99"/>
                </a:solidFill>
                <a:uFillTx/>
                <a:latin typeface="Times New Roman"/>
              </a:rPr>
              <a:t>Chudinská správa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a později </a:t>
            </a:r>
            <a:r>
              <a:rPr b="1" lang="cs-CZ" sz="1000" spc="-1" strike="noStrike" u="sng">
                <a:solidFill>
                  <a:srgbClr val="000000"/>
                </a:solidFill>
                <a:uFillTx/>
                <a:latin typeface="Times New Roman"/>
              </a:rPr>
              <a:t>sociální správa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představovala soustavu státní administrativy (včetně obecních) organizující a poskytující chudinskou pomoc. Sociální správa vykonávala dvě základní funkc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mocenskou, zejména kontrolní a policejní, když dozírala na dodržováním právních předpisů chudino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Služební, když chudině poskytovala azyl a jiné služby (jídlo) a spravovala rozdělování státních prostředků získaných z poplatků a da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 u="sng">
                <a:solidFill>
                  <a:srgbClr val="00cc99"/>
                </a:solidFill>
                <a:uFillTx/>
                <a:latin typeface="Times New Roman"/>
              </a:rPr>
              <a:t>Sociální péče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je pojem, kterým se koncem 19. století a počátkem 20. Století označovala soustavná péče státu a obce o sociálně slabší občan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Ekonomické základy </a:t>
            </a:r>
            <a:r>
              <a:rPr b="1" lang="cs-CZ" sz="1000" spc="-1" strike="noStrike" u="sng">
                <a:solidFill>
                  <a:srgbClr val="00cc99"/>
                </a:solidFill>
                <a:uFillTx/>
                <a:latin typeface="Times New Roman"/>
              </a:rPr>
              <a:t>social welfare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formuloval John Maynard Keynes (1883-1946). Na něj navazuje řada ekonomů, kteří propracovali modely redistribuce příjmů a dali tak ekonomický základ novému pojetí sociální bezpečnosti. Moderní poválečné představy se zrodily v průběhu druhé světové války v Anglii. Sir </a:t>
            </a:r>
            <a:r>
              <a:rPr b="1" lang="cs-CZ" sz="1000" spc="-1" strike="noStrike" u="sng">
                <a:solidFill>
                  <a:srgbClr val="000000"/>
                </a:solidFill>
                <a:uFillTx/>
                <a:latin typeface="Times New Roman"/>
              </a:rPr>
              <a:t>William Beveridge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(1879-1963), předseda státní komise dolní komory anglického parlamentu, přišel v roce 1942 s návrhem na vytvoření národního pojištění.Podle Beveridge sociální stát musí usilovat o uspokojení základních potřeb člověka tím,že bojuje proti pěti základním sociálním zlům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1) nevědomosti/igno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2) nečinnosti/idle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3) nemoci/dise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4) nouzi/w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5) zanedbanosti/squal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jem </a:t>
            </a:r>
            <a:r>
              <a:rPr b="1" lang="cs-CZ" sz="1200" spc="-1" strike="noStrike" u="sng">
                <a:solidFill>
                  <a:srgbClr val="00cc99"/>
                </a:solidFill>
                <a:uFillTx/>
                <a:latin typeface="Times New Roman"/>
              </a:rPr>
              <a:t>záchranná sociální síť/“Social safety Net“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použila poprvé Světová banka začátkem 80. let minulého století v souvislosti se ekonomickými reformami v Latinské Americe a v Asii. Označuje systémové uspořádání sociálního pojištění, sociálních(státních) podpor a sociální pomoci způsobem, aby žádný občan nebyl existenčně ohrožen v době ekonomických reforem.      V důsledku ekonomické transformace by tedy občan neměl klesnout pod úroveň existenčního nebo sociálního minima. Záchranná sociální síť jako produkt liberální představy má zajistit jen důstojnou minimální hranici životních potřeb a ponechat na iniciativě jednotlivce, aby si zajistil ví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A61B-7FDD-4769-BBCC-FB3E78ED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E6D8-F9AD-4539-B90A-C97CF2E6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C3BD-B16A-4066-9F8B-14899BB8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5B37-366C-4CA3-B040-1525ACAC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9EEA-49CB-4088-9A8D-F6D1BA69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BB46-E8BE-4145-88E1-5D75B405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A5EC-8724-4FE0-B3C4-99E5F428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7D4C-9E13-4BCA-954E-6FDE0E71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5339-16DA-46DD-B746-5ADFB3E7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9525-CABA-424B-AF54-D65C9709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65B6-D888-4604-A0B8-2C6F3166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68B5-784C-4F3D-BB2E-1A5E3240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9D71-A6E1-4A40-B505-8CEEBCAD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E4C1-F919-4DA3-A6C6-E51555DB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A3AF-EDFD-43F1-B131-B28B501B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F10F-1195-4E42-89B0-00C0CE7D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7ABD-D0B1-4D62-97AB-8EA78B46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3582-1FC7-46FB-81AC-34A41CA0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1439-418B-4718-A60F-645EA0EE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743A-C2BC-4516-9C3A-FAA6A327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A4F3-1218-4BA7-9466-809A487C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A36F-76AA-4B42-9921-6D1768BE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2E35-76D5-4A32-B795-DF6F1DFD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886E-B690-42CF-87CF-B34D3EE1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0BCD-07B8-4378-8ED7-890D18DCF4F2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6BBF-57D0-41AA-864F-3EC3E989E6B9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http://www.sweb.cz/ilda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209080" cy="441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Úvod do práva sociálního zabezpečení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Právo sociálního zabezpečení pro podnikatele a zaměstnavatele</a:t>
            </a:r>
            <a:br>
              <a:rPr sz="4000"/>
            </a:br>
            <a:br>
              <a:rPr sz="40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soká škola Karlovy Vary, o. p. s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0920" y="4941720"/>
            <a:ext cx="7561080" cy="16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i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lda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www.sweb.cz/il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02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Sociální zabezpečení – pojistné na nemocenské a důchodové pojištění a příspěvek na státní politiku zaměstnanosti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3068280"/>
            <a:ext cx="77724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Z – sociál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589/1992 Sb., o pojistném na sociální zabezpečení a příspěvku na státní politiku zaměstnanosti, v platném z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708120" y="0"/>
            <a:ext cx="105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rameny práva nemocenského pojištění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1342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ÚZ, Sociální pojištění a Nemocenské pojištění 20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88/1968 Sb., o prodloužení mateřské dovolené, o dávkách v mateřství a o přídavcích na děti z nemocenského pojištění, v 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54/1956 Sb., o nemocenském pojištění zaměstnanců, v 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87/2006 Sb., o nemocenském pojištění, účinnost 1. 1. 20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62/2006 Sb., zákoník práce, náhrada mzdy po dobu prvních 14 dní trvání dočasné pracovní neschopnosti, od 1. 1. 20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66/2006 Sb., o úrazovém pojištění zaměstnanců, účinnost 1. 1. 20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0"/>
            <a:ext cx="96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rameny práva důchodového pojištění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134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Z – sociální pojišt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 155 /1995 Sb., o důchodovém pojištění, v platném z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 42/1994 Sb., o penzijním připojištění se státním příspěvkem, v platném z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 340/2006 Sb., o činnosti institucí zaměstnaneckého penzijního připojištění z členských států Evropské unie nebo jiných států, které jsou smluvní stranou Dohody o Evropském hospodářském prostoru, na území ČR, …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6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ramen práva – pro účel vyplácení podpory </a:t>
            </a:r>
            <a:br>
              <a:rPr sz="4000"/>
            </a:b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v nezaměstnanosti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2781360"/>
            <a:ext cx="8569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435/2004 Sb., o zaměstnanosti, v platném z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Prameny práva zdravotního pojištění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69440" cy="53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Z – Zdravotní pojištění a zdravotní péč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kon č. 48/1997 Sb., o veřejném zdravotním pojištění, v platném z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592/1992 Sb., o pojistném na všeobecné zdravotní pojištění, ve znění pozdějších právních předpis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551/1991 Sb., o Všeobecné zdravotní pojišťovně ČR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80/1992 Sb., o resortních, oborových, podnikových a dalších zdravotních pojišťovnách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0/1966 Sb.,  o péči o zdraví lidu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58/2000 Sb., o ochraně veřejného zdraví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60/1992 Sb., o zdravotní péči v nestátních zdravotnických zařízeních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45/2006 Sb., o veřejných neziskových ústavních zdravotnických zařízeních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rávní předpisy státní sociální podpory a sociální péč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4216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ÚZ – sociální zabezpeč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17/1995 Sb. , o státní sociální podpoře, 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08/2006 Sb., o sociálních službá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10/2006 Sb., o životním a existenčním mini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11/2006 Sb., o pomoci v hmotné nouz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rameny Evropského práv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06292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Z – Evropské právo základní dokumenty – primární prá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mlouva o založení Evropského společenstv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l. 39 a násl. - volný pohyb osob a služeb, právo usaz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l. 17 občanství un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mlouva o přistoupení ČR a dalších zemí k EU, sdělení č. 44/2004 Sb. m. 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Evropské právo – ÚZ základní dokumenty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kundární prameny – nařízení a směr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řízení Rady 1408/71 o aplikaci soustav sociálního zabezpečení na osoby zaměstnané, samostatně výdělečně činné a jejich rodinné příslušníky pohybující se v rámci Společenstv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řízení Rady 574/72 stanovící postup provádění Nařízení 1408/7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řízení Rady 883/2004 – od roku 2009 nahradí současné Nařízení 1408/7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8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          ild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Kontinuální vývoj a změny</a:t>
            </a:r>
            <a:br>
              <a:rPr sz="4000"/>
            </a:b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REFORMA 2008, </a:t>
            </a:r>
            <a:br>
              <a:rPr sz="4000"/>
            </a:b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účinnost 1. 1. 2008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0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o stabilizaci veřejných rozpočtů, č.  261/2007 Sb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měny v nemocenském pojištění zaměstnanců, důchodovém pojištění, organizaci a provádění sociálního zabezpečení,  u vyplácení podpory v nezaměstnanosti, v systému dávek státní sociální podpory   a v sociální péč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Změny 2008, 2009, 20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806292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nížení procentní sazby odvodu pojistného na nemocenské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mocenské pojištění – výše dávky nemocenského za první 3 dny nemo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ůchodové pojištění – zvýšení základní výměry důchod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pora v nezaměstnanosti – v roce 2009 dojde ke zkrácení podpůrčí doby, po kterou bude vyplácena podpora v nezaměstna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razové pojištění zaměstnanců - 20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vod do práva sociálního zabezpečení, pojem, předmět, systém a prameny práva sociálního zabezpečení v ČR a v E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jistné na sociální zabezpečení a příspěvek na státní politiku zaměstna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ůchodového pojištění – právní úprava, vazby a význam. Základní principy důchodového pojištění. Jednotlivé dávky důchodového systému podmíněné dlouhodobě nepříznivým zdravotním stavem nebo závislostí na péči jiné osoby, pozůstalostní důchody. Souběh nároků na důchody a na jejich výplatu. Zvyšování důchodů. Doplňkové důchodové systémy. Penzijní připojištění se státním příspěvk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Změny 2008, 2009, 20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806292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kon č. 187/2006 Sb., o nemocenském pojiště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účinnost od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1. 2009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33"/>
                </a:solidFill>
                <a:uFillTx/>
                <a:latin typeface="Times New Roman"/>
              </a:rPr>
              <a:t>Z</a:t>
            </a:r>
            <a:r>
              <a:rPr b="1" lang="cs-CZ" sz="2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ákon č. 54/1956 Sb., o nemocenském pojištění zaměstnanců</a:t>
            </a:r>
            <a:r>
              <a:rPr b="1" lang="cs-CZ" sz="2000" spc="-1" strike="noStrike" u="sng">
                <a:solidFill>
                  <a:srgbClr val="ff0033"/>
                </a:solidFill>
                <a:uFillTx/>
                <a:latin typeface="Times New Roman"/>
              </a:rPr>
              <a:t>,</a:t>
            </a:r>
            <a:r>
              <a:rPr b="0" lang="cs-CZ" sz="2000" spc="-1" strike="noStrike">
                <a:solidFill>
                  <a:srgbClr val="ff0033"/>
                </a:solidFill>
                <a:latin typeface="Times New Roman"/>
              </a:rPr>
              <a:t> v platném zně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kon č. 262/2006 Sb., zákoník prá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účinnost od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1.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odpovědnost zaměstnavatele za pracovní úrazy a nemoci z povolání, § 365 a násl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33"/>
                </a:solidFill>
                <a:latin typeface="Times New Roman"/>
              </a:rPr>
              <a:t>(nahradil stávající zákoník práce, z. č. 65/1965 Sb., ve znění pozdějších předpisů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kon č. 266/2006 Sb., o úrazovém pojištění zaměstnan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účinnost od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1. 2010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, odloženo o 1 rok, s výjimkou části deváté čl. IX bodu 4 a části třicáté čl. XXX které nabývají účinnosti dnem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července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33"/>
                </a:solidFill>
                <a:latin typeface="Times New Roman"/>
              </a:rPr>
              <a:t>(nová právní úprava v Č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13420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Nemocenské 2008 po Nálezu Ústavního soudu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06292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. č. 54/1956 Sb., v platném z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008 - první 3 dny nepřísluš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od 30. června 2008 náleželo 60% DVZ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Nález ÚS publikován pod č. 166/2008 Sb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od 1. září 2008 25% DV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novela 305/2008 Sb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60% DVZ od 4. do 30. d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66% DVZ od 31 do 61. d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72% DVZ od 61. d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Změny 2009 v pojistném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06292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nížení procentní sazby odvodu pojistného na nemocenské pojištění - vol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mpenzace za to, že po dobu prvních 14 dní bude zaměstnavatel vyplácet při pracovní neschopnosti náhradu mz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Důchody 2008, 2009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806292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ůchodové pojištění – z. č. 155/1995 S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výšení základní výměry důchodů -  na 2170,- Kč v roce 2008, n. v. 211/2008 Sb., a v roce 2009, n. v. 363/2008  Sb. dojde ke zvýšení procentní výměry o 4,4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výšení příplatků k důchodu v roce 2008 n.v. 212/2008 Sb., a v roce 2009 n. v. 364/2008 S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. v. 365/2008 Sb. – účinnost od 1. 1.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1527,- Kč výše všeobecného vyměřovacího základu a přepočítacího koeficientu pro jeho úpravu 1,094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Částky pro výpočtový základ dle § 15 zákona o důchodovém pojištění se zvyšují na 10500,- Kč a 27000,- K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odpora v nezaměstnanosti 2009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0629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pora v nezaměstnanosti – v roce 2009 dojde ke zkrácení podpůrčí doby, po kterou bude vyplácena podpora v nezaměstna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Úrazové pojištění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0629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Odpovědnost zaměstnavatele za škodu způsobenou pracovním úrazem a nemocí z povolání podle nového zákona o úrazovém pojištění, z. č. 266/2006 Sb. (účinnost od 1. 1. 201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látcem pojistného je zaměstnavat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centní sazba z úhrnu vyměřovacích základů zaměstnanců pro pojistné na sociální zabezpečení v rozhodném období, kterým bude kalendářní měsí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azby pojistného v příloze č. 2 zákona o úrazovém pojištění od 0, 28% k 5, 04% - převažující ekonomické činnosti OKE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loha č. 1 – seznam nemocí z povol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Pojem sociálního zabezpečení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edchůdci pojmu byly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historicky pojm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chudinská péč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ciální sprá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ciální péč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dpovědné ministerstvo se v roce 1918 nazývalo ministerstvo sociální péče, dnes je to Ministerstvo práce a sociálních věc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jem sociálního zabezpečení byl modifikován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orií sociálního státu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/“social welfare state“, Belveridge (1942). Social welfare se v sociálním státě zpravidla uskutečňuje sociálním a zdravotním pojištěním, státními podporami a sociální pomocí občanů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slední fází terminologického vývoje je zavedení pojmu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sociální ochran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na půdě Evropské unie (social protection). Sociální ochrana v širším významu zahrnuje social welfare, zdravotní a sociální prevenci, pracovněprávní ochranu (včetně bezpečnosti práce) a ochranu prostředí (ekologi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nes se stírá rozdíl mezi ochranou pracovních podmínek a ochranou při sociálních událostech. Vývoj směřuje k integraci pracovního práva  práva sociálního zabezpečení v sociální právo poskytující sociální ochranu občanům jako reflexe jejich nezadatelných lidských práv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Sociální politika</a:t>
            </a:r>
            <a:br>
              <a:rPr sz="24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o soustavné a cílevědomé úsilí jednotlivých sociálních subjektů o změnu nebo o udržení         a fungování svého nebo jiného (státního nebo samosprávného) sociálního systém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ěkdy bývá sociální politika ztotožňována se záchrannou sociální sítí/social safety net, která je jen jedním z nástrojů sociálního zabezpečení, jde o soustavu sociálních dávek k zabezpečení životního minima občanů a sociálních služeb, které mají pomoci v sociální či existenční kriz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lita záchranné sociální sítě určuje kvalitu sociálního zabezpeč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Cíl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práva sociálního zabezpečení</a:t>
            </a:r>
            <a:br>
              <a:rPr sz="24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Cíle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soudobého sociálního zabezpečení je regulace odpovědnosti občana za svou budoucnost (povinné pojistné systémy) a stanovení míry a forem sociální solidarity mezi občany (povinný či dobrovolný transfer prostředků skrze daňovou soustavu nebo sponzorováním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emokratické uspořádání společnosti se zabudovanými sociálními zárukami důstojné existence člověka se jeví jak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řirozený vrchol pyramidy společenského rozvoj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ladním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ociálním práve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je právo na práci, jehož součástí je právo na vzdělání a náležitou přípravu na povolání. S tím souvisí právo na uspokojivé pracovní podmínky, na životní úroveň, na rodinu a na sociální zabezpečení. Jde o sociální práva občana garantovaná Všeobecnou deklarací lidských prá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P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ředmět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práva sociálního zabezpečení</a:t>
            </a:r>
            <a:br>
              <a:rPr sz="24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de o soubor právních předpisů, které upravují hmotné zabezpečení a služby, jež stát zabezpečuje, reguluje nebo poskytuje občanům, kteří v důsledku sociální události nemohou být výdělečně činnými a jejichž nezadatelná sociální práva zaručená ústavou jsou ohrože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a Karlově Univerzitě se začalo v roce 1955 začalo učit právo sociálního zabezpečení ve spojení s právem pracovní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de o obor práva, který upravuje jako soukromoprávní, tak veřejnoprávní vztahy, které vznikají v souvislosti se zajišťováním ústavou zaručených sociálních práv občanů státem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tát něco poskytuje, jako např. zabezpečení v nezaměstnanosti, při neschopnosti pracovat, při úrazu a nemoci z povolání, při nedostatečných příjmech nezabezpečujících alespoň životní minimum, při podpoře ve výchově dětí a podpoře nízkopříjmových rodin, při ztrátě výdělečné schopnosti a ztrátě živitele a ve stář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ávní odvětví původně součástí pracovního práva, neboť pracovní smlouva zakládala ze zákona práva a povinností práva sociálního zabezpečení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de o hraniční obor s prvky veřejnoprávními i soukromoprávním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emocenského pojištění -  právní úprava, vazby, význam. Jednotlivé dávky nemocenského pojištění  (nemocenské, podpora při ošetřování člena rodiny, peněžitá pomoc v mateřství, vyrovnávací příspěvek v těhotenství a mateřství). Náhrada mzdy od zaměstnavatele v době pracovní neschopnosti zaměstnance. Nemocenské pojištění osob samostatně výdělečně činných. Odchylné úpravy nemocenského pojištění pro některé skupiny zaměstnanců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dravotní pojištění v ČR – právní úprava, vazby a význam. Základní principy veřejného zdravotního pojištění. Osobní a věcný rozsah veřejného zdravotního pojištění. Pojistné na veřejné zdravotní pojištění. Institucionální zajištění veřejného zdravotního pojištění. Způsob a formy poskytování a úhrady zdravotní péče. Druhy zdravotních pojišťoven a jejich organizační struktur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ociální stá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zabezpeč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chranná sociální sí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poli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lobalizace a její vliv na státy veřejných sociálních služ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pologie států veřejných sociálních služeb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Kontinentál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Skandinávsk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) Reziduální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) Rudimentární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S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ystém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sociálního zabezpečení v ČR</a:t>
            </a:r>
            <a:br>
              <a:rPr sz="24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lenění sociální zabezpeč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ychází zpravidla ze způsobu financování, typu sociální události a s nimi spojených dávek, charakteru účasti osob v daném systému, převažujících principů, na kterých je vybudováno a dalších hledisek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ální zabezpečení pak můžeme členit na systém sociálního pojištění, systém státního sociálního zaopatření a systém sociální pomoc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 jiného hlediska můžeme dělit sociální zabezpečení na systémy základní a doplňkové, které lze dělit na nárokové (obligatorní) a dobrovolné (fakultativní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Tři základní pilíře sociálního zabezpečení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Systém sociálního pojiště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v jehož rámci jsou osoby pojištěny pro případ nemoci, těhotenství a mateřství, ošetřování nemocného člena rodiny, pro případ dosažení stanoveného věku (stáří), invalidity a ztráty živitele. Systém zahrnuje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ocenské a důchodové pojiště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Systém státní sociální podpor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ajišťuje především ženy v souvislosti s porodem, dále rodiny, které pečují o nezaopatřené děti a rodiny v souvislosti se ztrátou živite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Systém sociální pomoc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rčený osobám, které se nacházejí v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motné nouzi</a:t>
            </a:r>
            <a:r>
              <a:rPr b="0" i="1" lang="cs-CZ" sz="24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o jiné zpravidla nepříznivé životní situaci, kterou nejsou schopn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řešit vlastními silami. Platná právní úprava používá termín sociální péče.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Další systémy sociálního zabezpečení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Systém penzijního připojiště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istuje od roku 1994 a zajišťuje osoby zejména pro případ dosažení stanoveného věku, invalidity a ztráty živitele. Jde o doplněk základního důchodového pojištění, který je od sociálního pojištění oddělen. Jedná se o typ soukromého pojištění s veřejnoprávními prvky. Penzijní připojištění je dobrovolné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statné úrazové pojištění pro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ípad pracovních úrazů a nemocí z povolá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ový zákon o úrazovém pojištění však již byl přijat, část nabyla účinnosti v červenci 2006, zákon č. 266/2006 Sb., by měl nabýt účinnosti od 1. 1. 2010. Do té doby platí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jde-li v důsledku úrazu ke krátkodobé neschopnosti pracovat, je osoba zabezpečena v rámci nemocenského pojištění příslušnou dávkou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jde-li k dlouhodobé neschopnosti pracovat, je osoba zajištěna důchodem částečným invalidním nebo plným invalidním. Problematika pracovních úrazů a nemocí z povolání je řešena v souvislosti s 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vědností zaměstnavatele za škodu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 zákoníku práce. Zabezpečení při pracovní neschopnosti a ve stáří a zaměstnávání po návratu do práce je upraveno v §§ 365 a násl. zákoníku práce, z. č. 262/2006 Sb. Hmotné zabezpečení zaměstnanců při neschopnosti k práci v důsledku nemoci, úrazu, těhotenství a mateřství upravují předpisy o 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ocenském pojiště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řístup k výkladu sociálních jevů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ochra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riziko, pojistné rizik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událos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Změna zdravotního stavu – zdraví, nemoc, úraz, invalid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Nezaměstna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) Rod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) Stář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) Chudo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Systémy nástrojů sociální politiky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gu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něžité dáv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ěcné dáv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luž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Financování nástrojů sociální politi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apital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počtová techn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Organizace sociálního systému v ČR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dravot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pojištění – pojistn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átní sociální podp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pom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h, stát a občanský sek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átní sprá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stát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oordinace systémů sociálního zabezpečení v Evropské uni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plikace právního řádu jediného členského stá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vné zacház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chování práv během jejich nabývání, sčítání dob pojišt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chování nabytých práv, výplata dávek do cizi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řízení Rady 1408/71/E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řízení Rady 574/72/E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ařízení Rady 883/2004 – od roku 2009 nahradí současné Nařízení 1408/7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kladní sociální práva občan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prá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uspokojivé pracovní podmín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přiměřenou životní úrove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rodi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sociální zabezpeč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svobodu sdruž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Vysílání zaměstnanců v rámci EU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8497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jem cizin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sílání zaměstnanců – časově omezené, účast na sociálním pojištění státu, ze kterého je zaměstnanec vysl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slání do ČR – do 3 měsíců bez povolení, do 12 měsíců (lze prodloužit o dalších 12 měsíců), možnost žádat o výjimku – v současné době je povolováno max. na 3 ro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103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átní sociální podpora – právní úprava, vazby a význam. Nárok na dávky státní sociální podpory, životní a existenční minimum. Jednotlivé testované a netestované dávky státní sociální podpor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péče – právní úprava, vazby a význam. Sociální služby. Pomoc v hmotné nouz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rganizační uspořádání sociálního zabezpečení a řízení ve věcech sociálního zabezpeč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ontrolní otáz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jasněte pojem „social welfare“ a vyjmenujte základní typy sociálního stát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o je to záchranná sociální síť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efinujte pojmy sociální událost a sociální rizik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pište princip sociální solidar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rganizace sociálního zabezpečení v Č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ordinace systémů sociálního zabezpečení v E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Doporučená literatur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sociálního zabezpečení, Vacík, A., Trinnerová, D. , Vydavatelství a nakladatelství Aleš Čeněk, s.  r. o., Pelhřimov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sociálního zabezpečení v rámci Evropské Unie, Černá, J. , Vacík, A. Vydavatelství a nakladatelství Aleš Čeněk, s. r. o. , Plzeň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sociálního zabezpečení, Tröster, P. a kol. ,  C. H. Beck, Praha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ciální zabezpečení, Galvas, M. , Gregorová, Z. , Masarykova univerzita a nakladatelství Doplněk, Brno 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ciální právo Evropské unie, Tomeš, I. – Koldinská, K., C. H. Beck, Praha 2003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xikon sociálního zabezpečení a zdravotního pojištění, Sagit, Ostrava-Poruba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ciální zabezpečení a zdravotní pojištění zaměstnanců a osob samostatně výdělečně činných, Šmíd, J. , Ženíšková, M. , ANAG, Olomouc, 2008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91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Nemocenské pojištění, Ženíšková, M. , ANAG, Praha 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ěžité dávky v nemoci a mateřství v Evropské unii. Chvátalová I. , LINDE, Praha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Mateřská a rodičovská dovolená, Přib, J. , Břeská, N. , Špundová, E. , Pilátoáv, J. , GRADA, Havlíčkův Brod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ůchodové předpisy, Přib, J., Voříšek, V., ANAG 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Kdy do důchodu a za kolik, Přib. J. , GRADA, Jihlava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átní sociální podpora, Břeská, N. , Burdová, E. , Vránová, L. , ANAG, Jihlava, 20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ávky pomoci v hmotné nouzi a dávky sociální péče pro zdravotně postižené osoby k 1. 3. 2007, Břeská N. , Vránová, L. Anag, Olomouc 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řízení sociální péče pro seniory a zdravotně postižené občany, ANAG, Brno,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Sociální pomoc a právo, Koldinská, K. , Marková, H. , Orac, Praha 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Zákon o zaměstnanosti s komentářem, včetně prováděcích předpisů k 15. 2. 2006 s aktualizací k 1. 1. 2007, Anag, Olomouc 2006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mentář k Ústavě ČR a Listině základních práv a svobod, Klíma K. a kol., Vydavatelství a nakladatelství Aleš Čeněk, s. r. o. , Plzeň  2006, zejména část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k Listině základních práv a svobod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sociální práv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Ministerstvo práce a sociálních věcí, Sociální zabezpečení osoby pohybujících se v  rámci Evropské unie, Praha 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Sbírka příkladů z práva sociálního zabezpečení, Trinnerová, D. , Vacík, A. , Vydavatelství a nakladatelství Aleš Čeněk, Pelhřimov 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Sbírka příkladů z pracovního práva a práva sociálního zabezpečení, Galvas, M. , Gregorová, Z. , Zachariáš, J. , Vydavatelství a nakladatelství Aleš Čeněk, Pelhřimov 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66"/>
                </a:solidFill>
                <a:latin typeface="Arial"/>
              </a:rPr>
              <a:t>Úvod do práva sociálního zabezpečení, </a:t>
            </a:r>
            <a:br>
              <a:rPr sz="4000"/>
            </a:br>
            <a:r>
              <a:rPr b="1" lang="cs-CZ" sz="4000" spc="-1" strike="noStrike">
                <a:solidFill>
                  <a:srgbClr val="ffcc66"/>
                </a:solidFill>
                <a:latin typeface="Arial"/>
              </a:rPr>
              <a:t>pojem, předmět, systém </a:t>
            </a:r>
            <a:br>
              <a:rPr sz="4000"/>
            </a:br>
            <a:r>
              <a:rPr b="1" lang="cs-CZ" sz="4000" spc="-1" strike="noStrike">
                <a:solidFill>
                  <a:srgbClr val="ffcc66"/>
                </a:solidFill>
                <a:latin typeface="Arial"/>
              </a:rPr>
              <a:t>a prameny práva sociálního zabezpečení v ČR a v EU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4436640"/>
            <a:ext cx="871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hled pramenů práva sociálního zabezpeč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Základní prameny práv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ÚZ, Sociální pojištěn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ÚZ, Nemocenské pojištění 200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ÚZ, Sociální zabezpečen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ÚZ, Zdravotní pojištění a zdravotní péč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rameny práva – organizace        a systém sociálního zabezpečení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Z, Sociální zabezpeč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100/1998 Sb. , o sociálním zabezpečení,  v platném z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Z, Sociál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582/1991 Sb., o organizaci a provádění sociálního zabezpeč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7:14:46Z</dcterms:created>
  <dc:creator>Ilona Kostadinovová</dc:creator>
  <dc:description/>
  <dc:language>en-US</dc:language>
  <cp:lastModifiedBy>Ilona</cp:lastModifiedBy>
  <dcterms:modified xsi:type="dcterms:W3CDTF">2008-12-15T18:52:58Z</dcterms:modified>
  <cp:revision>193</cp:revision>
  <dc:subject/>
  <dc:title>Úvod do práva sociálního zabezpečení  Právo sociálního zabezpečení pro podnikatele                             a zaměstnavatele</dc:title>
</cp:coreProperties>
</file>