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BE8E-D66F-407E-8E50-52B965298F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C5-E506-4AAD-8EA5-FD5244A5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506-2E2B-4A90-8AD7-6F6F1DB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B3D-6ECE-40FA-B2A9-15BFD3C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72A-8524-4957-87FA-8D29B861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0B9-B254-4A05-9677-5B4D7D13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365-9093-4915-BFA1-FB12DC8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8A9-2245-4356-AB12-99BE27B1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06A1-E383-4AEB-9238-9C1B4C4A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87D-FB02-4CEC-B8D3-D65B61C8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6A1D-FCFB-4F75-B234-9F894D3D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F061-B9B4-48D2-B81B-4EA6EB2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AE8-4F98-4440-9035-779004A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9757-073A-476C-BD3B-5E7EFBE3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103B-D02B-45BF-883A-0846E52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8650-DEA7-4246-B0C8-73BD106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8D4D-D998-4FEE-A209-E2CAEB92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951A-480E-496A-B5CA-32BA5162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D90-4869-42E6-993F-CA19CA2E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D4D-91EB-4102-8F80-A07E23F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F89-CBA5-4D25-81C0-ABDBBA70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72D-F71A-466A-AB73-6279083D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A01-C0C9-456B-A458-509BEAD8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4E2-CCA2-4FB2-9310-07FC1F9B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B59-D5C3-4967-B6FE-4B44E09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47E-1F35-4D25-BA4A-6BD751F9111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E5D7-9090-4D46-B4DE-0CB7C45D75A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Evropského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Evropské právo základní dokumenty – primární prá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založení Evropského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39 a násl. - volný pohyb osob a služeb, právo usaz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17 občanství u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přistoupení ČR a dalších zemí k EU, sdělení č. 44/2004 Sb. m. 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vropské právo – ÚZ základní dokument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kundární prameny – nařízení a směr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 o aplikaci soustav sociálního zabezpečení na osoby zaměstnané, samostatně výdělečně činné a jejich rodinné příslušníky pohybující se v rámci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 stanovící postup provádění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ociální stá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sociální sí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a její vliv na státy veřejných sociální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ologie států veřejných sociálních služ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Kontinentál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Skandinávsk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eziduál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Rudiment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ordinace systémů sociálního zabezpečení v Evropské un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ace právního řádu jediného členského stá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é zachá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práv během jejich nabývání, sčítání dob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nabytých práv, výplata dávek do ciz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ysílání zaměstnanců v rámci E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ciz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ílání zaměstnanců – časově omezené, účast na sociálním pojištění státu, ze kterého je zaměstnanec vys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ání do ČR – do 3 měsíců bez povolení, do 12 měsíců (lze prodloužit o dalších 12 měsíců), možnost žádat o výjimku – v současné době je povolováno max. na 3 ro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03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asněte pojem „social welfare“ a vyjmenujte základní typy sociálního stá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o je to záchranná sociální síť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finujte pojmy sociální událost a sociální rizik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pište princip sociální solida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anizace sociálního zabezpečení v Č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systémů sociálního zabezpečení v E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 a v EU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2-15T18:52:58Z</dcterms:modified>
  <cp:revision>193</cp:revision>
  <dc:subject/>
  <dc:title>Úvod do práva sociálního zabezpečení  Právo sociálního zabezpečení pro podnikatele                             a zaměstnavatele</dc:title>
</cp:coreProperties>
</file>