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82C8-DE2E-45F4-BA59-48D440AD29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růměrná mzda v národním hospodářství – součin všeobecného vyměřovacího základu stanoveného nařízením vlády pro účely důchodového pojištění za kalendářní rok, který o 2 roky předchází kalendářnímu roku, pro který se průměrná mzda zjišťuje, a přepočítacího koeficientu stanoveného  nařízením vlády pro účely důchodového pojištění pro úpravu tohoto všeobecného vyměřovacího základ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Zdravotní pojištění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skytuje Všeobecná zdravotní pojišťovna ČR a řada dalších zaměstnaneckých zdravotních pojišťoven jako například Pojišťovna ministerstva vnitra ap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E24-737C-4C0E-8865-F2EE9CBC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64E-3B0A-4FF8-8C27-9441F85F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945-03E0-4D1C-96A1-AFB7F8C4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DC5-A574-4AF3-9992-3018E69E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BCB-A564-42C5-AFA9-A85F8676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0AD4-49BD-40F4-AA97-75BC6344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7EBB-6615-425F-973E-4FEA1ED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FB11-C4B3-4012-BACF-25124D87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1F0C-0737-46FA-8BAC-E9696077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C5EE-F338-4CC1-8026-2A6DFF6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1DE5-C419-4444-880A-73E10B16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C07-B768-48D1-918A-A7A2DEC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79EE-D8A1-4471-9394-836CE0F7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AE54-779C-4A8D-9497-B4015DA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353-77AC-46B5-8D11-96D55EC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20B7-09E5-4FBF-A067-1E3BB15A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C652-1F0E-4C0B-B153-B3D44E60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A16-70CC-4528-8678-2D34B6E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D41-EB28-44C1-B9E1-F7693AA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16E-74B3-4E41-B501-6EB8DFF4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C26-4D89-4DF7-BD53-970BBC1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321-9913-4C3D-928E-A4A1299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67C-94EC-4EE8-B4FC-3D82D37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3DD-AFB1-4A54-A8AE-D3B98E7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4F0-9A65-4585-ADB4-2E323A2DDE5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F26A-8E3D-46F1-B823-E8858D5F595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44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Úvod do práva sociálního zabezpečení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ká škola Karlovy Vary, o. p. 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jistné na zdravotní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3 zákona o pojistném na všeobecné zdravotní pojištění, z. č. 592/1992 Sb.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platníky jsou zaměstnavatelé, pojištěnci a stá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 určení výše pojistného se vychází z vyměřovacího základu zjištěného za rozhodné období – zpravidla jednoměsíční, u OSVČ jeden 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azby: Organizace 9%, Zaměstnanci 4,5%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lkem 13,5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inimální vyměřovací základ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zaměstna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činí částku odpovídající minimální mzdě, dle n. v. č. 567/2006 Sb., od 1. 1. 2007 je to 8 000,- Kč, tj. 1080,- Kč na pojistné (platí rovněž 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soby bez zdanitelných příjm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kud je nižší, je zaměstnanec povinen doplatit zdravotní pojišťovně prostřednictvím svého zaměstnavatele pojistné ve výši 13,5 % z rozdílu těchto základ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-li vyměřovací základ nižší z důvodů překážek na straně zaměstnavatele, je tento rozdíl povinen doplatit zaměstnavat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jistné na zdravotní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še pojistného zaměstnance činí 13,5% z vyměřovacího základ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zaměstnance odvádí pojistné zaměstnavatel, který srazí ze mzdy 1/3 této částky, zbývající 2/3 uhradí zaměstnavatel ze svých prostředk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jistné je splatné v den, který je určen pro výplatu mezd za příslušný kalendářní měsíc, nejpozději do 8 dnů po uplynutí kalendářního měsíce, za nějž se pojistné odvád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hodné období – kalendářní měsíc, za který se pojistné plat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hled o platbách jsou zaměstnavatelé povinni předávat současně s platbou všem zdravotním pojišťovnám, u kterých jsou pojištění jejich zaměstnanc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amovací povinnost – hromadné oznámení zaměstnavat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Minimální vyměřovací základ zaměstnanců pro pojistné na zdravotní pojištění není určen pro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351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za kterou platí pojistné stá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 s těžkým tělesným, smyslovým nebo mentálním postižením, které se poskytují mimořádné výhody II. nebo III. stupně podle předpisů o sociálním zabezpeč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která dosáhla věku potřebného pro nárok na starobní důchod, avšak nesplňuje další podmínky pro jeho přizn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která celodenně, osobně a řádně pečuje alespoň o 1 dítě do 7 let věku nebo nejméně o 2 děti do 15 let vě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obu, která současně vedle zaměstnání vykonává samostatnou výdělečnou činnost a odvádí z ní měsíčně zálohy na pojistné vypočtené alespoň z minimální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aměstnanci zaměstnavatele zaměstnávajícího osoby se zdravotním postižením - vyměřovací základ pro odvod zdravotní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ci, který je poživatelem invalidního nebo částečného invalidního důchodu a který je zaměstnán u zaměstnavatele, který zaměstnává více než 50% osob se zdravotním postižením z celkového průměrného přepočteného počtu svých zaměstna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de o částku přesahující částku, která je vyměřovacím základem u osoby, za kterou je plátcem pojistného stá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ěsíčně pojistné je odváděno ve výši 680,- K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ástka činí 5035,- Kč (25% průměrné měsíční mzdy stanovené pro účely důchodového pojištění, dle nařízení vlády č. 462/2006 Sb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dvod zdravotního pojištění OSVČ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VČ je povinna do 8 dnů ohlásit příslušné zdravotní pojišťovně zahájení/ukončení samostatné výdělečné činnosti, lze přímo na živnostenském úřadě (CRM podnikatel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lohy na zdravotní pojiště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hled o příjmech a výdajích ze samostatné výdělečné činnosti a úhrnu záloh na pojistné je potřeba podat zdravotní pojišťovně do 8 dnů po podání daňového přiznání za předchozí zdaňovací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dvod zdravotního pojištění OSVČ – vyměřovací zá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% příjmů po odpočtu výdajů vynaložených na jejich dosažení, zajištění a udržení podle zákona o daních z příjm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ální roční vyměřovací základ je určen částkou 486000,- K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ální měsíční záloha je 13,5 % z 1/12 maximálního vyměřovacího základu, tj. 5468,-K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inimální roční vyměřovací základ je 12ti násobek průměrné měsíční mzdy v národním hospodářství, n. v. č. 462/2006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inimální vyměřovací základ OSVČ – 10069,50 Kč a minimální měsíční záloha na pojistné činí 1360,- K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Zálohy nemusí platit OSVČ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která je současně zaměstnancem a zaměstnání je hlavním zdrojem příjmu a samostatná výdělečná činnost pouz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dlejším zdrojem příjm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Tato osoba je povinna zaplatit pojistné za celý rok do 8 dnů ode dne, kdy bylo podáno daňové přiznání, nejpozději do 8. 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Zdravotní pojišťovny a hrazená péče, z. č. 48/1997 Sb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11 výběr – 1x za 12 měsíců k 1. kalendářnímu čtvrtle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13 hrazená péče k zachování a zlepšení zdravotního stavu pojiště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mbulan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hotovostní a záchranná služ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eventiv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ispenzár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ázeňská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vodní preventivní péče - § 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šeobecná zdravotní pojišťovna - § 40 odst. 1 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esortní, oborové, podnikové, další pojišťovny - § 40 odst. 1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evizní lékaři - § 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Hrazená péče – naturální dávky v nemoc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éčebná péče ambulantní/medical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registrující ošetřující lékař: primární, specializovaná péče pro určitý zdravotní stav, zvláštní – domácí péče, stacionáře, úst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ústavní péče – nemocnice, léčebné úst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hotovos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ispenzární péče – soustavná péče o děti do 1 roku, těhotné, ohrožení nebo trpící závažnými nemoce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kytování léků, zdravotnických pomůcek a stomatologických výrobk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ázeňská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vodní preventiv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prava nemocných a zemřel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udková 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hlídky zemřelých a zdravotní pi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Nehrazená péč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šetření a prohlídky v osobním zájmu nebo na žádost právnických os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stupní a výstupní prohlídky do zaměstn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rohlídky pro získání zbrojního pasu, řidičského průk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hlídky a vyšetření na žádost soudů, státního zastupitelství, Policie ČR, OSSZ nebo jiného orgánu státní správy (znalecké posudky, odborná vyšetření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Náležitost žádosti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stní požadavek – primární péče registrujícího léka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ecializovaná péče – „Průvodní list“, „Poukaz k vyšetření/ošetření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y – na re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anky na přev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chranná péče – telefonic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ázeňská péče – „Návrh na lázeňskou péči“ – vyplňuje ošetřující lékař a schvaluje  revizní lékař zdravotní pojišťov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řehled výuky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vod do práva sociálního zabezpečení, pojem, předmět, systém a prameny práva sociálního zabezpeče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v ČR a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istné na sociální zabezpečení a příspěvek na státní politiku zaměst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ho pojištění -  právní úprava, vazby, význ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ůchodového pojištění – právní úprava, vazby a výz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Zdravotnictví 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zdravotní pojiště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pom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y práva sociálního zabezpečení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Řízení o dávc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610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vztahuje se správní řá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ádost o přezkoumání rozhodnutí či opatření lékaře lze uplatnit u vedoucího zdravotnického zaříz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volání – krajský úřad (zdravotní rada) nebo přímo na Ministerstvo zdravotnictví ČR, je-li zřizovatelem (např. fakultní  nemocnice). Pak se uplatní správní řízení jako u placení pojistné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lčení nároku – platnost receptu (1 den z pohotovosti, 3 dny antibiotika, ostatní léky 7 d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kaz na prostředky zdravotní techniky platí obvykle 1 měsí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évolné nenastoupení k lázeňské péči – promlčení, předepsání vzniklé škody k úhrad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Rozhodování podle z. č. 48/1997 Sb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419120"/>
            <a:ext cx="861048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kuty - § 4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irážky k pojistnému - § 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hodování zdravotních pojišťoven o přirážkách, pokutách, pravděpodobné výši pojistného a ve sporných případech o placení pojistného, vracení přeplatku na pojistném a snížení záloh na pojistné se řídí obecnými předpisy o správním řízení, z. č. 500/2004 Sb., správní řá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latební výměr - § 53 odst. 1 – je vykonatelný bez ohledu na právní moc, jestliže od jeho doručení uplynulo 15 dnů, rozhodnutí je přezkoumatelné soud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kaz nedoplatků - § 53 odst. 2 – vykonatelný dnem doručení – proti němu lze podat do 8 dnů od doručení písemné námitky, zdravotní pojišťovna do 30 dnů vydá rozhodnutí, proti kterému se lze odvolat k rozhodčímu orgánu zdravotní pojišťovn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jišťovací fond - § 22a z. č. 280/1992 Sb., o resortních, oborových, podnikových a dalších zrdravotních pojišťovnách – k úhradě zdravotní péče poskytnuté zdravotnickými zařízeními pojištěncům likvidované zaměstnanecké pojišťovny, roční příspěvek činí 0,5 % průměrných ročních výdajů základního fondu pojišťovny, do 31. ledna zaplatit za předchozí kal. Ro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Úhrada zdravotní péč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. č. 261/2007 Sb., o stabilizaci veřejných rozpočtů, kterým se mění zákon č. 48/1997 Sb., o veřejném zdravotním pojištění, v platném znění, s účinností od 1. 1.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ční poplat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imity regulačních poplat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platky na léčivé přípravky nebo potraviny pro zvláštní lékařské úč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Regulační poplatek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24000" y="1125360"/>
          <a:ext cx="8134200" cy="5407200"/>
        </p:xfrm>
        <a:graphic>
          <a:graphicData uri="http://schemas.openxmlformats.org/drawingml/2006/table">
            <a:tbl>
              <a:tblPr/>
              <a:tblGrid>
                <a:gridCol w="2711160"/>
                <a:gridCol w="2711520"/>
                <a:gridCol w="2711520"/>
              </a:tblGrid>
              <a:tr h="17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, - K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linické vyšetře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- K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 každý den ústavní péč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,- K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hotovo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ktický léka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tavní péč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dborný léka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ázeňská péč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ubní léka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dborná léčeb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dání léčivého příprav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zdravov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Regulační poplatky hrad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ištěnec či jeho zákonný zástup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cienti čerpající zdravotní péč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izin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imit 5000,- Kč za r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platek – nárok na vrác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dravotní pojištění v ČR a v EU - osnov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klad základních poj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 koordinace v Evropské un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slušnost k právním předpisům zdravotního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nároků na zdravotní péči jednotlivých os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ministrativní postupy při provádění zdravotního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hrada nákladů zdravotní péč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vropský průkaz zdravotního pojiště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cné dávky – zdravotní pé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yčný orgán – Centrum mezistátních úhrad (zájmové sdružení právnických osob založené zdravotními pojišťovnami – institucionálně zajišťuje provádění mezinárodních smluv o sociálním zabezpečení v oblasti veřejného zdravotního pojištění a zastřešuje zdravotní pojišťovny při styku s cizino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petentní příslušná instituce – u které je osoba pojiště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pomocná instituce – v místě pobytu či bydliště Evropský průkaz zdravotního pojiště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496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utná a neodkladná zdravotní péče – nesnese odkladu po dobu návratu do země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ařsky nezbytná péče – v rozsahu, aby se nemusel pojištěnec vracet na území státu pojištění dříve než zamýšl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ná zdravotní péče – péče, na kterou má nárok český pojiště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žádaná péče – pacient za jejím poskytnutím se souhlasem zdravotní pojišťovny vycest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E - formulář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ktické provádění koordinačních nařízení a zajištění rychlé a účinné komunikace mezi institucemi sociálního zabezpeč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všech oficiálních jazycích E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y podle oblast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Řady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100 – zdravotní péče, vysílání pracovní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ávky v nemoci a mateř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200, 500 - důch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300 - nezaměstna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400 – dávky rodin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600 – dávky nepříspěvkov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Příslušnost k právním předpisům zdravotního pojištění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351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rodní předpisy jsou beze změ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ordinace nahrazuje národní pravidla, která jsou pro migrujícího pracovníka nebo osobu samostatně výdělečně činnou nevýhodn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princip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) Každý je pojištěn v jednom stá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) Princip </a:t>
            </a:r>
            <a:r>
              <a:rPr b="0" lang="cs-CZ" sz="2800" spc="-1" strike="noStrike" u="sng">
                <a:solidFill>
                  <a:srgbClr val="ff0033"/>
                </a:solidFill>
                <a:uFillTx/>
                <a:latin typeface="Times New Roman"/>
              </a:rPr>
              <a:t>„lex loci laboris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ávo místa výkonu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) Nezaopatření rodinní příslušníci jsou pojištění spolu s pracovníkem – mohou bydlet v jiném státě než je stát pojištění, kde jsou registrování s pracovníkem na základě formuláře E106 nebo samostatně E 1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) Neaktivní osoby podléhají právním předpisům země svého bydliště – prokázat, že má skutečné bydliště v 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Zdravotní pojištění </a:t>
            </a: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a zdravot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ní úprava, vazby a význ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Rodinní příslušníc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nní příslušníci bez trvalého pobytu v ČR, bydlící v ČR spolu s pracovníkem – pojištění v ČR spolu s pracovníkem za stejných podmínek jako ostatní čeští pracovníci včetně povinnosti platit pojistné v případě, že jde o osobu bez zdanitelných příj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na (oprávněná osoba a osoby s ní společně posuzované - § 7), manželé, partneři nebo druh a družka, nezaopatřené dítě (§11) dle zákona o státní sociální podpoře – z. č. 117/1995 Sb.,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laní pracovníci, osoby samostatně výdělečně činné – očekávané trvání práce nepřevyšuje 12 měsíc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, že nadále podléhá právním předpisům vysílajícího státu – formulář E 101 vystavený kompetentní institucí – v ČR v oblasti nemocenského pojištění vystavuje Česká s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iplomaté, osoby zaměstnané na diplomatických misích a konzulárních úřadech, státní příslušníci vysílajícího stá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Samostatná výdělečná činnost ve více státech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aná osoba – pojištěna v místě, kde pracuje a zároveň v místě bydliště nebo v místě sídl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SVČ – v místě, kde bydlí a vykonává alespoň část své činnosti, výj. je-li zároveň zaměstnána v jiném členském státě, nadále podléhá právním předpisům obou 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zinárodní doprava – dle sídla podniku zaregistrovaného ústředí, pokud však vykonává činnost v jiném státě ve kterém zároveň bydlí, je pojištěn v tomto stá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Administrativní postupy při provádění zdravotní péč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tvrzení o registra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u zvolené české pojišťovny - je v něm uvedeno, na jakou péči má pojištěnec nárok a která zdravotní pojišťovna ponese náklady – nárok na nezbytnou zdravot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turisti, vyslaní pracovníci, studenti, uchazeči o zaměstnání pobývající přechodně v 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izí pojištěnci a jejich nezaopatření rodinní příslušníci bydlící na území ČR – nárok na plnou zdravot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izí pojištěnci – vycestovali za konkrétní péčí do Č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Evropský průkaz zdravotní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ékařsky nezbytná zdravotní péče s přihlédnutím k povaze dávek a předpokládané délce trvání poby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lba české smluvní pojišťov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ormulář E 112 – opravňuje k poskytnutí specifické péče cizímu pojištěnci, který do ČR za tímto účelem vycestoval se souhlasem příslušné zdravotní pojišťov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překročí-li hodnota péče 1000,- EUR, lze poskytnout zdravotní péči i přes předchozí konzultace s příslušnou zvolenou zdravotní pojišťov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stup lékáre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izí pojištěnec – českým zdravotnickým zařízením předepsán léčivý přípravek, bude uhrazen českou zdravotní pojišťovnou do výše dané českými cenami, platí stejnou částku spoluúča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azuje se Potvrzením o registraci nebo potvrzením o nároku nebo Evropským zdravotním průkaz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stup záchranné zdravotnické služb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voz záchrannou službou – na účet zdravotní pojišťov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mbulantní ošetření v rámci výjezdu – předložení dokladu o nároku na zdravotní péči v ČR, jinak platba v hotov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ecká záchranná zdravotnická služba – předložení dokladu o nároku na zdravotní péči v ČR – na účet Ministerstva zdravotnic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tvrzení pracovní neschopn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taví ošetřující léka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ormulář E 1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ormulář E 213 pro účely přiznání invalidního důchodu  - podrobná lékařská z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razeno jako specifický zdravotní výk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Mezistátní úhrady za zdravotní péč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latba za péči - Formulář E 1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radí česká zdravotní pojišťovna prostřednictvím Centra mezinárodních úhrad recipročně v termínech odpovídajících termínům úhrad z jednotlivých zem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aušální platby za péči – Formulář E 127 poskytnuta našim pojištěncům na území států Evropské unie, Evropského hospodářského prostoru a Švýcarska (rodinní příslušníci či důchodci zaregistrovaní v zahraničí na základě formulářů E 121 nebo E 1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ůměrné náklady na zdravotní péč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otčené skupiny osob v dané zemi vynásobené počtem zaregistrovaných osob a měsíců pobytu u nás, po něž nesla náklady na jejich péči česká zdravotní pojišťovna – zpracuje každoročně Ministerstvo zdravotnictví ČR ve spolupráci s Centrem mezinárodních úhrad – vychází v Úředním věstníku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Úhrada zdravotní péče v hotov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schova účtů, po návratu se lze obrátit s jejich originály na pobočku české zdravotní pojišťovny – proplatí do výše, kterou by uhradila instituce ve státě, kde ošetření proběh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přesáhne-li částka 1000,- EUR, může český pojištěnec požádat svou českou zdravotní pojišťovnu o proplacení účtu do výše českých tarif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číslení provádí revizní lékař příslušné české pojišťov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569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Rady EHS 1408/71 o aplikaci soustav sociálního zabezpečení a osoby zaměstnané, samostatně výdělečně činné a jejich rodinné příslušníky pohybující se v rámci Společen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Spoluúčas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inanční částka, která nebude zdravotní pojišťovnou refundová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formace o nároku na zdravotní péči podá příslušná zdravotní pojišťovna v dané zem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. Němec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á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ranc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ěmeck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51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soby do 18 let nehradí žádnou spoluúčast za léky, obvazové materiály, léčebné prostředky a nemocniční ošetřen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ařské ošetření – 10 EUR za čtvrt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y a obvazový materiál – 10% ceny, min. 5 EUR, max. 10 E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ické prostředky – 10% ze stanovené ceny, 10 EUR za před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niční péče – 10 EUR za den po dobu max. 28 dní v kalendářním ro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pandler, bydlící v Aši a pracující v Hofu, má nárok na plnou zdravotní péči v ČR i v Německu. Jeho nezaopatření rodinní příslušníci mají nárok na plnou péči pouze v ČR, kde bydlí. V SRN a i jakémkoli jiném členském státně mají nárok pouze na nutnou a neodkladnou péči. Náklady nese německá nemocenská poklad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nezaměstnaný, registrovaný na českém úřadu práce se rozhodne ucházet o zaměstnání v SRN, kde se po příjezdu zaregistruje na pracovním úřa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292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Franci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351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mbulantní ošetření je nutno uhradit v hotovosti – lékař vystaví tzv. Potvrzení o ošetření, s průkazem/potvrzením o registraci a s účtem se lze obrátit na nejbližší pobočku místního nositele zdravotního pojišt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ktický lékař – 21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ékař specialista – 25 – 37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uvní ce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poluúča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ékařské ošetření – 30% nákladů + 1 EUR za návště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 laboratorní testy – 40% nákladů + 1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léky – 65% nákladů za léky s modrou etiketou, 85% s oranžovou, 35% s bílou, 0% za nezbytné nutné léky s přeškrtnutou bílou etiket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 nemocniční péče – hospitalizační paušál 16 EUR/den za stravu nebo 20% nákladů po dobu max. 30 d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turista utrpěl zranění na francouzské Riviéře a byl na doporučení lékaře hospitalizován v nemocnici v Nice na dobu 10 dnů. Jako spoluúčast bude hradit 20% všech nákladů nebo 10,67 EUR za den, tj. 106,70 EUR za celý poby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čan má nárok na zdravotní péči na účet své zdravotní pojišťovny jako místní pojištění občan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629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Itáli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351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ařské ošetření – spoluúčast až 36,15 EUR za návště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éky – spoluúčast až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turista, který musel být ošetřen v Itálii, zde s sebou neměl příslušný průkaz zdravotního pojištění a musel zaplatit lékaři v hotovosti.  Po návratu do ČR požádal svou českou zdravotní pojišťovnu o refundaci těchto nákladů. Ta mu vrátí částku, kterou by za péči uhradila italské nemocenské poklad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ch zaměstnaný v Linci, ale nadále bydlící s rodinou v Dolním Dvořišti má spolu se svými nezaopatřenými rodinnými příslušníky nárok na plnou zdravotní péči v Rakousku i v ČR na účet rakouské nemocenské pokladn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důchodce, který se přestěhoval do Portugalska má v tomto  státě i se svými nezaopatřenými rodinnými příslušníky nárok na plnou zdravotní péči na účet své české zdravotní pojišťovny. Pokud by však měl nárok na důchod i v zemi, kam se přestěhoval, ponese náklady na zdravotní péči nový stát bydliš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Sociální zabezpečení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Sociální po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jistné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důchodov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příspěvek na státní politiku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V. 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. 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covník, který pracoval v ČR, kde požádal o důchod, bydlící v Řecku. Po přiznání nároku na důchod přechází do kategorie důchodc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žel pracuje a bydlí v ČR, ale jeho nezaopatřená manželka a dítě bydlí v Estonsku. Nezaopatřená manželka i dítě mají nárok na plnou zdravotní péči v Estonsku na účet české zdravotní pojišťovny pracovník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eský pojištěnec je vážně nemocný a potřebuje zdravotní péči, která je se v ČR neprová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ČR pracuje Polák, který zde onemocněl a chce se léčit dom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pakování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é pojm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osobní rozsah veřejného zdravotního pojišt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jištěnec, práva a povinnosti plátc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léčebná péče, preventivní péče, lázeňská péče, závodní preventivní péče (pracovnělékařská péč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udková 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ázk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. Co se hradí ze všeobecného zdravotního pojištění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. Popište systém zdravotních pojišťo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. K čemu slouží zajišťovací fon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. Popište problematiku sítě smluvních zdravotnických zaříz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Účel zdravotního pojištění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řejné zdravotní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ruhem zákonného pojištění, na jehož základě je hrazena zdravotní péče poskytnutá pojištěnci – z. č. 48/1997 Sb., o veřejném zdravotním pojiště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chodné poby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ékařské ošetření na území jiného členského st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žádan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134200" cy="18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Účel pojistného na sociální pojištění </a:t>
            </a:r>
            <a:br>
              <a:rPr sz="3600"/>
            </a:b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a pojistného na zdravotní pojiště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kruh započitatelných příjmů je pro oba systémy jednotn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I. Sociální pojištění – na účet okresních správ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Pojistné na sociáln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štění je určeno na úhradu výdajů 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 dávky nemocenského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) dávky důchodového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) státní politika zaměstnanosti – podpora v nezaměstnanosti, provádění nemocenského a důchodového pojištění (správní výdaj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enále ve výši 0,05% z neplacené částky za každý kalendářní den prodlení, promlčení po 10 letech ode dne splat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II. Zdravotní pojištění – na účet příslušné zdravotní pojišťov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řejné zdravotní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ruhem zákonného pojištění, na jehož základě je hrazena zdravotní péče poskytnutá pojištěnc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ankcí za neplacení pojistného nebo nesprávně zaplacené pojistné v nižší výši, resp. za pozdní placení, je ze zákona penalizace ve výši 0,05% z  neplacené částky za každý kalendářní den prodlení, pojistné se  promlčuje za 5 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látci pojistného zdravotního pojištění,            z. č. 48/1997 Sb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 4 – pojištěnci dle § 5, zaměstnavatelé, stá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štěnec – zaměstnanec v pracovním poměru a zaměstnanci činí na základě dohody o pracovní činnosti, osoba samostatně výdělečně činná, osoba               s trvalým pobytem na území ČR po celý kalendářní r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hradí pojistné za nezaopatřené děti, poživatele důchodů z důchodového pojištění, příjemce rodičovského příspěvku, ženy na mateřské a rodičovské dovolené, uchazeče o zaměstnání, osoby pobírající dávky sociální péče (nově pomoci v hmotné nouzi a osoby s nimi společně posuzované ), osoby převážně nebo úplně bezmocné (závislé na péči jiné osoby ve stupni II nebo III nebo IV a osoby pečující o tyto osoby - § 8 zákona o sociálních službách), osoby          v základní (náhradní) službě v ozbrojených silách a vojenské či civilní službě, osoby ve vazbě nebo ve výkonu trestu, osoby plně invalidní nebo                      v důchodovém věku nesplňující podmínky pro přiznání důchodů, osoby celodenně osobně a řádně pečující alespoň o 1 dítě do 7 let věku nebo o 2 děti do 15 let, mladistvé, dobrovolníky, cizince dočasně pod ochranou ČR                a žadatele o azyl a jeho děti narozené na území Č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jistné na zdravotní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DRAVOTNÍ POJIŠTĚNÍ je v ČR je podle zákona o pojistném na všeobecné zdravotní pojištění, z. č. 592/1992 Sb., ve znění pozdějších předpisů, povinné pr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 všechny osoby, které mají trvalý pobyt na území ČR (bez ohledu na státní občanstv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) pro osoby, které na území ČR trvalý pobyt nemají, pokud jsou zaměstnanci zaměstnavatele, který má sídlo na území ČR a pracovněprávní vztah je uzavřen podle právních předpisů Č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e zdravotního pojištění jsou vyňa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 osoby, které nemají na území ČR trvalý pobyt a jsou činny pro zaměstnavate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teří požívají diplomatických výhod a imunit, neb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teří nemají sídlo na území ČR, neb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jichž pracovněprávní vztah je uzavřen podle cizích právn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) osoby, které pobývají dlouhodobě a nepřetržitě v cizině (nejméně 6 měsíců), jsou v cizině zdravotně pojištěny a učinily o této skutečnosti u zdravotní pojišťovny písemné prohlášení a neplatí pojistné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PC</cp:lastModifiedBy>
  <dcterms:modified xsi:type="dcterms:W3CDTF">2008-10-24T23:14:03Z</dcterms:modified>
  <cp:revision>198</cp:revision>
  <dc:subject/>
  <dc:title>Úvod do práva sociálního zabezpečení  Právo sociálního zabezpečení pro podnikatele                             a zaměstnavatele</dc:title>
</cp:coreProperties>
</file>