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67AE-B6CB-42BB-A3B3-FE3E954B133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Zdravotní pojištění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oskytuje Všeobecná zdravotní pojišťovna ČR a řada dalších zaměstnaneckých zdravotních pojišťoven jako například Pojišťovna ministerstva vnitra ap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Zdravotní pojištění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oskytuje Všeobecná zdravotní pojišťovna ČR a řada dalších zaměstnaneckých zdravotních pojišťoven jako například Pojišťovna ministerstva vnitra ap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Zdravotní pojištění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oskytuje Všeobecná zdravotní pojišťovna ČR a řada dalších zaměstnaneckých zdravotních pojišťoven jako například Pojišťovna ministerstva vnitra ap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Zdravotní pojištění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oskytuje Všeobecná zdravotní pojišťovna ČR a řada dalších zaměstnaneckých zdravotních pojišťoven jako například Pojišťovna ministerstva vnitra ap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Zdravotní pojištění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oskytuje Všeobecná zdravotní pojišťovna ČR a řada dalších zaměstnaneckých zdravotních pojišťoven jako například Pojišťovna ministerstva vnitra ap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Zdravotní pojištění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oskytuje Všeobecná zdravotní pojišťovna ČR a řada dalších zaměstnaneckých zdravotních pojišťoven jako například Pojišťovna ministerstva vnitra ap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Zdravotní pojištění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oskytuje Všeobecná zdravotní pojišťovna ČR a řada dalších zaměstnaneckých zdravotních pojišťoven jako například Pojišťovna ministerstva vnitra ap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Zdravotní pojištění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oskytuje Všeobecná zdravotní pojišťovna ČR a řada dalších zaměstnaneckých zdravotních pojišťoven jako například Pojišťovna ministerstva vnitra ap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Zdravotní pojištění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oskytuje Všeobecná zdravotní pojišťovna ČR a řada dalších zaměstnaneckých zdravotních pojišťoven jako například Pojišťovna ministerstva vnitra ap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538-89CC-4017-9C27-8AEBB2C9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9BF0-8C85-426C-AE3D-AE69A9F1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8E0-F42B-448E-A593-CC077EB3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752A-7F27-46DB-BEB2-CFAA1EE4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8DFC-FDC6-4CAE-BC09-29CD907D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D3DF-4D2E-4FC9-911B-BDFA0603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E71A-E7DC-4F37-81D4-BBC99FDB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19D9-392F-477C-B387-4F54C614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CC13-AF42-4B42-87B5-68680D45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E1EB-0E47-43B1-BB4A-5EA8E23C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9EC5-6385-4158-9831-4A2AC976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174-21CE-45B3-A3D3-BF13F46D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B14C-297F-4BEC-86E6-9FFED665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B0EA-BCAE-4FBA-9EE1-DAB2A364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2EF8-8C34-4ACB-B36E-CF31BB17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70E5-2F49-4C3E-AAB9-2CFD9C8E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3EC7-2559-4C33-A3C9-2DBB698E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ACBB-9157-44E2-B691-A07C469C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1A8-0748-4336-BD09-08C5FBCB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565-C0B1-4AB6-B637-ADECF59A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F82-B49A-42C7-85E8-DDE04104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BF96-B1FB-4A65-9594-9C0A2DB5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BC30-3D15-4325-9728-029C0023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9D4C-6214-4BDA-B680-7E7124D9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D883-4EE7-4641-A835-A8A0BA0F0A3E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042B-C7B0-453A-B490-BD92E550F0E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http://www.sweb.cz/ilda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209080" cy="441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Úvod do práva sociálního zabezpečení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rávo sociálního zabezpečení pro podnikatele a zaměstnavatele</a:t>
            </a:r>
            <a:br>
              <a:rPr sz="4000"/>
            </a:br>
            <a:br>
              <a:rPr sz="40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soká škola Karlovy Vary, o. p. s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0920" y="4941720"/>
            <a:ext cx="756108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i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lda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www.sweb.cz/il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06292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ojistné na zdravotní pojiště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3516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§ 3 zákona o pojistném na všeobecné zdravotní pojištění, z. č. 592/1992 Sb.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platníky jsou zaměstnavatelé, pojištěnci a stá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o určení výše pojistného se vychází z vyměřovacího základu zjištěného za rozhodné období – zpravidla jednoměsíční, u OSVČ jeden r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azby: Organizace 9%, Zaměstnanci 4,5%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elkem 13,5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inimální vyměřovací základ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zaměstnan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činí částku odpovídající minimální mzdě, dle n. v. č. 567/2006 Sb., od 1. 1. 2007 je to 8 000,- Kč, tj. 1080,- Kč na pojistné (platí rovněž pr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soby bez zdanitelných příjmů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kud je nižší, je zaměstnanec povinen doplatit zdravotní pojišťovně prostřednictvím svého zaměstnavatele pojistné ve výši 13,5 % z rozdílu těchto základů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-li vyměřovací základ nižší z důvodů překážek na straně zaměstnavatele, je tento rozdíl povinen doplatit zaměstnavate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062920" cy="6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ojistné na zdravotní pojiště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še pojistného zaměstnance činí 13,5% z vyměřovacího základ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 zaměstnance odvádí pojistné zaměstnavatel, který srazí ze mzdy 1/3 této částky, zbývající 2/3 uhradí zaměstnavatel ze svých prostředků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jistné je splatné v den, který je určen pro výplatu mezd za příslušný kalendářní měsíc, nejpozději do 8 dnů po uplynutí kalendářního měsíce, za nějž se pojistné odvád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ozhodné období – kalendářní měsíc, za který se pojistné plat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ehled o platbách jsou zaměstnavatelé povinni předávat současně s platbou všem zdravotním pojišťovnám, u kterých jsou pojištění jejich zaměstnanc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znamovací povinnost – hromadné oznámení zaměstnavate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Minimální vyměřovací základ zaměstnanců pro pojistné na zdravotní pojištění není určen pro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3516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sobu, za kterou platí pojistné stá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sobu s těžkým tělesným, smyslovým nebo mentálním postižením, které se poskytují mimořádné výhody II. nebo III. stupně podle předpisů o sociálním zabezpeče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sobu, která dosáhla věku potřebného pro nárok na starobní důchod, avšak nesplňuje další podmínky pro jeho přizn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sobu, která celodenně, osobně a řádně pečuje alespoň o 1 dítě do 7 let věku nebo nejméně o 2 děti do 15 let vě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sobu, která současně vedle zaměstnání vykonává samostatnou výdělečnou činnost a odvádí z ní měsíčně zálohy na pojistné vypočtené alespoň z minimálního vyměřovacího základ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Zaměstnanci zaměstnavatele zaměstnávajícího osoby se zdravotním postižením - vyměřovací základ pro odvod zdravotního pojištění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2491920"/>
            <a:ext cx="83516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nci, který je poživatelem invalidního nebo částečného invalidního důchodu a který je zaměstnán u zaměstnavatele, který zaměstnává více než 50% osob se zdravotním postižením z celkového průměrného přepočteného počtu svých zaměstnanc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de o částku přesahující částku, která je vyměřovacím základem u osoby, za kterou je plátcem pojistného stá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ěsíčně pojistné je odváděno ve výši 680,- Kč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Částka činí 5035,- Kč (25% průměrné měsíční mzdy stanovené pro účely důchodového pojištění, dle nařízení vlády č. 462/2006 Sb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Odvod zdravotního pojištění OSVČ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SVČ je povinna do 8 dnů ohlásit příslušné zdravotní pojišťovně zahájení/ukončení samostatné výdělečné činnosti, lze přímo na živnostenském úřadě (CRM podnikatel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lohy na zdravotní pojiště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hled o příjmech a výdajích ze samostatné výdělečné činnosti a úhrnu záloh na pojistné je potřeba podat zdravotní pojišťovně do 8 dnů po podání daňového přiznání za předchozí zdaňovací obdob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Odvod zdravotního pojištění OSVČ – vyměřovací zákla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% příjmů po odpočtu výdajů vynaložených na jejich dosažení, zajištění a udržení podle zákona o daních z příjm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aximální roční vyměřovací základ je určen částkou 486000,- Kč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aximální měsíční záloha je 13,5 % z 1/12 maximálního vyměřovacího základu, tj. 5468,-K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inimální roční vyměřovací základ je 12ti násobek průměrné měsíční mzdy v národním hospodářství, n. v. č. 462/2006 S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inimální vyměřovací základ OSVČ – 10069,50 Kč a minimální měsíční záloha na pojistné činí 1360,- K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Zálohy nemusí platit OSVČ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 která je současně zaměstnancem a zaměstnání je hlavním zdrojem příjmu a samostatná výdělečná činnost pouze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edlejším zdrojem příjmů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Tato osoba je povinna zaplatit pojistné za celý rok do 8 dnů ode dne, kdy bylo podáno daňové přiznání, nejpozději do 8. 4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Zdravotní pojišťovny a hrazená péče, z. č. 48/1997 Sb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§ 11 výběr – 1x za 12 měsíců k 1. kalendářnímu čtvrtlet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§ 13 hrazená péče k zachování a zlepšení zdravotního stavu pojiště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mbulantní péč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hotovostní a záchranná služ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eventivní péč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ispenzární péč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ázeňská péč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vodní preventivní péče - § 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šeobecná zdravotní pojišťovna - § 40 odst. 1 a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esortní, oborové, podnikové, další pojišťovny - § 40 odst. 1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evizní lékaři - § 4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696080" cy="38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Hrazená péče – naturální dávky v nemoci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907560"/>
            <a:ext cx="86104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éčebná péče ambulantní/medical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registrující ošetřující lékař: primární, specializovaná péče pro určitý zdravotní stav, zvláštní – domácí péče, stacionáře, ústav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ústavní péče – nemocnice, léčebné ústav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hotovostní péč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ispenzární péče – soustavná péče o děti do 1 roku, těhotné, ohrožení nebo trpící závažnými nemoce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kytování léků, zdravotnických pomůcek a stomatologických výrobk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ázeňská péč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vodní preventivní péč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prava nemocných a zemřelý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udková čin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ohlídky zemřelých a zdravotní pit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696080" cy="38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Nehrazená péče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907560"/>
            <a:ext cx="86104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šetření a prohlídky v osobním zájmu nebo na žádost právnických oso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vstupní a výstupní prohlídky do zaměstn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prohlídky pro získání zbrojního pasu, řidičského průkaz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hlídky a vyšetření na žádost soudů, státního zastupitelství, Policie ČR, OSSZ nebo jiného orgánu státní správy (znalecké posudky, odborná vyšetření apo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696080" cy="38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Náležitost žádosti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907560"/>
            <a:ext cx="86104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stní požadavek – primární péče registrujícího lékař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ecializovaná péče – „Průvodní list“, „Poukaz k vyšetření/ošetření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éky – na rece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Žádanky na převo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chranná péče – telefonic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ázeňská péče – „Návrh na lázeňskou péči“ – vyplňuje ošetřující lékař a schvaluje  revizní lékař zdravotní pojišťov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Přehled výuky 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vod do práva sociálního zabezpečení, pojem, předmět, systém a prameny práva sociálního zabezpečení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v ČR a v E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jistné na sociální zabezpečení a příspěvek na státní politiku zaměstnan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ho pojištění -  právní úprava, vazby, význ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ůchodového pojištění – právní úprava, vazby a význ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Zdravotnictví a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zdravotní pojištění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átní sociální podpora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ální pomo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lady práva sociálního zabezpečení v E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696080" cy="38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Řízení o dávc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907560"/>
            <a:ext cx="86104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vztahuje se správní řá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Žádost o přezkoumání rozhodnutí či opatření lékaře lze uplatnit u vedoucího zdravotnického zaříz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dvolání – krajský úřad (zdravotní rada) nebo přímo na Ministerstvo zdravotnictví ČR, je-li zřizovatelem (např. fakultní  nemocnice). Pak se uplatní správní řízení jako u placení pojistnéh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mlčení nároku – platnost receptu (1 den z pohotovosti, 3 dny antibiotika, ostatní léky 7 dn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ukaz na prostředky zdravotní techniky platí obvykle 1 měsí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vévolné nenastoupení k lázeňské péči – promlčení, předepsání vzniklé škody k úhrad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Rozhodování podle z. č. 48/1997 Sb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419120"/>
            <a:ext cx="861048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kuty - § 4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irážky k pojistnému - § 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ozhodování zdravotních pojišťoven o přirážkách, pokutách, pravděpodobné výši pojistného a ve sporných případech o placení pojistného, vracení přeplatku na pojistném a snížení záloh na pojistné se řídí obecnými předpisy o správním řízení, z. č. 500/2004 Sb., správní řá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latební výměr - § 53 odst. 1 – je vykonatelný bez ohledu na právní moc, jestliže od jeho doručení uplynulo 15 dnů, rozhodnutí je přezkoumatelné soude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kaz nedoplatků - § 53 odst. 2 – vykonatelný dnem doručení – proti němu lze podat do 8 dnů od doručení písemné námitky, zdravotní pojišťovna do 30 dnů vydá rozhodnutí, proti kterému se lze odvolat k rozhodčímu orgánu zdravotní pojišťovn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ajišťovací fond - § 22a z. č. 280/1992 Sb., o resortních, oborových, podnikových a dalších zrdravotních pojišťovnách – k úhradě zdravotní péče poskytnuté zdravotnickými zařízeními pojištěncům likvidované zaměstnanecké pojišťovny, roční příspěvek činí 0,5 % průměrných ročních výdajů základního fondu pojišťovny, do 31. ledna zaplatit za předchozí kal. Ro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Úhrada zdravotní péč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. č. 261/2007 Sb., o stabilizaci veřejných rozpočtů, kterým se mění zákon č. 48/1997 Sb., o veřejném zdravotním pojištění, v platném znění, s účinností od 1. 1. 200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gulační poplat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imity regulačních poplat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platky na léčivé přípravky nebo potraviny pro zvláštní lékařské úč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Regulační poplatek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24000" y="1125360"/>
          <a:ext cx="8134200" cy="5407200"/>
        </p:xfrm>
        <a:graphic>
          <a:graphicData uri="http://schemas.openxmlformats.org/drawingml/2006/table">
            <a:tbl>
              <a:tblPr/>
              <a:tblGrid>
                <a:gridCol w="2711160"/>
                <a:gridCol w="2711520"/>
                <a:gridCol w="2711520"/>
              </a:tblGrid>
              <a:tr h="17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, - Kč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linické vyšetřen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,- Kč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 každý den ústavní péč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,- Kč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hotovo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ktický léka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Ústavní péč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dborný léka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ázeňská péč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ubní léka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dborná léčeb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ydání léčivého přípravk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zdravov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Regulační poplatky hradí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jištěnec či jeho zákonný zástup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cienti čerpající zdravotní péč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izin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imit 5000,- Kč za r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platek – nárok na vrác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Zdravotní pojištění v ČR a v EU - osnov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klad základních pojm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lad koordinace v Evropské un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slušnost k právním předpisům zdravotního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hled nároků na zdravotní péči jednotlivých oso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dministrativní postupy při provádění zdravotního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hrada nákladů zdravotní péč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06292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Základní pojmy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vropský průkaz zdravotního pojiště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ěcné dávky – zdravotní péč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yčný orgán – Centrum mezistátních úhrad (zájmové sdružení právnických osob založené zdravotními pojišťovnami – institucionálně zajišťuje provádění mezinárodních smluv o sociálním zabezpečení v oblasti veřejného zdravotního pojištění a zastřešuje zdravotní pojišťovny při styku s cizino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petentní příslušná instituce – u které je osoba pojiště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pomocná instituce – v místě pobytu či bydliště Evropský průkaz zdravotního pojiště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06292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Základní pojmy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4963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utná a neodkladná zdravotní péče – nesnese odkladu po dobu návratu do země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ékařsky nezbytná péče – v rozsahu, aby se nemusel pojištěnec vracet na území státu pojištění dříve než zamýšl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ná zdravotní péče – péče, na kterou má nárok český pojištěn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žádaná péče – pacient za jejím poskytnutím se souhlasem zdravotní pojišťovny vycesto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06292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E - formulář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351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ktické provádění koordinačních nařízení a zajištění rychlé a účinné komunikace mezi institucemi sociálního zabezpeč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 všech oficiálních jazycích E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děleny podle oblast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Řady: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 100 – zdravotní péče, vysílání pracovník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dávky v nemoci a mateřstv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 200, 500 - důch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 300 - nezaměstna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 400 – dávky rodinn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 600 – dávky nepříspěvkov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062920" cy="4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Příslušnost k právním předpisům zdravotního pojištění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351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árodní předpisy jsou beze změ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ordinace nahrazuje národní pravidla, která jsou pro migrujícího pracovníka nebo osobu samostatně výdělečně činnou nevýhodn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ladní princip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) Každý je pojištěn v jednom stá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) Princip </a:t>
            </a:r>
            <a:r>
              <a:rPr b="0" lang="cs-CZ" sz="2800" spc="-1" strike="noStrike" u="sng">
                <a:solidFill>
                  <a:srgbClr val="ff0033"/>
                </a:solidFill>
                <a:uFillTx/>
                <a:latin typeface="Times New Roman"/>
              </a:rPr>
              <a:t>„lex loci laboris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rávo místa výkonu prá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) Nezaopatření rodinní příslušníci jsou pojištění spolu s pracovníkem – mohou bydlet v jiném státě než je stát pojištění, kde jsou registrování s pracovníkem na základě formuláře E106 nebo samostatně E 1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) Neaktivní osoby podléhají právním předpisům země svého bydliště – prokázat, že má skutečné bydliště v Č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Zdravotní pojištění </a:t>
            </a:r>
            <a:br>
              <a:rPr sz="4400"/>
            </a:b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a zdravotní péč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414936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ní úprava, vazby a význ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062920" cy="2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Rodinní příslušníci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3516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dinní příslušníci bez trvalého pobytu v ČR, bydlící v ČR spolu s pracovníkem – pojištění v ČR spolu s pracovníkem za stejných podmínek jako ostatní čeští pracovníci včetně povinnosti platit pojistné v případě, že jde o osobu bez zdanitelných příjm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dina (oprávněná osoba a osoby s ní společně posuzované - § 7), manželé, partneři nebo druh a družka, nezaopatřené dítě (§11) dle zákona o státní sociální podpoře – z. č. 117/1995 Sb., v 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062920" cy="2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Výjimky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3516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laní pracovníci, osoby samostatně výdělečně činné – očekávané trvání práce nepřevyšuje 12 měsíc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zení, že nadále podléhá právním předpisům vysílajícího státu – formulář E 101 vystavený kompetentní institucí – v ČR v oblasti nemocenského pojištění vystavuje Česká správa sociálního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iplomaté, osoby zaměstnané na diplomatických misích a konzulárních úřadech, státní příslušníci vysílajícího stá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062920" cy="2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Samostatná výdělečná činnost ve více státech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3516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městnaná osoba – pojištěna v místě, kde pracuje a zároveň v místě bydliště nebo v místě sídla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SVČ – v místě, kde bydlí a vykonává alespoň část své činnosti, výj. je-li zároveň zaměstnána v jiném členském státě, nadále podléhá právním předpisům obou 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ezinárodní doprava – dle sídla podniku zaregistrovaného ústředí, pokud však vykonává činnost v jiném státě ve kterém zároveň bydlí, je pojištěn v tomto stá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06292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Administrativní postupy při provádění zdravotní péč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tvrzení o registra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u zvolené české pojišťovny - je v něm uvedeno, na jakou péči má pojištěnec nárok a která zdravotní pojišťovna ponese náklady – nárok na nezbytnou zdravotní péč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 turisti, vyslaní pracovníci, studenti, uchazeči o zaměstnání pobývající přechodně v Č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izí pojištěnci a jejich nezaopatření rodinní příslušníci bydlící na území ČR – nárok na plnou zdravotní péč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izí pojištěnci – vycestovali za konkrétní péčí do Č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Evropský průkaz zdravotního pojištění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ékařsky nezbytná zdravotní péče s přihlédnutím k povaze dávek a předpokládané délce trvání poby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olba české smluvní pojišťov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Formulář E 112 – opravňuje k poskytnutí specifické péče cizímu pojištěnci, který do ČR za tímto účelem vycestoval se souhlasem příslušné zdravotní pojišťov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překročí-li hodnota péče 1000,- EUR, lze poskytnout zdravotní péči i přes předchozí konzultace s příslušnou zvolenou zdravotní pojišťovn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062920" cy="4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ostup lékáre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351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izí pojištěnec – českým zdravotnickým zařízením předepsán léčivý přípravek, bude uhrazen českou zdravotní pojišťovnou do výše dané českými cenami, platí stejnou částku spoluúča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kazuje se Potvrzením o registraci nebo potvrzením o nároku nebo Evropským zdravotním průkaz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06292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ostup záchranné zdravotnické služby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351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voz záchrannou službou – na účet zdravotní pojišťov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mbulantní ošetření v rámci výjezdu – předložení dokladu o nároku na zdravotní péči v ČR, jinak platba v hotov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etecká záchranná zdravotnická služba – předložení dokladu o nároku na zdravotní péči v ČR – na účet Ministerstva zdravotnictv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otvrzení pracovní neschopnosti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taví ošetřující léka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Formulář E 1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Formulář E 213 pro účely přiznání invalidního důchodu  - podrobná lékařská zprá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razeno jako specifický zdravotní výk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Mezistátní úhrady za zdravotní péči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351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latba za péči - Formulář E 1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radí česká zdravotní pojišťovna prostřednictvím Centra mezinárodních úhrad recipročně v termínech odpovídajících termínům úhrad z jednotlivých zem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aušální platby za péči – Formulář E 127 poskytnuta našim pojištěncům na území států Evropské unie, Evropského hospodářského prostoru a Švýcarska (rodinní příslušníci či důchodci zaregistrovaní v zahraničí na základě formulářů E 121 nebo E 10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ůměrné náklady na zdravotní péč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dotčené skupiny osob v dané zemi vynásobené počtem zaregistrovaných osob a měsíců pobytu u nás, po něž nesla náklady na jejich péči česká zdravotní pojišťovna – zpracuje každoročně Ministerstvo zdravotnictví ČR ve spolupráci s Centrem mezinárodních úhrad – vychází v Úředním věstníku E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Úhrada zdravotní péče v hotovosti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351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schova účtů, po návratu se lze obrátit s jejich originály na pobočku české zdravotní pojišťovny – proplatí do výše, kterou by uhradila instituce ve státě, kde ošetření proběh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přesáhne-li částka 1000,- EUR, může český pojištěnec požádat svou českou zdravotní pojišťovnu o proplacení účtu do výše českých tarif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číslení provádí revizní lékař příslušné české pojišťov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rameny práva zdravotního pojištění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5694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Z – Zdravotní pojištění a zdravotní péč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on č. 48/1997 Sb., o veřejném zdravotním pojištění, v platném z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592/1992 Sb., o pojistném na všeobecné zdravotní pojištění, ve znění pozdějších právních předpis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551/1991 Sb., o Všeobecné zdravotní pojišťovně ČR, v platném z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280/1992 Sb., o resortních, oborových, podnikových a dalších zdravotních pojišťovnách, v platném z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řízení Rady EHS 1408/71 o aplikaci soustav sociálního zabezpečení a osoby zaměstnané, samostatně výdělečně činné a jejich rodinné příslušníky pohybující se v rámci Společenstv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06292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Spoluúčas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3516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Finanční částka, která nebude zdravotní pojišťovnou refundová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formace o nároku na zdravotní péči podá příslušná zdravotní pojišťovna v dané zem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. Německ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tál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Franci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06292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ěmeck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351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soby do 18 let nehradí žádnou spoluúčast za léky, obvazové materiály, léčebné prostředky a nemocniční ošetření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ékařské ošetření – 10 EUR za čtvrtle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éky a obvazový materiál – 10% ceny, min. 5 EUR, max. 10 E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dravotnické prostředky – 10% ze stanovené ceny, 10 EUR za předp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mocniční péče – 10 EUR za den po dobu max. 28 dní v kalendářním ro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říkla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eský pandler, bydlící v Aši a pracující v Hofu, má nárok na plnou zdravotní péči v ČR i v Německu. Jeho nezaopatření rodinní příslušníci mají nárok na plnou péči pouze v ČR, kde bydlí. V SRN a i jakémkoli jiném členském státně mají nárok pouze na nutnou a neodkladnou péči. Náklady nese německá nemocenská poklad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říkla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eský nezaměstnaný, registrovaný na českém úřadu práce se rozhodne ucházet o zaměstnání v SRN, kde se po příjezdu zaregistruje na pracovním úřad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6292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Franci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351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mbulantní ošetření je nutno uhradit v hotovosti – lékař vystaví tzv. Potvrzení o ošetření, s průkazem/potvrzením o registraci a s účtem se lze obrátit na nejbližší pobočku místního nositele zdravotního pojišt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aktický lékař – 21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ékař specialista – 25 – 37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uvní ce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poluúča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ékařské ošetření – 30% nákladů + 1 EUR za návštěv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 laboratorní testy – 40% nákladů + 1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léky – 65% nákladů za léky s modrou etiketou, 85% s oranžovou, 35% s bílou, 0% za nezbytné nutné léky s přeškrtnutou bílou etiket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 nemocniční péče – hospitalizační paušál 16 EUR/den za stravu nebo 20% nákladů po dobu max. 30 d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říkla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eský turista utrpěl zranění na francouzské Riviéře a byl na doporučení lékaře hospitalizován v nemocnici v Nice na dobu 10 dnů. Jako spoluúčast bude hradit 20% všech nákladů nebo 10,67 EUR za den, tj. 106,70 EUR za celý poby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čan má nárok na zdravotní péči na účet své zdravotní pojišťovny jako místní pojištění občan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6292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Itáli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351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ékařské ošetření – spoluúčast až 36,15 EUR za návštěv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éky – spoluúčast až 10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říkla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eský turista, který musel být ošetřen v Itálii, zde s sebou neměl příslušný průkaz zdravotního pojištění a musel zaplatit lékaři v hotovosti.  Po návratu do ČR požádal svou českou zdravotní pojišťovnu o refundaci těchto nákladů. Ta mu vrátí částku, kterou by za péči uhradila italské nemocenské pokladn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říkla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ech zaměstnaný v Linci, ale nadále bydlící s rodinou v Dolním Dvořišti má spolu se svými nezaopatřenými rodinnými příslušníky nárok na plnou zdravotní péči v Rakousku i v ČR na účet rakouské nemocenské pokladn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říkla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eský důchodce, který se přestěhoval do Portugalska má v tomto  státě i se svými nezaopatřenými rodinnými příslušníky nárok na plnou zdravotní péči na účet své české zdravotní pojišťovny. Pokud by však měl nárok na důchod i v zemi, kam se přestěhoval, ponese náklady na zdravotní péči nový stát bydlišt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Sociální zabezpečení v Č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cs-CZ" sz="3200" spc="-1" strike="noStrike">
                <a:solidFill>
                  <a:srgbClr val="ff0033"/>
                </a:solidFill>
                <a:latin typeface="Times New Roman"/>
              </a:rPr>
              <a:t>Sociální pojišt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jistné n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0" lang="cs-CZ" sz="3200" spc="-1" strike="noStrike">
                <a:solidFill>
                  <a:srgbClr val="ff0033"/>
                </a:solidFill>
                <a:latin typeface="Times New Roman"/>
              </a:rPr>
              <a:t>nemocenské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cs-CZ" sz="3200" spc="-1" strike="noStrike">
                <a:solidFill>
                  <a:srgbClr val="ff0033"/>
                </a:solidFill>
                <a:latin typeface="Times New Roman"/>
              </a:rPr>
              <a:t>důchodové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příspěvek na státní politiku 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0" lang="cs-CZ" sz="3200" spc="-1" strike="noStrike">
                <a:solidFill>
                  <a:srgbClr val="ff0033"/>
                </a:solidFill>
                <a:latin typeface="Times New Roman"/>
              </a:rPr>
              <a:t>Zdravot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V. Státní sociální podp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. Sociální pom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říkla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covník, který pracoval v ČR, kde požádal o důchod, bydlící v Řecku. Po přiznání nároku na důchod přechází do kategorie důchodc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říkla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anžel pracuje a bydlí v ČR, ale jeho nezaopatřená manželka a dítě bydlí v Estonsku. Nezaopatřená manželka i dítě mají nárok na plnou zdravotní péči v Estonsku na účet české zdravotní pojišťovny pracovník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říklady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eský pojištěnec je vážně nemocný a potřebuje zdravotní péči, která je se v ČR neprovádí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ČR pracuje Polák, který zde onemocněl a chce se léčit dom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pakování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íčové pojm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osobní rozsah veřejného zdravotního pojišt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pojištěnec, práva a povinnosti plátc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léčebná péče, preventivní péče, lázeňská péče, závodní preventivní péče (pracovnělékařská péč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udková čin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tázk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. Co se hradí ze všeobecného zdravotního pojištění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. Popište systém zdravotních pojišťov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. K čemu slouží zajišťovací fon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. Popište problematiku sítě smluvních zdravotnických zaříze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Účel zdravotního pojištění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Veřejné zdravotní pojiště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je druhem zákonného pojištění, na jehož základě je hrazena zdravotní péče poskytnutá pojištěnci – z. č. 48/1997 Sb., o veřejném zdravotním pojištěn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chodné poby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ékařské ošetření na území jiného členského stá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žádaná pé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134200" cy="18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Účel pojistného na sociální pojištění </a:t>
            </a:r>
            <a:br>
              <a:rPr sz="3600"/>
            </a:b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a pojistného na zdravotní pojištění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Okruh započitatelných příjmů je pro oba systémy jednotný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I. Sociální pojištění – na účet okresních správ sociálního zabezpe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Pojistné na sociální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jištění je určeno na úhradu výdajů n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) dávky nemocenského pojiště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b) dávky důchodového pojiště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c) státní politika zaměstnanosti – podpora v nezaměstnanosti, provádění nemocenského a důchodového pojištění (správní výdaj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Penále ve výši 0,05% z neplacené částky za každý kalendářní den prodlení, promlčení po 10 letech ode dne splatnos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II. Zdravotní pojištění – na účet příslušné zdravotní pojišťov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Veřejné zdravotní pojiště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je druhem zákonného pojištění, na jehož základě je hrazena zdravotní péče poskytnutá pojištěnc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Sankcí za neplacení pojistného nebo nesprávně zaplacené pojistné v nižší výši, resp. za pozdní placení, je ze zákona penalizace ve výši 0,05% z  neplacené částky za každý kalendářní den prodlení, pojistné se  promlčuje za 5 l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Plátci pojistného zdravotního pojištění,            z. č. 48/1997 Sb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§ 4 – pojištěnci dle § 5, zaměstnavatelé, stá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jištěnec – zaměstnanec v pracovním poměru a zaměstnanci činí na základě dohody o pracovní činnosti, osoba samostatně výdělečně činná, osoba               s trvalým pobytem na území ČR po celý kalendářní r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át hradí pojistné za nezaopatřené děti, poživatele důchodů z důchodového pojištění, příjemce rodičovského příspěvku, ženy na mateřské a rodičovské dovolené, uchazeče o zaměstnání, osoby pobírající dávky sociální péče (nově pomoci v hmotné nouzi a osoby s nimi společně posuzované ), osoby převážně nebo úplně bezmocné (závislé na péči jiné osoby ve stupni II nebo III nebo IV a osoby pečující o tyto osoby - § 8 zákona o sociálních službách), osoby          v základní (náhradní) službě v ozbrojených silách a vojenské či civilní službě, osoby ve vazbě nebo ve výkonu trestu, osoby plně invalidní nebo                      v důchodovém věku nesplňující podmínky pro přiznání důchodů, osoby celodenně osobně a řádně pečující alespoň o 1 dítě do 7 let věku nebo o 2 děti do 15 let, mladistvé, dobrovolníky, cizince dočasně pod ochranou ČR                a žadatele o azyl a jeho děti narozené na území Č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06292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ojistné na zdravotní pojiště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DRAVOTNÍ POJIŠTĚNÍ je v ČR je podle zákona o pojistném na všeobecné zdravotní pojištění, z. č. 592/1992 Sb., ve znění pozdějších předpisů, povinné pr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) všechny osoby, které mají trvalý pobyt na území ČR (bez ohledu na státní občanstv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b) pro osoby, které na území ČR trvalý pobyt nemají, pokud jsou zaměstnanci zaměstnavatele, který má sídlo na území ČR a pracovněprávní vztah je uzavřen podle právních předpisů Č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e zdravotního pojištění jsou vyňat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) osoby, které nemají na území ČR trvalý pobyt a jsou činny pro zaměstnavatel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teří požívají diplomatických výhod a imunit, neb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teří nemají sídlo na území ČR, neb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jichž pracovněprávní vztah je uzavřen podle cizích právních předpis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b) osoby, které pobývají dlouhodobě a nepřetržitě v cizině (nejméně 6 měsíců), jsou v cizině zdravotně pojištěny a učinily o této skutečnosti u zdravotní pojišťovny písemné prohlášení a neplatí pojistné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7:14:46Z</dcterms:created>
  <dc:creator>Ilona Kostadinovová</dc:creator>
  <dc:description/>
  <dc:language>en-US</dc:language>
  <cp:lastModifiedBy>PC</cp:lastModifiedBy>
  <dcterms:modified xsi:type="dcterms:W3CDTF">2008-10-24T23:14:03Z</dcterms:modified>
  <cp:revision>198</cp:revision>
  <dc:subject/>
  <dc:title>Úvod do práva sociálního zabezpečení  Právo sociálního zabezpečení pro podnikatele                             a zaměstnavatele</dc:title>
</cp:coreProperties>
</file>