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EC58-4D4B-416D-9A38-F3694C3052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ubjekt práv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fyzická nebo právnická osoba, které je adresována norma objektivního práva. Jde o možné účastníky právních vztah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by se subjekty práva (možní účastníci právních vztahů) staly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eálnými subjekty právních vztah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usí nezbytně přistoupit určitá právní skutečnost předpokládaná právní normou, která je nezbytnou podmínkou vzniku právního vztahu, tj. pracovní smlouva – volba – jmenová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alší subje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subjekty občanského práva, kterým pracovní právo přiznává určité nároky odvozené z pracovněprávního vztahu třetí osoby (rodinného příslušní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pozůstalých po zaměstnanci, který zemřel následkem  pracovního úrazu nebo nemoci z povol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na náhradu škody, která vznikla rodinným příslušníkům spolupracujícím při výkonu prací konaných na základě dohody o pracovní čin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roky rodinných příslušníků zemřelého zaměstnance podle ustanovení § 260 zákoníku práce – peněžité mzdové  nároky do výše odpovídající trojnásobku průměrného  měsíčního výdělku zemřelého zaměstnance přecházejí postupně na manžela, děti a rodiče, jestliže s ním žili v době ve společné domácnosti. Není-li těchto osob, stávají se předmětem dědictv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ojistné za zaměstnan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odvádí jeho zaměstnavatel ( organizace a malá organizac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povinen vypočítat výši pojistného za zaměstnance a strhnout je ze zaměstnancovy mzdy (platu – zákonná srážka ze mzdy – viz § 12 zák. č.1/1992 Sb. a § 18 zák. č. 143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e současně povinen vypočíst výši svého pojistnéh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lkové pojistné je potom 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alá 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ovinen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jistné odvádí v den, kter je určen jako výplatní termín za příslušný kalendářní měsí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ní-li tento den určen, je pojistné splatné nejpozději do 8 dnů po uplynutí kalendářního měsíce, za nějž se odvede (§ 10 zákona č. 589/1992 Sb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městnavatel jako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rganiza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povinen od vybraného pojistného odečíst úhrn vyplacených dávek nemocenského pojištění a zbytek odvést na účet příslušné správy sociálního zabezpeč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-li úhrn zúčtovaných dávek vyšší, požádá zaměstnavatel příslušnou správu sociálního zabezpečení o úhradu rozdílu (§ 9 zákona č. 589/1992 Sb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VČ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na důchodové pojištění a příspěvek na státní politiku zaměstnanosti formou záloh na pojistné a doplatku pojistného (§ 13 z. 589/1992 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soba dobrovolně účastná na důchodovém pojiště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latí pojistné za jednotlivé kalendářní měsí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azby pojistného jsou sou diferencovány podle jednotlivých poplatní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SV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praven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116-2EAF-4E94-BEC2-3CD352C5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B22-3BCD-4B06-908E-6EC72F46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7E0-2022-476C-8294-5993BBF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078-B383-4644-9824-BFAD69FC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BCD5-CCB7-43A4-AE97-090FF679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9EAB-FDD3-4554-BCD9-875664CE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85AC-DBC6-4353-97DE-83EF5B9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8ABE-4D00-4004-B836-D0024FEA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8A5A-CD26-4D4F-8096-57554D3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491C-33E7-4B17-B1ED-DA3FDD32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1C67-0982-4B8F-BB54-47DD2ED8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FD1-59E3-4C25-96D0-A4817BA8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B8A2-54CA-4B21-AA5F-A69211A6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2F0E-B050-4E30-AFB0-F45C3D9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04CF-CB2E-4805-AFD2-9606573F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AD3-A921-4CE6-A590-70071C04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22D-3BDD-4345-B5E4-862B5E6C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975-7658-489D-A253-635D9E4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A4C-1490-4897-B7CB-5C6D1A6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A8A-BD3E-446B-8E04-DA477750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FE7-AC64-4197-A511-6E177221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ADE-52EA-4EE1-AC15-91C6DF5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028-D386-4B33-AAE9-579FC83C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313-6DE4-4209-AC0E-4A066B78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6288-C13A-43BD-A404-6BA3C3E172A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20F-6854-4AA9-B7BE-D8A7BB88743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mailto:ilda@seznam.cz" TargetMode="External"/><Relationship Id="rId4" Type="http://schemas.openxmlformats.org/officeDocument/2006/relationships/hyperlink" Target="mailto:ilda@seznam.cz" TargetMode="External"/><Relationship Id="rId5" Type="http://schemas.openxmlformats.org/officeDocument/2006/relationships/hyperlink" Target="mailto:ilda@seznam.cz" TargetMode="External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Times New Roman"/>
              </a:rPr>
              <a:t>Politika zaměstnanosti.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Povinnosti firem v oblasti zaměstnanosti.</a:t>
            </a:r>
            <a:r>
              <a:rPr b="1" lang="cs-CZ" sz="3600" spc="-1" strike="noStrike">
                <a:solidFill>
                  <a:srgbClr val="00ffff"/>
                </a:solidFill>
                <a:latin typeface="Verdana"/>
                <a:ea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ffff"/>
                </a:solidFill>
                <a:latin typeface="Verdana"/>
              </a:rPr>
              <a:t>13. 12. 2008</a:t>
            </a:r>
            <a:br>
              <a:rPr sz="3600"/>
            </a:b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UP Liberec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7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Region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268280"/>
            <a:ext cx="73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malá politika zaměstnanosti, která čítá provozování základních služeb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uje vytváření nových pracovních míst. Může stimulovat rozvoj národního hospodářství. Konkretizuje globální politiku státu na místní podmínky a stanovuje způsoby její realiz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váha při tvorbě a uskutečňování této politiky je na úřadech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 dodržování pracovněprávních předpisů dohlížejí inspektoráty prá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66d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Aktiv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240" y="1341360"/>
            <a:ext cx="7086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ktivní politika zaměstnanosti je politikou stát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jím cílem je vytvářet reálné podmínky pro dosažení rovnováhy mezi nabídkou a poptávkou na trhu práce, zejména podmínky pro vznik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ových a efektivních pracovních míst – investiční pobídky, do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polečensky účelných pracovních mí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veřejně prospěšných pra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ajišťování re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97c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0f3fe"/>
                </a:solidFill>
                <a:latin typeface="Times New Roman"/>
              </a:rPr>
              <a:t>Pasivní politika zaměstnanosti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6897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asivní  politika zaměstnanosti znamená ze záko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prostředkování zaměstnání uchazečům    o prác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dále </a:t>
            </a: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podpora v ne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Právo na práci   X  Právo na zaměstnání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je jedním ze základních sociálních práv občan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le čl. 23 Všeobecné deklarace lidských práv z roku 1948 má každý právo na práci, na svobodou volbu zaměstnání, na spravedlivé a uspokojivé pracovní podmínky a na ochranu proti nezaměstnanost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 čl. III, části 6. Mezinárodního paktu o hospodářských, sociálních a kulturních právech z roku 1966, který je pro ČR závazný,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znávají smluvní státy paktu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ávo na práci, které zahrnuje právo každého na příležitost vydělávat si na živobytí prací, kterou si svobodně vybere nebo přijme, 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 uči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slušná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patřen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 ochraně tohoto prá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ále je toto právo rozvedeno v Úmluvách MOP (č. 44, 88, 96, 97, 111, 142, 16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znamná je Evropská sociální charta z roku 1961a Sociální charta Evropského společenství z roku 1989 jako politická deklar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e6e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prác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2392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U nás je právo upraveno v Listině základních práv a svobod jako součásti ústavního pořádku ČR.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Čl. 26 odst. 3 LZPS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 deklaruje, že každý má právo získávat prostředky pro své životní potřeby prací. Občany, kteří toto právo nemohou bez své viny vykonávat, stát v přiměřeném rozsahu hmotně zajišťuj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dybychom si nyní z těchto jednotlivých ustanovení pokusili dát dohromady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definici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práva na práci, lze ji koncipovat následovně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práci je subjektivním právem každého občana na uplatnění vlastních schopností v pracovním procesu a prostřednictvím využití své pracovní síly (souhrnu duševních a fyzických vlastností člověka) i právo na získání prostředků k uspokojení svých základních potřeb. Nelze jej chápat jako právo absolutní, stát nemá povinnost každého občana za každou cenu zaměstna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f78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Právo na zaměstnání, §§ 10 až 12 zákona o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773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Právo na zaměstnání </a:t>
            </a:r>
            <a:r>
              <a:rPr b="1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e upraven v čl. 26 odst. 1 LZPS, podle něhož má každý právo na svobodnou volbu povolání a přípravu k němu, jakož i právo podnikat a provozovat jinou hospodářskou činnost. Dále je toto právo rozvedeno v 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ákoně </a:t>
            </a: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Právem na zaměstnání je právo fyzické osoby, která chce a může pracovat a o práci se uchází, na zaměstnání v pracovněprávním vztahu, na zprostředkování zaměstnání a na poskytnutí dalších služeb za podmínek stanovených zákonem o 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0f3fe"/>
                </a:solidFill>
                <a:latin typeface="Times New Roman"/>
              </a:rPr>
              <a:t>Fyzická osoba má právo si sama svobodně zvolit a zabezpečit zaměstnání a vykonávat je na celém území ČR, nebo si může zabezpečit zaměstnání v zahranič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6b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010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0f3fe"/>
                </a:solidFill>
                <a:latin typeface="Times New Roman"/>
              </a:rPr>
              <a:t>Hlavní principy právní úpravy: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67920"/>
            <a:ext cx="73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Upřesnění postupů a zpřísnění podmínek při zprostředkování zaměstnání úřady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Úprava podmínek pro zařazení a vedení evidence uchazečů o zaměstná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Stanovení podmínek pro vznik nároku na podporu v ne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měna ve výši podpory a v délce podpůrčí doby s ohledem na věk uchazeč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ávazná pravidla pro agenturní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Částečné zaměstná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46f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y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484280"/>
            <a:ext cx="746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vedení nových nástrojů aktivní politiky zaměstna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Postavení občanů EU a jejich rodinných příslušníků na trh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pracování ochrany dětí při umělecké, kulturní, sportovní a reklamní činnost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Zaměstnávání cizinc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Rozšířené kontrolní pravomoci úřadů práce, celních úřadů, inspektorátů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Vyšší sankce za přestupky a správní delikty zjištěné při kontrolá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2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Další princip právní úprav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413000"/>
            <a:ext cx="6705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vytvořit takové podmínky, aby občanovi umožnil získávat prostředky k obživě svojí prací a zároveň zajistil určitou stabilitu vzniklého konkrétního právního vztahu, na základě které bude zajištěno právo získanou práci si udržet a pozbýt ji jen na základě zákonem stanovených podmíne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Stát má povinnost zajistit občana hmotně v případě, že z nějakého zákonem uznaného důvodu nemůže pracovat.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§13 zákona o zaměstnanosti (s účinností od 1. 1. 2007 zrušen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nebo FO je povinna plnění běžných úkolů vyplývajících z předmětu její činnosti zajišťovat svými zaměstnanci, které k tomu účelu zaměstnává v pracovněprávních vztazích podle zákoníku prá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de o úkoly přímo související se zajištěním výroby nebo poskytováním služeb a obdobnou činností., které zaměstnavatel provádí pod vlastním jménem a na jeho odpovědnost prostřednictvím svých zaměstnanců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ormulace byla převzata bez z předchozí právní úpravy, zákaz „švarcsystému“ platí už od  1. 1. 1992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vě jsou upraveny sankce za porušení zák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irmy mohou uzavírat obchodní vztahy nejen s podniky, které mají své zaměstnance, ale také s živnostníky, kteří nikoho nezaměstnávají. Nesmi s však jednat o zastřený nebo skrytý pracovněprávní vzta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ladní pramen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0666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. Zákoník práce, z. č. 262/2006 Sb. ve znění pozdějších předpisů (ZP), účinnost od 1. 1. 200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2. Zákon o zaměstnanosti, z. č. 435/2004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3. Zákon o inspekci práce, z. č. 251/2005 Sb., ve znění pozdějš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4. Zákon o ochraně zaměstnanců při platební neschopnosti zaměstnavatele. z. č. 118/2000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069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0f3fe"/>
                </a:solidFill>
                <a:latin typeface="Times New Roman"/>
              </a:rPr>
              <a:t>Důležité pojmy zákona o zaměstnanosti: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ájemce o zaměstnání, §§ 22 až 2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Uchazeč o zaměstnání, §§ 24 až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Podpora v nezaměstnanosti a podpora při rekvalifikaci, §§ 39 až 57 – 6 měsíců podpůrčí doba, případně 9 u osob od 50 let a 12 u  osob starších 55 let, výše 50% průměrného měsíčního čistého výdělku první 3 měsíce, dále 45%, 60% při rekvalifik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prostředkování zaměstnání agenturami práce, §§ 14 ,  58 až 6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Zaměstnávání osob se zdravotním postižením, §§ 67 až 84 – povinný 4% podíl u zaměstnavatelů s více než 25 zaměstnan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74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řad práce, 435/2004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748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ují dodržování zákona o zaměstna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nění povinného podílu zaměstnávání osob zdravotně znevýhodně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lášení volných pracovních mí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idence občanů EU pracujících na našem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ákon o inspekci práce, z. č. 251/2005 Sb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125360"/>
            <a:ext cx="8001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Účinnost zákona od 1. 7.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nik Českého úřadu bezpečnosti práce a Inspektorátů bezpečnosti práce, dnes ted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átní úřad inspekce práce – správní ú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odřízen MPS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generáln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lní úkoly vymezené v § 4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lastní inspektoráty práce – organizační složka stát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 čele je vedoucí inspe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je jich 8, někde jsou detašovaná pracoviště jako např.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lomouc, Sokol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vykonávají kontrolu v rozsahu § 3 zákon o inspekci prá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O  čem rozhodují Inspektoráty práce,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becně je působnost dána právními předpisy: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916280"/>
            <a:ext cx="7620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nichž vznikají práva a povinnosti v pracovněprávních vztazích zaměstnancům, příslušnému odborovému orgánu, radě zaměstnanců nebo zástupci pro oblast bezpečnosti a ochrany zdraví při prá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dměňování, náhrady mzdy nebo pla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ovující pracovní dobu a doby odpočin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zajištění bezpečnosti práce a bezpečnosti provo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 zaměstnávání žen, mladistv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pravující výkon umělecké, kulturní, pracovní a reklamní činnosti dět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Inspekce práce, 251/2005 Sb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74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trola dodržování pracovněprávních předpis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spektor se ohlásí, zaměstnavatel je povinen poskytnout součin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mátkové kontr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ě plánované v kal. r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dně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upky 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rávní delikty 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7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ákon č. 118/2000 Sb., o ochraně zaměstnanců při platební neschopnosti zaměstnavatele,         v platném znění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74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požádat kterýkoliv úřad práce, místně příslušný je úřad práce, v jehož obvodu má sídlo nebo místo podnikání zaměstnavat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uplatnit mzdové nároky nejvýše v rozsahu odpovídajícím splatným mzdovým nárokům za 3 měsíce rozhodného období, zpětně od prvního dne kalendářního měsíce, ve kterém byl podán návrh na prohlášení konkurs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lkově lze vyplatit 1 zaměstnanci za 1 měsíc částku jeden a půl násobku průměrné mzdy v národním hospodářství za předchozí kalendářní 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vatel Jan Sladký provozuje cukrárnu, ve které zaměstnává dva cukráře. Na období zvýšené spotřeby práce v letních měsících přijal do pracovního poměru K. Mladého, se kterým uzavřel pracovní smlouvu, ve které byly obsaženy všechna podstatné náležitosti pracovní smlouvy, ale nebyla žádná zmínka o mzdě za vykonanou prác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1) Je taková pracovní smlouvy platná?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2) Na jakou mzdu má v takovém případě zaměstnanec náro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praveno agenturní zaměstnávání v ZP a podrobnější úpravu obsahuje zákon o zaměstnanosti č. 435/2004 Sb. v ustanovení §§ 14, 58 až 66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d 1. října 2004 mohou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časně přidělo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vičný příkl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. Votavová navštívila 15. 09. 2004 úřad práce v místě svého trvalého bydliště, kde příslušnému referentovi sdělila, že žádá o zařazení do evidence uchazečů o zaměstnání vzhledem k tomu, že v dosavadním zaměstnání s ní byl rozvázán pracovní poměr výpovědí pro nadbytečnost a 30. 09. jí má skončit výpovědní doba. Od 1. 10.  jí proto podle jejího názoru náleží  podpora v nezaměstna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Jak byste vy na místě referenta na její žádost reagoval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Má odstupné, které H. Votavová ke dni skončení předchozího pracovního poměru obdrží, vliv na poskytování podpory v nezaměstnanost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ůže být nárok na poskytování podpory v nezaměstnanosti ovlivněn způsobem či důvodem skončení předchozího zaměstnání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vinnosti OSVČ ve vztahu k úřadům správy sociálního zabezpečení jsou ve stručnosti následujíc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it příslušné okresní (Pražské) správě sociálního zabezpečení d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ájení (znovuzahájení) samostatné výdělečné činnosti nebo spolupráce při výkonu samostatné výdělečné činnosti s uvedením dne, od kterého je oprávněna tuto činnost vykoná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ukončení samostatné výdělečné činnos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niku oprávnění vykonávat samostatnou výdělečnou činno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jí byl pozastaven výkon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kterého nemá nárok na výplatu částečného nebo plného invalidního důchodu, na starobní důchod, na rodičovský příspěvek nebo příspěvek při péči o blízkou nebo jinou osobu, přestala vykonávat vojenskou (civilní) službu, přestala být nezaopatřeným dítětem, nebo byla propuštěna z vazby nebo výkonu trestu odnětí svobody trvající déle než tři kalendářní měsíce, pokud ohlásila a doložila vznik těchto skutečností pro účely výkonu vedlejší samostatné výdělečné činnost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ámení se podává nejpozději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osmého dne kalendářního měsíce následujícího po měsíci, v němž nastala skutečnost, která zakládá tuto povinno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4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ffff"/>
                </a:solidFill>
                <a:uFillTx/>
                <a:latin typeface="Verdana"/>
              </a:rPr>
              <a:t>Zákon o zaměstnanosti, z. č. 435/2004 Sb., v platném znění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měny v roce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57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ovela č. 382/2008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důchodovém pojištění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hlavní samostatnou výdělečnou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kalendářním roce po dobu, po kterou vykonávala vedlejší samostatnou výdělečnou činnost, pokud její příjem z vedlejší samostatné výdělečné činnosti po odpočtu vynaložených výdajů dosáhl v kalendářním roce aspoň rozhodné částky. Rozhodná částka činí 2,4 násobek částky, která se stanoví jako součin všeobecného vyměřovacího základu za kalendářní rok, který o dva roky předchází kalendářnímu roku, za který se účast na důchodovém pojištění posuzuje a přepočítávacího koeficientu pro úpravu tohoto všeobecného vyměřovacího základ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Účast OSVČ na nemocenském pojištění: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pojištění OSVČ je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rovolné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OSVČ může být účastna nemocenského pojištění jen v těch kalendářních měsících, za které je povinna platit zálohy na pojistné na důchodové pojištění, a nebo je od placení záloh osvobozena.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čast na nemocenském pojištění vzniká dnem, od kterého se OSVČ přihlásila k nemocenskému pojištění, nejdříve však dnem, ve kterém se přihlásila. Zpětně může účast na pojištění vzniknout pouze v případě, že se OSVČ přihlásila k účasti nejpozději do 8 dnů od zahájení výkonu samostatné výdělečné činnosti a v té samé lhůtě se přihlásila i k účasti na důchodovém pojištění.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nemocenského pojištění OSVČ je poskytová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ocensk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ěžitá pomoc v mateřství (peněžitá pomoc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alá organizace X Organiz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díl mezi malou organizací a organizací je ve způsobu vyplácení dávek nemocenského pojištění a odvodu pojistného na sociální zabezpečení a příspěvku na státní politiku zaměstn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malé organizace vyplácí dávky nemocenského pojištění příslušná OSS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městnancům velké organiza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íce než 25 zaměstnanců)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yplácí dávky nemocenského pojištění zaměstnavatel, při odvodu pojistného odvádí rozdíl mezi vypočteným pojistným a zúčtovanými dávkami nemocenského pojištění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840" y="22860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AMĚSTNAVATELÉ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nového zákona o nemocenském pojištění, z. č. 262/2006 Sb. bude dávky nemocenského pojištění vyplácet vždy okresní správa sociálního zabezpe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gendu vyplácení dávek náhrady mzdy po dobu prvních 14 dní pracovní neschopnosti povedou všichni  zaměstnavatelé bez ohledu na počet zaměstnanců, které m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80" y="0"/>
            <a:ext cx="913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ld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ovinnosti OSVČ vůči úřadům práce</a:t>
            </a: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§§ 34 – 38 zákona o zaměstnanosti, 435/2004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á povinnost hlásit volná pracovní místa do 10 kalendářních dnů a jejich charakteristiku a neprodleně nejpozději do 10 kalendářních dnů oznamovat obsazení těchto mí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a vyžádání úřadu práce vybere zaměstnavatel z volných pracovních míst místa vhodná pro uchazeče, kterým úřad práce věnuje ze zákona zvýšenou péč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74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toj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íznivé povětrnostní vliv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 překážky v práci na straně zaměstnavatel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zaměstnanec na služební cest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hrada mzdy při dočasné pracovní neschopnosti, účinnost odložena na 1. 1. 200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AZBY POJISTNÉH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43000" y="838080"/>
          <a:ext cx="8001000" cy="60580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78272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latní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zb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mocensk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ůchodové po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.pol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á organiz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 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městnan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1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 5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V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-li účastna</a:t>
                      </a: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4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oba dobrovolně účastná na důch. poj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4680" y="0"/>
            <a:ext cx="913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Times New Roman"/>
              </a:rPr>
              <a:t>Sazby pojistného na nemocenské pojištění v návaznosti na nový  zákon o nemocenském pojištění, z. č. 187/2006 Sb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413000"/>
            <a:ext cx="78487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časná pracovní neschop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překážka v práci na straně zaměstnance - § 191 odst. 2 zákoníku práce, z. č. 262/2006 S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》</a:t>
            </a:r>
            <a:r>
              <a:rPr b="0" lang="cs-CZ" sz="2000" spc="-1" strike="noStrike">
                <a:solidFill>
                  <a:srgbClr val="ffffff"/>
                </a:solidFill>
                <a:latin typeface="Mongolian Baiti"/>
              </a:rPr>
              <a:t>Zákon č. 261/2007 Sb., o stabilizaci veřejných rozpočtů, změnil znění, za první 3 dny náhrada mzdy příslušet nebude, od 4. dne ve výši 6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ávka nemocenského pojištění od 15.d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JISTNÉ NA NEMOCENSKÉ POJIŠTĚNÍ, z. č. 589/1992 Sb., novela v souvislosti s účinností nového zákona o nemocenském pojištění, z. č. 187/2006 Sb., účinnost od 1. 1. 2009, postupné snižování % částky, kterou na nemocenské odvádí zaměstnavatel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95280" y="4419720"/>
          <a:ext cx="7315200" cy="2232000"/>
        </p:xfrm>
        <a:graphic>
          <a:graphicData uri="http://schemas.openxmlformats.org/drawingml/2006/table">
            <a:tbl>
              <a:tblPr/>
              <a:tblGrid>
                <a:gridCol w="2392560"/>
                <a:gridCol w="2460600"/>
                <a:gridCol w="2462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 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 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mpenz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Ochrana zaměstnanců při platební neschopnosti zaměstnavatele, z. č. 118/2000 Sb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95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neuspokojil splatné mzdové nároky zaměstnanců dnem následujícím po dni, kdy byl na něno podán návrh na prohlášení konkurs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žádat kterýkoliv úřad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nec může uplatnit nejpozději do 3 měsíců ode dne, kdy úřad práce zveřejnil informace o zaměstnavatelích, jejichž zaměstnanci mohou po prohlášení konkursu uplatnit své náro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. za dobu 3 měsíců lze uplatnit náro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ze poskytnout jednomu zaměstnanci za měsíc částku nejvýše 1,5 násobku průměrné mzdy v národním hospodářství za předchozí kalendářní rok, zveřejňuje MPSV k 1. květnu kalendářního rok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aměstnávání cizinců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789948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městnavatel je povinen vést evidenci všech občanů EU/EHP        a Švýcarska a jejich rodinných příslušníků, jakož i všech cizinců, které zaměstnává nebo kteří jsou k němu vyslání zahraničním zaměstnavatelem k výkonu prá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vidence obsahuje identifikační údaje zaměstnance, adresu v zemi trvalého pobytu a adresu pro doručování, číslo cestovního dokladu a název vydávajícího orgánu, druh, místo a dobu výkonu práce, pohlaví, zařazení podle odvětvové (oborové) klasifikace ekonomických činností, nejvyšší dosažené vzdělání, vzdělání požadované pro výkon povolání, dobu platnosti povolení k zaměstnání a povolení k pobytu, den nástupu a skončení zaměstnání či vysl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izince lze získávat pouze na pracovní místo, které je zaměstnavatelem hlášeno na úřadu práce jako volné a na které nelze přijmout občana ČR, zejména uchazeče o zaměstnání, § 85 odst. 1 zákona o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a81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476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ováděcí právní předpis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66680" y="1066680"/>
            <a:ext cx="7034400" cy="56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řízení vlády č. 515/2004 Sb., o hmotné podpoře na vytváření nových pracovních míst a hmotné podpoře rekvalifikace nebo školení zaměstnanců v rámci investičních pobíd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8/2004 Sb. , kterou se provádí zákon o zaměstnanosti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hláška č. 519/2004 Sb. , o rekvalifikaci uchazečů o zaměstnání a zájemců o zaměstnání a o rekvalifikaci zaměstnanc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828800" y="314172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ji příjemn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pohodový zbytek dnešního dne milí posluchač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440" y="0"/>
            <a:ext cx="91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7f70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fdfe"/>
                </a:solidFill>
                <a:latin typeface="Times New Roman"/>
              </a:rPr>
              <a:t>Politika zam</a:t>
            </a:r>
            <a:r>
              <a:rPr b="0" lang="cs-CZ" sz="4000" spc="-1" strike="noStrike">
                <a:solidFill>
                  <a:srgbClr val="eafdfe"/>
                </a:solidFill>
                <a:latin typeface="Times New Roman"/>
              </a:rPr>
              <a:t>ěstnanosti</a:t>
            </a:r>
            <a:r>
              <a:rPr b="0" lang="cs-CZ" sz="4000" spc="-1" strike="noStrike">
                <a:solidFill>
                  <a:srgbClr val="f5f3f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196640"/>
            <a:ext cx="7037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oučástí sociální politiky státu je i státní politika zaměstnan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Cílem je dosažení  rovnováhy mezi nabídkou a poptávkou po pracovní sí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Základem právní úpravy politiky zaměstnanosti je u nás zákon o zaměstnanosti, č.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435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/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2004 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Sb.,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§ 1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Dosažení plné</a:t>
            </a:r>
            <a:r>
              <a:rPr b="0" lang="cs-CZ" sz="2800" spc="-1" strike="noStrike">
                <a:solidFill>
                  <a:srgbClr val="f5f3f3"/>
                </a:solidFill>
                <a:latin typeface="Times New Roman"/>
              </a:rPr>
              <a:t> zaměstnanosti a ochrana proti nezaměstnanosti jsou základními cíli zabezpečování státní politiky zaměstnanosti.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b6a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04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ffdff"/>
                </a:solidFill>
                <a:latin typeface="Times New Roman"/>
              </a:rPr>
              <a:t>Nezaměstnanost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052640"/>
            <a:ext cx="7696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Politika trhu práce a sociální ochrana proti nezaměstnanosti se prolínají           a doplňuj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5f3f3"/>
                </a:solidFill>
                <a:latin typeface="Times New Roman"/>
                <a:ea typeface="Times New Roman"/>
              </a:rPr>
              <a:t>Nezaměstnanost není považována za vážný ekonomický a sociální problém do té doby, dokud se nestává masovou. Samotná existence nezaměstnanosti je přirozeným fenoménem a atributem svobodné společnosti založené na tržním mechanismu a demokracii</a:t>
            </a:r>
            <a:r>
              <a:rPr b="0" lang="cs-CZ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8a70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ffeff"/>
                </a:solidFill>
                <a:latin typeface="Times New Roman"/>
              </a:rPr>
              <a:t>Ekonomické nástroje řízení zaměstnanosti.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řízení zaměstnanosti, z nichž vycházel předchozí systém zabezpečení zaměstnanosti, jsou </a:t>
            </a:r>
            <a:r>
              <a:rPr b="1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nahrazovány nástroji ekonomickými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, především daňovou a dotační politikou, zejména podpora podnikání ze strany státu a podpora vytváření nových pracovních  mí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dministrativní nástroje zůstávají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</a:rPr>
              <a:t>                 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u zabezpečení zaměstnání u občanů se zdravotním postižením, kde jsou oba druhy nástrojů kombin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1640" y="3294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365d96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Členění státní politiky zaměstnanost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ntr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g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35040" y="1946160"/>
            <a:ext cx="380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s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ezna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4719"/>
            </a:gs>
            <a:gs pos="100000">
              <a:srgbClr val="6879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0f3fe"/>
                </a:solidFill>
                <a:latin typeface="Times New Roman"/>
              </a:rPr>
              <a:t>Centrální politika zaměstnanosti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267920"/>
            <a:ext cx="81532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0f3fe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zv. velká politika zaměstnanosti, která vytváří globální strateg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Klíčovou roli v ní hrají nástroje měnové, fiskální           a mzdové politiky, strukturální změny ekonomiky, zaměření exportu, úroveň vzdělávacího systému             i celková koncepce zaměstnanost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Jde o makroekonomické ovlivňování hospodářství, které je nutné odvíjet od výrobních rezortů, jež by měly působit preventivně proti nezaměstnanosti a jejím negativním sociálním dopadů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Hlavní úlohu v oblasti centrální státní politiky zaměstnanosti má Ministerstvo práce</a:t>
            </a:r>
            <a:r>
              <a:rPr b="1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0f3fe"/>
                </a:solidFill>
                <a:latin typeface="Times New Roman"/>
                <a:ea typeface="Times New Roman"/>
              </a:rPr>
              <a:t>a sociálních vě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40" y="0"/>
            <a:ext cx="91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da@seznam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2-12T18:10:37Z</dcterms:modified>
  <cp:revision>245</cp:revision>
  <dc:subject/>
  <dc:title>Základy pracovního práva Vysoká škola Karlovy Vary,o.p.s.</dc:title>
</cp:coreProperties>
</file>