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B113-6B57-40B8-91E0-C881FAAF7F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D93-F790-4168-BBB2-3352D399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5AE-231B-4689-91C3-5BB97C25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EBE-712D-4F0C-A915-E218AF18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FB2-D03A-4ADE-9C5F-9E3AD15D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9C8E-5459-42EA-9274-F1887F85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2119-C28B-4025-BBBF-216259D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96F8-59C0-40D4-8647-8EEB13B5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9BCC-22BE-46FC-98AD-AF1ACEED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A95-55F6-46F6-B0D0-70872F8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107-BDBE-4677-B3B1-5F1AF52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D8F5-0DDD-4937-88A8-EBE33E8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F00-3230-4235-B2DE-71761EE7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D9B-1A70-4B44-ADC5-D89C9573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0E37-78E5-4029-9366-95B3A62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0882-B1D7-4C6D-8C82-FFE4E724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7FDB-6C25-46CD-83F6-8209F79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4F38-38E2-446A-90D4-160C31F0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656-9902-4D81-B1B2-5B70C4C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A81-6410-42A7-AF95-D3F5339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9D5-3A9B-4FD6-BE46-94A3F11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5D-8BF1-4EB7-80ED-5B10B011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286-6620-472C-9FF8-439EB5BC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D97-C104-46E2-BEE7-8256FE7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F58-87B8-4EB7-9CB6-79037A1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87C-172D-4618-B846-79BCF569C22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F48-4EF1-4360-B388-31051A7EDEB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Verdana"/>
              </a:rPr>
              <a:t>13. 12. 2008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UP Libere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řad práce, 435/2004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ují dodržování zákona o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ění povinného podílu zaměstnávání osob zdravotně znevýhodně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lášení volných pracovních mí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idence občanů EU pracujících na našem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Inspekce práce, 251/2005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74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trola dodržování pracovně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spektor se ohlásí, zaměstnavatel je povinen poskytnout součin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mátkové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ě plánované v kal.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dně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upky 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rávní delikty 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ákon č. 118/2000 Sb., o ochraně zaměstnanců při platební neschopnosti zaměstnavatele,         v platném zně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požádat kterýkoliv úřad práce, místně příslušný je úřad práce, v jehož obvodu má sídlo nebo místo podnikání zaměstnava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uplatnit mzdové nároky nejvýše v rozsahu odpovídajícím splatným mzdovým nárokům za 3 měsíce rozhodného období, zpětně od prvního dne kalendářního měsíce, ve kterém byl podán návrh na prohlášení konkurs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ově lze vyplatit 1 zaměstnanci za 1 měsíc částku jeden a půl násobku průměrné mzdy v národním hospodářství za předchozí kalendářní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4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on o zaměstnanosti, z. č. 435/2004 Sb., v platném znění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roc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57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382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262/2006 Sb. bude dávky nemocenského pojištění vyplácet vždy okresní správa sociálního zabezpe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43000" y="838080"/>
          <a:ext cx="8001000" cy="605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2-12T18:10:37Z</dcterms:modified>
  <cp:revision>245</cp:revision>
  <dc:subject/>
  <dc:title>Základy pracovního práva Vysoká škola Karlovy Vary,o.p.s.</dc:title>
</cp:coreProperties>
</file>