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67A3-44AF-468F-BE66-3114E9DA269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uje soustavu komunálních a státních opatření na pomoc chudým, jimiž nejprve obec a pak stát navázal na církevní filantropickou charitu v době, kdy feudalismus přecházel do své poslední, tržní fáze a chudých velmi rychle přibýva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a později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ovala soustavu státní administrativy (včetně obecních) organizující a poskytující chudinskou pomoc. Sociální správa vykonávala dvě základní funk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mocenskou, zejména kontrolní a policejní, když dozírala na dodržováním právních předpisů chudin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lužební, když chudině poskytovala azyl a jiné služby (jídlo) a spravovala rozdělování státních prostředků získaných z poplatků a da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ální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je pojem, kterým se koncem 19. století a počátkem 20. Století označovala soustavná péče státu a obce o sociálně slabší obča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konomické základy </a:t>
            </a: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al welfar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formuloval John Maynard Keynes (1883-1946). Na něj navazuje řada ekonomů, kteří propracovali modely redistribuce příjmů a dali tak ekonomický základ novému pojetí sociální bezpečnosti. Moderní poválečné představy se zrodily v průběhu druhé světové války v Anglii. Sir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William Beveridg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(1879-1963), předseda státní komise dolní komory anglického parlamentu, přišel v roce 1942 s návrhem na vytvoření národního pojištění.Podle Beveridge sociální stát musí usilovat o uspokojení základních potřeb člověka tím,že bojuje proti pěti základním sociálním zlů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1) nevědomosti/igno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) nečinnosti/idle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3) nemoci/dise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4) nouzi/w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5) zanedbanosti/squa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jem </a:t>
            </a:r>
            <a:r>
              <a:rPr b="1" lang="cs-CZ" sz="1200" spc="-1" strike="noStrike" u="sng">
                <a:solidFill>
                  <a:srgbClr val="00cc99"/>
                </a:solidFill>
                <a:uFillTx/>
                <a:latin typeface="Times New Roman"/>
              </a:rPr>
              <a:t>záchranná sociální síť/“Social safety Net“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užila poprvé Světová banka začátkem 80. let minulého století v souvislosti se ekonomickými reformami v Latinské Americe a v Asii. Označuje systémové uspořádání sociálního pojištění, sociálních(státních) podpor a sociální pomoci způsobem, aby žádný občan nebyl existenčně ohrožen v době ekonomických reforem.      V důsledku ekonomické transformace by tedy občan neměl klesnout pod úroveň existenčního nebo sociálního minima. Záchranná sociální síť jako produkt liberální představy má zajistit jen důstojnou minimální hranici životních potřeb a ponechat na iniciativě jednotlivce, aby si zajistil ví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C54-8DC5-4E44-B211-F8296457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3BC-B037-49FE-B6CD-12822C03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7DC-BE44-4D60-92D3-ACFC3169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045-BE0D-4337-BB8E-F6B83FA2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86E2-F9CA-45D2-99A8-DBA8C506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D65D-E943-4423-9ADE-1F0A7F84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ECF1-12C1-4BF4-8F94-BB0A92E1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B64D-F3F9-48C9-961C-F6E36410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1C7B-34C0-474F-95BB-3B9290EA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39BC-DCF4-4D8E-B328-B39A29FB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F293-0B11-41E1-9A32-59FEEA3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AEF-5608-4A81-AC6F-2FF7ADA5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3AED-B934-4C8F-9F03-D29A204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3675-CB52-4C05-AAAD-A1297694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775C-965D-4A50-B8E3-3EC6C700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58E8-FB18-46E8-A91B-2D77EAB1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8290-8003-42D8-867B-65BD4543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9AA-B7E1-4EF7-B184-A48A9315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5F3-A1B1-48B7-ACEB-F30D251B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7FE-187B-4E10-94B9-33C5C81C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6A6-1BB9-4127-B486-7CF5B074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BB9-6E65-4AF4-A262-BA345EBA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0B9-FF1B-4DA7-9221-78F3278D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BA4-FB98-4D88-A751-06CDA7B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EB55-F909-47A7-8B90-482C0D3C078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49B7-E11C-427D-BCA3-9F91EA05C6A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32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ociální právo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MUP, Liberec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13. 12. 2008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08120" y="0"/>
            <a:ext cx="105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nemocenské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42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, Sociální pojištění a Nemocenské pojištění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88/1968 Sb., o prodloužení mateřské dovolené, o dávkách v mateřství a o přídavcích na děti z nemocenského pojištění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4/1956 Sb., o nemocenském pojištění zaměstnanců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, účinnost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2/2006 Sb., zákoník práce, náhrada mzdy po dobu prvních 14 dní trvání dočasné pracovní neschopnosti, od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, účinnost 1. 1.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0"/>
            <a:ext cx="96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zaměstnaneckého penzijního připojištění z členských států Evropské unie nebo jiných států, které jsou smluvní stranou Dohody o Evropském hospodářském prostoru, na území ČR, 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 práva – pro účel vyplácení podpory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 ne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35/2004 Sb., o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0/1966 Sb.,  o péči o zdraví lidu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58/2000 Sb., o ochraně veřejného zdraví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60/1992 Sb., o zdravotní péči v nestát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45/2006 Sb., o veřejných neziskových ústav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ávní předpisy státní sociální podpory a sociál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 – sociální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7/1995 Sb. , o státní sociální podpoře, 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08/2006 Sb., o sociálních služb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0/2006 Sb., o životním a existenčním mini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1/2006 Sb., o pomoci v hmotné nou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Evropského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Evropské právo základní dokumenty – primární prá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založení Evropského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39 a násl. - volný pohyb osob a služeb, právo usaz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17 občanství u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přistoupení ČR a dalších zemí k EU, sdělení č. 44/2004 Sb. m. 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Evropské právo – ÚZ základní dokument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kundární prameny – nařízení a směr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 o aplikaci soustav sociálního zabezpečení na osoby zaměstnané, samostatně výdělečně činné a jejich rodinné příslušníky pohybující se v rámci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 stanovící postup provádění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8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Kontinuální vývoj a změny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REFORMA 2008,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činnost 1. 1.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o stabilizaci veřejných rozpočtů, č.  261/2007 S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v nemocenském pojištění zaměstnanců, důchodovém pojištění, organizaci a provádění sociálního zabezpečení,  u vyplácení podpory v nezaměstnanosti, v systému dávek státní sociální podpory   a v sociál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enské pojištění – výše dávky nemocenského za první 3 dny ne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ojištění – zvýšení základní výměry důch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razové pojištění zaměstnanců -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vod do práva sociálního zabezpečení, pojem, předmět, systém a prameny práva sociálního zabezpečení v ČR a v E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jistné na sociální zabezpečení a příspěvek na státní politiku zaměstna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ůchodového pojištění – právní úprava, vazby a význam. Základní principy důchodového pojištění. Jednotlivé dávky důchodového systému podmíněné dlouhodobě nepříznivým zdravotním stavem nebo závislostí na péči jiné osoby, pozůstalostní důchody. Souběh nároků na důchody a na jejich výplatu. Zvyšování důchodů. Doplňkové důchodové systémy. Penzijní připojištění se státním příspěvk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Z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,</a:t>
            </a: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 v platném zn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dpovědnost zaměstnavatele za pracovní úrazy a nemoci z povolání, § 365 a nás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ahradil stávající zákoník práce, z. č. 65/1965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odloženo o 1 rok, s výjimkou části deváté čl. IX bodu 4 a části třicáté čl. XXX které nabývají účinnosti dnem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ová právní úprava v Č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42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Nemocenské 2008 po Nálezu Ústavního sou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629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. č. 54/1956 Sb.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08 - první 3 dny nepřísluš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30. června 2008 náleželo 60% DV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ález ÚS publikován pod č. 166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1. září 2008 25% DV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ovela 305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0% DVZ od 4. do 30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6% DVZ od 31 do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72% DVZ od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9 v pojistné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 - vol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penzace za to, že po dobu prvních 14 dní bude zaměstnavatel vyplácet při pracovní neschopnosti náhradu mz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y 2008,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ové pojištění – z. č. 155/1995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základní výměry důchodů -  na 2170,- Kč v roce 2008, n. v. 211/2008 Sb., a v roce 2009, n. v. 363/2008  Sb. dojde ke zvýšení procentní výměry o 4,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příplatků k důchodu v roce 2008 n.v. 212/2008 Sb., a v roce 2009 n. v. 364/2008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. v. 365/2008 Sb. – účinnost od 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1527,- Kč výše všeobecného vyměřovacího základu a přepočítacího koeficientu pro jeho úpravu 1,09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Částky pro výpočtový základ dle § 15 zákona o důchodovém pojištění se zvyšují na 10500,- Kč a 27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dpora v nezaměstnanosti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razové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dpovědnost zaměstnavatele za škodu způsobenou pracovním úrazem a nemocí z povolání podle nového zákona o úrazovém pojištění, z. č. 266/2006 Sb. (účinnost od 1. 1. 20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tcem pojistného je zaměstnavat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ntní sazba z úhrnu vyměřovacích základů zaměstnanců pro pojistné na sociální zabezpečení v rozhodném období, kterým bude kalendářní měsí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zby pojistného v příloze č. 2 zákona o úrazovém pojištění od 0, 28% k 5, 04% - převažující ekonomické činnosti OKE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loha č. 1 – seznam nemocí z povol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Pojem sociálního zabezpečení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chůdci pojmu byly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historicky pojm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hudinsk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s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povědné ministerstvo se v roce 1918 nazývalo ministerstvo sociální péče, dnes je to Ministerstvo práce a sociálních vě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em sociálního zabezpečení byl modifikován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orií sociálního stát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“social welfare state“, Belveridge (1942). Social welfare se v sociálním státě zpravidla uskutečňuje sociálním a zdravotním pojištěním, státními podporami a sociální pomocí občanů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lední fází terminologického vývoje je zavedení pojmu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 och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a půdě Evropské unie (social protection). Sociální ochrana v širším významu zahrnuje social welfare, zdravotní a sociální prevenci, pracovněprávní ochranu (včetně bezpečnosti práce) a ochranu prostředí (ekologi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s se stírá rozdíl mezi ochranou pracovních podmínek a ochranou při sociálních událostech. Vývoj směřuje k integraci pracovního práva  práva sociálního zabezpečení v sociální právo poskytující sociální ochranu občanům jako reflexe jejich nezadatelných lidských prá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 politika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soustavné a cílevědomé úsilí jednotlivých sociálních subjektů o změnu nebo o udržení         a fungování svého nebo jiného (státního nebo samosprávného)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kdy bývá sociální politika ztotožňována se záchrannou sociální sítí/social safety net, která je jen jedním z nástrojů sociálního zabezpečení, jde o soustavu sociálních dávek k zabezpečení životního minima občanů a sociálních služeb, které mají pomoci v sociální či existenční kri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ta záchranné sociální sítě určuje kvalitu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Cíl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Cíl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oudobého sociálního zabezpečení je regulace odpovědnosti občana za svou budoucnost (povinné pojistné systémy) a stanovení míry a forem sociální solidarity mezi občany (povinný či dobrovolný transfer prostředků skrze daňovou soustavu nebo sponzorování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emokratické uspořádání společnosti se zabudovanými sociálními zárukami důstojné existence člověka se jeví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irozený vrchol pyramidy společenského rozvoj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m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m práv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je právo na práci, jehož součástí je právo na vzdělání a náležitou přípravu na povolání. S tím souvisí právo na uspokojivé pracovní podmínky, na životní úroveň, na rodinu a na sociální zabezpečení. Jde o sociální práva občana garantovaná Všeobecnou deklarací lidských prá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ředmět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soubor právních předpisů, které upravují hmotné zabezpečení a služby, jež stát zabezpečuje, reguluje nebo poskytuje občanům, kteří v důsledku sociální události nemohou být výdělečně činnými a jejichž nezadatelná sociální práva zaručená ústavou jsou ohrože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Karlově Univerzitě se začalo v roce 1955 začalo učit právo sociálního zabezpečení ve spojení s právem pracovní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obor práva, který upravuje jako soukromoprávní, tak veřejnoprávní vztahy, které vznikají v souvislosti se zajišťováním ústavou zaručených sociálních práv občanů stá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něco poskytuje, jako např. zabezpečení v nezaměstnanosti, při neschopnosti pracovat, při úrazu a nemoci z povolání, při nedostatečných příjmech nezabezpečujících alespoň životní minimum, při podpoře ve výchově dětí a podpoře nízkopříjmových rodin, při ztrátě výdělečné schopnosti a ztrátě živitele a ve stář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í odvětví původně součástí pracovního práva, neboť pracovní smlouva zakládala ze zákona práva a povinností práva sociálního zabezpeče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hraniční obor s prvky veřejnoprávními i soukromoprávní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mocenského pojištění -  právní úprava, vazby, význam. Jednotlivé dávky nemocenského pojištění  (nemocenské, podpora při ošetřování člena rodiny, peněžitá pomoc v mateřství, vyrovnávací příspěvek v těhotenství a mateřství). Náhrada mzdy od zaměstnavatele v době pracovní neschopnosti zaměstnance. Nemocenské pojištění osob samostatně výdělečně činných. Odchylné úpravy nemocenského pojištění pro některé skupiny zaměstnanc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dravotní pojištění v ČR – právní úprava, vazby a význam. Základní principy veřejného zdravotního pojištění. Osobní a věcný rozsah veřejného zdravotního pojištění. Pojistné na veřejné zdravotní pojištění. Institucionální zajištění veřejného zdravotního pojištění. Způsob a formy poskytování a úhrady zdravotní péče. Druhy zdravotních pojišťoven a jejich organizační struk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ociální stá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chranná sociální sí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a její vliv na státy veřejných sociálních služ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ologie států veřejných sociálních služe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Kontinentál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Skandinávsk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eziduál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Rudiment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ystém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ho zabezpečení v ČR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enění sociální zabezpe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chází zpravidla ze způsobu financování, typu sociální události a s nimi spojených dávek, charakteru účasti osob v daném systému, převažujících principů, na kterých je vybudováno a dalších hledise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zabezpečení pak můžeme členit na systém sociálního pojištění, systém státního sociálního zaopatření a systém sociální pomo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jiného hlediska můžeme dělit sociální zabezpečení na systémy základní a doplňkové, které lze dělit na nárokové (obligatorní) a dobrovolné (fakultativn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Tři základní pilíře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sociálního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 jehož rámci jsou osoby pojištěny pro případ nemoci, těhotenství a mateřství, ošetřování nemocného člena rodiny, pro případ dosažení stanoveného věku (stáří), invalidity a ztráty živitele. Systém zahrn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a důchodové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ystém státní sociální podpor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především ženy v souvislosti s porodem, dále rodiny, které pečují o nezaopatřené děti a rodiny v souvislosti se ztrátou živite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ystém sociální pomo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čený osobám, které se nacházejí v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tné nouzi</a:t>
            </a:r>
            <a:r>
              <a:rPr b="0" i="1" lang="cs-CZ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jiné zpravidla nepříznivé životní situaci, kterou nejsou schop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ešit vlastními silami. Platná právní úprava používá termín sociální péče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alší systémy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penzijního při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uje od roku 1994 a zajišťuje osoby zejména pro případ dosažení stanoveného věku, invalidity a ztráty živitele. Jde o doplněk základního důchodového pojištění, který je od sociálního pojištění oddělen. Jedná se o typ soukromého pojištění s veřejnoprávními prvky. Penzijní připojištění je dobrovoln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statné úrazové pojištění pro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ad pracovních úrazů a nemocí z povol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ý zákon o úrazovém pojištění však již byl přijat, část nabyla účinnosti v červenci 2006, zákon č. 266/2006 Sb., by měl nabýt účinnosti od 1. 1. 2010. Do té doby plat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v důsledku úrazu ke krátkodobé neschopnosti pracovat, je osoba zabezpečena v rámci nemocenského pojištění příslušnou dávko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k dlouhodobé neschopnosti pracovat, je osoba zajištěna důchodem částečným invalidním nebo plným invalidním. Problematika pracovních úrazů a nemocí z povolání je řešena v souvislosti s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vědností zaměstnavatele za škod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zákoníku práce. Zabezpečení při pracovní neschopnosti a ve stáří a zaměstnávání po návratu do práce je upraveno v §§ 365 a násl. zákoníku práce, z. č. 262/2006 Sb. Hmotné zabezpečení zaměstnanců při neschopnosti k práci v důsledku nemoci, úrazu, těhotenství a mateřství upravují předpisy o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m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stup k výkladu sociálních jevů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och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riziko, pojistné 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udál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Změna zdravotního stavu – zdraví, nemoc, úraz, invalid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Nezaměstn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Stář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) Chud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ystémy nástrojů sociální politik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něžit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cn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nancování nástrojů sociální poli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očtová tech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rganizace sociálního systému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jištění – pojist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h, stát a občanský se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tát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ordinace systémů sociálního zabezpečení v Evropské un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ace právního řádu jediného členského stá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vné zachá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práv během jejich nabývání, sčítání dob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nabytých práv, výplata dávek do ciz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ociální práva občan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rá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uspokojivé pracovní podmín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řiměřenou životní úrove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rod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vobodu sdruž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ysílání zaměstnanců v rámci E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ciz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ílání zaměstnanců – časově omezené, účast na sociálním pojištění státu, ze kterého je zaměstnanec vys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lání do ČR – do 3 měsíců bez povolení, do 12 měsíců (lze prodloužit o dalších 12 měsíců), možnost žádat o výjimku – v současné době je povolováno max. na 3 ro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03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 – právní úprava, vazby a význam. Nárok na dávky státní sociální podpory, životní a existenční minimum. Jednotlivé testované a netestované dávky státní sociální podp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éče – právní úprava, vazby a význam. Sociální služby. Pomoc v hmotné nou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uspořádání sociálního zabezpečení a řízení ve věcech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ntrolní otáz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jasněte pojem „social welfare“ a vyjmenujte základní typy sociálního stá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o je to záchranná sociální síť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finujte pojmy sociální událost a sociální rizik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pište princip sociální solida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rganizace sociálního zabezpečení v Č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ordinace systémů sociálního zabezpečení v E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Vacík, A., Trinnerová, D. , Vydavatelství a nakladatelství Aleš Čeněk, s.  r. o., Pelhřimov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 v rámci Evropské Unie, Černá, J. , Vacík, A. Vydavatelství a nakladatelství Aleš Čeněk, s. r. o. , Plzeň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Tröster, P. a kol. ,  C. H. Beck, Prah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, Galvas, M. , Gregorová, Z. , Masarykova univerzita a nakladatelství Doplněk, Brno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rávo Evropské unie, Tomeš, I. – Koldinská, K., C. H. Beck, Praha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xikon sociálního zabezpečení a zdravotního pojištění, Sagit, Ostrava-Porub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 a zdravotní pojištění zaměstnanců a osob samostatně výdělečně činných, Šmíd, J. , Ženíšková, M. , ANAG, Olomouc, 200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mocenské pojištění, Ženíšková, M. , ANAG, Praha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é dávky v nemoci a mateřství v Evropské unii. Chvátalová I. , LINDE, Praha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teřská a rodičovská dovolená, Přib, J. , Břeská, N. , Špundová, E. , Pilátoáv, J. , GRADA, Havlíčkův Brod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, Břeská, N. , Burdová, E. , Vránová, L. , ANAG, Jihlava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vky pomoci v hmotné nouzi a dávky sociální péče pro zdravotně postižené osoby k 1. 3. 2007, Břeská N. , Vránová, L. Anag, Olomouc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Úvod do práva sociálního zabezpečení,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pojem, předmět, systém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a prameny práva sociálního zabezpečení v ČR a v EU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43664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pramenů 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y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Nemocenské pojištění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Zdravotní pojištění a zdravotní péč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– organizace        a systém sociálního zabezpeče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00/1998 Sb. , o sociálním zabezpečení, 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2/1991 Sb., o organizaci a provádění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PC</cp:lastModifiedBy>
  <dcterms:modified xsi:type="dcterms:W3CDTF">2008-12-12T18:30:52Z</dcterms:modified>
  <cp:revision>192</cp:revision>
  <dc:subject/>
  <dc:title>Úvod do práva sociálního zabezpečení  Právo sociálního zabezpečení pro podnikatele                             a zaměstnavatele</dc:title>
</cp:coreProperties>
</file>