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AEA9-4C34-4263-B83B-6E6B8A3AEC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uje soustavu komunálních a státních opatření na pomoc chudým, jimiž nejprve obec a pak stát navázal na církevní filantropickou charitu v době, kdy feudalismus přecházel do své poslední, tržní fáze a chudých velmi rychle přibýva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a později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ovala soustavu státní administrativy (včetně obecních) organizující a poskytující chudinskou pomoc. Sociální správa vykonávala dvě základní funk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mocenskou, zejména kontrolní a policejní, když dozírala na dodržováním právních předpisů chudin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lužební, když chudině poskytovala azyl a jiné služby (jídlo) a spravovala rozdělování státních prostředků získaných z poplatků a da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ální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je pojem, kterým se koncem 19. století a počátkem 20. Století označovala soustavná péče státu a obce o sociálně slabší občan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Ekonomické základy </a:t>
            </a: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al welfar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formuloval John Maynard Keynes (1883-1946). Na něj navazuje řada ekonomů, kteří propracovali modely redistribuce příjmů a dali tak ekonomický základ novému pojetí sociální bezpečnosti. Moderní poválečné představy se zrodily v průběhu druhé světové války v Anglii. Sir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William Beveridg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(1879-1963), předseda státní komise dolní komory anglického parlamentu, přišel v roce 1942 s návrhem na vytvoření národního pojištění.Podle Beveridge sociální stát musí usilovat o uspokojení základních potřeb člověka tím,že bojuje proti pěti základním sociálním zlům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1) nevědomosti/igno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2) nečinnosti/idle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3) nemoci/dise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4) nouzi/w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5) zanedbanosti/squa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jem </a:t>
            </a:r>
            <a:r>
              <a:rPr b="1" lang="cs-CZ" sz="1200" spc="-1" strike="noStrike" u="sng">
                <a:solidFill>
                  <a:srgbClr val="00cc99"/>
                </a:solidFill>
                <a:uFillTx/>
                <a:latin typeface="Times New Roman"/>
              </a:rPr>
              <a:t>záchranná sociální síť/“Social safety Net“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užila poprvé Světová banka začátkem 80. let minulého století v souvislosti se ekonomickými reformami v Latinské Americe a v Asii. Označuje systémové uspořádání sociálního pojištění, sociálních(státních) podpor a sociální pomoci způsobem, aby žádný občan nebyl existenčně ohrožen v době ekonomických reforem.      V důsledku ekonomické transformace by tedy občan neměl klesnout pod úroveň existenčního nebo sociálního minima. Záchranná sociální síť jako produkt liberální představy má zajistit jen důstojnou minimální hranici životních potřeb a ponechat na iniciativě jednotlivce, aby si zajistil ví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8A3-E6A1-4C4A-83A2-2190BB48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392-960D-4800-B300-D697DB1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F45-1B14-4CC5-8468-C9EAC646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D9D-72F0-4D8C-962F-046EF60B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70B6-785F-49BC-BCE8-51092B46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2FC6-9BE9-4918-800B-5451B25C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5BDF-F13F-4740-BB8A-26A069C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5275-A261-49EE-A23B-621FC25B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8C05-AC6C-4056-A615-21EE5B33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59D4-B266-44AA-96BB-60993CC4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76A4-3536-47E2-88A8-BF02D9D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1C7-1229-4F8E-91CE-39A019C6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D243-0470-48C6-8B5F-4793B442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0860-94C4-4654-9341-9AA70380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A142-34F8-4867-A0F3-34DE1277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9BDE-7C39-443D-A9DB-60650B94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11DF-692C-44AB-9B39-9D737804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F5D-779C-47DE-8676-EB452A3A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63D-89D3-4434-9187-D453B0FD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D07-9267-4723-9633-8AE30ED3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EAA-F5E1-4BD2-B38D-D9FC0522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1E2-CB6A-42AB-BA30-A9131CC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65C-8F5E-436A-95AF-6218A9A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87A-7D61-440D-A843-E7A6C2A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54CB-635F-4504-A165-5CA84BCD1A3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FBD0-4AD2-4B94-AE33-F3C41D1435A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32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ociální právo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MUP, Liberec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13. 12. 2008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ociální zabezpečení – pojistné na nemocenské a důchodové pojištění a příspěvek na státní politiku 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9/1992 Sb., o pojistném na sociální zabezpečení a příspěvku na státní politiku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08120" y="0"/>
            <a:ext cx="105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rameny práva nemocenské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42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, Sociální pojištění a Nemocenské pojištění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88/1968 Sb., o prodloužení mateřské dovolené, o dávkách v mateřství a o přídavcích na děti z nemocenského pojištění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4/1956 Sb., o nemocenském pojištění zaměstnanců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, účinnost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2/2006 Sb., zákoník práce, náhrada mzdy po dobu prvních 14 dní trvání dočasné pracovní neschopnosti, od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, účinnost 1. 1.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0"/>
            <a:ext cx="96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důchodového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155 /1995 Sb., o důchodovém pojištění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42/1994 Sb., o penzijním připojištění se státním příspěvkem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340/2006 Sb., o činnosti institucí zaměstnaneckého penzijního připojištění z členských států Evropské unie nebo jiných států, které jsou smluvní stranou Dohody o Evropském hospodářském prostoru, na území ČR, 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 práva – pro účel vyplácení podpory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 ne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435/2004 Sb., o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Prameny práva zdravotního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Z – Zdravotní pojištění a zdravo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 č. 48/1997 Sb., o veřejném zdravotním pojištění, v platném z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92/1992 Sb., o pojistném na všeobecné zdravotní pojištění, ve znění pozdějších právních předpis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51/1991 Sb., o Všeobecné zdravotní pojišťovně ČR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80/1992 Sb., o resortních, oborových, podnikových a dalších zdravotních pojišťovná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0/1966 Sb.,  o péči o zdraví lidu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58/2000 Sb., o ochraně veřejného zdraví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60/1992 Sb., o zdravotní péči v nestát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45/2006 Sb., o veřejných neziskových ústav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ávní předpisy státní sociální podpory a sociální péč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 – sociální zabezpeč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7/1995 Sb. , o státní sociální podpoře, 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08/2006 Sb., o sociálních služb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0/2006 Sb., o životním a existenčním mini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1/2006 Sb., o pomoci v hmotné nou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Evropského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Evropské právo základní dokumenty – primární prá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louva o založení Evropského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l. 39 a násl. - volný pohyb osob a služeb, právo usaz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l. 17 občanství u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louva o přistoupení ČR a dalších zemí k EU, sdělení č. 44/2004 Sb. m. 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Evropské právo – ÚZ základní dokument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kundární prameny – nařízení a směr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1408/71 o aplikaci soustav sociálního zabezpečení na osoby zaměstnané, samostatně výdělečně činné a jejich rodinné příslušníky pohybující se v rámci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574/72 stanovící postup provádění Nařízení 1408/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883/2004 – od roku 2009 nahradí současné Nařízení 1408/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8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Kontinuální vývoj a změny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REFORMA 2008,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činnost 1. 1. 2008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o stabilizaci veřejných rozpočtů, č.  261/2007 Sb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v nemocenském pojištění zaměstnanců, důchodovém pojištění, organizaci a provádění sociálního zabezpečení,  u vyplácení podpory v nezaměstnanosti, v systému dávek státní sociální podpory   a v sociál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ocenské pojištění – výše dávky nemocenského za první 3 dny ne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chodové pojištění – zvýšení základní výměry důcho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razové pojištění zaměstnanců -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vod do práva sociálního zabezpečení, pojem, předmět, systém a prameny práva sociálního zabezpečení v ČR a v E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jistné na sociální zabezpečení a příspěvek na státní politiku zaměstna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ůchodového pojištění – právní úprava, vazby a význam. Základní principy důchodového pojištění. Jednotlivé dávky důchodového systému podmíněné dlouhodobě nepříznivým zdravotním stavem nebo závislostí na péči jiné osoby, pozůstalostní důchody. Souběh nároků na důchody a na jejich výplatu. Zvyšování důchodů. Doplňkové důchodové systémy. Penzijní připojištění se státním příspěvk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Z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ákon č. 54/1956 Sb., o nemocenském pojištění zaměstnanců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,</a:t>
            </a: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 v platném zn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2/2006 Sb., zákoník prá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dpovědnost zaměstnavatele za pracovní úrazy a nemoci z povolání, § 365 a nás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ahradil stávající zákoník práce, z. č. 65/1965 Sb., ve znění pozdějších předpis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1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odloženo o 1 rok, s výjimkou části deváté čl. IX bodu 4 a části třicáté čl. XXX které nabývají účinnosti dnem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července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ová právní úprava v Č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1342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Nemocenské 2008 po Nálezu Ústavního sou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629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. č. 54/1956 Sb.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08 - první 3 dny nepřísluš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30. června 2008 náleželo 60% DV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ález ÚS publikován pod č. 166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1. září 2008 25% DV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ovela 305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0% DVZ od 4. do 30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6% DVZ od 31 do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72% DVZ od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9 v pojistné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 - vol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penzace za to, že po dobu prvních 14 dní bude zaměstnavatel vyplácet při pracovní neschopnosti náhradu mz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Důchody 2008,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ové pojištění – z. č. 155/1995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základní výměry důchodů -  na 2170,- Kč v roce 2008, n. v. 211/2008 Sb., a v roce 2009, n. v. 363/2008  Sb. dojde ke zvýšení procentní výměry o 4,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příplatků k důchodu v roce 2008 n.v. 212/2008 Sb., a v roce 2009 n. v. 364/2008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. v. 365/2008 Sb. – účinnost od 1. 1.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1527,- Kč výše všeobecného vyměřovacího základu a přepočítacího koeficientu pro jeho úpravu 1,09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Částky pro výpočtový základ dle § 15 zákona o důchodovém pojištění se zvyšují na 10500,- Kč a 27000,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dpora v nezaměstnanosti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razové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dpovědnost zaměstnavatele za škodu způsobenou pracovním úrazem a nemocí z povolání podle nového zákona o úrazovém pojištění, z. č. 266/2006 Sb. (účinnost od 1. 1. 20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átcem pojistného je zaměstnavat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ntní sazba z úhrnu vyměřovacích základů zaměstnanců pro pojistné na sociální zabezpečení v rozhodném období, kterým bude kalendářní měsí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zby pojistného v příloze č. 2 zákona o úrazovém pojištění od 0, 28% k 5, 04% - převažující ekonomické činnosti OKE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loha č. 1 – seznam nemocí z povol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Pojem sociálního zabezpečení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chůdci pojmu byly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historicky pojm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hudinská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sprá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povědné ministerstvo se v roce 1918 nazývalo ministerstvo sociální péče, dnes je to Ministerstvo práce a sociálních věc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em sociálního zabezpečení byl modifikován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orií sociálního stát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/“social welfare state“, Belveridge (1942). Social welfare se v sociálním státě zpravidla uskutečňuje sociálním a zdravotním pojištěním, státními podporami a sociální pomocí občanů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slední fází terminologického vývoje je zavedení pojmu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 och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a půdě Evropské unie (social protection). Sociální ochrana v širším významu zahrnuje social welfare, zdravotní a sociální prevenci, pracovněprávní ochranu (včetně bezpečnosti práce) a ochranu prostředí (ekologi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nes se stírá rozdíl mezi ochranou pracovních podmínek a ochranou při sociálních událostech. Vývoj směřuje k integraci pracovního práva  práva sociálního zabezpečení v sociální právo poskytující sociální ochranu občanům jako reflexe jejich nezadatelných lidských prá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 politika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soustavné a cílevědomé úsilí jednotlivých sociálních subjektů o změnu nebo o udržení         a fungování svého nebo jiného (státního nebo samosprávného)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ěkdy bývá sociální politika ztotožňována se záchrannou sociální sítí/social safety net, která je jen jedním z nástrojů sociálního zabezpečení, jde o soustavu sociálních dávek k zabezpečení životního minima občanů a sociálních služeb, které mají pomoci v sociální či existenční kri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lita záchranné sociální sítě určuje kvalitu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Cíl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Cíl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oudobého sociálního zabezpečení je regulace odpovědnosti občana za svou budoucnost (povinné pojistné systémy) a stanovení míry a forem sociální solidarity mezi občany (povinný či dobrovolný transfer prostředků skrze daňovou soustavu nebo sponzorování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emokratické uspořádání společnosti se zabudovanými sociálními zárukami důstojné existence člověka se jeví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irozený vrchol pyramidy společenského rozvoj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m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m práv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je právo na práci, jehož součástí je právo na vzdělání a náležitou přípravu na povolání. S tím souvisí právo na uspokojivé pracovní podmínky, na životní úroveň, na rodinu a na sociální zabezpečení. Jde o sociální práva občana garantovaná Všeobecnou deklarací lidských prá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ředmět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soubor právních předpisů, které upravují hmotné zabezpečení a služby, jež stát zabezpečuje, reguluje nebo poskytuje občanům, kteří v důsledku sociální události nemohou být výdělečně činnými a jejichž nezadatelná sociální práva zaručená ústavou jsou ohrože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Karlově Univerzitě se začalo v roce 1955 začalo učit právo sociálního zabezpečení ve spojení s právem pracovní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obor práva, který upravuje jako soukromoprávní, tak veřejnoprávní vztahy, které vznikají v souvislosti se zajišťováním ústavou zaručených sociálních práv občanů stá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át něco poskytuje, jako např. zabezpečení v nezaměstnanosti, při neschopnosti pracovat, při úrazu a nemoci z povolání, při nedostatečných příjmech nezabezpečujících alespoň životní minimum, při podpoře ve výchově dětí a podpoře nízkopříjmových rodin, při ztrátě výdělečné schopnosti a ztrátě živitele a ve stář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í odvětví původně součástí pracovního práva, neboť pracovní smlouva zakládala ze zákona práva a povinností práva sociálního zabezpečen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hraniční obor s prvky veřejnoprávními i soukromoprávní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mocenského pojištění -  právní úprava, vazby, význam. Jednotlivé dávky nemocenského pojištění  (nemocenské, podpora při ošetřování člena rodiny, peněžitá pomoc v mateřství, vyrovnávací příspěvek v těhotenství a mateřství). Náhrada mzdy od zaměstnavatele v době pracovní neschopnosti zaměstnance. Nemocenské pojištění osob samostatně výdělečně činných. Odchylné úpravy nemocenského pojištění pro některé skupiny zaměstnanc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dravotní pojištění v ČR – právní úprava, vazby a význam. Základní principy veřejného zdravotního pojištění. Osobní a věcný rozsah veřejného zdravotního pojištění. Pojistné na veřejné zdravotní pojištění. Institucionální zajištění veřejného zdravotního pojištění. Způsob a formy poskytování a úhrady zdravotní péče. Druhy zdravotních pojišťoven a jejich organizační struktu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ociální stá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chranná sociální sí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a její vliv na státy veřejných sociálních služ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ologie států veřejných sociálních služe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Kontinentál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Skandinávsk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eziduál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Rudiment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ystém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ho zabezpečení v ČR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enění sociální zabezpe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chází zpravidla ze způsobu financování, typu sociální události a s nimi spojených dávek, charakteru účasti osob v daném systému, převažujících principů, na kterých je vybudováno a dalších hledise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zabezpečení pak můžeme členit na systém sociálního pojištění, systém státního sociálního zaopatření a systém sociální pomo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jiného hlediska můžeme dělit sociální zabezpečení na systémy základní a doplňkové, které lze dělit na nárokové (obligatorní) a dobrovolné (fakultativní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Tři základní pilíře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sociálního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 jehož rámci jsou osoby pojištěny pro případ nemoci, těhotenství a mateřství, ošetřování nemocného člena rodiny, pro případ dosažení stanoveného věku (stáří), invalidity a ztráty živitele. Systém zahrn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a důchodové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ystém státní sociální podpor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jišťuje především ženy v souvislosti s porodem, dále rodiny, které pečují o nezaopatřené děti a rodiny v souvislosti se ztrátou živite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ystém sociální pomoc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rčený osobám, které se nacházejí v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tné nouzi</a:t>
            </a:r>
            <a:r>
              <a:rPr b="0" i="1" lang="cs-CZ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o jiné zpravidla nepříznivé životní situaci, kterou nejsou schopn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ešit vlastními silami. Platná právní úprava používá termín sociální péče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Další systémy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penzijního při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uje od roku 1994 a zajišťuje osoby zejména pro případ dosažení stanoveného věku, invalidity a ztráty živitele. Jde o doplněk základního důchodového pojištění, který je od sociálního pojištění oddělen. Jedná se o typ soukromého pojištění s veřejnoprávními prvky. Penzijní připojištění je dobrovoln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statné úrazové pojištění pro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ad pracovních úrazů a nemocí z povolá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ý zákon o úrazovém pojištění však již byl přijat, část nabyla účinnosti v červenci 2006, zákon č. 266/2006 Sb., by měl nabýt účinnosti od 1. 1. 2010. Do té doby plat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v důsledku úrazu ke krátkodobé neschopnosti pracovat, je osoba zabezpečena v rámci nemocenského pojištění příslušnou dávko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k dlouhodobé neschopnosti pracovat, je osoba zajištěna důchodem částečným invalidním nebo plným invalidním. Problematika pracovních úrazů a nemocí z povolání je řešena v souvislosti s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vědností zaměstnavatele za škod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zákoníku práce. Zabezpečení při pracovní neschopnosti a ve stáří a zaměstnávání po návratu do práce je upraveno v §§ 365 a násl. zákoníku práce, z. č. 262/2006 Sb. Hmotné zabezpečení zaměstnanců při neschopnosti k práci v důsledku nemoci, úrazu, těhotenství a mateřství upravují předpisy o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m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řístup k výkladu sociálních jevů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ochr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riziko, pojistné 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událo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Změna zdravotního stavu – zdraví, nemoc, úraz, invalid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Nezaměstna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od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Stář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) Chudo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ystémy nástrojů sociální politik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g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něžit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cn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nancování nástrojů sociální poli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očtová tech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Organizace sociálního systému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jištění – pojist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h, stát a občanský sek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prá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tát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ordinace systémů sociálního zabezpečení v Evropské un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ace právního řádu jediného členského stá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vné zacház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chování práv během jejich nabývání, sčítání dob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chování nabytých práv, výplata dávek do cizi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1408/71/E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574/72/E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řízení Rady 883/2004 – od roku 2009 nahradí současné Nařízení 1408/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ociální práva občan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rá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uspokojivé pracovní podmín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řiměřenou životní úrove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rod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vobodu sdruž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ysílání zaměstnanců v rámci E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ciz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ílání zaměstnanců – časově omezené, účast na sociálním pojištění státu, ze kterého je zaměstnanec vys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lání do ČR – do 3 měsíců bez povolení, do 12 měsíců (lze prodloužit o dalších 12 měsíců), možnost žádat o výjimku – v současné době je povolováno max. na 3 ro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03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 – právní úprava, vazby a význam. Nárok na dávky státní sociální podpory, životní a existenční minimum. Jednotlivé testované a netestované dávky státní sociální podp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éče – právní úprava, vazby a význam. Sociální služby. Pomoc v hmotné nou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ční uspořádání sociálního zabezpečení a řízení ve věcech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ntrolní otáz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jasněte pojem „social welfare“ a vyjmenujte základní typy sociálního stá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o je to záchranná sociální síť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finujte pojmy sociální událost a sociální rizik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pište princip sociální solida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rganizace sociálního zabezpečení v Č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ordinace systémů sociálního zabezpečení v E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Doporučená literatur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Vacík, A., Trinnerová, D. , Vydavatelství a nakladatelství Aleš Čeněk, s.  r. o., Pelhřimov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 v rámci Evropské Unie, Černá, J. , Vacík, A. Vydavatelství a nakladatelství Aleš Čeněk, s. r. o. , Plzeň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Tröster, P. a kol. ,  C. H. Beck, Praha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, Galvas, M. , Gregorová, Z. , Masarykova univerzita a nakladatelství Doplněk, Brno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rávo Evropské unie, Tomeš, I. – Koldinská, K., C. H. Beck, Praha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xikon sociálního zabezpečení a zdravotního pojištění, Sagit, Ostrava-Poruba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 a zdravotní pojištění zaměstnanců a osob samostatně výdělečně činných, Šmíd, J. , Ženíšková, M. , ANAG, Olomouc, 200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1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emocenské pojištění, Ženíšková, M. , ANAG, Praha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é dávky v nemoci a mateřství v Evropské unii. Chvátalová I. , LINDE, Praha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ateřská a rodičovská dovolená, Přib, J. , Břeská, N. , Špundová, E. , Pilátoáv, J. , GRADA, Havlíčkův Brod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ůchodové předpisy, Přib, J., Voříšek, V., ANAG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dy do důchodu a za kolik, Přib. J. , GRADA, Jihlava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, Břeská, N. , Burdová, E. , Vránová, L. , ANAG, Jihlava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vky pomoci v hmotné nouzi a dávky sociální péče pro zdravotně postižené osoby k 1. 3. 2007, Břeská N. , Vránová, L. Anag, Olomouc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řízení sociální péče pro seniory a zdravotně postižené občany, ANAG, Brno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ální pomoc a právo, Koldinská, K. , Marková, H. , Orac, Prah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ákon o zaměstnanosti s komentářem, včetně prováděcích předpisů k 15. 2. 2006 s aktualizací k 1. 1. 2007, Anag, Olomouc 200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entář k Ústavě ČR a Listině základních práv a svobod, Klíma K. a kol., Vydavatelství a nakladatelství Aleš Čeněk, s. r. o. , Plzeň  2006, zejména část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 Listině základních práv a svobod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ciální práv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inisterstvo práce a sociálních věcí, Sociální zabezpečení osoby pohybujících se v  rámci Evropské unie, Praha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áva sociálního zabezpečení, Trinnerová, D. , Vacík, A. , Vydavatelství a nakladatelství Aleš Čeněk, Pelhřimov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acovního práva a práva sociálního zabezpečení, Galvas, M. , Gregorová, Z. , Zachariáš, J. , Vydavatelství a nakladatelství Aleš Čeněk, Pelhřimov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Úvod do práva sociálního zabezpečení,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pojem, předmět, systém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a prameny práva sociálního zabezpečení v ČR a v EU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43664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hled pramenů 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kladní prameny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Nemocenské pojištění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Zdravotní pojištění a zdravotní péč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– organizace        a systém sociálního zabezpeče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00/1998 Sb. , o sociálním zabezpečení, 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2/1991 Sb., o organizaci a provádění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PC</cp:lastModifiedBy>
  <dcterms:modified xsi:type="dcterms:W3CDTF">2008-12-12T18:30:52Z</dcterms:modified>
  <cp:revision>192</cp:revision>
  <dc:subject/>
  <dc:title>Úvod do práva sociálního zabezpečení  Právo sociálního zabezpečení pro podnikatele                             a zaměstnavatele</dc:title>
</cp:coreProperties>
</file>