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DCE0-85E0-4697-86C5-EE570F6A10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114800"/>
            <a:ext cx="50292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ojistné za zaměstnan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odvádí jeho zaměstnavatel ( organizace a malá organizac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povinen vypočítat výši pojistného za zaměstnance a strhnout je ze zaměstnancovy mzdy (platu – zákonná srážka ze mzdy – viz § 12 zák. č.1/1992 Sb. a § 18 zák. č. 143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současně povinen vypočíst výši svého pojistnéh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lkové pojistné je potom 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alá 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ovinen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jistné odvádí v den, kter je určen jako výplatní termín za příslušný kalendářní měsí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ní-li tento den určen, je pojistné splatné nejpozději do 8 dnů po uplynutí kalendářního měsíce, za nějž se odvede (§ 10 zákona č. 589/1992 Sb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povinen od vybraného pojistného odečíst úhrn vyplacených dávek nemocenského pojištění a zbytek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-li úhrn zúčtovaných dávek vyšší, požádá zaměstnavatel příslušnou správu sociálního zabezpečení o úhradu rozdílu (§ 9 zákona č. 589/1992 Sb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VČ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na důchodové pojištění a příspěvek na státní politiku zaměstnanosti formou záloh na pojistné a doplatku pojistného (§ 13 z. 589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oba dobrovolně účastná na důchodovém pojiště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za jednotlivé kalendářní měsí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azby pojistného jsou sou diferencovány podle jednotlivých poplatní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SV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praven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35F-7131-4E71-A93E-8981EA1D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041-16B9-4830-82D1-B0ADEC26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319-0B0D-4021-8529-81F77C04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DB5-F5F5-4A68-9417-D9D88BA9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4A77-4AD7-4A43-99F1-A04F3A6F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F390-3CF5-45DD-827B-4F36FBC3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15B9-009E-4E26-8C04-F9EA1C8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31C8-9F74-4622-A8EA-C0E40AA6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D6ED-761E-4C5C-A8E5-B6B2F704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2ED6-5E2C-42A4-AFC4-6287E320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A188-1438-4E08-A934-65AD64E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C76-5BEE-4B13-AA18-28E8E807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5399-0752-4796-A021-10C35731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DCCA-78E2-455E-9083-93BDD434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D704-188B-44C2-9271-2845F9A6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5AC8-AE4A-4A20-BE39-A3772293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2A4-B427-430B-8B5D-3CBDEBC5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636-8C08-4055-850A-0A6F6CD4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241-27C0-4DA9-81A3-5F5F230B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FF4-51BE-4C37-B592-D49F47A3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401-4CF4-40EA-AC83-74DCBA3F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347-E1EC-4A19-901A-39A41A0A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092-D60F-4B84-8E6F-0052D21D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269-7488-4BB5-BD26-4E007C8B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A4E8-2FE0-47BB-A870-E28C01E29FE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BE5-F56F-4FF5-9D1F-CAFD0D96604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32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etropolitní univerzita Praha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ýukové středisko Plzeň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7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Region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268280"/>
            <a:ext cx="73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malá politika zaměstnanosti, která čítá provozování základních služeb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uje vytváření nových pracovních míst. Může stimulovat rozvoj národního hospodářství. Konkretizuje globální politiku státu na místní podmínky a stanovuje způsoby její realiz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váha při tvorbě a uskutečňování této politiky je na úřadech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 dodržování pracovněprávních předpisů dohlížejí inspektoráty prá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66d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Aktiv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086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ktivní politika zaměstnanosti je politikou stát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jím cílem je vytvářet reálné podmínky pro dosažení rovnováhy mezi nabídkou a poptávkou na trhu práce, zejména podmínky pro vzn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ových a efektivních pracovních míst – investiční pobídky, do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polečensky účelných pracovních mí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veřejně prospěšných pra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ování rekvalifik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97c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0f3fe"/>
                </a:solidFill>
                <a:latin typeface="Times New Roman"/>
              </a:rPr>
              <a:t>Pasivní politika zaměstnanost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6897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asivní  politika zaměstnanosti znamená ze záko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prostředkování zaměstnání uchazečům    o prá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dále </a:t>
            </a: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Právo na práci   X  Právo na zaměstnání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je jedním ze základních sociálních práv občan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čl. 23 Všeobecné deklarace lidských práv z roku 1948 má každý právo na práci, na svobodou volbu zaměstnání, na spravedlivé a uspokojivé pracovní podmínky a na ochranu proti nezaměstnanost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 čl. III, části 6. Mezinárodního paktu o hospodářských, sociálních a kulturních právech z roku 1966, který je pro ČR závazný,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znávají smluvní státy paktu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, které zahrnuje právo každého na příležitost vydělávat si na živobytí prací, kterou si svobodně vybere nebo přijme,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 uči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íslušná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patře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 ochraně tohoto prá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le je toto právo rozvedeno v Úmluvách MOP (č. 44, 88, 96, 97, 111, 142, 16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ná je Evropská sociální charta z roku 1961a Sociální charta Evropského společenství z roku 1989 jako politická deklar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e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prác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2392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U nás je právo upraveno v Listině základních práv a svobod jako součásti ústavního pořádku ČR.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Čl. 26 odst. 3 LZPS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 deklaruje, že každý má právo získávat prostředky pro své životní potřeby prací. Občany, kteří toto právo nemohou bez své viny vykonávat, stát v přiměřeném rozsahu hmotně zajišťu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dybychom si nyní z těchto jednotlivých ustanovení pokusili dát dohromady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definici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práva na práci, lze ji koncipovat následovně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práci je subjektivním právem každého občana na uplatnění vlastních schopností v pracovním procesu a prostřednictvím využití své pracovní síly (souhrnu duševních a fyzických vlastností člověka) i právo na získání prostředků k uspokojení svých základních potřeb. Nelze jej chápat jako právo absolutní, stát nemá povinnost každého občana za každou cenu zaměstna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f7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zaměstnání, §§ 10 až 12 zákona o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177300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zaměstnání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 upraven v čl. 26 odst. 1 LZPS, podle něhož má každý právo na svobodnou volbu povolání a přípravu k němu, jakož i právo podnikat a provozovat jinou hospodářskou činnost. Dále je toto právo rozvedeno v 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ákoně 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Právem na zaměstnání je právo fyzické osoby, která chce a může pracovat a o práci se uchází, na zaměstnání v pracovněprávním vztahu, na zprostředkování zaměstnání a na poskytnutí dalších služeb za podmínek stanovených zákonem 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Fyzická osoba má právo si sama svobodně zvolit a zabezpečit zaměstnání a vykonávat je na celém území ČR, nebo si může zabezpečit zaměstnání v zahranič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6b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010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0f3fe"/>
                </a:solidFill>
                <a:latin typeface="Times New Roman"/>
              </a:rPr>
              <a:t>Hlavní principy právní úpravy: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267920"/>
            <a:ext cx="73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Upřesnění postupů a zpřísnění podmínek při zprostředkování zaměstnání úřady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Úprava podmínek pro zařazení a vedení evidence uchazečů o zaměstná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Stanovení podmínek pro vznik nároku na podporu v ne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měna ve výši podpory a v délce podpůrčí doby s ohledem na věk uchazeč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ávazná pravidla pro agenturní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Částečné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46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y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360" y="1484280"/>
            <a:ext cx="746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vedení nových nástrojů aktivní politiky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Postavení občanů EU a jejich rodinných příslušníků na trh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pracování ochrany dětí při umělecké, kulturní, sportovní a reklamní čin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městnávání cizi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Rozšířené kontrolní pravomoci úřadů práce, celních úřadů, inspektorátů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Vyšší sankce za přestupky a správní delikty zjištěné při kontrolá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413000"/>
            <a:ext cx="6705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vytvořit takové podmínky, aby občanovi umožnil získávat prostředky k obživě svojí prací a zároveň zajistil určitou stabilitu vzniklého konkrétního právního vztahu, na základě které bude zajištěno právo získanou práci si udržet a pozbýt ji jen na základě zákonem stanovených podmín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zajistit občana hmotně v případě, že z nějakého zákonem uznaného důvodu nemůže pracovat.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§13 zákona o zaměstnanosti (s účinností od 1. 1. 2007 zrušen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nebo FO je povinna plnění běžných úkolů vyplývajících z předmětu její činnosti zajišťovat svými zaměstnanci, které k tomu účelu zaměstnává v pracovněprávních vztazích podle zákoníku prá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úkoly přímo související se zajištěním výroby nebo poskytováním služeb a obdobnou činností., které zaměstnavatel provádí pod vlastním jménem a na jeho odpovědnost prostřednictvím svých zaměstnanc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ormulace byla převzata bez z předchozí právní úpravy, zákaz „švarcsystému“ platí už od  1. 1. 1992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ě jsou upraveny sankce za porušení záko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irmy mohou uzavírat obchodní vztahy nejen s podniky, které mají své zaměstnance, ale také s živnostníky, kteří nikoho nezaměstnávají. Nesmi s však jednat o zastřený nebo skrytý pracovněprávní vzta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Politika zaměstnanosti. </a:t>
            </a: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Povinnosti firem v oblasti zaměstnanosti.</a:t>
            </a:r>
            <a:r>
              <a:rPr b="1" lang="cs-CZ" sz="3600" spc="-1" strike="noStrike">
                <a:solidFill>
                  <a:srgbClr val="00ffff"/>
                </a:solidFill>
                <a:latin typeface="Verdana"/>
                <a:ea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8. 11. 2008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28800" y="3573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069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Důležité pojmy zákona o zaměstnanosti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ájemce o zaměstnání, §§ 22 až 2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Uchazeč o zaměstnání, §§ 24 až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Podpora v nezaměstnanosti a podpora při rekvalifikaci, §§ 39 až 57 – 6 měsíců podpůrčí doba, případně 9 u osob od 50 let a 12 u  osob starších 55 let, výše 50% průměrného měsíčního čistého výdělku první 3 měsíce, dále 45%, 60% při rekvalifik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prostředkování zaměstnání agenturami práce, §§ 14 ,  58 až 6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aměstnávání osob se zdravotním postižením, §§ 67 až 84 – povinný 4% podíl u zaměstnavatelů s více než 25 zaměstnan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ákon o inspekci práce, z. č. 251/2005 Sb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125360"/>
            <a:ext cx="8001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činnost zákona od 1. 7.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nik Českého úřadu bezpečnosti práce a Inspektorátů bezpečnosti práce, dnes ted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átní úřad inspekce práce – správní ú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odřízen MPS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generáln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lní úkoly vymezené v § 4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lastní inspektoráty práce – organizační složka stát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vedouc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je jich 8, někde jsou detašovaná pracoviště jako např.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lomouc, Sokol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ykonávají kontrolu v rozsahu § 3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O  čem rozhodují Inspektoráty práce,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becně je působnost dána právními předpisy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7620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nichž vznikají práva a povinnosti v pracovněprávních vztazích zaměstnancům, příslušnému odborovému orgánu, radě zaměstnanců nebo zástupci pro oblast bezpečnosti a ochrany zdraví při prá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dměňování, náhrady mzdy nebo pla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ovující pracovní dobu a doby odpočin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 zajištění bezpečnosti práce a bezpečnosti provo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zaměstnávání žen, mladistvý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pravující výkon umělecké, kulturní, pracovní a reklamní činnosti dět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genturní zaměstná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praveno agenturní zaměstnávání v ZP a podrobnější úpravu obsahuje zákon o zaměstnanosti č. 435/2004 Sb. v ustanovení §§ 14, 58 až 66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d 1. října 2004 mohou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časně přidělo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zaměstnance pouze agentury práce s povolením ke zprostředkování zaměstnání, které uděluje příslušný úřad prá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Votavová navštívila 15. 09. 2004 úřad práce v místě svého trvalého bydliště, kde příslušnému referentovi sdělila, že žádá o zařazení do evidence uchazečů o zaměstnání vzhledem k tomu, že v dosavadním zaměstnání s ní byl rozvázán pracovní poměr výpovědí pro nadbytečnost a 30. 09. jí má skončit výpovědní doba. Od 1. 10.  jí proto podle jejího názoru náleží  podpora v ne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Jak byste vy na místě referenta na její žádost reagoval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á odstupné, které H. Votavová ke dni skončení předchozího pracovního poměru obdrží, vliv na poskytování podpory v nezaměstnanost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ůže být nárok na poskytování podpory v nezaměstnanosti ovlivněn způsobem či důvodem skončení předchozího zaměstnání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vinnosti OSVČ ve vztahu k úřadům správy sociálního zabezpečení jsou ve stručnosti následujíc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it příslušné okresní (Pražské) správě sociálního zabezpečení d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ájení (znovuzahájení) samostatné výdělečné činnosti nebo spolupráce při výkonu samostatné výdělečné činnosti s uvedením dne, od kterého je oprávněna tuto činnost vykonávat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ukončení samostatné výdělečné činnos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niku oprávnění vykonávat samostatnou výdělečnou činno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jí byl pozastaven výkon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nemá nárok na výplatu částečného nebo plného invalidního důchodu, na starobní důchod, na rodičovský příspěvek nebo příspěvek při péči o blízkou nebo jinou osobu, přestala vykonávat vojenskou (civilní) službu, přestala být nezaopatřeným dítětem, nebo byla propuštěna z vazby nebo výkonu trestu odnětí svobody trvající déle než tři kalendářní měsíce, pokud ohlásila a doložila vznik těchto skutečností pro účely výkonu vedlejší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ení se podává nejpozději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osmého dne kalendářního měsíce následujícího po měsíci, v němž nastala skutečnost, která zakládá tuto povinno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důchodovém pojištěn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hlavní samostatnou výdělečnou činnos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vedlejší samostatnou výdělečnou činnost, pokud její příjem z vedlejší samostatné výdělečné činnosti po odpočtu vynaložených výdajů dosáhl v kalendářním roce aspoň rozhodné částky. Rozhodná částka činí 2,4 násobek částky, která se stanoví jako součin všeobecného vyměřovacího základu za kalendářní rok, který o dva roky předchází kalendářnímu roku, za který se účast na důchodovém pojištění posuzuje a přepočítávacího koeficientu pro úpravu tohoto všeobecného vyměřovacího základ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nemocenském pojištění: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pojištění OSVČ j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ovolné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SVČ může být účastna nemocenského pojištění jen v těch kalendářních měsících, za které je povinna platit zálohy na pojistné na důchodové pojištění, a nebo je od placení záloh osvobozena.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čast na nemocenském pojištění vzniká dnem, od kterého se OSVČ přihlásila k nemocenskému pojištění, nejdříve však dnem, ve kterém se přihlásila. Zpětně může účast na pojištění vzniknout pouze v případě, že se OSVČ přihlásila k účasti nejpozději do 8 dnů od zahájení výkonu samostatné výdělečné činnosti a v té samé lhůtě se přihlásila i k účasti na důchodovém pojištění.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nemocenského pojištění OSVČ je poskytová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á pomoc v mateřství (peněžitá pomoc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alá organizace X Organiz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díl mezi malou organizací a organizací je ve způsobu vyplácení dávek nemocenského pojištění a odvodu pojistného na sociální zabezpečení a příspěvku na státní politiku zaměstn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malé organizace vyplácí dávky nemocenského pojištění příslušná OS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velké organiza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íce než 25 zaměstnanců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plácí dávky nemocenského pojištění zaměstnavatel, při odvodu pojistného odvádí rozdíl mezi vypočteným pojistným a zúčtovanými dávkami nemocenského pojištění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840" y="22860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AMĚSTNAVATELÉ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8960" y="1341000"/>
            <a:ext cx="774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vého zákona o nemocenském pojištění, z. č. 187/2006 Sb.,                 účinnost od 1. 1. 2009, bude dávky nemocenského pojištění vyplácet vždy okresní správa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gendu vyplácení dávek náhrady mzdy po dobu prvních 14 dní pracovní neschopnosti povedou všichni  zaměstnavatelé bez ohledu na počet zaměstnanců, které mají, zákoník práce, z. č. 262/2006 Sb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ladní pramen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0666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. Zákoník práce, z. č. 262/2006 Sb. ve znění pozdějších předpisů (ZP), účinnost od 1. 1.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2. Zákon o zaměstnanosti, z. č. 435/2004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3. Zákon o inspekci práce, z. č. 251/2005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4. Zákon o ochraně zaměstnanců při platební neschopnosti zaměstnavatele. z. č. 118/2000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ovinnosti OSVČ vůči úřadům práce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§§ 34 – 38 zákona o zaměstnanosti, 435/2004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vatel má povinnost hlásit volná pracovní místa do 10 kalendářních dnů a jejich charakteristiku a neprodleně nejpozději do 10 kalendářních dnů oznamovat obsazení těchto mí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vyžádání úřadu práce vybere zaměstnavatel z volných pracovních míst místa vhodná pro uchazeče, kterým úřad práce věnuje ze zákona zvýšenou péč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ekážky v prác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574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toj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íznivé povětrnostní vliv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é překážky v práci na straně zaměstnavatel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zaměstnanec na služební cest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hrada mzdy při dočasné pracovní neschopnosti, účinnost odložena na 1. 1. 200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AZBY POJISTNÉ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143000" y="838080"/>
          <a:ext cx="7821720" cy="6035760"/>
        </p:xfrm>
        <a:graphic>
          <a:graphicData uri="http://schemas.openxmlformats.org/drawingml/2006/table">
            <a:tbl>
              <a:tblPr/>
              <a:tblGrid>
                <a:gridCol w="1519200"/>
                <a:gridCol w="1519200"/>
                <a:gridCol w="1521000"/>
                <a:gridCol w="1519200"/>
                <a:gridCol w="17431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latní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z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mocensk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ůchodov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.po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os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á 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 5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V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-li účastna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4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oba dobrovolně účastná na důch. poj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680" y="0"/>
            <a:ext cx="913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imes New Roman"/>
              </a:rPr>
              <a:t>Sazby pojistného na nemocenské pojištění v návaznosti na nový  zákon o nemocenském pojištění, z. č. 187/2006 Sb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5280" y="1413000"/>
            <a:ext cx="78487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časná pracovní neschop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překážka v práci na straně zaměstnance - § 191 odst. 2 zákoníku práce, z. č. 262/2006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》</a:t>
            </a: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Zákon č. 261/2007 Sb., o stabilizaci veřejných rozpočtů, změnil znění, za první 3 dny náhrada mzdy příslušet nebude, od 4. dne ve výši 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ávka nemocenského pojištění od 15.d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STNÉ NA NEMOCENSKÉ POJIŠTĚNÍ, z. č. 589/1992 Sb., novela v souvislosti s účinností nového zákona o nemocenském pojištění, z. č. 187/2006 Sb., účinnost od 1. 1. 2009, postupné snižování % částky, kterou na nemocenské odvádí zaměstnavatel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295280" y="4419720"/>
          <a:ext cx="7315200" cy="2232000"/>
        </p:xfrm>
        <a:graphic>
          <a:graphicData uri="http://schemas.openxmlformats.org/drawingml/2006/table">
            <a:tbl>
              <a:tblPr/>
              <a:tblGrid>
                <a:gridCol w="2392560"/>
                <a:gridCol w="2460600"/>
                <a:gridCol w="2462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mpenz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chrana zaměstnanců při platební neschopnosti zaměstnavatele, z. č. 118/2000 Sb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95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neuspokojil splatné mzdové nároky zaměstnanců dnem následujícím po dni, kdy byl na něno podán návrh na prohlášení konkur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žádat kterýkoliv úřad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uplatnit nejpozději do 3 měsíců ode dne, kdy úřad práce zveřejnil informace o zaměstnavatelích, jejichž zaměstnanci mohou po prohlášení konkursu uplatnit své náro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. za dobu 3 měsíců lze uplatnit ná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skytnout jednomu zaměstnanci za měsíc částku nejvýše 1,5 násobku průměrné mzdy v národním hospodářství za předchozí kalendářní rok, zveřejňuje MPSV k 1. květnu kalendářního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2560" y="1052280"/>
            <a:ext cx="78994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je povinen vést evidenci všech občanů EU/EHP        a Švýcarska a jejich rodinných příslušníků, jakož i všech cizinců, které zaměstnává nebo kteří jsou k němu vyslání zahraničním zaměstnavatelem k výkon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vidence obsahuje identifikační údaje zaměstnance, adresu v zemi trvalého pobytu a adresu pro doručování, číslo cestovního dokladu a název vydávajícího orgánu, druh, místo a dobu výkonu práce, pohlaví, zařazení podle odvětvové (oborové) klasifikace ekonomických činností, nejvyšší dosažené vzdělání, vzdělání požadované pro výkon povolání, dobu platnosti povolení k zaměstnání a povolení k pobytu, den nástupu a skončení zaměstnání či vysl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izince lze získávat pouze na pracovní místo, které je zaměstnavatelem hlášeno na úřadu práce jako volné a na které nelze přijmout občana ČR, zejména uchazeče o zaměstnání, § 85 odst. 1 zákona o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82880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ji příjemn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pohodový zbytek dnešního dne milí posluchač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a81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ováděcí právní předpis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6680" y="1066680"/>
            <a:ext cx="7034400" cy="56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řízení vlády č. 515/2004 Sb., o hmotné podpoře na vytváření nových pracovních míst a hmotné podpoře rekvalifikace nebo školení zaměstnanců v rámci investičních pobíd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8/2004 Sb. , kterou se provádí zákon o zaměstnanosti č. 435/2004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9/2004 Sb. , o rekvalifikaci uchazečů o zaměstnání a zájemců o zaměstnání a o rekvalifikaci zaměstnanc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f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dfe"/>
                </a:solidFill>
                <a:latin typeface="Times New Roman"/>
              </a:rPr>
              <a:t>Politika zam</a:t>
            </a:r>
            <a:r>
              <a:rPr b="0" lang="cs-CZ" sz="4000" spc="-1" strike="noStrike">
                <a:solidFill>
                  <a:srgbClr val="eafdfe"/>
                </a:solidFill>
                <a:latin typeface="Times New Roman"/>
              </a:rPr>
              <a:t>ěstnanosti</a:t>
            </a:r>
            <a:r>
              <a:rPr b="0" lang="cs-CZ" sz="4000" spc="-1" strike="noStrike">
                <a:solidFill>
                  <a:srgbClr val="f5f3f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196640"/>
            <a:ext cx="7037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oučástí sociální politiky státu je i státní politika zaměstnan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Cílem je dosažení  rovnováhy mezi nabídkou a poptávkou po pracovní sí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Základem právní úpravy politiky zaměstnanosti je u nás zákon o zaměstnanosti, č.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435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/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2004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b.,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§ 1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Dosažení plné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 zaměstnanosti a ochrana proti nezaměstnanosti jsou základními cíli zabezpečování státní politiky zaměstnanosti.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b6a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04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ffdff"/>
                </a:solidFill>
                <a:latin typeface="Times New Roman"/>
              </a:rPr>
              <a:t>Nezaměstnanost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052640"/>
            <a:ext cx="7696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Politika trhu práce a sociální ochrana proti nezaměstnanosti se prolínají           a doplňuj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Nezaměstnanost není považována za vážný ekonomický a sociální problém do té doby, dokud se nestává masovou. Samotná existence nezaměstnanosti je přirozeným fenoménem a atributem svobodné společnosti založené na tržním mechanismu a demokracii</a:t>
            </a:r>
            <a:r>
              <a:rPr b="0" lang="cs-CZ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a70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ffeff"/>
                </a:solidFill>
                <a:latin typeface="Times New Roman"/>
              </a:rPr>
              <a:t>Ekonomické nástroje řízení zaměstnanosti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řízení zaměstnanosti, z nichž vycházel předchozí systém zabezpečení zaměstnanosti, jsou </a:t>
            </a: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hrazovány nástroji ekonomickými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, především daňovou a dotační politikou, zejména podpora podnikání ze strany státu a podpora vytváření nových pracovních  mí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 zůstávají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  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u zabezpečení zaměstnání u občanů se zdravotním postižením, kde jsou oba druhy nástrojů kombinová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81640" y="3294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Členění státní politiky zaměstnanost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ntr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g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35040" y="194616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s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879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Centr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267920"/>
            <a:ext cx="8153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velká politika zaměstnanosti, která vytváří globální strateg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líčovou roli v ní hrají nástroje měnové, fiskální           a mzdové politiky, strukturální změny ekonomiky, zaměření exportu, úroveň vzdělávacího systému             i celková koncepce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de o makroekonomické ovlivňování hospodářství, které je nutné odvíjet od výrobních rezortů, jež by měly působit preventivně proti nezaměstnanosti a jejím negativním sociálním dopadů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úlohu v oblasti centrální státní politiky zaměstnanosti má Ministerstvo práce</a:t>
            </a: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sociálních vě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Ilona</cp:lastModifiedBy>
  <dcterms:modified xsi:type="dcterms:W3CDTF">2008-11-06T22:54:56Z</dcterms:modified>
  <cp:revision>244</cp:revision>
  <dc:subject/>
  <dc:title>Základy pracovního práva Vysoká škola Karlovy Vary,o.p.s.</dc:title>
</cp:coreProperties>
</file>