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B220-34E5-4D25-90F2-F1184C25AC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uje soustavu komunálních a státních opatření na pomoc chudým, jimiž nejprve obec a pak stát navázal na církevní filantropickou charitu v době, kdy feudalismus přecházel do své poslední, tržní fáze a chudých velmi rychle přibýva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Chudinská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a později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sociální správa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představovala soustavu státní administrativy (včetně obecních) organizující a poskytující chudinskou pomoc. Sociální správa vykonávala dvě základní funkc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mocenskou, zejména kontrolní a policejní, když dozírala na dodržováním právních předpisů chudin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Služební, když chudině poskytovala azyl a jiné služby (jídlo) a spravovala rozdělování státních prostředků získaných z poplatků a da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ální péč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je pojem, kterým se koncem 19. století a počátkem 20. Století označovala soustavná péče státu a obce o sociálně slabší občan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Ekonomické základy </a:t>
            </a:r>
            <a:r>
              <a:rPr b="1" lang="cs-CZ" sz="1000" spc="-1" strike="noStrike" u="sng">
                <a:solidFill>
                  <a:srgbClr val="00cc99"/>
                </a:solidFill>
                <a:uFillTx/>
                <a:latin typeface="Times New Roman"/>
              </a:rPr>
              <a:t>social welfar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formuloval John Maynard Keynes (1883-1946). Na něj navazuje řada ekonomů, kteří propracovali modely redistribuce příjmů a dali tak ekonomický základ novému pojetí sociální bezpečnosti. Moderní poválečné představy se zrodily v průběhu druhé světové války v Anglii. Sir </a:t>
            </a:r>
            <a:r>
              <a:rPr b="1" lang="cs-CZ" sz="1000" spc="-1" strike="noStrike" u="sng">
                <a:solidFill>
                  <a:srgbClr val="000000"/>
                </a:solidFill>
                <a:uFillTx/>
                <a:latin typeface="Times New Roman"/>
              </a:rPr>
              <a:t>William Beveridge</a:t>
            </a: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(1879-1963), předseda státní komise dolní komory anglického parlamentu, přišel v roce 1942 s návrhem na vytvoření národního pojištění.Podle Beveridge sociální stát musí usilovat o uspokojení základních potřeb člověka tím,že bojuje proti pěti základním sociálním zlům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1) nevědomosti/igno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2) nečinnosti/idlen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3) nemoci/dise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4) nouzi/w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5) zanedbanosti/squa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jem </a:t>
            </a:r>
            <a:r>
              <a:rPr b="1" lang="cs-CZ" sz="1200" spc="-1" strike="noStrike" u="sng">
                <a:solidFill>
                  <a:srgbClr val="00cc99"/>
                </a:solidFill>
                <a:uFillTx/>
                <a:latin typeface="Times New Roman"/>
              </a:rPr>
              <a:t>záchranná sociální síť/“Social safety Net“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použila poprvé Světová banka začátkem 80. let minulého století v souvislosti se ekonomickými reformami v Latinské Americe a v Asii. Označuje systémové uspořádání sociálního pojištění, sociálních(státních) podpor a sociální pomoci způsobem, aby žádný občan nebyl existenčně ohrožen v době ekonomických reforem.      V důsledku ekonomické transformace by tedy občan neměl klesnout pod úroveň existenčního nebo sociálního minima. Záchranná sociální síť jako produkt liberální představy má zajistit jen důstojnou minimální hranici životních potřeb a ponechat na iniciativě jednotlivce, aby si zajistil ví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768-62AB-4723-9FA2-747C1037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C15-8D85-4551-A68C-2B3023E7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F69-CBA4-41D0-B363-DA393A2D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66E-0D3F-4C10-B687-73F6C9FF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B3CD-E31F-4310-92B4-E1405294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A9A8-69A3-48C9-A0A6-99761FE7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72AE-491E-4326-98C0-5859A67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6E6-1212-4ADD-83FC-50B75B0C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3DF9-1E28-48C5-8FE5-06CE52A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F490-24FC-4719-9C8D-202FE1E1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DC5B-9B02-45FB-92CD-5F905BE2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2DD-7038-47AC-AB85-CC9F0F72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DD10-5C4C-40EE-A3C7-01A1B813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FB83-B7C1-4966-9CC5-B3220B75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0D20-14EE-4D68-8385-65B87B5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7804-75EF-4D64-9515-6F04DD0C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16AB-6775-424A-B6AB-F492B1D3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134-2FF7-4A69-BC58-C97B0F97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1F8-080C-4654-9F59-A6C2C510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F73-488D-4A51-A248-AAE415FD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83E-C0A9-4323-B1ED-D72E06D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7C8-1AD2-4E3A-9CB3-F073528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00A-B372-4B02-9879-BEE95837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FBB-CDA8-411D-B7F4-9002F64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8F5E-89B9-481F-9BEA-ED2CEB116AE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CD23-4633-43C5-BFDC-B3542A869DE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http://www.sweb.cz/ilda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209080" cy="32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ávo sociálního zabezpečení pro podnikatele a zaměstnavatele</a:t>
            </a:r>
            <a:br>
              <a:rPr sz="4000"/>
            </a:br>
            <a:br>
              <a:rPr sz="40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tropolitní univerzita Praha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ukové středisko Plzeň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561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</a:t>
            </a: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lda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www.sweb.cz/il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0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ociální zabezpečení – pojistné na nemocenské a důchodové pojištění a příspěvek na státní politiku 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068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9/1992 Sb., o pojistném na sociální zabezpečení a příspěvku na státní politiku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08120" y="0"/>
            <a:ext cx="105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rameny práva nemocenského pojiště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42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, Sociální pojištění a Nemocenské pojištění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88/1968 Sb., o prodloužení mateřské dovolené, o dávkách v mateřství a o přídavcích na děti z nemocenského pojištění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4/1956 Sb., o nemocenském pojištění zaměstnanců, v 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, účinnost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2/2006 Sb., zákoník práce, náhrada mzdy po dobu prvních 14 dní trvání dočasné pracovní neschopnosti, od 1. 1. 20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, účinnost 1. 1. 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0"/>
            <a:ext cx="96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důchodového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 – sociální po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155 /1995 Sb., o důchodovém pojištění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42/1994 Sb., o penzijním připojištění se státním příspěvkem, v 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č. 340/2006 Sb., o činnosti institucí zaměstnaneckého penzijního připojištění z členských států Evropské unie nebo jiných států, které jsou smluvní stranou Dohody o Evropském hospodářském prostoru, na území ČR, 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 práva – pro účel vyplácení podpory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 nezaměstna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435/2004 Sb., o zaměstnanosti, v 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Prameny práva zdravotního pojištěn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694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Z – Zdravotní pojištění a zdravotní péč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on č. 48/1997 Sb., o veřejném zdravotním pojištění, v platném z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92/1992 Sb., o pojistném na všeobecné zdravotní pojištění, ve znění pozdějších právních předpis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551/1991 Sb., o Všeobecné zdravotní pojišťovně ČR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80/1992 Sb., o resortních, oborových, podnikových a dalších zdravotních pojišťovná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0/1966 Sb.,  o péči o zdraví lidu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58/2000 Sb., o ochraně veřejného zdraví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60/1992 Sb., o zdravotní péči v nestát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245/2006 Sb., o veřejných neziskových ústavních zdravotnických zařízeních,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ávní předpisy státní sociální podpory a sociální péč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Z – sociální zabezpeč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7/1995 Sb. , o státní sociální podpoře,  v platném zn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08/2006 Sb., o sociálních službá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0/2006 Sb., o životním a existenčním mini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on č. 111/2006 Sb., o pomoci v hmotné nou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Kontinuální vývoj a změny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REFORMA 2008, 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činnost 1. 1. 2008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 o stabilizaci veřejných rozpočtů, č.  261/2007 Sb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v nemocenském pojištění zaměstnanců, důchodovém pojištění, organizaci a provádění sociálního zabezpečení,  u vyplácení podpory v nezaměstnanosti, v systému dávek státní sociální podpory   a v sociální péč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ocenské pojištění – výše dávky nemocenského za první 3 dny ne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ůchodové pojištění – zvýšení základní výměry důcho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razové pojištění zaměstnanců - 20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8, 2009, 20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187/2006 Sb., o nemocenském pojišt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Z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ákon č. 54/1956 Sb., o nemocenském pojištění zaměstnanců</a:t>
            </a:r>
            <a:r>
              <a:rPr b="1" lang="cs-CZ" sz="2000" spc="-1" strike="noStrike" u="sng">
                <a:solidFill>
                  <a:srgbClr val="ff0033"/>
                </a:solidFill>
                <a:uFillTx/>
                <a:latin typeface="Times New Roman"/>
              </a:rPr>
              <a:t>,</a:t>
            </a: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 v platném zně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2/2006 Sb., zákoník prá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dpovědnost zaměstnavatele za pracovní úrazy a nemoci z povolání, § 365 a nás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ahradil stávající zákoník práce, z. č. 65/1965 Sb., ve znění pozdějších předpis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 č. 266/2006 Sb., o úrazovém pojištění zaměstnan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účinnost od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1. 2010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odloženo o 1 rok, s výjimkou části deváté čl. IX bodu 4 a části třicáté čl. XXX které nabývají účinnosti dnem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1. července 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33"/>
                </a:solidFill>
                <a:latin typeface="Times New Roman"/>
              </a:rPr>
              <a:t>(nová právní úprava v Č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1342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Nemocenské 2008 po Nálezu Ústavního soud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06292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. č. 54/1956 Sb., v platném z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08 - první 3 dny nepřísluš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30. června 2008 náleželo 60% DV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ález ÚS publikován pod č. 166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d 1. září 2008 25% DV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novela 305/2008 Sb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0% DVZ od 4. do 30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6% DVZ od 31 do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72% DVZ od 61. d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08. 11. 2008 </a:t>
            </a:r>
            <a:br>
              <a:rPr sz="3600"/>
            </a:b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gr. Ilona Kostadinovová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vod do práva sociálního zabezpečení, pojem, předmět, systém a prameny práva sociálního zabezpečení v ČR a v E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jistné na sociální zabezpečení a příspěvek na státní politiku zaměstna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ůchodového pojištění – právní úprava, vazby a význam. Základní principy důchodového pojištění. Jednotlivé dávky důchodového systému podmíněné dlouhodobě nepříznivým zdravotním stavem nebo závislostí na péči jiné osoby, pozůstalostní důchody. Souběh nároků na důchody a na jejich výplatu. Zvyšování důchodů. Doplňkové důchodové systémy. Penzijní připojištění se státním příspěvk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měny 2009 v pojistné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29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ížení procentní sazby odvodu pojistného na nemocenské pojištění - vol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penzace za to, že po dobu prvních 14 dní bude zaměstnavatel vyplácet při pracovní neschopnosti náhradu mz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Důchody 2008,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80629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chodové pojištění – z. č. 155/1995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základní výměry důchodů -  na 2170,- Kč v roce 2008, n. v. 211/2008 Sb., a v roce 2009, n. v. 363/2008  Sb. dojde ke zvýšení procentní výměry o 4,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ýšení příplatků k důchodu v roce 2008 n.v. 212/2008 Sb., a v roce 2009 n. v. 364/2008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. v. 365/2008 Sb. – účinnost od 1. 1.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1527,- Kč výše všeobecného vyměřovacího základu a přepočítacího koeficientu pro jeho úpravu 1,09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Částky pro výpočtový základ dle § 15 zákona o důchodovém pojištění se zvyšují na 10500,- Kč a 27000,- K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odpora v nezaměstnanosti 2009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v nezaměstnanosti – v roce 2009 dojde ke zkrácení podpůrčí doby, po kterou bude vyplácena 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razové pojiště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062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Odpovědnost zaměstnavatele za škodu způsobenou pracovním úrazem a nemocí z povolání podle nového zákona o úrazovém pojištění, z. č. 266/2006 Sb. (účinnost od 1. 1. 201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átcem pojistného je zaměstnavat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ntní sazba z úhrnu vyměřovacích základů zaměstnanců pro pojistné na sociální zabezpečení v rozhodném období, kterým bude kalendářní měsí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zby pojistného v příloze č. 2 zákona o úrazovém pojištění od 0, 28% k 5, 04% - převažující ekonomické činnosti OKE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loha č. 1 – seznam nemocí z povol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Pojem sociálního zabezpečení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chůdci pojmu byly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historicky pojm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hudinská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sprá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é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dpovědné ministerstvo se v roce 1918 nazývalo ministerstvo sociální péče, dnes je to Ministerstvo práce a sociálních věc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em sociálního zabezpečení byl modifikován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orií sociálního stát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/“social welfare state“, Belveridge (1942). Social welfare se v sociálním státě zpravidla uskutečňuje sociálním a zdravotním pojištěním, státními podporami a sociální pomocí občanů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slední fází terminologického vývoje je zavedení pojmu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 och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na půdě Evropské unie (social protection). Sociální ochrana v širším významu zahrnuje social welfare, zdravotní a sociální prevenci, pracovněprávní ochranu (včetně bezpečnosti práce) a ochranu prostředí (ekologi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nes se stírá rozdíl mezi ochranou pracovních podmínek a ochranou při sociálních událostech. Vývoj směřuje k integraci pracovního práva  práva sociálního zabezpečení v sociální právo poskytující sociální ochranu občanům jako reflexe jejich nezadatelných lidských prá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 politika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soustavné a cílevědomé úsilí jednotlivých sociálních subjektů o změnu nebo o udržení         a fungování svého nebo jiného (státního nebo samosprávného)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ěkdy bývá sociální politika ztotožňována se záchrannou sociální sítí/social safety net, která je jen jedním z nástrojů sociálního zabezpečení, jde o soustavu sociálních dávek k zabezpečení životního minima občanů a sociálních služeb, které mají pomoci v sociální či existenční kri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lita záchranné sociální sítě určuje kvalitu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Cíl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Cíl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soudobého sociálního zabezpečení je regulace odpovědnosti občana za svou budoucnost (povinné pojistné systémy) a stanovení míry a forem sociální solidarity mezi občany (povinný či dobrovolný transfer prostředků skrze daňovou soustavu nebo sponzorováním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emokratické uspořádání společnosti se zabudovanými sociálními zárukami důstojné existence člověka se jeví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irozený vrchol pyramidy společenského rozvoj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m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ociálním práve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je právo na práci, jehož součástí je právo na vzdělání a náležitou přípravu na povolání. S tím souvisí právo na uspokojivé pracovní podmínky, na životní úroveň, na rodinu a na sociální zabezpečení. Jde o sociální práva občana garantovaná Všeobecnou deklarací lidských prá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ředmět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práva sociálního zabezpečení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soubor právních předpisů, které upravují hmotné zabezpečení a služby, jež stát zabezpečuje, reguluje nebo poskytuje občanům, kteří v důsledku sociální události nemohou být výdělečně činnými a jejichž nezadatelná sociální práva zaručená ústavou jsou ohrože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Karlově Univerzitě se začalo v roce 1955 začalo učit právo sociálního zabezpečení ve spojení s právem pracovní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obor práva, který upravuje jako soukromoprávní, tak veřejnoprávní vztahy, které vznikají v souvislosti se zajišťováním ústavou zaručených sociálních práv občanů stá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át něco poskytuje, jako např. zabezpečení v nezaměstnanosti, při neschopnosti pracovat, při úrazu a nemoci z povolání, při nedostatečných příjmech nezabezpečujících alespoň životní minimum, při podpoře ve výchově dětí a podpoře nízkopříjmových rodin, při ztrátě výdělečné schopnosti a ztrátě živitele a ve stář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í odvětví původně součástí pracovního práva, neboť pracovní smlouva zakládala ze zákona práva a povinností práva sociálního zabezpečen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hraniční obor s prvky veřejnoprávními i soukromoprávní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ystém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sociálního zabezpečení v ČR</a:t>
            </a:r>
            <a:br>
              <a:rPr sz="24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enění sociální zabezpe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chází zpravidla ze způsobu financování, typu sociální události a s nimi spojených dávek, charakteru účasti osob v daném systému, převažujících principů, na kterých je vybudováno a dalších hledisek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ální zabezpečení pak můžeme členit na systém sociálního pojištění, systém státního sociálního zaopatření a systém sociální pomoc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jiného hlediska můžeme dělit sociální zabezpečení na systémy základní a doplňkové, které lze dělit na nárokové (obligatorní) a dobrovolné (fakultativní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Tři základní pilíře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sociálního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 jehož rámci jsou osoby pojištěny pro případ nemoci, těhotenství a mateřství, ošetřování nemocného člena rodiny, pro případ dosažení stanoveného věku (stáří), invalidity a ztráty živitele. Systém zahrn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a důchodové pojiště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Systém státní sociální podpor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jišťuje především ženy v souvislosti s porodem, dále rodiny, které pečují o nezaopatřené děti a rodiny v souvislosti se ztrátou živite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ystém sociální pomoc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rčený osobám, které se nacházejí v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motné nouzi</a:t>
            </a:r>
            <a:r>
              <a:rPr b="0" i="1" lang="cs-CZ" sz="2400" spc="-1" strike="noStrike" u="sng">
                <a:solidFill>
                  <a:srgbClr val="800080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o jiné zpravidla nepříznivé životní situaci, kterou nejsou schopn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ešit vlastními silami. Platná právní úprava používá termín sociální péče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Osnova - pokračování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mocenského pojištění -  právní úprava, vazby, význam. Jednotlivé dávky nemocenského pojištění  (nemocenské, podpora při ošetřování člena rodiny, peněžitá pomoc v mateřství, vyrovnávací příspěvek v těhotenství a mateřství). Náhrada mzdy od zaměstnavatele v době pracovní neschopnosti zaměstnance. Nemocenské pojištění osob samostatně výdělečně činných. Odchylné úpravy nemocenského pojištění pro některé skupiny zaměstnanců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dravotní pojištění v ČR – právní úprava, vazby a význam. Základní principy veřejného zdravotního pojištění. Osobní a věcný rozsah veřejného zdravotního pojištění. Pojistné na veřejné zdravotní pojištění. Institucionální zajištění veřejného zdravotního pojištění. Způsob a formy poskytování a úhrady zdravotní péče. Druhy zdravotních pojišťoven a jejich organizační struktu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Další systémy sociálního zabezpečení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Systém penzijního při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istuje od roku 1994 a zajišťuje osoby zejména pro případ dosažení stanoveného věku, invalidity a ztráty živitele. Jde o doplněk základního důchodového pojištění, který je od sociálního pojištění oddělen. Jedná se o typ soukromého pojištění s veřejnoprávními prvky. Penzijní připojištění je dobrovoln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statné úrazové pojištění pro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ad pracovních úrazů a nemocí z povolá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ý zákon o úrazovém pojištění však již byl přijat, část nabyla účinnosti v červenci 2006, zákon č. 266/2006 Sb., by měl nabýt účinnosti od 1. 1. 2010. Do té doby plat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v důsledku úrazu ke krátkodobé neschopnosti pracovat, je osoba zabezpečena v rámci nemocenského pojištění příslušnou dávko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jde-li k dlouhodobé neschopnosti pracovat, je osoba zajištěna důchodem částečným invalidním nebo plným invalidním. Problematika pracovních úrazů a nemocí z povolání je řešena v souvislosti s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vědností zaměstnavatele za škod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zákoníku práce. Zabezpečení při pracovní neschopnosti a ve stáří a zaměstnávání po návratu do práce je upraveno v §§ 365 a násl. zákoníku práce, z. č. 262/2006 Sb. Hmotné zabezpečení zaměstnanců při neschopnosti k práci v důsledku nemoci, úrazu, těhotenství a mateřství upravují předpisy o 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m pojiště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řístup k výkladu sociálních jevů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ochra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riziko, pojistné 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událos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Změna zdravotního stavu – zdraví, nemoc, úraz, invalid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Nezaměstna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Rod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) Stář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) Chudo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Systémy nástrojů sociální politik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g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něžit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cné dáv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nancování nástrojů sociální poli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očtová tech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Organizace sociálního systému v Č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ravot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jištění – pojist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om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h, stát a občanský sek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prá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stát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ociální práva občan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rá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uspokojivé pracovní podmín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přiměřenou životní úrove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rodi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vobodu sdruž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Osnova - pokračová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átní sociální podpora – právní úprava, vazby a význam. Nárok na dávky státní sociální podpory, životní a existenční minimum. Jednotlivé testované a netestované dávky státní sociální podpo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ciální péče – právní úprava, vazby a význam. Sociální služby. Pomoc v hmotné nouz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ční uspořádání sociálního zabezpečení a řízení ve věcech sociálního zabezpeč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Doporučená literatur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Vacík, A., Trinnerová, D. , Vydavatelství a nakladatelství Aleš Čeněk, s.  r. o., Pelhřimov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 v rámci Evropské Unie, Černá, J. , Vacík, A. Vydavatelství a nakladatelství Aleš Čeněk, s. r. o. , Plzeň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sociálního zabezpečení, Tröster, P. a kol. ,  C. H. Beck, Praha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, Galvas, M. , Gregorová, Z. , Masarykova univerzita a nakladatelství Doplněk, Brno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právo Evropské unie, Tomeš, I. – Koldinská, K., C. H. Beck, Praha 2003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xikon sociálního zabezpečení a zdravotního pojištění, Sagit, Ostrava-Poruba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ociální zabezpečení a zdravotní pojištění zaměstnanců a osob samostatně výdělečně činných, Šmíd, J. , Ženíšková, M. , ANAG, Olomouc, 200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1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Nemocenské pojištění, Ženíšková, M. , ANAG, Praha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é dávky v nemoci a mateřství v Evropské unii. Chvátalová I. , LINDE, Praha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ateřská a rodičovská dovolená, Přib, J. , Břeská, N. , Špundová, E. , Pilátoáv, J. , GRADA, Havlíčkův Brod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ůchodové předpisy, Přib, J., Voříšek, V., ANAG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dy do důchodu a za kolik, Přib. J. , GRADA, Jihlava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átní sociální podpora, Břeská, N. , Burdová, E. , Vránová, L. , ANAG, Jihlava,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vky pomoci v hmotné nouzi a dávky sociální péče pro zdravotně postižené osoby k 1. 3. 2007, Břeská N. , Vránová, L. Anag, Olomouc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řízení sociální péče pro seniory a zdravotně postižené občany, ANAG, Brno,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ální pomoc a právo, Koldinská, K. , Marková, H. , Orac, Praha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ákon o zaměstnanosti s komentářem, včetně prováděcích předpisů k 15. 2. 2006 s aktualizací k 1. 1. 2007, Anag, Olomouc 200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entář k Ústavě ČR a Listině základních práv a svobod, Klíma K. a kol., Vydavatelství a nakladatelství Aleš Čeněk, s. r. o. , Plzeň  2006, zejména část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k Listině základních práv a svobod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ociální práv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Ministerstvo práce a sociálních věcí, Sociální zabezpečení osoby pohybujících se v  rámci Evropské unie, Praha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áva sociálního zabezpečení, Trinnerová, D. , Vacík, A. , Vydavatelství a nakladatelství Aleš Čeněk, Pelhřimov 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bírka příkladů z pracovního práva a práva sociálního zabezpečení, Galvas, M. , Gregorová, Z. , Zachariáš, J. , Vydavatelství a nakladatelství Aleš Čeněk, Pelhřimov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Úvod do práva sociálního zabezpečení,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pojem, předmět, systém </a:t>
            </a:r>
            <a:br>
              <a:rPr sz="4000"/>
            </a:b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a prameny práva sociálního zabezpečení v ČR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43664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hled pramenů práva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kladní prameny prá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Nemocenské pojištění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ÚZ, Zdravotní pojištění a zdravotní péč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Prameny práva – organizace        a systém sociálního zabezpečen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100/1998 Sb. , o sociálním zabezpečení,  v platném z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Z, Sociální pojišt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on č. 582/1991 Sb., o organizaci a provádění sociálního zabezpeč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8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7:14:46Z</dcterms:created>
  <dc:creator>Ilona Kostadinovová</dc:creator>
  <dc:description/>
  <dc:language>en-US</dc:language>
  <cp:lastModifiedBy>Ilona</cp:lastModifiedBy>
  <dcterms:modified xsi:type="dcterms:W3CDTF">2008-11-06T21:06:21Z</dcterms:modified>
  <cp:revision>196</cp:revision>
  <dc:subject/>
  <dc:title>Úvod do práva sociálního zabezpečení  Právo sociálního zabezpečení pro podnikatele                             a zaměstnavatele</dc:title>
</cp:coreProperties>
</file>