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0F0-D4DB-4AFA-A28A-F399EA46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D76-527D-40AD-AF2F-7B8EBB7D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6F6-5BB2-41BE-BE1C-053C8BB9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008-1BA3-4F64-840F-D1A575B0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FB1A-FEEF-46D5-916F-EB66EE34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B566-0607-4751-828A-5AFB791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CAAF-FE93-46EC-A563-723F3F0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657-F61B-4797-A40F-CE64AD13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4390-3310-4E5D-85D1-70AF74E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0A3D-8987-4150-B9A5-212811D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A64-0FC7-4F0C-81C1-DA9A058D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EA4-326A-4A63-A7CE-C9FB2161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62BE-7A1B-4175-B27E-158A7CA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9525-B9E7-4D40-8A21-CEACC39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D1CC-0142-48E5-AAD3-6D675995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6CBF-9763-42E2-BCAC-394F61F3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87A8-4E2B-4209-AC8B-E93A9C22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D50-BF6E-48EA-B3C9-C42E93B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93F-BEB7-462B-91B5-A17CEDE1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001-5FB6-427F-B36F-2F774AB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804-5DED-4C61-9AF6-E4459529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4CA-6673-402D-A331-94A8A61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93C-A013-420F-BFF8-DFA96759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92D-A226-483A-ADB9-AFCC67E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92ED-BD3B-47D1-943E-C070DDEF372C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107-2B50-4816-BC5B-AD5F2D98F0B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ároky z neplatného rozvázání pracovního poměru</a:t>
            </a:r>
            <a:br>
              <a:rPr sz="4400"/>
            </a:br>
            <a:r>
              <a:rPr b="1" i="1" lang="en-US" sz="3200" spc="-1" strike="noStrike">
                <a:solidFill>
                  <a:srgbClr val="795241"/>
                </a:solidFill>
                <a:latin typeface="Times New Roman"/>
              </a:rPr>
              <a:t>§§ </a:t>
            </a:r>
            <a:r>
              <a:rPr b="0" i="1" lang="en-US" sz="3200" spc="-1" strike="noStrike">
                <a:solidFill>
                  <a:srgbClr val="795241"/>
                </a:solidFill>
                <a:latin typeface="Times New Roman"/>
              </a:rPr>
              <a:t>69 až 72 zákoníku práce, z. č. 262/2006 Sb., účinnost od 1. 1. 2007 (ZP)</a:t>
            </a: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 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4266720"/>
            <a:ext cx="6400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ilda</a:t>
            </a:r>
            <a:r>
              <a:rPr b="0" lang="en-US" sz="32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Uplatnění nároků u soudu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ovolávat se neplatnosti u soudu je možné pouze tzv. </a:t>
            </a:r>
            <a:r>
              <a:rPr b="1" lang="cs-CZ" sz="2400" spc="-1" strike="noStrike" u="sng">
                <a:solidFill>
                  <a:srgbClr val="463634"/>
                </a:solidFill>
                <a:uFillTx/>
                <a:latin typeface="Times New Roman"/>
                <a:ea typeface="Times New Roman"/>
              </a:rPr>
              <a:t>žalobou na určení neplatnosti rozvázání pracovního poměru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a tuto žalobu může podat pouze účastník pracovního poměru, to znamená zaměstnanec nebo zaměstnavatel, tedy ten z účastníků jemuž byl neplatný právní úkon směřován.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Platí </a:t>
            </a:r>
            <a:r>
              <a:rPr b="1" lang="cs-CZ" sz="2400" spc="-1" strike="noStrike" u="sng">
                <a:solidFill>
                  <a:srgbClr val="463634"/>
                </a:solidFill>
                <a:uFillTx/>
                <a:latin typeface="Times New Roman"/>
              </a:rPr>
              <a:t>prekluzivní lhůta dvou měsíců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číná dnem, kdy měl pracovní poměr neplatným rozvázáním skončit. Marným uplynutím této lhůty právo účastníka dovolávat se neplatnosti právního úkonu u soudu zaniká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Důvody pro něž bude neplatností stižená výpověď budou zejména následující: </a:t>
            </a:r>
            <a:br>
              <a:rPr sz="3600"/>
            </a:b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. Výpověď nebyla učiněna písemně a nebyla doručena druhému účastník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V písemném projevu nebyl uveden důvod nebo nebyl konkretizován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3. Výpověď byla dána z důvodu, který v právní úpravě vůbec neexistuje – toto se bude týkat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     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výpovědi dané zaměstnavatelem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4. Nebyl dán souhlas úřadu práce, nebyl dán předchozí souhlas příslušeného odborovéh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     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rgánu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5. Výpověď byla daná v ochranné době nebo nebyla dodržena lhůta pro použití výpovědního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ůvodu dle ustanovení § 46 odst. 1 písm f) zákoníku práce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95241"/>
                </a:solidFill>
                <a:latin typeface="Times New Roman"/>
              </a:rPr>
              <a:t>O</a:t>
            </a:r>
            <a:r>
              <a:rPr b="1" i="1" lang="en-US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kamžité zrušení pracovního poměru, toto je stiženo neplatností tehdy:</a:t>
            </a: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nebylo učiněno písemně, případně nebylo doručeno druhému účastníkovi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v písemném důvodu nebyl uveden důvod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nebyl použit důvod okamžitého zrušení stanovený zákoníkem práce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okamžité zrušení nebylo učiněno ve lhůtě stanovené zákoníkem práce – nebyla dodržen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bjektivní nebo subjektivní lhůta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okamžité zrušení bylo dáno v ochranné době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nebyl dán předchozí souhlas příslušného odborového orgán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eplatné rozvázání pracovního poměru ze strany zaměstnavatele.</a:t>
            </a:r>
            <a:br>
              <a:rPr sz="4000"/>
            </a:b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1. Za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městnanec oznámil zaměstnavateli, že trvá na další existenci pracovního poměru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&gt;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stávají následky uvedené dle § 69 odst. 1 zákoníku práce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, tedy pracovní poměr trvá a zaměstnanci náleží náhrada mzdy ve výši průměrného výdělku ode dne, kdy oznámil zaměstnavateli, že trvá na dalším zaměstnávání do doby, kdy mu zaměstnavatel umožní pokračovat v práci nebo dojde k platnému skončení pracovního poměru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2. Zaměstnanec netrvá na další existenci pracovního poměru.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Nastávají právní účinky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§ 69 odst. 2 zákoníku práce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, nedohodne-li se zaměstnavatel se zaměstnancem jinak, platí, že pracovní poměr skončil dohodou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a) Uplynutím výpovědní doby, byla-li dána neplatná výpově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b) Dnem, kterým měl pracovní poměr skončit, byl-li prac. poměr neplatně okamžitě zrušen nebo ve zkušební době. Zaměstnanci náleží náhrada mzdy ve výši průměrného výdělku za dobu výpovědní doby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278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eplatné rozvázání pracovního poměru ze strany zaměstnance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42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1.Za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městnavatel oznámil zaměstnanci, že trvá na tom, aby nadále konal práce, nastávají  právní následky uvedené v § 70 odst. 1 zákoníku práce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, tj. pracovní poměr trvá a zaměstnanec je povinen konat svou práci. Nevyhoví-li zaměstnanec, může zaměstnavatel požadovat náhradu škody ode dne, kdy oznámil, že trvá na dalším konání prací. Za dobu před uplatněním nároku u soudu, přísluší zaměstnavateli náhrada škody jen za jeden měsíc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2.Z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městnavatel netrvá na dalším zaměstnávání zaměstnance, v takovém případě pracovní poměr končí jakoby dohodou k určitému datu a tímto dnem je v případě neplatné výpovědi poslední den výpovědní doby a při neplatném okamžitém zrušení nebo zrušení ve zkušební době je tímto dnem den, kdy pracovní poměr měl tímto neplatným právním úkonem skončit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ři neplatném rozvázání pracovního poměru ze strany zaměstnance, pokud zaměstnavatel netrvá na dalším výkonu práce však zaměstnavateli nevzniká žádný nárok na náhradu eventuelní škody, z čehož plyne, že v souladu s ustanovením § 70 odst. 3 ZP zaměstnavatel nemůže vůbec náhradu škody  uplatňovat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Nároky spojené s neplatnou dohodou o rozvázání pracovního poměru</a:t>
            </a:r>
            <a:br>
              <a:rPr sz="36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kud byla uzavřena neplatná dohoda o rozvázání pracovního poměru, postupuje se při posuzování nároku zaměstnance na náhradu ušlé mzdy obdobně jako při neplatné výpovědi dané zaměstnanci zaměstnavatelem dle ustanovení § 71 zákoníku práce, avšak zaměstnavatel nárok na náhradu škody pro neplatnost dohody uplatňovat nemůže.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K některým praktickým otázkám: 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795241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známení zaměstnance, že trvá na tom, aby ho zaměstnavatel dále zaměstnával nevyžaduje písemné formy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795241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stnanec může podat žalobu na neplatnost výpovědi kdykoli poté co se o existenci výpovědi dozvěděl, bez ohledu na to, zda mu byla výpověď doručena do vlastních rukou</a:t>
            </a:r>
            <a:r>
              <a:rPr b="0" lang="en-US" sz="2000" spc="-1" strike="noStrike">
                <a:solidFill>
                  <a:srgbClr val="463634"/>
                </a:solidFill>
                <a:latin typeface="Symbol"/>
                <a:ea typeface="Symbol"/>
              </a:rPr>
              <a:t>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řed řádným doručením výpovědi však běh dvouměsíční propadné lhůty podle § 64 zákoníku práce nezačne.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5241"/>
                </a:solidFill>
                <a:latin typeface="Times New Roman"/>
              </a:rPr>
              <a:t>Skončení pracovního poměru  na základě subjektivní právní skutečnosti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§ 48 NZP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niká pracovní poměr na základě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) Subjektivní právní skutečnosti, na základě kterých ukončí pracovní poměr jeho účastníci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) dohoda o rozvázání pracovního poměru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 49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) výpověď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 pracovního poměru -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 50 a násl.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c) okamžité zrušení pracovního poměru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–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§ 55 a 56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) zrušení pracovního poměru ve zkušební době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§ 58 ZP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, §§ 35 a 66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</a:rPr>
              <a:t>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V případě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volání z funkce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( u pracovního poměru založeného jmenováním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ebo v případě uplynutí volebního období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emusí nutně dojít k zániku pracovního poměr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) Subjektivní právní skutečnost, na základě které ukončí pracovní poměr subjekt odlišný od účastníků pracovního poměru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§ 48 odst. 3 NZP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-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úřední rozhodnutí </a:t>
            </a: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rgánů státní správy a orgánů soudní soustavy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Skončení pracovního poměru na základě objektivní právní skutečnosti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a)  </a:t>
            </a: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uplynutí doby u pracovního poměru sjednaného na dobu určitou,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§ 65 Z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) smrt zaměstnance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– podle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§ 48 odst. 4 Z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niká pracovní poměr přímo okamžikem smrti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c) úřední rozhodnutí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- použití je omezeno jen na pracovní poměr cizinců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osob bez státní příslušnosti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elze takto ukončit pracovní poměr občana ČR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vičný příkla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stnance F. Duspiva uzavřel dne 1. 7. se zaměstnavatelem SAKO s. r. o. pracovní smlouvu (se shodným dnem nástupu do práce – 1. 7. ), která obsahovala i ujednání o zkušební době v délce 3 měsíců. Zkušební doba tedy měla uplynout dne 30. 9. Dne 5. 7. Duspiva onemocněl. Byl nemocen až do 12. 10. Po té době nastoupil k výkonu práce. Jeho výsledky při výkonu práce však během příštích 10 dnů zaměstnavatele neuspokojovaly, a proto s F. Duspivou pracovní poměr ve zkušební době zrušil. F. Duspiva namítal neplatnost rozvázání pracovního poměru, neboť dle jeho názoru již nebyl ve zkušební době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) Je správná námitka F. Duspiv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) Změnila by něco na výše uvedeném příkladě skutečnost, že zkušební doba byla sjednána dodatečnou písemnou dohodou (dodatkem k pracovní smlouvě) dne 2. 7. 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vičný příkla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. Nová pracovala v pracovním poměru u zaměstnavatele GAMA s. r. o. po stanovenou týdenní pracovní dobu. Dne 29. 3. jí byla doručena výpověď z pracovního poměru, podle níž měl její pracovní poměr skončit ke dni 31. 5. Dne 7. 6. se J. Nováková dostavila na personální oddělení zaměstnavatele a předložila lékařskou zprávu odborného ženského lékaře, podle něhož byla dne 6. 6. vyšetřena a bylo zjištěno, že je ve čtvrtém měsíci těhotenství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1) Pokud zaměstnavatel GAMA s. r. o. o těhotenství J. Novotné nevěděl, byla výpověď dána platně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2) Měla by na posuzovanou situaci vliv skutečnost, kdyby pracovní poměr s J. Novotnou rozvázán výpovědí z důvodu, pro který by s ní mohl být pracovní poměr okamžitě zrušen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95241"/>
                </a:solidFill>
                <a:latin typeface="Times New Roman"/>
              </a:rPr>
              <a:t>Uplatňování práv a  pracovněprávních nároků </a:t>
            </a:r>
            <a:br>
              <a:rPr sz="3200"/>
            </a:br>
            <a:r>
              <a:rPr b="1" i="1" lang="en-US" sz="2400" spc="-1" strike="noStrike">
                <a:solidFill>
                  <a:srgbClr val="795241"/>
                </a:solidFill>
                <a:latin typeface="Times New Roman"/>
              </a:rPr>
              <a:t>Nároky z neplatného rozvázání pracovního poměru</a:t>
            </a:r>
            <a:r>
              <a:rPr b="0" i="1" lang="en-US" sz="2400" spc="-1" strike="noStrike">
                <a:solidFill>
                  <a:srgbClr val="795241"/>
                </a:solidFill>
                <a:latin typeface="Times New Roman"/>
              </a:rPr>
              <a:t>, </a:t>
            </a:r>
            <a:br>
              <a:rPr sz="2400"/>
            </a:br>
            <a:r>
              <a:rPr b="1" i="1" lang="en-US" sz="2400" spc="-1" strike="noStrike">
                <a:solidFill>
                  <a:srgbClr val="795241"/>
                </a:solidFill>
                <a:latin typeface="Times New Roman"/>
              </a:rPr>
              <a:t>§§ 69 až 72 nového zákoníku práce</a:t>
            </a:r>
            <a:endParaRPr b="0" i="1" lang="en-US" sz="2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mírná řešení pracovněprávních sporů a smluvní ujednání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oudní spory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Nároky z neplatného skončení pracovního poměru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Vady právních úkonů zásadního významu, kterých se účastník dovolá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Vady představují rozpor  s požadavky právní norm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kud se účastník, jemuž byl takovýto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vadný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ávní úkon adresován, těchto vad dovolá, určí soud, že takové příslušné rozvázání pracovního poměru je neplatné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Vady právních úkonů zásadního významu, kterých se účastník dovolá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kud se účastník, jemuž byl takovýto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vadný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ávní úkon adresován, těchto vad dovolá, určí soud, že takové příslušné rozvázání pracovního poměru je neplatné.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Vady představují rozpor  s požadavky právní normy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V jednotlivých právních úkonech směřujících k rozvázání pracovního poměru se mohou vyskytnout vady následujícího charakteru:</a:t>
            </a:r>
            <a:br>
              <a:rPr sz="28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. P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rušení právních předpisů o skončení pracovního poměru, které nemá za následek právní odpovědnost vůči druhému účastníkovi pracovního poměr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. V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dy právních úkonů směřující k zániku pracovního poměru, které nezpůsobují jejich neplatnost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3. V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dy právních úkonů směřujících k zániku pracovního poměru, které mají za následek neplatnost těchto právních úkonů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Právní úprava neplatnosti při rozvázání pracovního poměru spočívá v tom, že:</a:t>
            </a:r>
            <a:br>
              <a:rPr sz="32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acovní poměr na základě neplatného právního úkonu neskončí pouze tehdy, pokud postižený účastník trvá na další existenci tohoto pracovního poměru a neplatnost rozvázání pracovního poměru uplatní včas u soud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kud postižený účastník uplatní neplatnost rozvázání pracovního poměru ve lhůtě u soudu, ale nemá zájem na dalším trvání pracovního poměru, pracovní poměr skončí, zákon však upravuje některé jeho další nároky vůči druhému účastníkovi pracovního poměru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 uplatnění neplatnosti rozvázání pracovního poměru stanoví zákon dvouměsíční preklusivní lhůtu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S relativní neplatností je spojena tzv. presumpce platnosti právního úkonu potud, pokud příslušný soud nerozhodne, že právní úkon je neplatný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20:49:42Z</dcterms:created>
  <dc:creator>Ilona Kostadinovová</dc:creator>
  <dc:description/>
  <dc:language>en-US</dc:language>
  <cp:lastModifiedBy>Ilona</cp:lastModifiedBy>
  <dcterms:modified xsi:type="dcterms:W3CDTF">2008-12-15T19:44:53Z</dcterms:modified>
  <cp:revision>35</cp:revision>
  <dc:subject/>
  <dc:title>Politika zaměstnanosti.  Nový zákon o zaměstnanosti.</dc:title>
</cp:coreProperties>
</file>