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F82-B0DE-48F8-832C-4B14804D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3F6-5031-46EB-A585-F22F6283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7AF-DD61-4922-95C2-14E3040A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B89-69FC-47CC-9C03-EEB331B6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DB25-F403-435A-969A-B908AD89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7A41-5694-4E82-AAA7-4D5FCBC5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9938-2445-4728-A2F0-32007FDD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03C0-69FF-4FD2-8B8D-67FFF978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A54C-F7F7-4692-A041-7D425AAA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5A46-CB1A-4D18-8D92-1B7A76EB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6424-D5B8-49D2-ADEA-80B0ECA0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BBA-E3B3-4C6C-9B80-67E5FD52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A266-891F-4507-8F9B-557FE52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84A7-4EFB-4BA7-9299-ADB1E452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5CC4-84EA-40CF-A236-744EB445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D1FB-A989-4844-979F-138DC74B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65A8-1CB2-4596-A756-82CEA850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012-F109-4103-93AD-CBE7FA38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FD6-CCD6-485B-9266-3D322909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1B4-CA4C-4723-9A3C-7F04B501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99A-B05C-495B-A9CC-5E874C63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019-33D6-4E31-8447-2C8F28FE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E18-9F87-4FA2-85B9-72B27EAC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EE9-FBFD-4F84-8408-821D67F6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6177-61BC-4350-9F1C-7FCFE36EF69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E1E6-52FD-4087-B52A-6CF37E94EEA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http://www.sweb.cz/ilda" TargetMode="External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981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acovní právo v praxi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Metropolitní univerzita Praha, o.p.s. </a:t>
            </a:r>
            <a:br>
              <a:rPr sz="36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čtvrtek 12.00-13.30, ZS 2008/09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Dohoda o rozvázání prac. pom. </a:t>
            </a:r>
            <a:br>
              <a:rPr sz="3200"/>
            </a:b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§ 49 ZP, z. č. 262/2006 Sb., v platném znění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ormální právní úkon se sankcí neplat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ůvody v ní musí být uvedeny, požaduje-li to zaměstna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-li uzavírána z organizačních důvodů na straně zaměstnavatele, náleží zaměstnanci odstupné ve výši trojnásobku průměrného výdělku, zdanitelný příjem jako jiná mz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Výpověď z prac. pom., §§ 50 – 54 ZP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44792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výpovědní doby - § 45 zákoníku práce 2 měsíce, příp. 3-počátek běhu od prvního dne následujícího kalendářního měsíce po doru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výpověď z vedlejšího pracovního poměru –15 dní, počne běžet dnem, v němž byla výpověď doručena, § 70b odst. 1, § 238 odst. 2 Z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pověď daná zaměstnancem, § 50 odst. 3 Z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písemně se sankcí neplatn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doručeno zaměstnavate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nárok na hledání jiného vhodného zaměstnání,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N. v. č. 590/2006 Sb., kterým se stanoví okruh a rozsah jiných důležitých osobních překážek v prá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pověď daná zaměstnavatelem, § 52 Z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jen z důvodů taxativně vyjmenovaných v § 52 Z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§ 53 ZP zákaz výpovědi v ochranné době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7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Nabídková povinnos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574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jednodušení při výpovědi ze strany zaměstnavatele – není již povinnost zajistit nové zaměstnání určitým kategoriím zaměstnanc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vatel nemusí nabízet zaměstnanci jinou práci v místě výkonu práce, ani v místě bydliště a nemusí zajišťovat případnou průpravu na jinou práci nebo prokazovat, že zaměstnanec není ochoten přejít na jinou pro něho vhodnou prác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up zaměstnavatelů pro rozvázání pracovního poměru ze zdravotních důvodů je tímto značně zjednodušen, jen písemně oznámí příslušnému úřadu práce, § 48 odst. 5 Z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Důvody výpovědi dané zaměstnavatelem, § 52 písm. a) – c) Z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341000"/>
            <a:ext cx="77724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ční dův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§ 52 písm. a), b) ruší-li se, přemísťuje-li se zaměstnavatel nebo jeho čá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§ 52 písm. c) – nadbytečnost zaměstn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nik nároku na odstupné - § 67 ZP ve výši nejméně trojnásobku průměrného výděl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Hromadné propouštění, § 62 ZP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období 30 kalendářních dnů výpověď nejméně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0 zaměstnancům – ZV s 20-100 Z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0% zaměstnanců – ZV se 101 – 300 Z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0 zaměstnanců – ZV s více 300 Z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končí-li pracovní poměr 5 zaměstnanců v období 30 kalendářních dnů výpovědí, započítávají se i zaměstnanci, s nimiž byl pracovní poměr rozvázán dohodou z týchž důvod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0 dnů předem informovat písemně  odborový orgán nebo radu zaměstnanců, příp. každého zaměst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ovat úřad práce o důvodech opatření, počtu zaměstnanců, kterých se propouštění týká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e ustanovení organizačního řádu zaměstnavatele DELTA a. s.  patří uzavírání a rozvazování pracovního poměru se zaměstnanci do kompetence personálního ředitele akciové společnosti DELTA, který je jedním z vedoucích zaměstnanců akciové společnosti DELTA. Dne 15. 2.  rozhodlo představenstvo DELTA a. s. o provedení organizační změny, v jejímž důsledku dojde od 1. května k tomu, že se několik zaměstnanců DELTA a. s. stane nadbytečnými. Tuto skutečnost těmto zaměstnancům personální ředitel DELTA a. s. 15. 2. oznámil a sdělil jim, že jim bude ještě v průběhu měsíce února doručena výpověď z pracovního poměru, neboť se stanou pro DELTA a. s. nadbytečnými v důsledku organizační změn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Pokud obdrží tito zaměstnanci výpověď v průběhu měsíce února (po 15. 2.), jak dlouhá bude jejich výpovědní dob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Budou mít tito zaměstnanci nárok na odstupné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Důvody výpovědi dané zaměstnavatelem, § 52 písm. d) Z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smí-li zaměstnanec dále konat práci pro pracovní úraz, onemocnění nebo ohrožení nemocí z povolání, dosáhl-li na pracovišti nejvyšší přípustné hra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městnanci náleží nárok na odstupné podle § 67 ZP ve výši nejméně 12ti násobku průměrného výdělku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stupné nenáleží, zprostí-li se zaměstnavatel odpovědnost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57480" y="380520"/>
            <a:ext cx="7772400" cy="13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Důvody výpovědi dané zaměstnavatelem, § 52 písm. e) Z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57480" y="1989000"/>
            <a:ext cx="777240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zbyl-li zaměstnanec vzhledem ke svému zdravotnímu stavu podle lékařského posudku dlouhodobě způsobilost konat dále dosavadní prác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7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Důvody výpovědi dané zaměstnavatelem, § 52 písm. f) Z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748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splňuje-li zaměstnanec předpoklady stanovené právními předpis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bo nesplňuje bez zavinění zaměstnavatele požadavky na řádný výkon prá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uspokojivé pracovní výsledky – v době posledních 12ti měsíců je nutné písemně zaměstnance vyzvat k jejich odstra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00ffff"/>
                </a:solidFill>
                <a:latin typeface="Times New Roman"/>
              </a:rPr>
              <a:t>Důvody výpovědi dané zaměstnavatelem, § 52 písm. g) ZP</a:t>
            </a: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748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važné porušení povinností vyplývajících z právn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oustavné méně závažné porušování pracovních povinností – je nutné v době posledních 6 měsíců v souvislosti               s porušením povinnosti písemně zaměstnance na možnost výpovědi upozor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končení pracovního poměru</a:t>
            </a:r>
            <a:br>
              <a:rPr sz="4400"/>
            </a:br>
            <a:br>
              <a:rPr sz="4400"/>
            </a:b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06. 11. 2008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828800" y="43430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padočeská Univerzita v Plz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nická fakul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atedra pracovního práva a práva sociálního zabezpe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ontakt: 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sweb.cz/il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ákaz výpovědi dané zaměstnavatelem, § 53 ZP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chranná doba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časná pracovní neschopnost, není-li způsobena úmyslně nebo jako následek opilosti nebo zneužití návykových lát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stavní ošetřování, lázeňské léče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nemocnění tuberkulózou – ochrana 6 měsíců po propuštění z ústavního ošetřo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ěhotenství, čerpání mateřské dovolené nebo rodičovské dovole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 době dočasného uznání nezpůsobilosti pro noční prác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 době, kdy je zaměstnanec dlouhodobě uvolněn pro výkon veřejné funk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i výkonu vojenského cvičení nebo výjimečného vojenského cviče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Kdy neplatí zákaz výpovědi, § 54 ZP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5748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ýpověď podle § 52 písm. a),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Což neplatí přemísťuje-li se zaměstnavatel v mezích místa výkonu práce podle pracovní smlouv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Z důvodů, pro které lze okamžitě zrušit pracovní pomě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ož neplatí, je-li zaměstnankyně na mateřské dovolené a zaměstnanec na rodičovské dovolené po dobu, kdy je žena oprávněna čerpat mateřskou dovolenou. Byla-li jim dána výpověď před nástupem, skončí výpovědní doba společně s mateřskou dovolenou (rodičovskou dovolenou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o jiné porušení pracovní povinnosti podle § 52 písm. g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o neplatí, jde-li o těhotnou, zaměstnance čerpajícího mateřskou a rodičovskou dovoleno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Nová pracovala v pracovním poměru u zaměstnavatele GAMA s. r. o. po stanovenou týdenní pracovní dobu. Dne 29. 3. jí byla doručena výpověď z pracovního poměru, podle níž měl její pracovní poměr skončit ke dni 31. 5. Dne 7. 6. se J. Nováková dostavila na personální oddělení zaměstnavatele a předložila lékařskou zprávu odborného ženského lékaře, podle něhož byla dne 6. 6. vyšetřena a bylo zjištěno, že je ve čtvrtém měsíci těhotenstv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Pokud zaměstnavatel GAMA s. r. o. o těhotenství J. Novotné nevěděl, byla výpověď dána platně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Měla by na posuzovanou situaci vliv skutečnost, kdyby pracovní poměr s J. Novotnou rozvázán výpovědí z důvodu, pro který by s ní mohl být pracovní poměr okamžitě zruše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Okamžité zrušení pracovního poměru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945800"/>
            <a:ext cx="83311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e strany zaměstnavatele, § § 55 Z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e strany zaměstnance, § 56 Z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kamžitě lze zrušit jen v subjektivní lhůtě 2 měsíců ode dne, kdy se dotčený o důvodu dovědě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jektivně maximálně do 1 roku, ode dne, kdy důvod vznik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kamžité zrušení je potřeba učinit písemně a vymezit v něm skutkově důvod, doručit druhé straně, není-li dodržena písemná forma, je stanovena sankce neplat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Zrušení pracovního poměru ve zkušební době, § 35, § 66 ZP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402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§ 35 fakultativní náležitost pracovní smlouv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§ 35 odst. 2 doba překážek v práci se nezapočítáv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ísemné oznámení má být doručeno druhé straně alespoň 3 dny přede dnem, kdy má pracovní poměr skonč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7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kušební doba, § 35, 66 ZP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748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Jde o fakultativní náležitost pracovní smlouvy, lze ji sjednat před vznikem pracovního poměru nejpozději v den nástupu do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Nesmí být delší než 3 měsí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usí být sjednána písemně, jinak je neplatná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oba překážek v práci, pro které zaměstnanec nemůže konat práci v průběhu zkušební doby, se nezapočítává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Zrušení pracovního poměru ve zkušební době, § 66 ZP – z jakéhokoliv důvodu nebo bez uvedení důvodu, Zaměstnavatel však nebude moci v době prvních 14 kalendářních dnů trvání dočasné pracovní neschopnosti zaměstnance, s účinností nového zákona o nemocenském pojištění. Písemné oznámení má být doručeno druhému účastníku zpravidla alespoň 3 dny přede dnem, kdy má pracovní poměr skonči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nce F. Duspiva uzavřel dne 1. 7. se zaměstnavatelem SAKO s. r. o. pracovní smlouvu (se shodným dnem nástupu do práce – 1. 7. ), která obsahovala i ujednání o zkušební době v délce 3 měsíců. Zkušební doba tedy měla uplynout dne 30. 9. Dne 5. 7. Duspiva onemocněl. Byl nemocen až do 12. 10. Po té době nastoupil k výkonu práce. Jeho výsledky při výkonu práce však během příštích 10 dnů zaměstnavatele neuspokojovaly, a proto s F. Duspivou pracovní poměr ve zkušební době zrušil. F. Duspiva namítal neplatnost rozvázání pracovního poměru, neboť dle jeho názoru již nebyl ve zkušební době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Je správná námitka F. Duspiv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Změnila by něco na výše uvedeném příkladě skutečnost, že zkušební doba byla sjednána dodatečnou písemnou dohodou (dodatkem k pracovní smlouvě) dne 2. 7.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1800" y="0"/>
            <a:ext cx="91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748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Účast odborů při rozvázání pracovního poměru - § 61 ZP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57480" y="1628280"/>
            <a:ext cx="7635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pověď či okamžité zrušení pracovního poměru je zaměstnavatel povinen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ředem projedna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s odborovou organizac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 člena orgánu odborové organizace v době jeho funkčního období a v době 1 roku po jeho skončení, je potřeba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ouhlas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borové organizace. Bez souhlasu, jsou výpověď nebo okamžité zrušení pracovního poměru neplatné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 souhlas se považuje též, jestliže odborová organizace písemně neodmítla udělit souhlas v době 15 dnů ode dne, kdy byla o něj zaměstnavatelem požádán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uhlas lze použít ve lhůtě 2 měsíců od jeho udělen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kud jsou však všechny ostatní podmínky výpovědi nebo okamžitého zrušení pracovního poměru splněny a soud ve sporu o neplatnost rozvázání pracovního poměru podle § 72 ZP shledá, že na zaměstnavateli nelze spravedlivě požadovat, aby zaměstnance nadále zaměstnával, jsou výpověď i okamžité zrušení pracovního poměru platné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ffff"/>
                </a:solidFill>
                <a:latin typeface="Arial"/>
              </a:rPr>
              <a:t>V. Hmotné zabezpečení v souvislosti se skončením pracovního poměr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84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dstupné - § 67 odst. 1 ZP ve výš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násobk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ůměrného měsíčního výdělku, ztráta zdravotní způsobilosti v důsledku pracovního úrazu 12 násobe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pora v nezaměstnanosti – z. č. 435/2004 Sb., zákon o zaměstnanosti, v 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acovní posudky a potvrzení o zaměstn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ěkuji za pozornost 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 těším se na diskusi a spolupráci při semináři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828800" y="41144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Arial"/>
              </a:rPr>
              <a:t>Osnova přednášky: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. Obecně ke skončení pracovního poměru – pojem a for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I. Způsoby skončení pracovního pomě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II. Právní události mající za následek skončení pracovního pomě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V. Právní úkony účastníků pracovního pomě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. Hmotné zabezpečení v souvislosti se skončením pracovního pomě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cs-CZ" sz="2800" spc="-1" strike="noStrike">
                <a:solidFill>
                  <a:srgbClr val="00ffff"/>
                </a:solidFill>
                <a:latin typeface="Arial"/>
              </a:rPr>
              <a:t>I. Obecně ke skončení pracovního poměru – pojem a formy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třeba stability zaměstná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žnost svobodně rozvázat pracovní pomě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musí znamenat zánik všech práv a povinnost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. Odměňování, náhrada škody, obchodní tajemství, ochrana osobních údaj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končení pracovního pomě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končení dalšího pracovního pomě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končení pracovního poměru založeného jmenování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cs-CZ" sz="2800" spc="-1" strike="noStrike">
                <a:solidFill>
                  <a:srgbClr val="00ffff"/>
                </a:solidFill>
                <a:latin typeface="Arial"/>
              </a:rPr>
              <a:t>II. Způsoby skončení pracovního poměru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šechny mají shodný cíl, existují rozdíly v jejich právní povaz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 Právní úkony účastníků pracovního poměru – jednostranné, dvoustrann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) Dohoda o rozvázání pracovního pomě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) Výpově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) Okamžité zruš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) Zrušení pracovního poměru ve zkušební d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2. Právní udál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) Uplynutí do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) Smrt zaměst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3. Úřední rozhodnut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Arial"/>
              </a:rPr>
              <a:t>III. Právní události mající za následek skončení pracovního poměr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 Smrt zaměstnance - § 328 ZP, § 342 Z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2. Uplynutí doby pouze u skončení pracovních poměrů sjednaných na dobu určitou § 39, § 65 Z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3. Věková hranice – není právní událostí, která by měla za následek skončení pracovního pomě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4. Rozhodnutí příslušného orgánu - § 48 odst. 2 Z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5. Skončení pracovního poměru založeného jmenováním –odvoláním z funkce ani vzdáním se funkce pracovní poměr nekonč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. dohoda o dalším pracovním zařaz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 jinak výpovědní důvod dle § 52 písm.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7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Skončení pracovního poměru sjednaného na dobu určitou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748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§ 48 odst. 2 ZP – končí uplynutím sjednané d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§ 65 ZP – také ostatní způsoby skonč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yla-li doba trvání omezena na konání určitých prací, upozorní zaměstnavatel na skončení včas, zpravidla alespoň 3 dny před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račuje-li zaměstnanec s vědomím zaměstnavatele v konání prací po uplynutí sjednané doby, jedná se o pracovní poměr na dobu neurčito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Arial"/>
              </a:rPr>
              <a:t>IV. Právní úkony účastníků pracovního poměru směřující k jeho skončení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praxi nejčastější způs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ávní úprava podrobně upravuje náležitosti a právní důsledky z nich vyplývají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ávní úkony dvoustranné – shodná vůle – dohoda o rozvázání pracovního pomě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ávní úkony jednostranné – výraz rozporu – výpověď, okamžité zrušení, zrušení ve zkušební 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Skončení pracovního poměru  na základě subjektivní právní skutečnosti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le § 42 ZP zaniká pracovní poměr na základě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: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) Subjektivní právní skutečnosti, na základě kterých ukončí pracovní poměr jeho účastníc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dohoda o rozvázání pracovního poměr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§ 49 Z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výpověď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pracovního poměru - §§ 50 a násl. Z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okamžité zrušení pracovního poměr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 §§ 55 a násl. Z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zrušení pracovního poměru ve zkušební době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§ 35 ZP, § 66 ZP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 případě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volání z funkce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u pracovního poměru založeného volbou nebo jmenování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o v případě uplynutí volebního období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 pracovního poměru založeného volbou) nemusí nutně dojít k zániku pracovního poměru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) Subjektivní právní skutečnost, na základě které ukončí pracovní poměr subjekt odlišný od účastníků pracovního poměr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 48 odst. 2 ZP -úřední rozhodnutí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ánů státní správy a orgánů soudní soustav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3:20Z</dcterms:created>
  <dc:creator>Ilona Kostadinovová</dc:creator>
  <dc:description/>
  <dc:language>en-US</dc:language>
  <cp:lastModifiedBy>PC</cp:lastModifiedBy>
  <dcterms:modified xsi:type="dcterms:W3CDTF">2008-10-29T18:52:31Z</dcterms:modified>
  <cp:revision>198</cp:revision>
  <dc:subject/>
  <dc:title>Základy pracovního práva Vysoká škola Karlovy Vary,o.p.s.</dc:title>
</cp:coreProperties>
</file>