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B53-D794-481E-9B6E-0734EC47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4FB-AD4F-4A14-BCF0-B28452B7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32E-AB0F-40BD-B3AE-4D11C05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B3C-F033-4378-B9CB-3DE8E68B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CC73-6198-4AF4-829F-92DEFE7B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B758-B3EF-436C-B794-79C0D8F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9595-2E6A-464D-B101-040A4D3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61B5-7399-4017-9414-40ECAA4C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ABD6-774C-4E96-B5B7-DAAF1CFA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E806-3901-4773-8C44-ED7249B7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950-F632-4897-94F8-BB22FBB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972-0084-4349-8534-4FBA27C5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3E7-A27B-424C-8029-9240780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EB71-08E3-4620-B2F1-B67324D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3978-1625-46F3-90C4-5611051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5E8-E6C8-4744-BB12-1EC9114C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5FA6-0D4E-433F-BB04-FFECD6A7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204-E45E-4E73-9B19-CCA8537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427-E7E3-412B-83B7-FACF7EC1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8D3-D1D5-4242-9C2D-E44F89B0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AAE-F1C4-4518-A47C-3EEEC0D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D19-A254-4181-AF9C-E5FB476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761-566A-451B-82FA-71EAC24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AD1-7197-4F27-AD9E-C6A0B1EF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A2FA-5386-4F77-A287-EAA5FCFD2C2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3AB-06D6-4AE3-8667-7A5BAC2B364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Dohoda o rozvázání prac. pom. </a:t>
            </a: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§ 49 ZP, z. č. 262/2006 Sb., v platném zně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ální právní úkon se sankcí neplat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vody v ní musí být uvedeny, požaduje-li to zaměstna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-li uzavírána z organizačních důvodů na straně zaměstnavatele, náleží zaměstnanci odstupné ve výši trojnásobku průměrného výdělku, zdanitelný příjem jako jiná mz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Výpověď z prac. pom., §§ 50 – 54 ZP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44792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výpovědní doby - § 45 zákoníku práce 2 měsíce, příp. 3-počátek běhu od prvního dne následujícího kalendářního měsíce po dor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výpověď z vedlejšího pracovního poměru –15 dní, počne běžet dnem, v němž byla výpověď doručena, § 70b odst. 1, § 238 odst. 2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pověď daná zaměstnancem, § 50 odst. 3 Z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ísemně se sankcí neplat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oručeno zaměstnavat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rok na hledání jiného vhodného zaměstnání,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. v. č. 590/2006 Sb., kterým se stanoví okruh a rozsah jiných důležitých osobních překážek v prá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pověď daná zaměstnavatelem, § 52 Z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jen z důvodů taxativně vyjmenovaných v § 52 Z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§ 53 ZP zákaz výpovědi v ochranné době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abídková povinnos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ednodušení při výpovědi ze strany zaměstnavatele – není již povinnost zajistit nové zaměstnání určitým kategoriím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nemusí nabízet zaměstnanci jinou práci v místě výkonu práce, ani v místě bydliště a nemusí zajišťovat případnou průpravu na jinou práci nebo prokazovat, že zaměstnanec není ochoten přejít na jinou pro něho vhodnou prá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up zaměstnavatelů pro rozvázání pracovního poměru ze zdravotních důvodů je tímto značně zjednodušen, jen písemně oznámí příslušnému úřadu práce, § 48 odst. 5 Z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a) – c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341000"/>
            <a:ext cx="77724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dův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52 písm. a), b) ruší-li se, přemísťuje-li se zaměstnavatel nebo jeho čá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52 písm. c) – nadbytečnost zaměst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ároku na odstupné - § 67 ZP ve výši nejméně trojnásobku průměrného výděl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Hromadné propouštění, § 62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období 30 kalendářních dnů výpověď nejméně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 zaměstnancům – ZV s 20-1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% zaměstnanců – ZV se 101 – 3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0 zaměstnanců – ZV s více 3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ončí-li pracovní poměr 5 zaměstnanců v období 30 kalendářních dnů výpovědí, započítávají se i zaměstnanci, s nimiž byl pracovní poměr rozvázán dohodou z týchž důvod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0 dnů předem informovat písemně  odborový orgán nebo radu zaměstnanců, příp. každého zaměst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ovat úřad práce o důvodech opatření, počtu zaměstnanců, kterých se propouštění týk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e ustanovení organizačního řádu zaměstnavatele DELTA a. s.  patří uzavírání a rozvazování pracovního poměru se zaměstnanci do kompetence personálního ředitele akciové společnosti DELTA, který je jedním z vedoucích zaměstnanců akciové společnosti DELTA. Dne 15. 2.  rozhodlo představenstvo DELTA a. s. o provedení organizační změny, v jejímž důsledku dojde od 1. května k tomu, že se několik zaměstnanců DELTA a. s. stane nadbytečnými. Tuto skutečnost těmto zaměstnancům personální ředitel DELTA a. s. 15. 2. oznámil a sdělil jim, že jim bude ještě v průběhu měsíce února doručena výpověď z pracovního poměru, neboť se stanou pro DELTA a. s. nadbytečnými v důsledku organizační změn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okud obdrží tito zaměstnanci výpověď v průběhu měsíce února (po 15. 2.), jak dlouhá bude jejich výpovědní dob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Budou mít tito zaměstnanci nárok na odstupné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d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mí-li zaměstnanec dále konat práci pro pracovní úraz, onemocnění nebo ohrožení nemocí z povolání, dosáhl-li na pracovišti nejvyšší přípustné hra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anci náleží nárok na odstupné podle § 67 ZP ve výši nejméně 12ti násobku průměrného výdělk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stupné nenáleží, zprostí-li se zaměstnavatel odpovědnost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e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7480" y="1989000"/>
            <a:ext cx="77724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zbyl-li zaměstnanec vzhledem ke svému zdravotnímu stavu podle lékařského posudku dlouhodobě způsobilost konat dále dosavadní prá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f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splňuje-li zaměstnanec předpoklady stanovené právními předpis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bo nesplňuje bez zavinění zaměstnavatele požadavky na řádný výkon prá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uspokojivé pracovní výsledky – v době posledních 12ti měsíců je nutné písemně zaměstnance vyzvat k jejich odstra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g) ZP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74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važné porušení povinností vyplývajících z 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oustavné méně závažné porušování pracovních povinností – je nutné v době posledních 6 měsíců v souvislosti               s porušením povinnosti písemně zaměstnance na možnost výpovědi upozor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končení pracovního poměru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06. 11. 2008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az výpovědi dané zaměstnavatelem, § 53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chranná dob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časná pracovní neschopnost, není-li způsobena úmyslně nebo jako následek opilosti nebo zneužití návykových lát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stavní ošetřování, lázeňské lé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emocnění tuberkulózou – ochrana 6 měsíců po propuštění z ústavního ošetř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ěhotenství, čerpání mateřské dovolené nebo rodičovské dovole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době dočasného uznání nezpůsobilosti pro noční prá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době, kdy je zaměstnanec dlouhodobě uvolněn pro výkon veřejné funk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i výkonu vojenského cvičení nebo výjimečného vojenského cvi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Kdy neplatí zákaz výpovědi, § 54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pověď podle § 52 písm. a),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Což neplatí přemísťuje-li se zaměstnavatel v mezích místa výkonu práce podle pracovní smlouv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Z důvodů, pro které lze okamžitě zrušit pracovní pomě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ž neplatí, je-li zaměstnankyně na mateřské dovolené a zaměstnanec na rodičovské dovolené po dobu, kdy je žena oprávněna čerpat mateřskou dovolenou. Byla-li jim dána výpověď před nástupem, skončí výpovědní doba společně s mateřskou dovolenou (rodičovskou dovolenou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 jiné porušení pracovní povinnosti podle § 52 písm. 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 neplatí, jde-li o těhotnou, zaměstnance čerpajícího mateřskou a rodičovskou dovoleno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Nová pracovala v pracovním poměru u zaměstnavatele GAMA s. r. o. po stanovenou týdenní pracovní dobu. Dne 29. 3. jí byla doručena výpověď z pracovního poměru, podle níž měl její pracovní poměr skončit ke dni 31. 5. Dne 7. 6. se J. Nováková dostavila na personální oddělení zaměstnavatele a předložila lékařskou zprávu odborného ženského lékaře, podle něhož byla dne 6. 6. vyšetřena a bylo zjištěno, že je ve čtvrtém měsíci těhotenstv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okud zaměstnavatel GAMA s. r. o. o těhotenství J. Novotné nevěděl, byla výpověď dána platně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ěla by na posuzovanou situaci vliv skutečnost, kdyby pracovní poměr s J. Novotnou rozvázán výpovědí z důvodu, pro který by s ní mohl být pracovní poměr okamžitě zruše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kamžité zrušení pracovního poměr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945800"/>
            <a:ext cx="83311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e strany zaměstnavatele, § § 55 Z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e strany zaměstnance, § 56 Z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kamžitě lze zrušit jen v subjektivní lhůtě 2 měsíců ode dne, kdy se dotčený o důvodu dovědě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ektivně maximálně do 1 roku, ode dne, kdy důvod vznik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kamžité zrušení je potřeba učinit písemně a vymezit v něm skutkově důvod, doručit druhé straně, není-li dodržena písemná forma, je stanovena sankce neplat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Zrušení pracovního poměru ve zkušební době, § 35, § 66 ZP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402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5 fakultativní náležitost pracovní smlou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5 odst. 2 doba překážek v práci se nezapočít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ísemné oznámení má být doručeno druhé straně alespoň 3 dny přede dnem, kdy má pracovní poměr skonč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kušební doba, § 35, 66 ZP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748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Jde o fakultativní náležitost pracovní smlouvy, lze ji sjednat před vznikem pracovního poměru nejpozději v den nástupu do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esmí být delší než 3 měsí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usí být sjednána písemně, jinak je neplatn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ba překážek v práci, pro které zaměstnanec nemůže konat práci v průběhu zkušební doby, se nezapočítáv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Zrušení pracovního poměru ve zkušební době, § 66 ZP – z jakéhokoliv důvodu nebo bez uvedení důvodu, Zaměstnavatel však nebude moci v době prvních 14 kalendářních dnů trvání dočasné pracovní neschopnosti zaměstnance, s účinností nového zákona o nemocenském pojištění. Písemné oznámení má být doručeno druhému účastníku zpravidla alespoň 3 dny přede dnem, kdy má pracovní poměr skonč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e F. Duspiva uzavřel dne 1. 7. se zaměstnavatelem SAKO s. r. o. pracovní smlouvu (se shodným dnem nástupu do práce – 1. 7. ), která obsahovala i ujednání o zkušební době v délce 3 měsíců. Zkušební doba tedy měla uplynout dne 30. 9. Dne 5. 7. Duspiva onemocněl. Byl nemocen až do 12. 10. Po té době nastoupil k výkonu práce. Jeho výsledky při výkonu práce však během příštích 10 dnů zaměstnavatele neuspokojovaly, a proto s F. Duspivou pracovní poměr ve zkušební době zrušil. F. Duspiva namítal neplatnost rozvázání pracovního poměru, neboť dle jeho názoru již nebyl ve zkušební dob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e správná námitka F. Duspiv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Změnila by něco na výše uvedeném příkladě skutečnost, že zkušební doba byla sjednána dodatečnou písemnou dohodou (dodatkem k pracovní smlouvě) dne 2. 7.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180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Účast odborů při rozvázání pracovního poměru - § 61 Z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635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věď či okamžité zrušení pracovního poměru je zaměstnavatel povin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edem projedna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s odborovou organiza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 člena orgánu odborové organizace v době jeho funkčního období a v době 1 roku po jeho skončení, je potřeb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ouhlas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borové organizace. Bez souhlasu, jsou výpověď nebo okamžité zrušení pracovního poměru nepla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 souhlas se považuje též, jestliže odborová organizace písemně neodmítla udělit souhlas v době 15 dnů ode dne, kdy byla o něj zaměstnavatelem požád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uhlas lze použít ve lhůtě 2 měsíců od jeho uděle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kud jsou však všechny ostatní podmínky výpovědi nebo okamžitého zrušení pracovního poměru splněny a soud ve sporu o neplatnost rozvázání pracovního poměru podle § 72 ZP shledá, že na zaměstnavateli nelze spravedlivě požadovat, aby zaměstnance nadále zaměstnával, jsou výpověď i okamžité zrušení pracovního poměru pla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V. Hmotné zabezpečení v souvislosti se skončením pracovního pomě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84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stupné - § 67 odst. 1 ZP ve výš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sob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ůměrného měsíčního výdělku, ztráta zdravotní způsobilosti v důsledku pracovního úrazu 12 násob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pora v nezaměstnanosti – z. č. 435/2004 Sb., zákon o zaměstnanosti,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acovní posudky a potvrzení 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 při seminář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Arial"/>
              </a:rPr>
              <a:t>Osnova přednášky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 Obecně ke skončení pracovního poměru – pojem a f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Způsoby skonče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I. Právní události mající za následek skonče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V. Právní úkony účastníků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. Hmotné zabezpečení v souvislosti se skončením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. Obecně ke skončení pracovního poměru – pojem a formy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stability zaměstn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žnost svobodně rozvázat pracovní pomě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musí znamenat zánik všech práv a povinnost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. Odměňování, náhrada škody, obchodní tajemství, ochrana osobních údaj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dalšího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pracovního poměru založeného jmenování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I. Způsoby skončení pracovního poměru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šechny mají shodný cíl, existují rozdíly v jejich právní povaz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Právní úkony účastníků pracovního poměru – jednostranné, dvoustrann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Dohoda o rozvázá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Výpově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) Okamžité zru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) Zrušení pracovního poměru ve zkušební d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Právní udál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Uplynutí d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Smrt zaměst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Úřední rozhod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II. Právní události mající za následek skončení pracovního pomě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Smrt zaměstnance - § 328 ZP, § 342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Uplynutí doby pouze u skončení pracovních poměrů sjednaných na dobu určitou § 39, § 65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Věková hranice – není právní událostí, která by měla za následek skonče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4. Rozhodnutí příslušného orgánu - § 48 odst. 2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5. Skončení pracovního poměru založeného jmenováním –odvoláním z funkce ani vzdáním se funkce pracovní poměr nekon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. dohoda o dalším pracovním zařaz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 jinak výpovědní důvod dle § 52 písm.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Skončení pracovního poměru sjednaného na dobu určito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§ 48 odst. 2 ZP – končí uplynutím sjednané d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§ 65 ZP – také ostatní způsoby skonč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yla-li doba trvání omezena na konání určitých prací, upozorní zaměstnavatel na skončení včas, zpravidla alespoň 3 dny před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račuje-li zaměstnanec s vědomím zaměstnavatele v konání prací po uplynutí sjednané doby, jedná se o pracovní poměr na dobu neurčit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V. Právní úkony účastníků pracovního poměru směřující k jeho skonče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raxi nejčastější způs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prava podrobně upravuje náležitosti a právní důsledky z nich vyplývají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kony dvoustranné – shodná vůle – dohoda o rozvázá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kony jednostranné – výraz rozporu – výpověď, okamžité zrušení, zrušení ve zkušební 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Skončení pracovního poměru  na základě subjektivní právní skutečnost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§ 42 ZP zaniká pracovní poměr na základ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 Subjektivní právní skutečnosti, na základě kterých ukončí pracovní poměr jeho účastníc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dohoda o rozvázání pracovního poměr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§ 49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výpověď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pracovního poměru - §§ 50 a násl.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okamžité zrušení pracovního poměr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§§ 55 a násl.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zrušení pracovního poměru ve zkušební d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§ 35 ZP, § 66 Z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případě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volání z funkce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u pracovního poměru založeného volbou nebo jmenování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v případě uplynutí volebního obdob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 pracovního poměru založeného volbou) nemusí nutně dojít k zániku pracovního poměr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) Subjektivní právní skutečnost, na základě které ukončí pracovní poměr subjekt odlišný od účastníků pracovního pom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48 odst. 2 ZP -úřední rozhodnut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ánů státní správy a orgánů soudní soustav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29T18:52:31Z</dcterms:modified>
  <cp:revision>198</cp:revision>
  <dc:subject/>
  <dc:title>Základy pracovního práva Vysoká škola Karlovy Vary,o.p.s.</dc:title>
</cp:coreProperties>
</file>