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6F3-4515-46F4-A25A-309917E3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5C1-5D59-4BD1-9F47-4E226F46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51BE-7222-4249-9E6B-A073C185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168-BA9A-4BF9-BA38-F755E34A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32A2-D223-46D1-9459-21704D40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30D8-5C83-4D40-B3E2-9BAF9BE1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5279-0C2A-4B8B-BC3D-69807584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73B7-F698-4B15-89E6-F3918690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6D31-DE09-489D-B853-E835C7F5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3E7C-B538-4543-925F-FCC3E039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CCC6-1836-4B9C-A5CC-224730BF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26D-2387-4A1F-ADB3-B311D423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269B-A1BE-4593-8EF0-6BD0DE93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EED1-3F88-4D61-AB86-6D2AA5CF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C40E-FB3F-4DD2-A777-09292313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E8B0-3AB9-40DE-8AB2-F0C02824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3059-71FF-42DD-890A-46CF708A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F13-0E97-4E50-A22A-6ABA7B72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AEE-5C99-4EBA-9A8B-E891F7D8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0EE-1F92-4CF6-AC85-46E54402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EFA-F149-4C90-BF61-AA7A3828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B66-6396-4759-AD67-2E2D7402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727-08CA-4557-9544-F262D8E5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2A2-4FEE-4DC7-BE95-640231A6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52C4-870F-4BC8-B3C1-557C7EB2CEA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1EAC-C4AA-476A-9644-44798A69AD4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http://www.sweb.cz/ilda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981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acovní právo v praxi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Metropolitní univerzita Praha, o.p.s. </a:t>
            </a:r>
            <a:br>
              <a:rPr sz="36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čtvrtek 12.00-13.30, ZS 2008/09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řekážky v práci na straně zaměstnavate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stoje, § 207 odst. 1 – 80% prům. výděl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příznivé povětrnostní vlivy, § 207 odst. 2 – 60% prům. výděl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é překážky - § 208 prům. výděl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ástečná nezaměstnanost, § 209 – nejméně 60% prům. výděl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ba na pracovní cestě, která spadá do pracovní doby a neplní-li v ní zaměstnanec pracovní úkoly – překážka v práci na straně zaměstnavatele – mzda se nekrá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748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Pracovní cesta a cestovní náhrady (výdaje poskytované zaměstnancům v souvislosti                   s výkonem práce, §151 a násl. ZP)</a:t>
            </a: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74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covní cesta je časově omezené vyslání zaměstnance k výkonu práce mimo sjednané místo výkonu práce, § 42 NZ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n na základě dohody se zaměstnanc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vněž cesta v souvislosti s mimořádným výkonem práce mimo rozvrh směn v místě výkonu práce nebo pravidelného pracoviště, § 152 písm. 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ácení stravnéh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rušení pracovní ces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účt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řidělování zaměstnanců        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k jinému zaměstnavatel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n za účelem zvyšování či prohlubování kvalifik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 výkonu práce jen jako agenturní zaměstnava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genturní zaměstnávání upravuje i nadále zákon o zaměstnanosti, z. č. 435/2004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hoda mezi agenturou práce a uživatelem musí být uzavřena písemně pod sankcí neplat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oblém – ujednání o podmínkách skončení dočasného přidělení, opatření k ochraně majetku, odpovědnostní vzta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genturní zaměstná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57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upraveno v §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2 odst. 5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ZP a podrobnější úpravu obsahuje zákon o zaměstnanosti č. 435/2004 Sb. v ustanovení §§ 14, 58 až 66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1. října 2004 mohou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časně přidělovat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městnance pouze agentury práce s povolením ke zprostředkování zaměstnání, které uděluje příslušný úřad prác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ovolení ke zprostředkování zaměstnání - § 14 odst. 3 písm. b), § 60 zákoníku práce – uděluje osobě starší 23 let Ministerstvo práce a sociálních věc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vě smlouv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racovní smlouva – zaměstnanec a agen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ohoda o dočasném přidělení zaměstnance – agentura a uživatel pracovní sí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Dohoda o zvyšování/prohlubování kvalifikace,  234 odst. 1 ZP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vazek zaměstnance setrvat u zaměstnavatele v zaměstnání po sjednanou dobu, nejdéle po dobu 5 let, nebo uhradit náklady spojené se získáním kvalifikace, které zaměstnavatel vynaložil, i tehdy, skončí-li pracovní poměr před ukončením stud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 prohlubování kvalifikace, dosahují-li náklady alespoň 75 000, - Kč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usí být uzavřena písemně, jinak je neplatn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usí obsahovat druh kvalifikace, dobu setrvání u zaměstnavatele a druhy náklad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ákaz jiné výdělečné činnost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§13 odst. 4 ZP – další pracovní poměr – jen jiný druh prá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§ 304 ZP – výdělečná činnost shodná s předmětem činnosti zaměstnavatele,  s předchozím souhlasem zaměstnavatele, který může být kdykoli odvo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7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Konkurenční doložka, § 310 ZP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5748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mluvní omezení výdělečné činnosti, která je shodná s předmětem činnosti zaměstnavatele, po určitou dobu po skončení pracovního poměru, max. 1 ro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ísemně po uplynutí zkušební doby, jinak je neplatná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ze-li po zaměstnanci spravedlivě požadovat s ohledem na povahu informací, poznatků, znalostí pracovních a technologických postupů, které získal v zaměstnání a které by mohly při  závažným způsobem ztížit činnost zaměstnavate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městnanci náleží přiměřené peněžité vyrovnání nejméně ve výši průměrného měsíčního výdělku za každý měsíc plnění závazk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 porušení závazku může být sjednána smluvní pokuta přiměřená povaze a významu podmíne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městnavatel může odstoupit pouze pod dobu trvání pracovního poměr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městnanec může vypovědět do 15 dnů po uplynutí splatnosti peněžitého vyrovnání, které zaměstnavatel nevyplati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ěkuji za pozornost 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 těším se na diskusi a spolupráci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828800" y="41144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měny pracovního poměru.</a:t>
            </a:r>
            <a:br>
              <a:rPr sz="4400"/>
            </a:br>
            <a:br>
              <a:rPr sz="4400"/>
            </a:b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30. 10. 2008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828800" y="43430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padočeská Univerzita v Plz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nická fakul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atedra pracovního práva a práva sociálního zabezpe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ontakt: 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sweb.cz/il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měna pracovního poměru  - § 40 ZP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560" y="907560"/>
            <a:ext cx="770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a některého z prvků právního vztah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ubjekt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ovněprávního vztah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tj. změna zaměstnavate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řechod práv a povinností - §§ 338 - 345 ZP, do všech práv a povinností z pracovního poměru vstupuje místo původního zaměstnavatele nový (např. při rozdělení, převodu činnosti k jinému zaměstnavatel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bsah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acovní smlouv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tj. změna práv a povinností smluvních stran (například změna druhu práce, místa výkonu práce, změna trvání pracovního poměru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obsah pracovního poměru je možné změnit jen tehdy, dohodnou-li se na jeho změně zaměstnavatel a zaměstnan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změnu pracovní smlouvy je nutné provést písem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Změny pracovního poměru dle ZP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vedení na jinou práci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§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1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ákoníku prá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těhotná žena – vyrovnávací příspěvek  z nemocenského poj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ovní cesta a přeložení, §§ 42 a 43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íku prá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časné přidělení k jinému zaměstnavateli - Agenturní zaměstnávání, § 2 odst. 5, 13h, 39 odst. 6 a 308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P, § 58 a násl. zák. o zam.. Z. č. 435/2004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Změna pracovního poměru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5640" y="907560"/>
            <a:ext cx="79138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vedení na jinou práci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§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1 Z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ákoníku práce – pouze v rámci pracovní smlouvy, zaměstnavatel je povinen přihlížet k tomu, aby práce byla pro zaměstnance vhodná vzhledem k jeho zdravotnímu stavu a schopnostem a pokud možno i k jeho kvalifika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souhlasem zaměstnance – výslovně či konkludent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městnavatel je povinen předem projednat se zaměstnancem důvod převedení na jinou práci a dobu, po kterou má převedení trv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poslechnutí příkazu zaměstnavatele, který byl vydán v souladu se zákoníkem práce a odmítnutí konat jinou uloženou práci, je porušením povinností vyplývajících z pracovního poměr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7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měna pracovního poměru -  § 41 odst. 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57480" y="907560"/>
            <a:ext cx="77724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ík práce stanoví povinnost zaměstnavatele převést zaměstnance na jinou práci –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us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řevést, § 41 odst. 1 ZP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, b) dlouhodobá ztráta zdravotní způsobilosti konat dále dosavadní práci – dle lékařského posudku, v důsledku pracovního úrazu či ohrožení nemocí z povolá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c), g) koná-li těhotná, kojící žena nebo matka do konce devátého měsíce po porodu práci, kterou nesmí vykonávat nebo podle lékařského posudku ohrožuje její zdraví nebo požádá-li o převedení na denní smě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(těhotná žena – vyrovnávací příspěvek  z nemocenského poj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) v zájmu ochrany zdraví jiných fyzických osob před infekčním onemocnění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) dle pravomocného rozhodnutí příslušného orgánu (soud, správní úřad, státní orgán či orgán územní samospráv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)  je-li zaměstnanec pracující v noci uznán nezpůsobilým pro noční prá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7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měna pracovního poměru -  § 41 odst. 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57480" y="907560"/>
            <a:ext cx="77724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ík práce stanoví možnost zaměstnavatele převést zaměstnance na jinou práci –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ůž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vést, § 41 odst. 2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) dal-li zaměstnanci výpověď z důvodů dle § 52 písm. f), g) ZP, tj. nesplňuje –li zaměstnanec předpoklady nebo požadavky pro řádný výkon práce nebo závažně či soustavně méně závažně porušuje pracovní povin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) bylo-li zahájeno proti zaměstnanci trestní řízení pro podezření ze spáchání úmyslné trestné činnosti související s výkonem prá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) pozbyl-li zaměstnanec dočasně předpoklady pro výkon sjednané práce, avšak nejdéle na 30 pracovních dnů v kalendářním r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Převedení zaměstnance na jinou práci </a:t>
            </a:r>
            <a:r>
              <a:rPr b="1" lang="cs-CZ" sz="3200" spc="-1" strike="noStrike">
                <a:solidFill>
                  <a:srgbClr val="00ffff"/>
                </a:solidFill>
                <a:latin typeface="Times New Roman"/>
              </a:rPr>
              <a:t>bez jeho souhlasu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57120" y="1412640"/>
            <a:ext cx="7562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§ 41 odst. 1 a 2 ZP – má-li zaměstnavatel povinnost či možnost převést zaměstnance na jinou práci, lze k dosažení účelu převedení převést zaměstnance výjimečně i na práci jiného druhu než byl sjednán v pracovní smlouvě,  a to i kdyby s tím zaměstnanec nesouhlas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1 odst. 4 ZP - na dobu nezbytné potřeby, je-li to potřeba k odvrácení mimořádné události, živelní události nebo jiné hrozící nehody nebo ke zmírnění jejich bezprostředních následků a to na nezbytně nutnou dob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§ 46 ZP – neodpovídá-li práce pracovní smlouvě a zaměstnanec s převedením nesouhlasí, je nutné převedení projednat s odborovou organizací, projednání  není potřeba, nepřesáhne-li doba převedení 21 pracovních dnů v kalendářním ro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Převedení zaměstnance na jinou práci jen se </a:t>
            </a:r>
            <a:r>
              <a:rPr b="1" lang="cs-CZ" sz="3200" spc="-1" strike="noStrike">
                <a:solidFill>
                  <a:srgbClr val="00ffff"/>
                </a:solidFill>
                <a:latin typeface="Times New Roman"/>
              </a:rPr>
              <a:t>souhlasem</a:t>
            </a: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 – výslovný či konkludentní</a:t>
            </a: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- § 41 odst. 5 Z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5748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rostoj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řerušení práce způsobené nepříznivými povětrnostními vliv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Mongolian Baiti"/>
              </a:rPr>
              <a:t>》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ze převést zaměstnance na jinou práci, než byla sjednána   v pracovní smlouvě, jen pokud zaměstnanec s převedením souhlas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3:20Z</dcterms:created>
  <dc:creator>Ilona Kostadinovová</dc:creator>
  <dc:description/>
  <dc:language>en-US</dc:language>
  <cp:lastModifiedBy>PC</cp:lastModifiedBy>
  <dcterms:modified xsi:type="dcterms:W3CDTF">2008-10-29T19:23:58Z</dcterms:modified>
  <cp:revision>187</cp:revision>
  <dc:subject/>
  <dc:title>Základy pracovního práva Vysoká škola Karlovy Vary,o.p.s.</dc:title>
</cp:coreProperties>
</file>