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197E-139D-490A-80FD-9E9447BA2CD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ávní teorie  popisuje celou řadu funkcí jednotlivých právních odvětví. Z hlediska pracovního práva lze hovořit o třech funkcích hlavních, kterými jsou funkce ochranná, organizační a výchovná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A3F-C6AD-4822-B504-CAF97B14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587-B66D-4923-B75D-1D8CA062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DDD-663C-494F-A60B-EB19EC20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F27A-73D6-49B6-998B-CEB3EFEC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8626-5D05-4EEA-8537-8C8D7A3A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F1B5-F528-4EA1-BFF5-98233C91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90BF-8B54-4B4C-AA70-F49D7298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6512-939B-486E-9CB7-73E7D3AC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ED64-25FD-44F2-98F6-C4DDD490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4B35-3EDA-4E3E-9DCB-3C9432E1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CBB5-9601-4C16-8661-E2B14C6D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6E2-D027-4049-981D-65EA6912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169F-9520-4362-A963-21B1D9EE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528F-5526-4A2A-B86A-DB8EE049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D211-BC7E-4A33-94CD-578C651E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749E-6818-4E16-AB4D-B1725767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2265-C853-48DC-9FBC-8A20ED5C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BEF-BA13-438E-901A-364DA95C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9D78-D32F-42E6-936B-06D39D59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85F-B44A-4A7F-826E-63989D7D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E63-03C3-4288-BA09-4EEABD5A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320-DC94-409D-8546-B9D8EEE5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6B8C-CE46-4F3A-96B3-AC5EED57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D43-6C5F-4DFD-9E63-DEFF9C6A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E408-2742-4B46-9099-6181B626C62E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7CC4-FDFF-4A63-862C-68516E9103C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981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acovní právo v praxi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Metropolitní univerzita Praha, o.p.s. </a:t>
            </a:r>
            <a:br>
              <a:rPr sz="36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čtvrtek 12.00-13.30, ZS 2008/09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oporučená literatura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Dandová, E. : Náhrada škody při pracovních úrazech a nemocech z povolání. Praha. Prospektum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Dandová, E. : Bezpečnost a ochrana zdraví při práci v otázkách a odpovědích, ASPI Publishing,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Gregorová, Z. – Píchová. I. : Základy pracovního práva a práva sociálního zabezpečení v Evropských společenstvích. Brno. Masarykova Univerzita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omandlová L. , Špundová, E. ,  Jakubka, J. , Michal P. : Zákoník práce a související právní předpisy s kometářem od 1. 1. 2005 (včetně nového zákona o zaměstnanost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ákladní právní předpisy: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ákoník práce, zákon č. 262/2006 Sb., ve znění pozdějších předpis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ákon o zaměstnanosti, zákon č. 435/2004 Sb.,  ve znění pozdějších předpis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ákon o inspekci práce, zákon č. 251/2005 Sb., ve znění pozdějších předpis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ákon o kolektivním vyjednávání, zákon č. 1/1992 Sb., ve znění pozdějších předpis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ákon č. 309/2006 Sb., kterým se upravují další požadavky bezpečnosti a ochrany zdraví při práci v pracovněprávních vztazích a o zajištění bezpečnosti a ochrany zdraví při činnosti nebo poskytování služeb mimo pracovněprávní vztahy (zákon o zajištění dalších podmínek bezpečnosti a ochrany zdraví při prác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ávní předpisy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00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ákon č. 118/2000 Sb., o ochraně zaměstnanců při platební neschopnosti zaměstnavatele a o změně některých zákonů, ve znění zákona č. 436/2004 S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ařízení vlády č. 178/2001 Sb., kterým se stanoví podmínky ochrany zdraví zaměstnanců při prá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. v. č. 494/2001 Sb., kterým se stanoví způsob evidence, hlášení a zasílání záznamu o úrazu, vzor záznamu o úrazu a okruh orgánů a institucí, kterým se ohlašuje pracovní úraz a zasílá záznam o úraz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ávní předpisy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ařízení vlády č. 567/2006 Sb., o minimální mzdě, o nejnižších úrovních zaručené mzdy, o vymezení ztíženého pracovního prostředí a o výši příplatku ke mzdě za práci ve ztíženém pracovním prostřed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hláška č. 338/2007 Sb., o stanovení výše základních sazeb zahraničního stravného pro rok 2008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Nové právní předpis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262/2006 Sb., zákoník prá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 1. 200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ccff"/>
                </a:solidFill>
                <a:latin typeface="Times New Roman"/>
              </a:rPr>
              <a:t>(nahradil zákoník práce, z. č. 65/1965 Sb., účinný do 31. 12. 200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187/2006 Sb., o nemocenském po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 1.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ccff"/>
                </a:solidFill>
                <a:latin typeface="Times New Roman"/>
              </a:rPr>
              <a:t>( nahradí z</a:t>
            </a:r>
            <a:r>
              <a:rPr b="0" lang="cs-CZ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ákon č. 54/1956 Sb., o nemocenském pojištění zaměstnanců</a:t>
            </a:r>
            <a:r>
              <a:rPr b="0" lang="cs-CZ" sz="2800" spc="-1" strike="noStrike">
                <a:solidFill>
                  <a:srgbClr val="cccc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266/2006 Sb., o úrazovém pojištění zaměstnanc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 1. 2010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s výjimkou části deváté čl. IX bodu 4 a části třicáté čl. XXX které nabývají účinnosti dnem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 července 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ccff"/>
                </a:solidFill>
                <a:latin typeface="Times New Roman"/>
              </a:rPr>
              <a:t>(nová právní úprava v Č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Nový předpis: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309/2006 Sb., kterým se upravují další požadavky bezpečnosti a ochrany zdraví při práci v pracovněprávních vztazích a o zajištění bezpečnosti a ochrany zdraví při činnosti nebo poskytování služeb mimo pracovněprávní vztahy (zákon o zajištění dalších podmínek bezpečnosti a ochrany zdraví při prác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Po</a:t>
            </a:r>
            <a:r>
              <a:rPr b="0" lang="cs-CZ" sz="2800" spc="-1" strike="noStrike">
                <a:solidFill>
                  <a:srgbClr val="00ffff"/>
                </a:solidFill>
                <a:latin typeface="Verdana"/>
                <a:ea typeface="Times New Roman"/>
              </a:rPr>
              <a:t>stavení </a:t>
            </a: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pracovního práva </a:t>
            </a:r>
            <a:r>
              <a:rPr b="0" lang="cs-CZ" sz="2800" spc="-1" strike="noStrike">
                <a:solidFill>
                  <a:srgbClr val="00ffff"/>
                </a:solidFill>
                <a:latin typeface="Verdana"/>
                <a:ea typeface="Times New Roman"/>
              </a:rPr>
              <a:t>v systému našeho právního řádu</a:t>
            </a: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, historický vznik</a:t>
            </a:r>
            <a:r>
              <a:rPr b="0" lang="cs-CZ" sz="3600" spc="-1" strike="noStrike">
                <a:solidFill>
                  <a:srgbClr val="00ffff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chranné, tzv. tovární zákonodárství – rozvoj kapitalis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niverzalita právní úprav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ex specialis derogat genera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acovní právo – samostatné právní odvětví, pracovněprávní vztahy se řídí zákoníkem práce a dalšími právními předpis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čanské právo – procesní stránka řešení soudních sporů z pracovněprávních vztahů – občanský soudní řá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ávo sociálního zabezpečení – sociální pojištění zaměstnanců (nemocenské, důchodové, příspěvek na státní politiku zaměstnanosti), zdravotní pojišt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  <a:ea typeface="Times New Roman"/>
              </a:rPr>
              <a:t>Pojetí a historický vznik pracovního práv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Ius Regale Montanorum, Horní zákoník Václava II. – 1300-1305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Čelední smlouv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Čelední řá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Tovaryšské a učednické smlouv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Robotní paten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1811 Všeobecný rakouský občanský zákoník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námezdní smlouva, od roku 1916 služební smlouva a smlouva o dí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1854 Horní zákon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ochrana zdraví dělníků v dolech, vznik tzv. hornických bratrských pokla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1859 Živnostenský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ád – ochrana zdraví dělníků v závodech, které zaměstnávaly více než 20 dělníků, absolutní zákaz práce dětí do 10 le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1867 zakotvení koaliční svo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883  zákon o zřizování živnostenských dozorců – zvláštní inspekce prá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Vývoj</a:t>
            </a:r>
            <a:r>
              <a:rPr b="0" lang="cs-CZ" sz="2800" spc="-1" strike="noStrike">
                <a:solidFill>
                  <a:srgbClr val="00ffff"/>
                </a:solidFill>
                <a:latin typeface="Verdana"/>
                <a:ea typeface="Times New Roman"/>
              </a:rPr>
              <a:t> prac</a:t>
            </a: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ovního práva u ná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00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03 zprostředkovatelny prá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14 služební pragmatika – dnes zákon č. 218/2003 Sb., služební zákon (účinnost odložena do roku 200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fašistická oku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nor 1948 – tzv. právnická dvoulet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65 – zákoník práce, účinnost od 1. 1. 19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90 – zákon o soukromém podnikání občanů, změna hospodářského zákoníku – obchodní společnost (společné podnikání fyzických osob, vznik jednotného systému vlastnictv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. 121/1990 Sb. o pracovněprávních vztazích při soukromém podnikání občan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91 – zákon o zaměstnanosti,  zákon o působnosti orgánů státní správy na úseku zaměstnanosti, zákon o kolektivním vyjednává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685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ffff"/>
                </a:solidFill>
                <a:uFillTx/>
                <a:latin typeface="Verdana"/>
              </a:rPr>
              <a:t>Zákoník práce</a:t>
            </a: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, </a:t>
            </a:r>
            <a:br>
              <a:rPr sz="2800"/>
            </a:b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zákon č. 65/1965 Sb., ve znění pozdějších předpisů,</a:t>
            </a:r>
            <a:br>
              <a:rPr sz="2800"/>
            </a:b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více než 50X novelizován – nejdůležitější novely: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0000" y="3352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74/1994 S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55/2000 S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6/2004 S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36/2004 S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748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Metropolitní univerzita Praha, o.p.s. </a:t>
            </a:r>
            <a:br>
              <a:rPr sz="36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čtvrtek 12.00-13.30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7120" y="1412640"/>
            <a:ext cx="74912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9. 10. 2008 – Úvod Pracovní prá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6. 10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3. 10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0. 10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6. 11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3. 11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0. 11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7. 11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04. 12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1. 12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8. 12.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08. 01.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5. 01.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Verdana"/>
              </a:rPr>
              <a:t>Vývoj dalších právních předpisů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004 – zákon o zaměstnanosti, zákon č. 435/2004 S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005 – zákon o inspekci práce, zákon č. 251/2005 S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006 – zákoník práce, zákon o nemocenském pojištění zaměstnanců, zákon o úrazovém pojištění zaměstnanc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ffff"/>
                </a:solidFill>
                <a:uFillTx/>
                <a:latin typeface="Verdana"/>
              </a:rPr>
              <a:t>Nový zákoník práce</a:t>
            </a:r>
            <a:r>
              <a:rPr b="0" lang="cs-CZ" sz="3600" spc="-1" strike="noStrike">
                <a:solidFill>
                  <a:srgbClr val="00ffff"/>
                </a:solidFill>
                <a:latin typeface="Verdana"/>
              </a:rPr>
              <a:t>, </a:t>
            </a:r>
            <a:br>
              <a:rPr sz="3600"/>
            </a:br>
            <a:r>
              <a:rPr b="0" lang="cs-CZ" sz="3600" spc="-1" strike="noStrike">
                <a:solidFill>
                  <a:srgbClr val="00ffff"/>
                </a:solidFill>
                <a:latin typeface="Verdana"/>
              </a:rPr>
              <a:t>zákon č. 262/2006 Sb., </a:t>
            </a:r>
            <a:br>
              <a:rPr sz="3600"/>
            </a:br>
            <a:r>
              <a:rPr b="0" lang="cs-CZ" sz="3600" spc="-1" strike="noStrike">
                <a:solidFill>
                  <a:srgbClr val="00ffff"/>
                </a:solidFill>
                <a:latin typeface="Verdana"/>
              </a:rPr>
              <a:t>účinnost od 1. 1. 2007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zveřej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nilo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M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isterstvo práce a sociálních věcí (dále jen M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SV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na svých webových stránkách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(www.mpsv.c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rováděcí právní předpisy, které na něj budou navazovat připravuje MPSV v současné dob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ásadní změna ve vztahu k občanskému zákoníku, princip deleg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co  není zakázáno je dovole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rávní předpisy o odměňování, cestovních náhradách budou součás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Verdana"/>
                <a:ea typeface="Times New Roman"/>
              </a:rPr>
              <a:t>Funkce pracovního práva.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	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 Unicode MS"/>
                <a:ea typeface="Times New Roman"/>
              </a:rPr>
              <a:t>Ochranná funkce</a:t>
            </a: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pracovního práva souvisí vůbec se vznikem daného právního odvětví jako takového. Pracovní právo vzniklo původně jako právní instrument mající  za úlohu chránit pozici zaměstnance v pracovněprávním vztahu, jakožto strany slabší, podléhající snadněji možnému zneužívá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 vykořisťování ze strany zaměstnavate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	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 Unicode MS"/>
                <a:ea typeface="Times New Roman"/>
              </a:rPr>
              <a:t>Organizační funkce</a:t>
            </a: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pracovního práva směřuje ke snaz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o zakotvení určitého řádu v podmínkách sjednávaných na volném trhu pracovních sil. Jsou stanoveny základní minimální standardy, které je nutné dodržova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	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 Unicode MS"/>
                <a:ea typeface="Times New Roman"/>
              </a:rPr>
              <a:t>Výchovná funkce</a:t>
            </a: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má smysl z hlediska doporučujících ustanovení zákoníku práce, jejichž dodržování není vždy zcela striktně vynucováno sankcem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Verdana"/>
                <a:ea typeface="Times New Roman"/>
              </a:rPr>
              <a:t>Působnost pracovního práva.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rávní teorie rozlišuj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následující působnosti pracovního práv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Čas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doba platnosti a účinnosti právních n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stor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vymezení území, na němž se příslušná právní norma apliku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Věcn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okruh právních vztahů, na které se vztahují normy pracovního prá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Osob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vymezení okruhu subjektů, na něž se normy pracovního práva vztahuj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440" y="0"/>
            <a:ext cx="91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Verdana"/>
                <a:ea typeface="Times New Roman"/>
              </a:rPr>
              <a:t>Působnost pracovního práva.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ližší specifikac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ík práce – od 1. 1. 1966, od 1.1. 2007 – přechodná ustanov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plikace zákoníku práce – dle místa výkonu práce, bydliště zaměstnance, dle hraničního ukazate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(§§ 16, 36 zákona o mezinárodním právu soukromém, zákon č. 07/1963 Sb., ve znění pozdějších předpis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kon závislé práce (nový zákoník práce ji bude definova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ubjekty pracovního vztahu – zaměstnanec a zaměstnava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440" y="0"/>
            <a:ext cx="91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stavení pracovního práva  v systému našeho právního řádu.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Zákoník práce a jeho vztah k ostatním soukromoprávním kodexů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 právu občanské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 k právu obchodní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 k právu sociálního zabezpe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2. Charakter právního odvětví pracovního práva - soukromoprávní nebo veřejnoprávn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Dlouhodobý spor, kam zařadit pracovní právo nelze jednoznačně rozsoud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Já zastávám názor, že individuální pracovní právo je typickým soukromoprávním odvětvím založeným na principu rovnosti smluvních stra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4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4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acovní právo dnes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dividuální pracovní prá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ěžiště pracovního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covní sílu fyzické osoby občana užívá za odměnu jiný subjekt, kterým je zaměstnavate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vatelem je buď osoba fyzická nebo osoba právnická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Kolektivní pracovní prá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ravující 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ztah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z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jekty, které zas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jí kolektivy zaměstnan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 ČR odborové organiza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rad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nců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vateli, resp. jejich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ružení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ztah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které jsou výsledkem smluvně právních jednání uvedených subjektů kolektivních právních vztah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440" y="0"/>
            <a:ext cx="91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olitika zaměstnanosti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Z hlediska právní úpravy politiky zaměstnanosti a oblasti pojistného se dostáváme do sféry práva veřejného, jelikož zde o právec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a povinnostech občanů rozhodují orgány veřejné správy, které jsou v pozici nadřízené ve vztahu k subjektům, o jejichž právech bude rozhodován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ulac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ztahů, které vznikají při realizaci práva občana získávat prostředky pro své životní potřeby prac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le čl. 26 odst. 1 a 3 a čl. 28 Listiny základních práv a svobod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ák. č. 2/1993 Sb. , v platném znění jako součást ústavního pořádku české republi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dle § 1 Zákona  o zaměstnanosti, č. 435/2004  Sb. a v souladu s dalšími zákony a prováděcími právními předpisy k těmto zákonům vydaným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Orgány státní správy činné na úseku zaměstnanosti, gesce Ministerstva práce a sociálních věcí Č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194616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 u="sng">
                <a:solidFill>
                  <a:srgbClr val="000db0"/>
                </a:solidFill>
                <a:uFillTx/>
                <a:latin typeface="Symbol"/>
                <a:ea typeface="Symbol"/>
              </a:rPr>
              <a:t></a:t>
            </a:r>
            <a:r>
              <a:rPr b="0" lang="cs-CZ" sz="25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práva služeb 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řady prá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lastní inspektoráty prá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ní úřad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57440" y="1946160"/>
            <a:ext cx="368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db0"/>
                </a:solidFill>
                <a:uFillTx/>
                <a:latin typeface="Symbol"/>
                <a:ea typeface="Symbol"/>
              </a:rPr>
              <a:t>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práva sociálního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eská správa sociálního zabezpečen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innost okresních    sprá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ávo na práci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nás j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toto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ávo upraveno v Listině základních práv a svobod jako součásti ústavního pořádku ČR.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l. 26 odst. 3 LZPS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eklaruje, že každý má právo získávat prostředky pro své životní potřeby prací. Občany, kteří toto právo nemohou bez své viny vykonávat, stát v přiměřeném rozsahu hmotně zajišťuj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db0"/>
                </a:solidFill>
                <a:latin typeface="Symbol"/>
                <a:ea typeface="Symbol"/>
              </a:rPr>
              <a:t>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na práci je subjektivním právem každého občana na uplatnění vlastních schopností v pracovním proces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ostřednictvím využití své pracovní síly (souhrnu duševních a fyzických vlastností člověka) i právo na získání prostředků k uspokojení svých základních potře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db0"/>
                </a:solidFill>
                <a:latin typeface="Symbol"/>
                <a:ea typeface="Symbol"/>
              </a:rPr>
              <a:t>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lze jej chápat jako právo absolutní, stát nemá povinnost každého občana za každou cenu zaměstna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ffff"/>
                </a:solidFill>
                <a:latin typeface="Times New Roman"/>
              </a:rPr>
              <a:t>Pracovní právo v prax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7120" y="907560"/>
            <a:ext cx="78865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ík práce a vztah k občanskému zákoníku, historický výv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ůsobnost zákoníku práce, účastníci pracovněprávních vztah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acovní poměr na dobu určitou/neurčitou – vznik, změny           a skončení pracovního poměr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alší pracovní pomě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hody o pracích konaných mimo pracovní poměr - dohoda       o provedení práce, dohoda o pracovní činno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chrana osobních dat v pracovněprávních vztazích - osobní spis zaměstn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acovní doba a doba odpočinku - čerpání dovolené, čerpání mateřské a rodičovské dovol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měňování – ujednání o mzdě, odměňování práce přesčas, práce v noci a ve zdraví škodlivém pracovním prostředí, odměna za pracovní pohotovost, cestovní náhr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kážky v práci – náhrada mzdy při pracovní neschopnosti zaměstnance, návštěvy lékaře, svatba, ošetřování člena rodiny, prostoje, nepříznivé povětrnostní podmín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áhrada škody – srážky ze mzdy, dohoda o hmotné odpovědnosti zaměstnance, dohoda o odpovědnosti za ztrátu svěřených předmětů, pracovní úraz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ávo na zaměstnání, §§ 10 až 13 zákona o zaměstnanost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db0"/>
                </a:solidFill>
                <a:latin typeface="Symbol"/>
                <a:ea typeface="Symbol"/>
              </a:rPr>
              <a:t>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na zaměstnání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 upraven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 čl. 26 odst. 1 LZPS, podle něhož má každý právo na svobodnou volbu povolání a přípravu k němu, jako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právo podnikat a provozovat jinou hospodářskou činnos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ále je toto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rozvedeno v 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oně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 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db0"/>
                </a:solidFill>
                <a:latin typeface="Symbol"/>
                <a:ea typeface="Symbol"/>
              </a:rPr>
              <a:t>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vem na zaměstnání je právo fyzické osoby, která chce a může pracov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 o práci se uchází, na zaměstnání v pracovněprávním vztahu, na zprostředkování zaměstnání a na poskytnutí dalších služeb za podmínek stanovených zákonem o 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db0"/>
                </a:solidFill>
                <a:latin typeface="Symbol"/>
                <a:ea typeface="Symbol"/>
              </a:rPr>
              <a:t>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Fyzická osoba má právo si sama svobodně zvolit a zabezpečit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zaměstná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a vykonávat je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na celém území ČR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, nebo si může zabezpečit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zaměstnání v zahranič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!Pracovněprávní vztahy s cizím prvkem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vičný příkl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vatel Jan Sladký provozuje cukrárnu, ve které zaměstnává dva cukráře. Na období zvýšené spotřeby práce v letních měsících přijal do pracovního poměru K. Mladého, se kterým uzavřel pracovní smlouvu, ve které byly obsaženy všechna podstatné náležitosti pracovní smlouvy, ale nebyla žádná zmínka o mzdě za vykonanou prác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1) Je taková pracovní smlouvy platná?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2) Na jakou mzdu má v takovém případě zaměstnanec nárok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osuďte </a:t>
            </a:r>
            <a:r>
              <a:rPr b="0" lang="cs-CZ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náležitosti přiložené pracovní smlouvy a zamyslete se nad smyslem jednotlivých částí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Které náležitosti  pracovní smlouvy jsou obligatorní a které fakultativní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990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ěkuji za pozornost 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 těším se na diskusi a spolupráci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828800" y="41144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sno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838080"/>
            <a:ext cx="7391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Přehled pracovněprávních předpisů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zejména nové prováděcí právní předpisy k zákoníku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Práva a povinnosti zaměstnanc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Jak zákoník prác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definuje vedoucího zaměstnan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a jaké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speciální povinnosti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mu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ukládá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Vznik pracovního poměru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zaměstnanc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Postup při sjednávání pracovního poměr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s dalšími zaměstnanci. Náležitosti pracovní smlouvy a možnosti jejich vymeze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Skončení pracovního poměru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Jednotlivé způsoby rozvázání pracovního poměru a jejich aplik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Organizační změny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a povinnosti s tím spojené. Hromadné propouště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Neuspokojivé pracovní výsledk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podřízeného zaměstnance, jak na ně reagov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748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snova pokračo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748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Porušení „pracovní kázně“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dodržování povinností vyplývajících z právních předpisů vztahujících se k zaměstnancem vykonávané prác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.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Hodnocení intenzity porušení a následky s tím spojené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Okamžité zrušení pracovního pomě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Kompetence vedoucích zaměstnanců ve vztahu k pracovní době a dovolené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. Určení nástupu na dovolenou, dodržování pracovní dob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Dohody o pracích konaných mimo pracovní poměr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a jejich použit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Odpovědnost za škodu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„Hmotná“ odpovědnost a odpovědnost za ztrátu svěřených předmětů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dměňování za práci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zda, dohoda o srážkách ze mzdy, příplatky za práci přesčas, ve svátek, v sobotu a v neděli, noční prác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Kolektivní smlouva a kolektivní vyjednávání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ahoma"/>
              </a:rPr>
              <a:t> Vztah s odborovou organiza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ffff"/>
                </a:solidFill>
                <a:latin typeface="Times New Roman"/>
              </a:rPr>
              <a:t>Doporučená literatura monografická: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052640"/>
            <a:ext cx="777240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Bělina, M. : Pracovní právo. Praha, C. H. Beck 200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Zachariáš, J. a kol. : Praktikum pracovního práva,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davatelství a nakladatelství Aleš Čeněk, s. r. o. , Plzeň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Galvas, M. a kol. : Pracovní právo. Brno. Masarykova univerzita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Galvas, M. Gregorová Z. , Zachariáš J. : Sbírka příkladů z pracovního práva a práva sociálního zabezpečení. Pelhřimov. Vydavatelství a nakladatelství Aleš Čeněk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oučková, M. a kol. : Zákoník práce. Komentář, 4. Vydání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oporučená literatura periodická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2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alenská, M. : Manažerská smlouva v českém pracovním právu, Bulletin advokacie č. 5/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Galvas, M. : Smluvní svoboda a její projevy v pracovním právu, Právník č. 4/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atejka, J. : K oprávnění zaměstnavatele kontrolovat práci zaměstnance pomocí moderních technologií, Právo a zaměstnání, 5/2003, s.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Matejka, J. : Právní úprava distančního výkonu práce, Právo a zaměstnání, 4/2003, s. 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Kostadinovová, I. : Rozpor s dobrými mravy      a jeho následky v pracovněprávních vztazích, Karlovarská právní revue, 1/2006, s. 9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oporučená literatura periodická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2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stadinovová, I. : Těhotenství a jeho důsledky v pracovněprávních vztazích, Karlovarská právní revue, 3/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oporučená literatura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Špundová, E. : Dovolená na zotavenou, 2004, ANAG 8/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ichrt, J. a kol. : Pracovní právo v příkladech. 2. Vyd. KAROLINUM Praha,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Hochman, J. : Judikatura v pracovním právu. Praha, LINDE s. r. o. 1999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Jakubka, J. : Interní předpisy zaměstnavatele v pracovněprávních vztazích - otázky a odpovědi, ASPI, 5/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Janáková, A. : Abeceda bezpečnosti a ochrany zdraví při práci 2004, ANAG 4/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3:20Z</dcterms:created>
  <dc:creator>Ilona Kostadinovová</dc:creator>
  <dc:description/>
  <dc:language>en-US</dc:language>
  <cp:lastModifiedBy>PC</cp:lastModifiedBy>
  <dcterms:modified xsi:type="dcterms:W3CDTF">2008-10-09T07:54:30Z</dcterms:modified>
  <cp:revision>153</cp:revision>
  <dc:subject/>
  <dc:title>Základy pracovního práva Vysoká škola Karlovy Vary,o.p.s.</dc:title>
</cp:coreProperties>
</file>