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9.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7102-3D60-4747-9942-A0756E111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25360" y="68436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áty jsou nerozlučně spjaty s územím, které ovládají. Jistá konstanta, státy si nemohou zvolit své sousedy, nemohou uniknout z blízkosti velmocí nebo ideologicky či jinak odlišně smýšlejících okolních mocnost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obě vídeňského kongresu po napoleonských válkách tvořilo 15 skutečných států a v podvečer 2. světové války zhruba států 50. Ve druhé polovině 20. století se rozpadem koloniálních a impreriálních říší rozšířilo, současný počet zhruba 200 států činí mezinárodní společenstv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d 2. poloviny 19. stol. se staly součástí mezinárodního společenství i mezivládní organizace, jimž zakládající státy přiznaly mezinárodně právní subjektiv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 životě mezinárodního společenství se mohou podílet i jiné jednotky, např. nevládní mezinárodní organizace či mezinárodní sdružení jednotlivců. Nepovažují se za subjekty mezinárodního práva, nejsou přirozeně členy mezinárodního společenství, mají však postavení autonomních činitelů působících v tomto společenstv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ztahy mezi státy jsou souřadnými a koordinační povahu má i mezinárodní právo a jeho systé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del vztahů mezi stá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Teorii státní suveren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 </a:t>
            </a:r>
            <a:r>
              <a:rPr b="1" lang="cs-CZ" sz="1200" spc="-1" strike="noStrike" u="sng">
                <a:solidFill>
                  <a:srgbClr val="000000"/>
                </a:solidFill>
                <a:uFillTx/>
                <a:latin typeface="Arial"/>
              </a:rPr>
              <a:t>16. stol Jean Bodin</a:t>
            </a:r>
            <a:r>
              <a:rPr b="0" lang="cs-CZ" sz="1200" spc="-1" strike="noStrike">
                <a:solidFill>
                  <a:srgbClr val="000000"/>
                </a:solidFill>
                <a:latin typeface="Arial"/>
              </a:rPr>
              <a:t>, francouzský vědec, přirovnává suveréna ke kormidelníkovi, který je povinen dovést svůj koráb k cíli cesty. Řídí svou loď sám, bez ohledu na hlasy cestujících, k obecnému blahu. O tom, co je blaho, o tom rozhoduje opět výlučně suverén. Absolutistické prvky jeho teorie prohlubuj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1" lang="cs-CZ" sz="1200" spc="-1" strike="noStrike" u="sng">
                <a:solidFill>
                  <a:srgbClr val="000000"/>
                </a:solidFill>
                <a:uFillTx/>
                <a:latin typeface="Arial"/>
              </a:rPr>
              <a:t>Thomas Hobbes, filosof 17. stol.,</a:t>
            </a:r>
            <a:r>
              <a:rPr b="0" lang="cs-CZ" sz="1200" spc="-1" strike="noStrike">
                <a:solidFill>
                  <a:srgbClr val="000000"/>
                </a:solidFill>
                <a:latin typeface="Arial"/>
              </a:rPr>
              <a:t> příkazy vládcovy, tj. právo, jsou jediným regulátorem lidského soužití, jehož legitimitu lze objektivně verifikovat. Moc vládce nemá hranic, odpor proti ní vede k destrukci všech hodnot a nelze jej ospravedlni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uverenitě jako vlastnosti států byla vždy pojmově vlastní tendence podřídit si kteroukoli konkurující společenskou moc. Ve vztazích mezi svrchovanými subjekty proto působila odstředivě, dezintegračně a vylučovala trvalou mezinárodní spolupráci. Odstředivá tendence v mezinárodních vztazích je současně neutralizována tendencí dostředivou, objektivně podmíněná nutnost koexistence států. Nezbytnost respektovat projevy existence jiných států.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áty mezi sebou zachovávají vzájemnost (reciprocitu), podřizující suverenita a tolerující reciprocita se v mezinárodních vztazích vyrovnávají a jednota těchto vzájmně konfliktních sil tvoří dynamiku zásady svrchované rovnosti.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inárodní právo tedy vlastně právem není, nemajíc jeho vlastnosti  a jsouc pouze souborem morálních pravidel, právo zaostalé a nedokonal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konci 20. stol.  však bývá tento názor vyslovován již jen výjimečně, neboť neodpovídá realitě úzce spolupracujícího mezinárodního společenstv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souvislosti s krizí v Perském zálivu v r. 1990 proslul výr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zinárodní právo je jako Bůh – každý ho s úctou vzývá, ale jeho existenci nikdo neprokáz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šechny základní instituty mezinárodního práva se nutně rozvíjely jinak než v systémech vnitrostátního práva. Platí to o jeho subjektech, druzích pravidel i forem odpovědnosti za mezinárodně protiprávní chování, donucení a sankcích a dalších pojmech a institutech.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1. Souřadn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Státům přísluší úplná normotvorná způsobilost upravit kterýkoli mezinárodní vztah normou mezinárodního práva, neplatná jsou pouze ujednání v rozporu s kogentním pravid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Valné shromáždění OSN vystupuje někdy zdánlivě jako celosvětový normotvůrce, akty Valného shromáždění jsou však pro státy toliko právně nezávaznými doporučeními, jednak jsou tyto akty z velké části určeny k regulaci vnitřním poměrů OSN a představují tak jen  jakési vnitřní právo mezinárodní organiz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Normy, k jejichž vzniku svým projevem vůle státy přispěly, jsou pak samy povinny respektovat v souladu s příkazem „pacta sunt serva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Koordinační povaha mezinárodního práva se projevuje institutem uznání takových situací, nebo aktů států, jež tyto situace vyvolaly. Mají zásadně deklaratorní účinky, akt má zároveň i konstitutivní účinky, neboť stát svou aktivitou (uznáním) vyjadřuje i své souhlasné politické či jiné záj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Zásada legitimity – existuje mezinárodně právní závazek neuznat protiprávní situace – Posudek Mezinárodního soudního dvora OSN ve věci Namibie (19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Hugo Grotius</a:t>
            </a:r>
            <a:r>
              <a:rPr b="0" lang="cs-CZ" sz="1200" spc="-1" strike="noStrike">
                <a:solidFill>
                  <a:srgbClr val="000000"/>
                </a:solidFill>
                <a:latin typeface="Arial"/>
              </a:rPr>
              <a:t> – definoval mezinárodní společenství jako soubor subjektů, které nemají společného soudce – „qui iudicem communem nullum ha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Mezinárodnímu právu v minulosti vládl </a:t>
            </a:r>
            <a:r>
              <a:rPr b="1" lang="cs-CZ" sz="1200" spc="-1" strike="noStrike" u="sng">
                <a:solidFill>
                  <a:srgbClr val="000000"/>
                </a:solidFill>
                <a:uFillTx/>
                <a:latin typeface="Arial"/>
              </a:rPr>
              <a:t>mezinárodní obyčej</a:t>
            </a:r>
            <a:r>
              <a:rPr b="0" lang="cs-CZ" sz="1200" spc="-1" strike="noStrike">
                <a:solidFill>
                  <a:srgbClr val="000000"/>
                </a:solidFill>
                <a:latin typeface="Arial"/>
              </a:rPr>
              <a:t>, důraz se kladl na obsah vůle normotvůrců a jeho upřednostnění před formou projevu normotvůrné vůle, byl omezen počet členů mezinárodního společenství, jenž činil mezinárodní praxi přehlednou a poznatelnou pro všechny subjekty mezinárodního práv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d počátku 19. století roste význam smluvního instrumentu. V letech 1815-1924 bylo v mezinárodním společenství sjednáno na 16 tisíc smluv. Komplexy obyčejových norem v tradičních oblastech mezinárodního práva (válečné, mořské, diplomatické a další) jsou vytěsňovány od přelomu 19. a 20. stol rozsáhlými kodifikacemi.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mnoha případech však státy nejsou ochotny z politických či jiných důvodů přistoupit ke sjednání smlouvy  a pravidla chování se pak utvářejí v záměrné a současně i spontánní mezistátní praxi. Obyčejotvorná praxe modifikuje platné smlouvy, včetně kodifikačních, tam, kde smluvní text již neodpovídá skutečným potřebám států tak, jak je vyvolala následná změna okolností a poměrů.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4. Mezinárodní právo zůstává především právem hmotný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motněprávní pravidla stanoví oprávnění a jim odpovídající povinnosti subjektů, neupravují však postup v případech sporů o obsah a výklad takového pravidla či v souvislosti s jeho nedodržení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může řešit procesní právo tím, že zmocňuje v uvedeném případě k autoritativní druhotné norrmotvorbě (k rozhodnutí ve věci příslušným orgánem) nebo alespoň k iniciativě v uvedeném směru.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zájemně si poskytované výsady a imunity diplomatických zástupců, zákaz používání některých druhů zbraní v ozbrojeném konfliktu apo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zájemně si poskytované výsady a imunity diplomatických zástupců, zákaz používání některých druhů zbraní v ozbrojeném konfliktu apo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us gentium – jeho normy tvořila jednostranně normotvorná vůle římského impéria. Normy neupravovaly vztahy Říma k jiným státům, nýbrž poměry mezi římskými občany a mimořímskými soukromými osobami ( peregrini) na území římské říše (nebylo ani kolizním právem – neupravovalo možnost použití jiného než římského práva a zahrnovalo hmotněrpvání pravid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angličtiny, v níž se rozdíl mezi výrazy národ a stát nepociťuje tak ostře jako jinde, přešel do ostatních jazyků, včetně románských i slovanských, tedy i do češtiny.  Termín mezinárodní právo se všeobecně vžil a pozdější pokusy o zavedení adekvátnějších názvů neuspě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ako kritérium rozlišování veřejného a soukromého práva v římském právu sloužil veřejný, resp. soukromý zájem (publicum ius est quod ad statum rei Romanae spectat, privatum, quod ad singularum utilitatem), jenž se nacházel v ohnisku úpravy. Některá odvětví mezinárodního práva veřejného, zejména upravující postavení fyzických a právnických osob, ovšem chrání soukromý zájem jednotlivce nejméně stejně intenzivně jako zájem veřejn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us gentium – jeho normy tvořila jednostranně normotvorná vůle římského impéria. Normy neupravovaly vztahy Říma k jiným státům, nýbrž poměry mezi římskými občany a mimořímskými soukromými osobami ( peregrini) na území římské říše (nebylo ani kolizním právem – neupravovalo možnost použití jiného než římského práva a zahrnovalo hmotněrpvání pravid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angličtiny, v níž se rozdíl mezi výrazy národ a stát nepociťuje tak ostře jako jinde, přešel do ostatních jazyků, včetně románských i slovanských, tedy i do češtiny.  Termín mezinárodní právo se všeobecně vžil a pozdější pokusy o zavedení adekvátnějších názvů neuspě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ako kritérium rozlišování veřejného a soukromého práva v římském právu sloužil veřejný, resp. soukromý zájem (publicum ius est quod ad statum rei Romanae spectat, privatum, quod ad singularum utilitatem), jenž se nacházel v ohnisku úpravy. Některá odvětví mezinárodního práva veřejného, zejména upravující postavení fyzických a právnických osob, ovšem chrání soukromý zájem jednotlivce nejméně stejně intenzivně jako zájem veřejn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us gentium – jeho normy tvořila jednostranně normotvorná vůle římského impéria. Normy neupravovaly vztahy Říma k jiným státům, nýbrž poměry mezi římskými občany a mimořímskými soukromými osobami ( peregrini) na území římské říše (nebylo ani kolizním právem – neupravovalo možnost použití jiného než římského práva a zahrnovalo hmotněrpvání pravid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angličtiny, v níž se rozdíl mezi výrazy národ a stát nepociťuje tak ostře jako jinde, přešel do ostatních jazyků, včetně románských i slovanských, tedy i do češtiny.  Termín mezinárodní právo se všeobecně vžil a pozdější pokusy o zavedení adekvátnějších názvů neuspě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ako kritérium rozlišování veřejného a soukromého práva v římském právu sloužil veřejný, resp. soukromý zájem (publicum ius est quod ad statum rei Romanae spectat, privatum, quod ad singularum utilitatem), jenž se nacházel v ohnisku úpravy. Některá odvětví mezinárodního práva veřejného, zejména upravující postavení fyzických a právnických osob, ovšem chrání soukromý zájem jednotlivce nejméně stejně intenzivně jako zájem veřejn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us gentium – jeho normy tvořila jednostranně normotvorná vůle římského impéria. Normy neupravovaly vztahy Říma k jiným státům, nýbrž poměry mezi římskými občany a mimořímskými soukromými osobami ( peregrini) na území římské říše (nebylo ani kolizním právem – neupravovalo možnost použití jiného než římského práva a zahrnovalo hmotněrpvání pravid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angličtiny, v níž se rozdíl mezi výrazy národ a stát nepociťuje tak ostře jako jinde, přešel do ostatních jazyků, včetně románských i slovanských, tedy i do češtiny.  Termín mezinárodní právo se všeobecně vžil a pozdější pokusy o zavedení adekvátnějších názvů neuspě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ako kritérium rozlišování veřejného a soukromého práva v římském právu sloužil veřejný, resp. soukromý zájem (publicum ius est quod ad statum rei Romanae spectat, privatum, quod ad singularum utilitatem), jenž se nacházel v ohnisku úpravy. Některá odvětví mezinárodního práva veřejného, zejména upravující postavení fyzických a právnických osob, ovšem chrání soukromý zájem jednotlivce nejméně stejně intenzivně jako zájem veřejn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us gentium – jeho normy tvořila jednostranně normotvorná vůle římského impéria. Normy neupravovaly vztahy Říma k jiným státům, nýbrž poměry mezi římskými občany a mimořímskými soukromými osobami ( peregrini) na území římské říše (nebylo ani kolizním právem – neupravovalo možnost použití jiného než římského práva a zahrnovalo hmotněrpvání pravid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angličtiny, v níž se rozdíl mezi výrazy národ a stát nepociťuje tak ostře jako jinde, přešel do ostatních jazyků, včetně románských i slovanských, tedy i do češtiny.  Termín mezinárodní právo se všeobecně vžil a pozdější pokusy o zavedení adekvátnějších názvů neuspě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ako kritérium rozlišování veřejného a soukromého práva v římském právu sloužil veřejný, resp. soukromý zájem (publicum ius est quod ad statum rei Romanae spectat, privatum, quod ad singularum utilitatem), jenž se nacházel v ohnisku úpravy. Některá odvětví mezinárodního práva veřejného, zejména upravující postavení fyzických a právnických osob, ovšem chrání soukromý zájem jednotlivce nejméně stejně intenzivně jako zájem veřejn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47 učebnic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47 učebnic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47 učebnic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47 učebni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47 učebni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robněji zvláštní politické jednotky str. 77 učebni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83 učebni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na život, svobodu, důstojnost a zdrav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sou chráněna kogentními normami mezinárodního práva, státy se od nich nemohou odchýlit, nemohou je partikulárně derogo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ůči svrchovanosti státu požívají relativní autonom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88 učebnice blíž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ostranný právní akt se může stát pramenem práv a povinností, ke své platnosti nevyžaduje přijetí jinými stá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ůvodem závaznosti není konsens, nýbrž postulát dobré víry / bona f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usí být učiněn veřej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konaný akt státu vyvolá novou mezinárodně právní situaci, na jejímž trvání mají oprávněný zájem i jiné státy. Stát jej tedy nesmí libovolně zrušit nebo odvolat, nesmí jít o svévolný postup, který by porušoval zásadu dobré víry.</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íže str. 118 uč. Mez. Právo veřejné obecná čás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120 učebnic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r. 146 Mez.pr.veř. Obecná čás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r. 153 učebnice Mez.pr. Veř. Obecná část</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čebnice mez.pr.veř.zvl.část str. 57</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 závazkové vztahy  platí, že účastníci smlouvy mohou zvolit právo, jímž se mají řídit jejich vzájemné majetkové vztahy, mohou tak učinit i mlčky, není-li vzhledem k okolnostem o projevené vůli pochybnost.</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tázka, které zásady, je ponechána teorii a justiční prax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devším jsou to zásady, které lze vyvozovat z ústav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zásada mongamického manželství, rovnost ras či náboženská svoboda at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E710A-955A-4D22-90E8-7FB553C69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7"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FE493-A08E-4075-807C-E8C6F5714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0"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AA52F-8983-402B-92EE-28CAC0B9B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5"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1C63C-8688-4FD4-A8BD-6C565B079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FD49AB3-55D5-4C78-ACB5-2D23793E6C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7"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EF64291-CE88-4E9E-8020-B2EB7A4FB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9"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0086F6A-57B7-4494-99FA-85329DF42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1"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5715608-8CEC-4494-A303-7B6E7CB46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28A2AD-F117-4D45-8E01-B41C0802E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2011CBD-549B-4802-8489-C7B07B43F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6"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740D51-943D-4FCC-AE03-3AD6DCFC9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6"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04EC1-7408-4E7E-9B7D-2D753020B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D4B886-889C-404A-963D-1E29186FF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4"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F81101-AE13-49F4-A028-FFEF80F91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8"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CAFEF6-45D4-49BB-9967-1ADBB9ADA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1"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331523B-AEDF-4AE7-836E-423FC4428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6"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CD4BAE8-95DB-463B-AA12-79E59D8DC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8"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57015-8FBE-4E1A-BD47-5D810CB0C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A28CC-7FE0-4DDD-84DC-472509906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EFA4F-8CC0-4513-81BD-6A1B5CFB4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1950E-6F7B-47F1-9DB9-DBBC52755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5"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C28E7-AEEE-4E90-98F8-4C092C98D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9"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B06E5-A7F4-42C8-A082-5FCD09985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3"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A856B-C539-475F-9510-9F37A69AD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73AA-A9FA-4E2D-A3DA-A4622F5F71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95B1-E909-4B7C-9734-DF42543DD1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hyperlink" Target="http://www.sbirkazakonu.cz/" TargetMode="External"/><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eps.cz/viaiuris" TargetMode="External"/><Relationship Id="rId2" Type="http://schemas.openxmlformats.org/officeDocument/2006/relationships/hyperlink" Target="http://www.sweb.cz/ilda" TargetMode="External"/><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http://www.sweb.cz/ilda"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Mezinárodní právo </a:t>
            </a:r>
            <a:br>
              <a:rPr sz="5400"/>
            </a:br>
            <a:r>
              <a:rPr b="0" lang="en-US" sz="5400" spc="-1" strike="noStrike">
                <a:solidFill>
                  <a:srgbClr val="e3e3ff"/>
                </a:solidFill>
                <a:latin typeface="Arial"/>
              </a:rPr>
              <a:t>a vztahy</a:t>
            </a:r>
            <a:endParaRPr b="0" lang="en-US" sz="5400" spc="-1" strike="noStrike">
              <a:solidFill>
                <a:srgbClr val="e3e3ff"/>
              </a:solidFill>
              <a:latin typeface="Arial"/>
            </a:endParaRPr>
          </a:p>
        </p:txBody>
      </p:sp>
      <p:sp>
        <p:nvSpPr>
          <p:cNvPr id="130" name="PlaceHolder 2"/>
          <p:cNvSpPr>
            <a:spLocks noGrp="1"/>
          </p:cNvSpPr>
          <p:nvPr>
            <p:ph type="subTitle"/>
          </p:nvPr>
        </p:nvSpPr>
        <p:spPr>
          <a:xfrm>
            <a:off x="899640" y="3068640"/>
            <a:ext cx="7417080" cy="28814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Mgr. Ilona Kostadinovová</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rávnická fakulta ZČU v Plzni</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i</a:t>
            </a:r>
            <a:r>
              <a:rPr b="0" lang="cs-CZ" sz="3200" spc="-1" strike="noStrike" u="sng">
                <a:solidFill>
                  <a:srgbClr val="00ffcc"/>
                </a:solidFill>
                <a:uFillTx/>
                <a:latin typeface="Arial"/>
                <a:hlinkClick r:id="rId2"/>
              </a:rPr>
              <a:t>lda</a:t>
            </a:r>
            <a:r>
              <a:rPr b="0" lang="en-US" sz="3200" spc="-1" strike="noStrike" u="sng">
                <a:solidFill>
                  <a:srgbClr val="00ffcc"/>
                </a:solidFill>
                <a:uFillTx/>
                <a:latin typeface="Arial"/>
                <a:hlinkClick r:id="rId3"/>
              </a:rPr>
              <a:t>@seznam.cz</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sweb.cz</a:t>
            </a:r>
            <a:r>
              <a:rPr b="0" lang="cs-CZ" sz="3200" spc="-1" strike="noStrike">
                <a:solidFill>
                  <a:srgbClr val="ffffff"/>
                </a:solidFill>
                <a:latin typeface="Arial"/>
              </a:rPr>
              <a:t>/ilda</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oporučená literatura</a:t>
            </a:r>
            <a:endParaRPr b="0" lang="en-US" sz="4000" spc="-1" strike="noStrike">
              <a:solidFill>
                <a:srgbClr val="e3e3ff"/>
              </a:solidFill>
              <a:latin typeface="Arial"/>
            </a:endParaRPr>
          </a:p>
        </p:txBody>
      </p:sp>
      <p:sp>
        <p:nvSpPr>
          <p:cNvPr id="148" name="PlaceHolder 2"/>
          <p:cNvSpPr>
            <a:spLocks noGrp="1"/>
          </p:cNvSpPr>
          <p:nvPr>
            <p:ph/>
          </p:nvPr>
        </p:nvSpPr>
        <p:spPr>
          <a:xfrm>
            <a:off x="395280" y="981000"/>
            <a:ext cx="8229600" cy="50436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TOČNÝ, Miroslav: Mezinárodní odborné organizace OSN, Praha, NPL, 1964, 318 str.</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BAŇOUCH, Hynek, FEDORKO, Martin: Mezinárodní organizace. Brno: Masarykova univerzita, Mezinárodní politologický ústav, 2001, 254 str.</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HOBZA, Antonín: Úvod do mezinárodního práva mírového, Část 1, Praha 1933, Část II, Praha 1935.</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HOBZA, Antonín: Přehled mezinárodního práva válečného. Dodatek: Trestání válečných zločinců, Praha 1946.</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UTRATA, Vladimír: Mezinárodní právo veřejné, Praha 1960.</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TOČNÝ, Miroslav: Mezinárodní právo veřejné, 2. Přeprac.vyd., Praha, 1978.</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3336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oporučená literatura</a:t>
            </a:r>
            <a:endParaRPr b="0" lang="en-US" sz="4000" spc="-1" strike="noStrike">
              <a:solidFill>
                <a:srgbClr val="e3e3ff"/>
              </a:solidFill>
              <a:latin typeface="Arial"/>
            </a:endParaRPr>
          </a:p>
        </p:txBody>
      </p:sp>
      <p:sp>
        <p:nvSpPr>
          <p:cNvPr id="150" name="PlaceHolder 2"/>
          <p:cNvSpPr>
            <a:spLocks noGrp="1"/>
          </p:cNvSpPr>
          <p:nvPr>
            <p:ph/>
          </p:nvPr>
        </p:nvSpPr>
        <p:spPr>
          <a:xfrm>
            <a:off x="457200" y="1125360"/>
            <a:ext cx="82296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HOBZA, Antonín: Dokumenty ke studiu mezinárodního práva. Praha, 1931.</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ŠTURMA, Pavel: Vybrané dokumenty ke studiu mezinárodního ekonomického práva. Praha: Karolinum, 1997,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TOČNÝ, Miroslav, ONDŘEJ, Jan:  Vybrané dokumenty ke studiu mezinárodních organizací. Praha, Karolinum, 1998,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TOČNÝ, Miroslav, ONDŘEJ, Jan: Obecné mezinárodní právo v dokumentech. C.H.Beck, Praha, 2000,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rázek, Josef: Dokumenty ke studiu mezinárodního práva. Plzeň, A.Čeněk, 2005,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jem mezinárodního práva</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bor právních norem, které zajišťují mírovou existenci a plynulý vývoj mezinárodního společenstv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nou zájmu zůstává vnitrostátní či národní společenství, tedy úprava právních poměrů v národním společenství se přenechává jinému souboru norem a to právu vnitrostátnímu.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zinárodní společenství</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lečenství států – do počátku 16. stol.</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48 Vestfálský kongres – po třicetileté válce bylo dosaženo mírového uspořádání</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graficky determinované</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četně omezené</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ří sem: </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áty – subjekty mezinárodního práva</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vládní mezinárodní organizace – subjekty mezinárodního práva</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vládní mezinárodní organizace – autonomní činitelé</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í sdružení jednotlivců – autonomní činitel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ávo mezinárodního společenství</a:t>
            </a:r>
            <a:endParaRPr b="0" lang="en-US" sz="4000" spc="-1" strike="noStrike">
              <a:solidFill>
                <a:srgbClr val="e3e3ff"/>
              </a:solidFill>
              <a:latin typeface="Arial"/>
            </a:endParaRPr>
          </a:p>
        </p:txBody>
      </p:sp>
      <p:sp>
        <p:nvSpPr>
          <p:cNvPr id="156" name="PlaceHolder 2"/>
          <p:cNvSpPr>
            <a:spLocks noGrp="1"/>
          </p:cNvSpPr>
          <p:nvPr>
            <p:ph/>
          </p:nvPr>
        </p:nvSpPr>
        <p:spPr>
          <a:xfrm>
            <a:off x="0" y="1196640"/>
            <a:ext cx="8686800" cy="4608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Souběžná existence více nezávislých politických územních celků.</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Četné a intenzivní vzájemné styky těchto celků.</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řekonání politiky egocentrismu a izolacionalismu.</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Souborem konečným, rozšířeno na všechny kontinenty a zahrnuje všechny státy svě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tát a jeho svrchovanost</a:t>
            </a:r>
            <a:endParaRPr b="0" lang="en-US" sz="4000" spc="-1" strike="noStrike">
              <a:solidFill>
                <a:srgbClr val="e3e3ff"/>
              </a:solidFill>
              <a:latin typeface="Arial"/>
            </a:endParaRPr>
          </a:p>
        </p:txBody>
      </p:sp>
      <p:sp>
        <p:nvSpPr>
          <p:cNvPr id="158"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rčující subjekt mezinárodního práv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Jednotky nadané svrchovaností (suverenitou), vrcholná a výlučná moc na příslušném státním území a nezávislá v mezinárodních vztazích.</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utorita mezinárodního práva – žádná norma nemůže vzniknout bez vůle samostatných států (volní povaha mezinárodního práv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Zásada svrchované rovnosti</a:t>
            </a:r>
            <a:r>
              <a:rPr b="0" lang="cs-CZ"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Jean Bodin, (16. stol.),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homas Hobbes (17. sto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Svrchovanost se realizuje prostřednictvím vnitrostátního právního řádu.</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V zájmu zachování vzájemnosti států (reciprocity) vzniká a existuje právo mezinárodn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Zvláštnosti mezinárodního práva</a:t>
            </a:r>
            <a:endParaRPr b="0" lang="en-US" sz="40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ohn Austin, 30. léta 19. stol.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Právo je spjato s nadřízeností normotvorné vůle (zákonodárce) a podřízeností subjektů. V právu mezi státy takový zákonodárce není.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S pojmem práva souvisí pojem soudce a exekutora jeho rozsudku, který je v právu mezi státy nenalezitelný, převládá svépomoc, je spíše souborem morálních pravidel.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Relativní mlad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Zvláštnosti mezinárodního práva</a:t>
            </a:r>
            <a:endParaRPr b="0" lang="en-US" sz="4000" spc="-1" strike="noStrike">
              <a:solidFill>
                <a:srgbClr val="e3e3ff"/>
              </a:solidFill>
              <a:latin typeface="Arial"/>
            </a:endParaRPr>
          </a:p>
        </p:txBody>
      </p:sp>
      <p:sp>
        <p:nvSpPr>
          <p:cNvPr id="162"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fontScale="96000"/>
          </a:bodyPr>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Arial"/>
              </a:rPr>
              <a:t>1. Souřadnost</a:t>
            </a:r>
            <a:r>
              <a:rPr b="0" lang="cs-CZ" sz="2400" spc="-1" strike="noStrike">
                <a:solidFill>
                  <a:srgbClr val="ffffff"/>
                </a:solidFill>
                <a:latin typeface="Arial"/>
              </a:rPr>
              <a:t> </a:t>
            </a:r>
            <a:endParaRPr b="0" lang="en-US" sz="2400" spc="-1" strike="noStrike">
              <a:solidFill>
                <a:srgbClr val="ffffff"/>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státy jsou současně výrobci (normotvůrci) mezinárodního práva i jeho spotřebiteli (adresáty oprávnění a povinností plynoucích z pravidel tohoto práva).</a:t>
            </a:r>
            <a:endParaRPr b="0" lang="en-US" sz="2400" spc="-1" strike="noStrike">
              <a:solidFill>
                <a:srgbClr val="ffffff"/>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Arial"/>
              </a:rPr>
              <a:t>2. Rozvojovost</a:t>
            </a:r>
            <a:r>
              <a:rPr b="0" lang="cs-CZ" sz="2400" spc="-1" strike="noStrike">
                <a:solidFill>
                  <a:srgbClr val="ffffff"/>
                </a:solidFill>
                <a:latin typeface="Arial"/>
              </a:rPr>
              <a:t> </a:t>
            </a:r>
            <a:endParaRPr b="0" lang="en-US" sz="2400" spc="-1" strike="noStrike">
              <a:solidFill>
                <a:srgbClr val="ffffff"/>
              </a:solidFill>
              <a:latin typeface="Arial"/>
            </a:endParaRPr>
          </a:p>
          <a:p>
            <a:pPr marL="585000" indent="-5850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ztahuje do systému nové subjekty</a:t>
            </a:r>
            <a:endParaRPr b="0" lang="en-US" sz="2400" spc="-1" strike="noStrike">
              <a:solidFill>
                <a:srgbClr val="ffffff"/>
              </a:solidFill>
              <a:latin typeface="Arial"/>
            </a:endParaRPr>
          </a:p>
          <a:p>
            <a:pPr marL="585000" indent="-5850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pravuje stále nové oblasti mezinárodních vztahů (ekologie, odzbrojení aj.) v nových prostředích (kosmický prostor, nebeská tělesa, dno a podzemí oceánů aj.)</a:t>
            </a:r>
            <a:endParaRPr b="0" lang="en-US" sz="2400" spc="-1" strike="noStrike">
              <a:solidFill>
                <a:srgbClr val="ffffff"/>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vniká do  sféry dříve vyhrazené výlučně vnitrostátnímu právu (např. úprava vztahů mezi státem a jeho občany), příkladem je Evropská Unie</a:t>
            </a:r>
            <a:endParaRPr b="0" lang="en-US" sz="2400" spc="-1" strike="noStrike">
              <a:solidFill>
                <a:srgbClr val="ffffff"/>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soustřeďuje dříve roztříštěnou úpravu do velkých kodifikačních děl (př. Statut mezinárodního soudního tribunál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Zvláštnosti mezinárodního práva</a:t>
            </a:r>
            <a:endParaRPr b="0" lang="en-US" sz="4000" spc="-1" strike="noStrike">
              <a:solidFill>
                <a:srgbClr val="e3e3ff"/>
              </a:solidFill>
              <a:latin typeface="Arial"/>
            </a:endParaRPr>
          </a:p>
        </p:txBody>
      </p:sp>
      <p:sp>
        <p:nvSpPr>
          <p:cNvPr id="164" name="PlaceHolder 2"/>
          <p:cNvSpPr>
            <a:spLocks noGrp="1"/>
          </p:cNvSpPr>
          <p:nvPr>
            <p:ph/>
          </p:nvPr>
        </p:nvSpPr>
        <p:spPr>
          <a:xfrm>
            <a:off x="457200" y="1196640"/>
            <a:ext cx="8229600" cy="4537080"/>
          </a:xfrm>
          <a:prstGeom prst="rect">
            <a:avLst/>
          </a:prstGeom>
          <a:noFill/>
          <a:ln w="0">
            <a:noFill/>
          </a:ln>
        </p:spPr>
        <p:txBody>
          <a:bodyPr lIns="90000" rIns="90000" tIns="46800" bIns="46800" anchor="t">
            <a:normAutofit fontScale="94000"/>
          </a:bodyPr>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Arial"/>
              </a:rPr>
              <a:t>3. Právem částečně nepsaným</a:t>
            </a: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1" lang="cs-CZ" sz="2400" spc="-1" strike="noStrike">
                <a:solidFill>
                  <a:srgbClr val="ffffff"/>
                </a:solidFill>
                <a:latin typeface="Arial"/>
              </a:rPr>
              <a:t>mezinárodní obyčej - </a:t>
            </a:r>
            <a:r>
              <a:rPr b="0" lang="cs-CZ" sz="2400" spc="-1" strike="noStrike">
                <a:solidFill>
                  <a:srgbClr val="ffffff"/>
                </a:solidFill>
                <a:latin typeface="Arial"/>
              </a:rPr>
              <a:t>obyčejotvorná praxe modifikuje platné smlouvy, včetně kodifikačních, tam, kde smluvní text již neodpovídá skutečným potřebám států tak, jak je vyvolala následná změna okolností a poměrů. </a:t>
            </a: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od poč. 19. stol. rozvoj smluvního instrumentu</a:t>
            </a: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Arial"/>
              </a:rPr>
              <a:t>4. Právem hmotným</a:t>
            </a: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Hmotněprávní pravidla stanoví oprávnění a jim odpovídající povinnosti subjektů, neupravují však postup v případech sporů o obsah a výklad takového pravidla či v souvislosti s jeho nedodržením. </a:t>
            </a: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cesní právo</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nes řada arbitrážních a soudních orgánů, které mohou autoritativně rozhodnout v konkrétních sporech o porušení mezinárodního práva.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středěná povaha mezinárodního práva však modifikuje především aspekt personální příslušnosti těchto orgánů, které nesmí projednat žádnou spornou věc bez souhlasu všech dotčených stran.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álný vliv soudních orgánů, zejména Mezinárodního soudního dvora OSN, trvale rost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76280"/>
            <a:ext cx="8229600" cy="26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Termíny výuky v ZS 2008</a:t>
            </a:r>
            <a:br>
              <a:rPr sz="4800"/>
            </a:br>
            <a:r>
              <a:rPr b="0" lang="en-US" sz="4400" spc="-1" strike="noStrike">
                <a:solidFill>
                  <a:srgbClr val="e3e3ff"/>
                </a:solidFill>
                <a:latin typeface="Arial"/>
              </a:rPr>
              <a:t>I. 4. 10. 2008</a:t>
            </a:r>
            <a:br>
              <a:rPr sz="4400"/>
            </a:br>
            <a:r>
              <a:rPr b="0" lang="en-US" sz="4400" spc="-1" strike="noStrike">
                <a:solidFill>
                  <a:srgbClr val="e3e3ff"/>
                </a:solidFill>
                <a:latin typeface="Arial"/>
              </a:rPr>
              <a:t>II. 15. 11. 2008</a:t>
            </a:r>
            <a:br>
              <a:rPr sz="4400"/>
            </a:br>
            <a:r>
              <a:rPr b="0" lang="en-US" sz="4400" spc="-1" strike="noStrike">
                <a:solidFill>
                  <a:srgbClr val="e3e3ff"/>
                </a:solidFill>
                <a:latin typeface="Arial"/>
              </a:rPr>
              <a:t>III. 29. 11. 2008</a:t>
            </a:r>
            <a:endParaRPr b="0" lang="en-US" sz="4400" spc="-1" strike="noStrike">
              <a:solidFill>
                <a:srgbClr val="e3e3ff"/>
              </a:solidFill>
              <a:latin typeface="Arial"/>
            </a:endParaRPr>
          </a:p>
        </p:txBody>
      </p:sp>
      <p:sp>
        <p:nvSpPr>
          <p:cNvPr id="132" name="PlaceHolder 2"/>
          <p:cNvSpPr>
            <a:spLocks noGrp="1"/>
          </p:cNvSpPr>
          <p:nvPr>
            <p:ph type="subTitle"/>
          </p:nvPr>
        </p:nvSpPr>
        <p:spPr>
          <a:xfrm>
            <a:off x="899640" y="3357360"/>
            <a:ext cx="7417080" cy="2592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gr. Ilona Kostadinovová</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Konzultace a aktuální informace:</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1"/>
              </a:rPr>
              <a:t>i</a:t>
            </a:r>
            <a:r>
              <a:rPr b="0" lang="cs-CZ" sz="2800" spc="-1" strike="noStrike" u="sng">
                <a:solidFill>
                  <a:srgbClr val="00ffcc"/>
                </a:solidFill>
                <a:uFillTx/>
                <a:latin typeface="Arial"/>
                <a:hlinkClick r:id="rId2"/>
              </a:rPr>
              <a:t>lda</a:t>
            </a:r>
            <a:r>
              <a:rPr b="0" lang="en-US" sz="2800" spc="-1" strike="noStrike" u="sng">
                <a:solidFill>
                  <a:srgbClr val="00ffcc"/>
                </a:solidFill>
                <a:uFillTx/>
                <a:latin typeface="Arial"/>
                <a:hlinkClick r:id="rId3"/>
              </a:rPr>
              <a:t>@seznam.cz</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sweb.cz</a:t>
            </a:r>
            <a:r>
              <a:rPr b="0" lang="cs-CZ" sz="2800" spc="-1" strike="noStrike">
                <a:solidFill>
                  <a:srgbClr val="ffffff"/>
                </a:solidFill>
                <a:latin typeface="Arial"/>
              </a:rPr>
              <a:t>/ilda</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unkce mezinárodního práva</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radiční</a:t>
            </a:r>
            <a:r>
              <a:rPr b="0" lang="en-US" sz="2800" spc="-1" strike="noStrike">
                <a:solidFill>
                  <a:srgbClr val="ffffff"/>
                </a:solidFill>
                <a:latin typeface="Arial"/>
              </a:rPr>
              <a:t> – zajistit koexistenci států v mezinárodním společenství podporou náležité stability a jistoty v jejich vzájemných vztazích.</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ravuje vztahy mezi subjekty, které disponují svrchovanou mocí, tj. nejvyšší mocí, vzájemně ohraničuje (delimituje) výkon moci jednotlivých států a tím minimalizuje konflikty mezi nim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y omezují svrchovanost států na recipročním základě.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unkce mezinárodního práva</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ávo spolupráce </a:t>
            </a:r>
            <a:r>
              <a:rPr b="0" lang="en-US" sz="2800" spc="-1" strike="noStrike">
                <a:solidFill>
                  <a:srgbClr val="ffffff"/>
                </a:solidFill>
                <a:latin typeface="Arial"/>
              </a:rPr>
              <a:t>– právo koexistence přešlo postupně do vyššího stádi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hrana a uspokojování společných zájmů a cílů.</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hrana mezinárodního míru, ochrana lidských práv, ochrana a úsilí o zachování světového životního prostředí, podpora mezinárodního hospodářského blahobytu a všeobecného ekonomického rozvoje.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řeba solidarit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ázev mezinárodního práva</a:t>
            </a:r>
            <a:endParaRPr b="0" lang="en-US" sz="4400" spc="-1" strike="noStrike">
              <a:solidFill>
                <a:srgbClr val="e3e3ff"/>
              </a:solidFill>
              <a:latin typeface="Arial"/>
            </a:endParaRPr>
          </a:p>
        </p:txBody>
      </p:sp>
      <p:sp>
        <p:nvSpPr>
          <p:cNvPr id="172" name="PlaceHolder 2"/>
          <p:cNvSpPr>
            <a:spLocks noGrp="1"/>
          </p:cNvSpPr>
          <p:nvPr>
            <p:ph/>
          </p:nvPr>
        </p:nvSpPr>
        <p:spPr>
          <a:xfrm>
            <a:off x="457200" y="1125360"/>
            <a:ext cx="822960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ení právem mezi národy, nýbrž mezi státy.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árodům vyplývá právo na sebeurčení – svobodně se rozhodovat o vlastním politickém osudu včetně svobody rozhodnout o své státnosti.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chází z latinského „ius gentium“/právo národů, které bylo součástí právního instrumentária antického Řím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17. stol. – Vitoria přenesl název na „ius inter gentes“, právo mezi národy</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1780 – Benthem (angličan) přeložil jako „international law“ a užíval jej v protikladu k výrazu „national law“</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d 19. stol. – v publikacích přidáváno slovo „veřejné“</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 několik desítek let později – zformulovala se párová kategorie k mezinárodnímu právu veřejnému jako mezinárodní právo soukrom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ávo veřejné X Právo soukromé</a:t>
            </a:r>
            <a:endParaRPr b="0" lang="en-US" sz="4000" spc="-1" strike="noStrike">
              <a:solidFill>
                <a:srgbClr val="e3e3ff"/>
              </a:solidFill>
              <a:latin typeface="Arial"/>
            </a:endParaRPr>
          </a:p>
        </p:txBody>
      </p:sp>
      <p:sp>
        <p:nvSpPr>
          <p:cNvPr id="174" name="PlaceHolder 2"/>
          <p:cNvSpPr>
            <a:spLocks noGrp="1"/>
          </p:cNvSpPr>
          <p:nvPr>
            <p:ph/>
          </p:nvPr>
        </p:nvSpPr>
        <p:spPr>
          <a:xfrm>
            <a:off x="457200" y="1125360"/>
            <a:ext cx="8229600" cy="4824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ávo veřejné</a:t>
            </a:r>
            <a:r>
              <a:rPr b="0" lang="en-US" sz="3200" spc="-1" strike="noStrike">
                <a:solidFill>
                  <a:srgbClr val="ffffff"/>
                </a:solidFill>
                <a:latin typeface="Arial"/>
              </a:rPr>
              <a:t> – odvětví, která zakotvují nerovné postavení mezi subjekty, z nichž některé nadřazené svým projevem vůle určují závazná pravidla chování pro ostatn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oukromé právo</a:t>
            </a:r>
            <a:r>
              <a:rPr b="0" lang="en-US" sz="3200" spc="-1" strike="noStrike">
                <a:solidFill>
                  <a:srgbClr val="ffffff"/>
                </a:solidFill>
                <a:latin typeface="Arial"/>
              </a:rPr>
              <a:t> – se zakládá na rovném postavení mezi subjekty a na kontraktech, jimiž strany dohodly vzájemné povinnosti a práv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í právo</a:t>
            </a:r>
            <a:endParaRPr b="0" lang="en-US" sz="4000" spc="-1" strike="noStrike">
              <a:solidFill>
                <a:srgbClr val="e3e3ff"/>
              </a:solidFill>
              <a:latin typeface="Arial"/>
            </a:endParaRPr>
          </a:p>
        </p:txBody>
      </p:sp>
      <p:sp>
        <p:nvSpPr>
          <p:cNvPr id="176" name="PlaceHolder 2"/>
          <p:cNvSpPr>
            <a:spLocks noGrp="1"/>
          </p:cNvSpPr>
          <p:nvPr>
            <p:ph/>
          </p:nvPr>
        </p:nvSpPr>
        <p:spPr>
          <a:xfrm>
            <a:off x="179280" y="1125360"/>
            <a:ext cx="864072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ztahy svrchované rovnosti mezi státy  a  prvořadý význam smluvního instrumentu nabádají spíše k identifikaci mezinárodního práva veřejného se soukromým právem.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nešní mezinárodní právo veřejné tvořeno pravidly, jejichž původ lze vykázat v římských soukromoprávních institutech. Jde o podstatnou část smluvního práva.</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ritérium zvláštní povahy veřejnoprávní instituce, kterou právo zřizuje k prosazování veřejného zájmu a uděluje jí k tomu i odpovídající pravomoc, státy lze považovat za komplexní veřejnoprávní osob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zinárodní právo veřejné</a:t>
            </a:r>
            <a:endParaRPr b="0" lang="en-US" sz="4400" spc="-1" strike="noStrike">
              <a:solidFill>
                <a:srgbClr val="e3e3ff"/>
              </a:solidFill>
              <a:latin typeface="Arial"/>
            </a:endParaRPr>
          </a:p>
        </p:txBody>
      </p:sp>
      <p:sp>
        <p:nvSpPr>
          <p:cNvPr id="178" name="PlaceHolder 2"/>
          <p:cNvSpPr>
            <a:spLocks noGrp="1"/>
          </p:cNvSpPr>
          <p:nvPr>
            <p:ph/>
          </p:nvPr>
        </p:nvSpPr>
        <p:spPr>
          <a:xfrm>
            <a:off x="457200" y="1125360"/>
            <a:ext cx="8229600" cy="4824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ezinárodní právo veřejn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mezistátní právní vzta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zinárodní právo soukromé</a:t>
            </a:r>
            <a:endParaRPr b="0" lang="en-US" sz="4400" spc="-1" strike="noStrike">
              <a:solidFill>
                <a:srgbClr val="e3e3ff"/>
              </a:solidFill>
              <a:latin typeface="Arial"/>
            </a:endParaRPr>
          </a:p>
        </p:txBody>
      </p:sp>
      <p:sp>
        <p:nvSpPr>
          <p:cNvPr id="180" name="PlaceHolder 2"/>
          <p:cNvSpPr>
            <a:spLocks noGrp="1"/>
          </p:cNvSpPr>
          <p:nvPr>
            <p:ph/>
          </p:nvPr>
        </p:nvSpPr>
        <p:spPr>
          <a:xfrm>
            <a:off x="457200" y="112536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ezinárodní právo soukromé</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rávní vztahy mezinárodní v obecném slova smyslu, neboť přesahují hranice jednoho státu, ale jejich subjekty jsou osoby fyzické nebo právnické, podléhající některé suverénní moc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ztahy jsou upraveny vnitřním právem každého státu v okruhu jeho teritoriální a personální jurisdikc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zhledem k mezinárodnímu prvku, který je v nich obsažen, je lze posuzovat současně podle dvou nebo více různých vnitrostátních právních řádů.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Kolizní normy</a:t>
            </a:r>
            <a:r>
              <a:rPr b="1" lang="en-US" sz="2400" spc="-1" strike="noStrike">
                <a:solidFill>
                  <a:srgbClr val="ffffff"/>
                </a:solidFill>
                <a:latin typeface="Arial"/>
              </a:rPr>
              <a:t> – pozitivní či negativní koliz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í právo trestní, správní, finanční, pracovní apod.</a:t>
            </a:r>
            <a:r>
              <a:rPr b="0" lang="en-US" sz="2400" spc="-1" strike="noStrike" u="sng">
                <a:solidFill>
                  <a:srgbClr val="ffffff"/>
                </a:solidFill>
                <a:uFillTx/>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měr mezinárodního a vnitrostátního práva</a:t>
            </a:r>
            <a:endParaRPr b="0" lang="en-US" sz="2800" spc="-1" strike="noStrike">
              <a:solidFill>
                <a:srgbClr val="e3e3ff"/>
              </a:solidFill>
              <a:latin typeface="Arial"/>
            </a:endParaRPr>
          </a:p>
        </p:txBody>
      </p:sp>
      <p:sp>
        <p:nvSpPr>
          <p:cNvPr id="182"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nitrostátní právo</a:t>
            </a:r>
            <a:r>
              <a:rPr b="0" lang="en-US" sz="2800" spc="-1" strike="noStrike">
                <a:solidFill>
                  <a:srgbClr val="ffffff"/>
                </a:solidFill>
                <a:latin typeface="Arial"/>
              </a:rPr>
              <a:t> – všechny soubory právních norem, jimiž jednotlivé státy upravují poměry mezi fyzickými a právnickými osobami, jež podléhají jejich svrchované moc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uje množina vnitrostátních práv rovná počtu států.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oexistence vnitrostátního a mezinárodního práva a vnitrostátních práv mezi sebou.</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vé vnitřní právní řády mají i mezinárodní mezivládní organiz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měr mezinárodního a vnitrostátního práva</a:t>
            </a:r>
            <a:endParaRPr b="0" lang="en-US" sz="2800" spc="-1" strike="noStrike">
              <a:solidFill>
                <a:srgbClr val="e3e3ff"/>
              </a:solidFill>
              <a:latin typeface="Arial"/>
            </a:endParaRPr>
          </a:p>
        </p:txBody>
      </p:sp>
      <p:sp>
        <p:nvSpPr>
          <p:cNvPr id="184"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ateriální dimenze</a:t>
            </a:r>
            <a:r>
              <a:rPr b="0" lang="en-US" sz="3200" spc="-1" strike="noStrike">
                <a:solidFill>
                  <a:srgbClr val="ffffff"/>
                </a:solidFill>
                <a:latin typeface="Arial"/>
              </a:rPr>
              <a:t> – celek společenských vztahů lze rozdělit na:</a:t>
            </a:r>
            <a:endParaRPr b="0" lang="en-US" sz="3200" spc="-1" strike="noStrike">
              <a:solidFill>
                <a:srgbClr val="ffffff"/>
              </a:solidFill>
              <a:latin typeface="Arial"/>
            </a:endParaRPr>
          </a:p>
          <a:p>
            <a:pPr marL="609480" indent="-609480">
              <a:spcBef>
                <a:spcPts val="799"/>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ztahy upravené výlučně mezinárodním právem</a:t>
            </a:r>
            <a:endParaRPr b="0" lang="en-US" sz="3200" spc="-1" strike="noStrike">
              <a:solidFill>
                <a:srgbClr val="ffffff"/>
              </a:solidFill>
              <a:latin typeface="Arial"/>
            </a:endParaRPr>
          </a:p>
          <a:p>
            <a:pPr marL="609480" indent="-609480">
              <a:spcBef>
                <a:spcPts val="799"/>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ztahy upravené konkurenčně mezinárodním a vnitrostátním právem</a:t>
            </a:r>
            <a:endParaRPr b="0" lang="en-US" sz="3200" spc="-1" strike="noStrike">
              <a:solidFill>
                <a:srgbClr val="ffffff"/>
              </a:solidFill>
              <a:latin typeface="Arial"/>
            </a:endParaRPr>
          </a:p>
          <a:p>
            <a:pPr marL="609480" indent="-609480">
              <a:spcBef>
                <a:spcPts val="799"/>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ztahy regulované výlučně vnitrostátním práv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měr mezinárodního a vnitrostátního práva</a:t>
            </a:r>
            <a:endParaRPr b="0" lang="en-US" sz="2800" spc="-1" strike="noStrike">
              <a:solidFill>
                <a:srgbClr val="e3e3ff"/>
              </a:solidFill>
              <a:latin typeface="Arial"/>
            </a:endParaRPr>
          </a:p>
        </p:txBody>
      </p:sp>
      <p:sp>
        <p:nvSpPr>
          <p:cNvPr id="186"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812880" indent="-812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Formální kritéria </a:t>
            </a:r>
            <a:r>
              <a:rPr b="0" lang="en-US" sz="3200" spc="-1" strike="noStrike">
                <a:solidFill>
                  <a:srgbClr val="ffffff"/>
                </a:solidFill>
                <a:latin typeface="Arial"/>
              </a:rPr>
              <a:t>– platnost právních norem a jejich právní síla</a:t>
            </a:r>
            <a:endParaRPr b="0" lang="en-US" sz="3200" spc="-1" strike="noStrike">
              <a:solidFill>
                <a:srgbClr val="ffffff"/>
              </a:solidFill>
              <a:latin typeface="Arial"/>
            </a:endParaRPr>
          </a:p>
          <a:p>
            <a:pPr marL="812880" indent="-812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stická a dualistická učení</a:t>
            </a:r>
            <a:endParaRPr b="0" lang="en-US" sz="3200" spc="-1" strike="noStrike">
              <a:solidFill>
                <a:srgbClr val="ffffff"/>
              </a:solidFill>
              <a:latin typeface="Arial"/>
            </a:endParaRPr>
          </a:p>
          <a:p>
            <a:pPr marL="812880" indent="-812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působy recepce mezinárodního práva:</a:t>
            </a:r>
            <a:endParaRPr b="0" lang="en-US" sz="3200" spc="-1" strike="noStrike">
              <a:solidFill>
                <a:srgbClr val="ffffff"/>
              </a:solidFill>
              <a:latin typeface="Arial"/>
            </a:endParaRPr>
          </a:p>
          <a:p>
            <a:pPr marL="812880" indent="-812880">
              <a:spcBef>
                <a:spcPts val="799"/>
              </a:spcBef>
              <a:buClr>
                <a:srgbClr val="e3e3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Kontinentální systém </a:t>
            </a:r>
            <a:r>
              <a:rPr b="0" lang="en-US" sz="3200" spc="-1" strike="noStrike">
                <a:solidFill>
                  <a:srgbClr val="ffffff"/>
                </a:solidFill>
                <a:latin typeface="Arial"/>
              </a:rPr>
              <a:t>– transformace, adaptace, inkorporace</a:t>
            </a:r>
            <a:endParaRPr b="0" lang="en-US" sz="3200" spc="-1" strike="noStrike">
              <a:solidFill>
                <a:srgbClr val="ffffff"/>
              </a:solidFill>
              <a:latin typeface="Arial"/>
            </a:endParaRPr>
          </a:p>
          <a:p>
            <a:pPr marL="812880" indent="-812880">
              <a:spcBef>
                <a:spcPts val="799"/>
              </a:spcBef>
              <a:buClr>
                <a:srgbClr val="e3e3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nglosaský systém </a:t>
            </a:r>
            <a:r>
              <a:rPr b="0" lang="en-US" sz="3200" spc="-1" strike="noStrike">
                <a:solidFill>
                  <a:srgbClr val="ffffff"/>
                </a:solidFill>
                <a:latin typeface="Arial"/>
              </a:rPr>
              <a:t>– tradičně adopce, nikoli však výlučně</a:t>
            </a:r>
            <a:endParaRPr b="0" lang="en-US" sz="3200" spc="-1" strike="noStrike">
              <a:solidFill>
                <a:srgbClr val="ffffff"/>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46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SNOVA</a:t>
            </a:r>
            <a:endParaRPr b="0" lang="en-US" sz="4000" spc="-1" strike="noStrike">
              <a:solidFill>
                <a:srgbClr val="e3e3ff"/>
              </a:solidFill>
              <a:latin typeface="Arial"/>
            </a:endParaRPr>
          </a:p>
        </p:txBody>
      </p:sp>
      <p:sp>
        <p:nvSpPr>
          <p:cNvPr id="134" name="PlaceHolder 2"/>
          <p:cNvSpPr>
            <a:spLocks noGrp="1"/>
          </p:cNvSpPr>
          <p:nvPr>
            <p:ph/>
          </p:nvPr>
        </p:nvSpPr>
        <p:spPr>
          <a:xfrm>
            <a:off x="457200" y="764640"/>
            <a:ext cx="8229600" cy="5543640"/>
          </a:xfrm>
          <a:prstGeom prst="rect">
            <a:avLst/>
          </a:prstGeom>
          <a:noFill/>
          <a:ln w="0">
            <a:noFill/>
          </a:ln>
        </p:spPr>
        <p:txBody>
          <a:bodyPr lIns="90000" rIns="90000" tIns="46800" bIns="46800" anchor="t">
            <a:normAutofit/>
          </a:bodyPr>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Úprava poměru mezi vnitrostátním právním řádem a mezinárodním právem v České republice a jiných státech (Velká Británie, USA, Francie, SRN, Rakousko, Nizozemí).</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ztah a vzájemné působení mezinárodních smluv a obyčeje v současném mezinárodním právu.</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ladní zásady soudobého mezinárodního práva podle Charty OSN.</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lady jurisdikce států (zásady teritoriality, personality a universality). </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ktivita mezinárodních organizací ve světle posudku Mezinárodního soudního dvora z r.1949 ,,Náhrada za škody utrpěné ve službách Organizace spojených národů".</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znik nových států a význam uznání států v soudobém mezinárodním právu.</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ávo na sebeurčení národů.</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áce komise OSN pro mezinárodní právo na návrhu článků o odpovědnosti států.</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ravné prostředky a náhrady za porušení mezinárodních závazků.</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028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TRANSFORMACE</a:t>
            </a:r>
            <a:endParaRPr b="0" lang="en-US" sz="2800" spc="-1" strike="noStrike">
              <a:solidFill>
                <a:srgbClr val="e3e3ff"/>
              </a:solidFill>
              <a:latin typeface="Arial"/>
            </a:endParaRPr>
          </a:p>
        </p:txBody>
      </p:sp>
      <p:sp>
        <p:nvSpPr>
          <p:cNvPr id="188" name="PlaceHolder 2"/>
          <p:cNvSpPr>
            <a:spLocks noGrp="1"/>
          </p:cNvSpPr>
          <p:nvPr>
            <p:ph/>
          </p:nvPr>
        </p:nvSpPr>
        <p:spPr>
          <a:xfrm>
            <a:off x="250920" y="764640"/>
            <a:ext cx="8642160" cy="5688360"/>
          </a:xfrm>
          <a:prstGeom prst="rect">
            <a:avLst/>
          </a:prstGeom>
          <a:noFill/>
          <a:ln w="0">
            <a:noFill/>
          </a:ln>
        </p:spPr>
        <p:txBody>
          <a:bodyPr lIns="90000" rIns="90000" tIns="46800" bIns="46800" anchor="t">
            <a:normAutofit fontScale="97000"/>
          </a:bodyPr>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Zachování doslovného znění mezinárodní smlouvy a její vyhlášení (schválení) v některé formě vnitrostátního práva, např. zákona.</a:t>
            </a:r>
            <a:endParaRPr b="0" lang="en-US" sz="2400" spc="-1" strike="noStrike">
              <a:solidFill>
                <a:srgbClr val="ffffff"/>
              </a:solidFill>
              <a:latin typeface="Arial"/>
            </a:endParaRPr>
          </a:p>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Ze smlouvy se stává vnitrostátní předpis. </a:t>
            </a:r>
            <a:endParaRPr b="0" lang="en-US" sz="2400" spc="-1" strike="noStrike">
              <a:solidFill>
                <a:srgbClr val="ffffff"/>
              </a:solidFill>
              <a:latin typeface="Arial"/>
            </a:endParaRPr>
          </a:p>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ouběžně existuje totožný soubor práv a povinností v příslušné mezinárodní smlouvě, jež zavazuje stát jako subjekt mezinárodního práva (formální dualismus).</a:t>
            </a:r>
            <a:endParaRPr b="0" lang="en-US" sz="2400" spc="-1" strike="noStrike">
              <a:solidFill>
                <a:srgbClr val="ffffff"/>
              </a:solidFill>
              <a:latin typeface="Arial"/>
            </a:endParaRPr>
          </a:p>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hodná u unifikačních smluv, které vyžadují doslovný přenos obsahu smluv do vnitrostátního práva.</a:t>
            </a:r>
            <a:endParaRPr b="0" lang="en-US" sz="2400" spc="-1" strike="noStrike">
              <a:solidFill>
                <a:srgbClr val="ffffff"/>
              </a:solidFill>
              <a:latin typeface="Arial"/>
            </a:endParaRPr>
          </a:p>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kyn zákonodárce k provedení mezinárodní smlouvy ve vnitrostátním měřítku. </a:t>
            </a:r>
            <a:endParaRPr b="0" lang="en-US" sz="2400" spc="-1" strike="noStrike">
              <a:solidFill>
                <a:srgbClr val="ffffff"/>
              </a:solidFill>
              <a:latin typeface="Arial"/>
            </a:endParaRPr>
          </a:p>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táty common law, s výjimkou USA, používají k provedení mezinárodní smlouvy, smlouva je aktem exekutivy, provádění jejích povinností vyžaduje zákonodárný akt.</a:t>
            </a:r>
            <a:endParaRPr b="0" lang="en-US" sz="2400" spc="-1" strike="noStrike">
              <a:solidFill>
                <a:srgbClr val="ffffff"/>
              </a:solidFill>
              <a:latin typeface="Arial"/>
            </a:endParaRPr>
          </a:p>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SA – „self-executing traties/bezprostředně použitelné smlouvy, které zmocňují k vnitrostátnímu provádění některých smluv bez zásahu zákonodár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ADAPTACE</a:t>
            </a:r>
            <a:endParaRPr b="0" lang="en-US" sz="3200" spc="-1" strike="noStrike">
              <a:solidFill>
                <a:srgbClr val="e3e3ff"/>
              </a:solidFill>
              <a:latin typeface="Arial"/>
            </a:endParaRPr>
          </a:p>
        </p:txBody>
      </p:sp>
      <p:sp>
        <p:nvSpPr>
          <p:cNvPr id="190"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812880" indent="-812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ahově přibližný přenos mezinárodně právních závazků a oprávnění do forem vnitrostátního práva. </a:t>
            </a:r>
            <a:endParaRPr b="0" lang="en-US" sz="2800" spc="-1" strike="noStrike">
              <a:solidFill>
                <a:srgbClr val="ffffff"/>
              </a:solidFill>
              <a:latin typeface="Arial"/>
            </a:endParaRPr>
          </a:p>
          <a:p>
            <a:pPr marL="812880" indent="-812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čitá volnost, harmonizační smlouvy mají sladit a nikoli sjednotit příslušnou oblast vnitrostátního práva a vytvořit srovnatelný standard vnitrostátních smluv ve všech smluvních státech.</a:t>
            </a:r>
            <a:endParaRPr b="0" lang="en-US" sz="2800" spc="-1" strike="noStrike">
              <a:solidFill>
                <a:srgbClr val="ffffff"/>
              </a:solidFill>
              <a:latin typeface="Arial"/>
            </a:endParaRPr>
          </a:p>
          <a:p>
            <a:pPr marL="812880" indent="-812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ožňuje vyloučit možná zdvojení, větší pochopení pro obsah a zvláštnosti systému vnitrostátního práva, riziko opomenutí závazků či nepřesného přenesení.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INKORPORACE</a:t>
            </a:r>
            <a:endParaRPr b="0" lang="en-US" sz="3200" spc="-1" strike="noStrike">
              <a:solidFill>
                <a:srgbClr val="e3e3ff"/>
              </a:solidFill>
              <a:latin typeface="Arial"/>
            </a:endParaRPr>
          </a:p>
        </p:txBody>
      </p:sp>
      <p:sp>
        <p:nvSpPr>
          <p:cNvPr id="192"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812880" indent="-8128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ažení normy mezinárodního práva do vnitrostátní právní sféry.</a:t>
            </a:r>
            <a:endParaRPr b="0" lang="en-US" sz="2400" spc="-1" strike="noStrike">
              <a:solidFill>
                <a:srgbClr val="ffffff"/>
              </a:solidFill>
              <a:latin typeface="Arial"/>
            </a:endParaRPr>
          </a:p>
          <a:p>
            <a:pPr marL="812880" indent="-8128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ůjčení účinků vnitrostátního práva.</a:t>
            </a:r>
            <a:endParaRPr b="0" lang="en-US" sz="2400" spc="-1" strike="noStrike">
              <a:solidFill>
                <a:srgbClr val="ffffff"/>
              </a:solidFill>
              <a:latin typeface="Arial"/>
            </a:endParaRPr>
          </a:p>
          <a:p>
            <a:pPr marL="812880" indent="-8128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kontinentálním právním systému lze na vnitrostátní poměry použít jen ta pravidla ve smlouvách, která jsou:</a:t>
            </a:r>
            <a:endParaRPr b="0" lang="en-US" sz="2400" spc="-1" strike="noStrike">
              <a:solidFill>
                <a:srgbClr val="ffffff"/>
              </a:solidFill>
              <a:latin typeface="Arial"/>
            </a:endParaRPr>
          </a:p>
          <a:p>
            <a:pPr marL="812880" indent="-8128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statečně jasná a přesná, aby byl oprávněný subjekt schopen upravit odpovídajícím způsobem své chování.</a:t>
            </a:r>
            <a:endParaRPr b="0" lang="en-US" sz="2400" spc="-1" strike="noStrike">
              <a:solidFill>
                <a:srgbClr val="ffffff"/>
              </a:solidFill>
              <a:latin typeface="Arial"/>
            </a:endParaRPr>
          </a:p>
          <a:p>
            <a:pPr marL="812880" indent="-8128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í být patrno, že jsou adresována skutečně subjektům vnitrostátního práva a nikoli státům jako takovým.</a:t>
            </a: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Mongolian Baiti"/>
              </a:rPr>
              <a:t>》</a:t>
            </a:r>
            <a:r>
              <a:rPr b="0" lang="en-US" sz="2400" spc="-1" strike="noStrike">
                <a:solidFill>
                  <a:srgbClr val="ffffff"/>
                </a:solidFill>
                <a:latin typeface="Mongolian Baiti"/>
              </a:rPr>
              <a:t>o splnění podmínek rozhodne aplikující vnitrostátní orgán</a:t>
            </a: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ADOPCE</a:t>
            </a:r>
            <a:endParaRPr b="0" lang="en-US" sz="3200" spc="-1" strike="noStrike">
              <a:solidFill>
                <a:srgbClr val="e3e3ff"/>
              </a:solidFill>
              <a:latin typeface="Arial"/>
            </a:endParaRPr>
          </a:p>
        </p:txBody>
      </p:sp>
      <p:sp>
        <p:nvSpPr>
          <p:cNvPr id="194" name="PlaceHolder 2"/>
          <p:cNvSpPr>
            <a:spLocks noGrp="1"/>
          </p:cNvSpPr>
          <p:nvPr>
            <p:ph/>
          </p:nvPr>
        </p:nvSpPr>
        <p:spPr>
          <a:xfrm>
            <a:off x="324000" y="1197000"/>
            <a:ext cx="8362800" cy="5184720"/>
          </a:xfrm>
          <a:prstGeom prst="rect">
            <a:avLst/>
          </a:prstGeom>
          <a:noFill/>
          <a:ln w="0">
            <a:noFill/>
          </a:ln>
        </p:spPr>
        <p:txBody>
          <a:bodyPr lIns="90000" rIns="90000" tIns="46800" bIns="46800" anchor="t">
            <a:normAutofit/>
          </a:bodyPr>
          <a:p>
            <a:pPr marL="812880" indent="-812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vojení – mezinárodních smluv, mezinárodního obyčejového práva, jiné formy či akty aplikace mezinárodních organizací</a:t>
            </a:r>
            <a:endParaRPr b="0" lang="en-US" sz="2800" spc="-1" strike="noStrike">
              <a:solidFill>
                <a:srgbClr val="ffffff"/>
              </a:solidFill>
              <a:latin typeface="Arial"/>
            </a:endParaRPr>
          </a:p>
          <a:p>
            <a:pPr marL="812880" indent="-812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Anglie -1769 – Blackstone „law of nations is part of the law of the land“</a:t>
            </a:r>
            <a:endParaRPr b="0" lang="en-US" sz="2800" spc="-1" strike="noStrike">
              <a:solidFill>
                <a:srgbClr val="ffffff"/>
              </a:solidFill>
              <a:latin typeface="Arial"/>
            </a:endParaRPr>
          </a:p>
          <a:p>
            <a:pPr marL="812880" indent="-812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1784 – USA</a:t>
            </a:r>
            <a:endParaRPr b="0" lang="en-US" sz="2800" spc="-1" strike="noStrike">
              <a:solidFill>
                <a:srgbClr val="ffffff"/>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Mongolian Baiti"/>
              </a:rPr>
              <a:t>》</a:t>
            </a:r>
            <a:r>
              <a:rPr b="0" lang="cs-CZ" sz="2800" spc="-1" strike="noStrike">
                <a:solidFill>
                  <a:srgbClr val="ffffff"/>
                </a:solidFill>
                <a:latin typeface="Arial"/>
              </a:rPr>
              <a:t>Soudy rozhodují na základě mezinárodního práva obyčejového aniž by zkoumaly, zda a jak došlo k jeho přeměně v právo vnitrostátní, obyčejové normy mezinárodního práva i interpretují.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axe v ČR</a:t>
            </a:r>
            <a:endParaRPr b="0" lang="en-US" sz="4000" spc="-1" strike="noStrike">
              <a:solidFill>
                <a:srgbClr val="e3e3ff"/>
              </a:solidFill>
              <a:latin typeface="Arial"/>
            </a:endParaRPr>
          </a:p>
        </p:txBody>
      </p:sp>
      <p:sp>
        <p:nvSpPr>
          <p:cNvPr id="196"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jvyšší soud předválečné republiky spojoval vnitrostátní působnost mezinárodní smlouvy s vyhlášením ve Sbírce zákonů a nařízení, Nejvyšší správní soud naopak vyžadoval speciální transformační vnitrostátní normu.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 Hobza</a:t>
            </a:r>
            <a:r>
              <a:rPr b="0" lang="en-US" sz="1800" spc="-1" strike="noStrike">
                <a:solidFill>
                  <a:srgbClr val="ffffff"/>
                </a:solidFill>
                <a:latin typeface="Arial"/>
              </a:rPr>
              <a:t> -  mezinárodní smlouva je vnitrostátně závazná okamžikem její ratifikace, resp. složením ratifikačních listi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XE DN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Čl. 10 Ústavy ČR, z. č. 1/1993 Sb., v platném znění – vyhlášené mezinárodní smlouvy, k jejichž ratifikaci dal Parlament souhlas a jimiž je ČR vázána, jsou součástí právního řádu, stanoví-li mezinárodní smlouva něco jiného než zákon, použije se mezinárodní smlouv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Čl. 10a – mezinárodní smlouvou lze přenést pravomoci orgánů ČR na mezinárodní organizaci nebo instituci, k ratifikace je potřeba souhlasu Parlamentu, nestanoví-li ústavní zákon, že k ratifikaci je třeba souhlasu daného v referendu</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Čl. 10b – vláda informuje Parlament o otázkách závazků vyplývajících z členství ČR v mezinárodní organizaci nebo instituci, komory Parlamentu se vyjadřují k rozhodnutí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bjekty mezinárodního práva</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Způsobilost k právům a povinnostem</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dnotka – práva a povinnosti adresovány přímo jí, udělovány mezinárodním práve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zinárodní právo upravuje společenské vztahy, tj. vztahy mezi lidmi či mezi jejich společenstvími. Věc smí být toliko jako objekt, ne jako subjekt mezinárodního práv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bjekty mezinárodního práva</a:t>
            </a:r>
            <a:endParaRPr b="0" lang="en-US" sz="4400" spc="-1" strike="noStrike">
              <a:solidFill>
                <a:srgbClr val="e3e3ff"/>
              </a:solidFill>
              <a:latin typeface="Arial"/>
            </a:endParaRPr>
          </a:p>
        </p:txBody>
      </p:sp>
      <p:sp>
        <p:nvSpPr>
          <p:cNvPr id="200" name="PlaceHolder 2"/>
          <p:cNvSpPr>
            <a:spLocks noGrp="1"/>
          </p:cNvSpPr>
          <p:nvPr>
            <p:ph/>
          </p:nvPr>
        </p:nvSpPr>
        <p:spPr>
          <a:xfrm>
            <a:off x="457200" y="980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Způsobilost k právním úkonům:</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stupovat svým jménem do mezinárodně právních poměrů a přejímat závazky vůči jiným subjektům.</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řechodná ztráta nemívá nutně za důsledek ztrátu subjektivity, př. okupovaný stát, mandátní či poručenské území.</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ávo přijímat a vysílat diplomatické zástupce (legační právo), právo uzavírat mezinárodní smlouvy, právo sebeobrany, právo vlajky, právo registrace letadel, právo poskytovat diplomatickou ochranu, právo předložit spornou věc rozhodovacímu mezinárodnímu orgánu, právo požívat imunity před soudními orgány jiných subjektů mezinárodního práva a způsobilost k právním úkonům, tj. nést za své chování mezinárodní odpovědnos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228240"/>
            <a:ext cx="8496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ruhy subjektů mezinárodního práva</a:t>
            </a:r>
            <a:endParaRPr b="0" lang="en-US" sz="4000" spc="-1" strike="noStrike">
              <a:solidFill>
                <a:srgbClr val="e3e3ff"/>
              </a:solidFill>
              <a:latin typeface="Arial"/>
            </a:endParaRPr>
          </a:p>
        </p:txBody>
      </p:sp>
      <p:sp>
        <p:nvSpPr>
          <p:cNvPr id="202" name="PlaceHolder 2"/>
          <p:cNvSpPr>
            <a:spLocks noGrp="1"/>
          </p:cNvSpPr>
          <p:nvPr>
            <p:ph/>
          </p:nvPr>
        </p:nvSpPr>
        <p:spPr>
          <a:xfrm>
            <a:off x="395280" y="981000"/>
            <a:ext cx="8291520" cy="5114880"/>
          </a:xfrm>
          <a:prstGeom prst="rect">
            <a:avLst/>
          </a:prstGeom>
          <a:noFill/>
          <a:ln w="0">
            <a:noFill/>
          </a:ln>
        </p:spPr>
        <p:txBody>
          <a:bodyPr lIns="90000" rIns="90000" tIns="46800" bIns="46800" anchor="t">
            <a:normAutofit/>
          </a:bodyPr>
          <a:p>
            <a:pPr marL="812880" indent="-812880">
              <a:lnSpc>
                <a:spcPct val="80000"/>
              </a:lnSpc>
              <a:spcBef>
                <a:spcPts val="601"/>
              </a:spcBef>
              <a:buClr>
                <a:srgbClr val="e3e3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ubjekty práv a subjekty povinností</a:t>
            </a:r>
            <a:endParaRPr b="0" lang="en-US" sz="2400" spc="-1" strike="noStrike">
              <a:solidFill>
                <a:srgbClr val="ffffff"/>
              </a:solidFill>
              <a:latin typeface="Arial"/>
            </a:endParaRPr>
          </a:p>
          <a:p>
            <a:pPr marL="812880" indent="-812880">
              <a:lnSpc>
                <a:spcPct val="80000"/>
              </a:lnSpc>
              <a:spcBef>
                <a:spcPts val="601"/>
              </a:spcBef>
              <a:buClr>
                <a:srgbClr val="e3e3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ubjekty prvotní (původní) a druhotné (odvozené)</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př. stát – vlastní fyzická existence</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př. jednotky, které vznikly z vůle států – mezinárodní vládní organizace</a:t>
            </a:r>
            <a:endParaRPr b="0" lang="en-US" sz="2400" spc="-1" strike="noStrike">
              <a:solidFill>
                <a:srgbClr val="ffffff"/>
              </a:solidFill>
              <a:latin typeface="Arial"/>
            </a:endParaRPr>
          </a:p>
          <a:p>
            <a:pPr marL="812880" indent="-812880">
              <a:lnSpc>
                <a:spcPct val="80000"/>
              </a:lnSpc>
              <a:spcBef>
                <a:spcPts val="601"/>
              </a:spcBef>
              <a:buClr>
                <a:srgbClr val="e3e3ff"/>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ubjekty trvalé a dočasné (přechodné)  </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př. stát, mezivládní organizace</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př. povstalci jako válčící strana</a:t>
            </a:r>
            <a:endParaRPr b="0" lang="en-US" sz="2400" spc="-1" strike="noStrike">
              <a:solidFill>
                <a:srgbClr val="ffffff"/>
              </a:solidFill>
              <a:latin typeface="Arial"/>
            </a:endParaRPr>
          </a:p>
          <a:p>
            <a:pPr marL="812880" indent="-812880">
              <a:lnSpc>
                <a:spcPct val="80000"/>
              </a:lnSpc>
              <a:spcBef>
                <a:spcPts val="601"/>
              </a:spcBef>
              <a:buClr>
                <a:srgbClr val="e3e3ff"/>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bjektivní (erga omnes, státy) a subjektivní subjektivita (lze se dovolat jen vůči státům, které ji uznaly, mají např. povstalci)</a:t>
            </a:r>
            <a:endParaRPr b="0" lang="en-US" sz="2400" spc="-1" strike="noStrike">
              <a:solidFill>
                <a:srgbClr val="ffffff"/>
              </a:solidFill>
              <a:latin typeface="Arial"/>
            </a:endParaRPr>
          </a:p>
          <a:p>
            <a:pPr marL="812880" indent="-812880">
              <a:lnSpc>
                <a:spcPct val="80000"/>
              </a:lnSpc>
              <a:spcBef>
                <a:spcPts val="601"/>
              </a:spcBef>
              <a:buClr>
                <a:srgbClr val="e3e3ff"/>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lná (stát), částečná/specializovaná či dílčí (mezivládní organizace) a marginální/okrajová (jednotlivec) subjektivita</a:t>
            </a:r>
            <a:endParaRPr b="0" lang="en-US" sz="2400" spc="-1" strike="noStrike">
              <a:solidFill>
                <a:srgbClr val="ffffff"/>
              </a:solidFill>
              <a:latin typeface="Arial"/>
            </a:endParaRPr>
          </a:p>
          <a:p>
            <a:pPr marL="81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0464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Jednotlivec</a:t>
            </a:r>
            <a:endParaRPr b="0" lang="en-US" sz="2800" spc="-1" strike="noStrike">
              <a:solidFill>
                <a:srgbClr val="e3e3ff"/>
              </a:solidFill>
              <a:latin typeface="Arial"/>
            </a:endParaRPr>
          </a:p>
        </p:txBody>
      </p:sp>
      <p:sp>
        <p:nvSpPr>
          <p:cNvPr id="204" name="PlaceHolder 2"/>
          <p:cNvSpPr>
            <a:spLocks noGrp="1"/>
          </p:cNvSpPr>
          <p:nvPr>
            <p:ph/>
          </p:nvPr>
        </p:nvSpPr>
        <p:spPr>
          <a:xfrm>
            <a:off x="457200" y="836280"/>
            <a:ext cx="8229600" cy="55450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emá normotvornou způsobilos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arginální, připuštěnou výhradně státy, tedy odvozenou mezinárodněprávní subjektivitu má.</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ávně filosofické teorie poměru státu a jednotliv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I. Absolutní superiorita státní moci – Platon, Machiavelli, Bodin, Hobbes, Hegel, Mussolin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II. Svrchovanost člověka – Benthem, Constant, Mill, Proudhon, Sore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III. Kompromis – přirozená koexistence autonomních zájmů obou stran - Tomáš Akvinský, Marsilius z Padovy, Rousseau, Kant, Dugui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Lidská společnost může existovat bez státu, ale nemůže být stát bez společnosti lidské. Stát není tvůrcem svobody člověka, ale jejím ochráncem. Existence přirozených práv člověka, jež je mu stát povinen poskytnou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Jednotlivec jako subjekt mezinárodního práva</a:t>
            </a:r>
            <a:endParaRPr b="0" lang="en-US" sz="2800" spc="-1" strike="noStrike">
              <a:solidFill>
                <a:srgbClr val="e3e3ff"/>
              </a:solidFill>
              <a:latin typeface="Arial"/>
            </a:endParaRPr>
          </a:p>
        </p:txBody>
      </p:sp>
      <p:sp>
        <p:nvSpPr>
          <p:cNvPr id="206"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da existují zájmy, které mezinárodní právo chrání i bez konkrétního přivolení státní moci i proti konkrétní takové moci, kogentními normami mezinárodního práv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kladní lidská práva – právo na život, svobodu, důstojnost a zdrav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Mongolian Baiti"/>
              </a:rPr>
              <a:t>》》</a:t>
            </a:r>
            <a:r>
              <a:rPr b="0" lang="cs-CZ" sz="3200" spc="-1" strike="noStrike">
                <a:solidFill>
                  <a:srgbClr val="ffffff"/>
                </a:solidFill>
                <a:latin typeface="Mongolian Baiti"/>
              </a:rPr>
              <a:t>majetkem celého mezinárodního společenství, státy se od nich nemohou jednostranně odchýlit, nemohou je partikulárně derogov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SNOVA</a:t>
            </a:r>
            <a:endParaRPr b="0" lang="en-US" sz="4000" spc="-1" strike="noStrike">
              <a:solidFill>
                <a:srgbClr val="e3e3ff"/>
              </a:solidFill>
              <a:latin typeface="Arial"/>
            </a:endParaRPr>
          </a:p>
        </p:txBody>
      </p:sp>
      <p:sp>
        <p:nvSpPr>
          <p:cNvPr id="136"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ávrh kodexu zločinů proti míru a bezpečnosti lidstva a vytvoření Mezinárodního trestního soudu.</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ávní režim evropských mezinárodních řek.</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plavební využívání mezinárodních vodních toků.</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ávo vnitrozemských států na přístup k moři ve světle zájmů a potřeb České republiky.</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časný stav právního režimu a organizace pro oblast mořského dna za hranicemi jurisdikce států.</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lady a další rozvoj právního režimu kosmického prostoru v Organizaci spojených národů.</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ýznam a výsledky konferencí OSN o životním prostředí pro rozvoj mezinárodního práva životního   prostředí.</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ém ochrany lidských práv podle Paktů o lidských právech z r.196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ém ochrany lidských práv podle Evropské úmluvy na ochranu lidských práv.</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hrana menšin v rámci Rady Evropy.</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lomatické výsady a imunity podle Vídeňské úmluvy z r.1961.</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Prameny mezinárodního práva</a:t>
            </a:r>
            <a:endParaRPr b="0" lang="en-US" sz="3200" spc="-1" strike="noStrike">
              <a:solidFill>
                <a:srgbClr val="e3e3ff"/>
              </a:solidFill>
              <a:latin typeface="Arial"/>
            </a:endParaRPr>
          </a:p>
        </p:txBody>
      </p:sp>
      <p:sp>
        <p:nvSpPr>
          <p:cNvPr id="208" name="PlaceHolder 2"/>
          <p:cNvSpPr>
            <a:spLocks noGrp="1"/>
          </p:cNvSpPr>
          <p:nvPr>
            <p:ph/>
          </p:nvPr>
        </p:nvSpPr>
        <p:spPr>
          <a:xfrm>
            <a:off x="395280" y="1197000"/>
            <a:ext cx="8291520" cy="5184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zinárodní pakt o občanských a politických právech</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Mongolian Baiti"/>
              </a:rPr>
              <a:t>》</a:t>
            </a:r>
            <a:r>
              <a:rPr b="0" lang="en-US" sz="3200" spc="-1" strike="noStrike">
                <a:solidFill>
                  <a:srgbClr val="ffffff"/>
                </a:solidFill>
                <a:latin typeface="Mongolian Baiti"/>
              </a:rPr>
              <a:t>jsou připuštěna nediskriminující omezení lidských práv za mimořádné situace, která je úředně vyhlášena a v níž je ohrožen život národa</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Mongolian Baiti"/>
              </a:rPr>
              <a:t>》</a:t>
            </a:r>
            <a:r>
              <a:rPr b="0" lang="en-US" sz="3200" spc="-1" strike="noStrike">
                <a:solidFill>
                  <a:srgbClr val="ffffff"/>
                </a:solidFill>
                <a:latin typeface="Mongolian Baiti"/>
              </a:rPr>
              <a:t>není však připuštěno omezení práva na život, zákazu mučení, krutého, nelidského nebo ponižujícího zacházení, zákazu otroctví a nevolnictv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Výkon práv chráněných mezinárodním právem</a:t>
            </a:r>
            <a:endParaRPr b="0" lang="en-US" sz="40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střednictvím vnitrostátního právního řádu a rovněž procesní záruky lidských prvá jsou situovány primárně do tohoto řádu.</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ladní lidská práva jsou chráněna i v negativním smyslu: jednotlivcům jsou zakázány takové způsoby chování, jež by vážně taková práva ohrozil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respektování pravidel vyvolá mezinárodně právní trestní odpovědnost pachatelů – zločiny proti míru, proti lidskosti, válečné zločiny, zločin genocid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ě právní trestní odpovědnost</a:t>
            </a:r>
            <a:endParaRPr b="0" lang="en-US" sz="40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ločiny páchají osoby ve funkci státních orgánů na přání, pokyn či příkaz svrchované moci, resp. jejího právního řádu.</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onflikt mezi zákazem plynoucím z normy mezinárodního práva a beztrestností podle práva vnitrostátního řeší mezinárodní právo tak, že zřetelně prokazuje přímou trestní odpovědnost osoby pachatele podle mezinárodního práv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20280"/>
            <a:ext cx="82296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3e3ff"/>
                </a:solidFill>
                <a:latin typeface="Arial"/>
              </a:rPr>
              <a:t>Mezinárodní trestní soud</a:t>
            </a:r>
            <a:br>
              <a:rPr sz="6000"/>
            </a:br>
            <a:endParaRPr b="0" lang="en-US" sz="6000" spc="-1" strike="noStrike">
              <a:solidFill>
                <a:srgbClr val="e3e3ff"/>
              </a:solidFill>
              <a:latin typeface="Arial"/>
            </a:endParaRPr>
          </a:p>
        </p:txBody>
      </p:sp>
      <p:sp>
        <p:nvSpPr>
          <p:cNvPr id="214" name="PlaceHolder 2"/>
          <p:cNvSpPr>
            <a:spLocks noGrp="1"/>
          </p:cNvSpPr>
          <p:nvPr>
            <p:ph/>
          </p:nvPr>
        </p:nvSpPr>
        <p:spPr>
          <a:xfrm>
            <a:off x="457200" y="2204640"/>
            <a:ext cx="8229600" cy="410364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Ad hoc Norimberský a Tokijský vojenský tribunál</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ločiny v bývalé Jugoslávii 1993</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Rwanda 2003</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International Criminal Court/ICC/ Stálý mezinárodní trestní soud, zřízen v Římě 1998</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a:t>
            </a:r>
            <a:r>
              <a:rPr b="0" lang="cs-CZ" sz="2800" spc="-1" strike="noStrike">
                <a:solidFill>
                  <a:srgbClr val="ffffff"/>
                </a:solidFill>
                <a:latin typeface="Arial"/>
              </a:rPr>
              <a:t>Mezinárodní povinnosti, které zavazují jednotlivce, mají přednost před jejich závazkem poslušnosti vůči státu, jehož jsou občan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kračování výuky 14. 11. 2008</a:t>
            </a:r>
            <a:endParaRPr b="0" lang="en-US" sz="4400" spc="-1" strike="noStrike">
              <a:solidFill>
                <a:srgbClr val="e3e3ff"/>
              </a:solidFill>
              <a:latin typeface="Arial"/>
            </a:endParaRPr>
          </a:p>
        </p:txBody>
      </p:sp>
      <p:sp>
        <p:nvSpPr>
          <p:cNvPr id="216" name="PlaceHolder 2"/>
          <p:cNvSpPr>
            <a:spLocks noGrp="1"/>
          </p:cNvSpPr>
          <p:nvPr>
            <p:ph/>
          </p:nvPr>
        </p:nvSpPr>
        <p:spPr>
          <a:xfrm>
            <a:off x="457200" y="1268280"/>
            <a:ext cx="8229600" cy="48974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meny mezinárodního práv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zinárodně právní odpovědno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sady přátelských vztahů a spolupráce mezi stát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zinárodněprávní postavení obyvatelstva, jednotlivců a ochrana lidských práv</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zinárodněprávní režimy státního území, moře, Antarktidy, kosmu a životního prostředí</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prá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ednotlivec</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subjektem vnitrostát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subjektem mezinárod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osofické teorie superiority stání moci či svrchovanosti člověk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da existují zájmy, které chrání i bez přivolení konkrétní státní moci, i proti konkrétní vůli takové moc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ladní lidská prá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ýkon základních lidských práv</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kutečňuje se prostřednictvím vnitrostátního řádu a rovněž procesní záruky lidských práv jsou primárně chráněny v tomto řádu.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respektování pravidel vyvolává mezinárodně právní trestní odpovědnost pachatelů.</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ločiny proti míru, proti lidskosti, válečné zločiny, zločin genoci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Právo jedince podávat oznámení a iniciativy</a:t>
            </a:r>
            <a:endParaRPr b="0" lang="en-US" sz="3200" spc="-1" strike="noStrike">
              <a:solidFill>
                <a:srgbClr val="e3e3ff"/>
              </a:solidFill>
              <a:latin typeface="Arial"/>
            </a:endParaRPr>
          </a:p>
        </p:txBody>
      </p:sp>
      <p:sp>
        <p:nvSpPr>
          <p:cNvPr id="222" name="PlaceHolder 2"/>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Upozornění</a:t>
            </a:r>
            <a:r>
              <a:rPr b="0" lang="en-US" sz="2400" spc="-1" strike="noStrike">
                <a:solidFill>
                  <a:srgbClr val="ffffff"/>
                </a:solidFill>
                <a:latin typeface="Arial"/>
              </a:rPr>
              <a:t> – na situace rozsáhlého a dlouhodobého porušování lidských práv většího okruhu lidí (tzv. procedura 150 v OS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etice</a:t>
            </a:r>
            <a:r>
              <a:rPr b="0" lang="en-US" sz="2400" spc="-1" strike="noStrike">
                <a:solidFill>
                  <a:srgbClr val="ffffff"/>
                </a:solidFill>
                <a:latin typeface="Arial"/>
              </a:rPr>
              <a:t> – petiční řízení ve prospěch menšin před Radou Společnosti národů či obyvatelstva území začleněných do poručenského systému OS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tížnosti</a:t>
            </a:r>
            <a:r>
              <a:rPr b="0" lang="en-US" sz="2400" spc="-1" strike="noStrike">
                <a:solidFill>
                  <a:srgbClr val="ffffff"/>
                </a:solidFill>
                <a:latin typeface="Arial"/>
              </a:rPr>
              <a:t> – Výboru pro lidská práva, Výboru pro odstranění všech forem rasové diskriminace, Výboru proti mučení, Evropské komisi pro lidská práva apo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bitrážní řízení – mezi jednotlivcem a státem, Mezinárodní středisko pro řešení investičních sporů Mezinárodní banky pro obnovu a rozvoj</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zhodnutí ve věci – otázky odpovědnosti za škody způsobené jednotlivci institucemi či zástupci ES: Soud Evropských společenství</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Univerzální přístup</a:t>
            </a:r>
            <a:endParaRPr b="0" lang="en-US" sz="4000" spc="-1" strike="noStrike">
              <a:solidFill>
                <a:srgbClr val="e3e3ff"/>
              </a:solidFill>
              <a:latin typeface="Arial"/>
            </a:endParaRPr>
          </a:p>
        </p:txBody>
      </p:sp>
      <p:sp>
        <p:nvSpPr>
          <p:cNvPr id="224"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Ženevský Výbor pro lidská práva – nerozhoduje ve věci, řízení končí pouze sdělením názoru stěžovateli a státu, proti němuž je stížnost směřována (před předložením musí být vyčerpány všechny vnitrostátní opravné prostředk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Římská úmluva o ochraně lidských práv a základních svobod, 1950 (Evropská komise pro lidská práva-jednotlivec – vyšetřovací a konciliační (smírčí) komise  a Evropský soud pro lidská práva /výbor ministrů Rady Evropy – vydává rozsudky závazné pro stá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ameny mezinárodního práva</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jem, klasifikace, zvláštnosti</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ystém – formy vyčísluje čl. 38 odst. 1, 2 Statutu Mezinárodního soudního dvora OS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 Mezinárodní smlouv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b) Mezinárodní obyčej</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c) Kodifika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 Obecné zásady právní uznávané civilozovanými národ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e) Jednostranné právní akt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f) Soudní rozhodnutí  a názory nauky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g) Ekvi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SNOVA</a:t>
            </a:r>
            <a:endParaRPr b="0" lang="en-US" sz="4000" spc="-1" strike="noStrike">
              <a:solidFill>
                <a:srgbClr val="e3e3ff"/>
              </a:solidFill>
              <a:latin typeface="Arial"/>
            </a:endParaRPr>
          </a:p>
        </p:txBody>
      </p:sp>
      <p:sp>
        <p:nvSpPr>
          <p:cNvPr id="138"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ývoj a právní úpravy výhrad k mezinárodním smlouvám a její řešení ve Vídeňské úmluvě o smluvním právu z r.1969.</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Úloha Rady bezpečnosti a Valného shromáždění OSN v udržování míru ve svět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ace Severoatlantické smlouvy, její vznik, vývoj a tendence v současném období.</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sady statutů Mezinárodního soudního dvora a mezinárodního tribunálu pro mořské právo.</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zvoj prostředků pro pokojné řešení sporů mezi evropskými státy.</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az použití síly a hrozby silou v Chartě OSN a definice agres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lání a druhy mírových operací OSN a jejich právní základ.</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časný stav rozvoje mezinárodního práva humanitárního.</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valá neutralita Švýcarska a Rakousk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lady mezinárodního ekonomického práv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í smlouva</a:t>
            </a:r>
            <a:endParaRPr b="0" lang="en-US" sz="4000" spc="-1" strike="noStrike">
              <a:solidFill>
                <a:srgbClr val="e3e3ff"/>
              </a:solidFill>
              <a:latin typeface="Arial"/>
            </a:endParaRPr>
          </a:p>
        </p:txBody>
      </p:sp>
      <p:sp>
        <p:nvSpPr>
          <p:cNvPr id="228" name="PlaceHolder 2"/>
          <p:cNvSpPr>
            <a:spLocks noGrp="1"/>
          </p:cNvSpPr>
          <p:nvPr>
            <p:ph/>
          </p:nvPr>
        </p:nvSpPr>
        <p:spPr>
          <a:xfrm>
            <a:off x="468360" y="907560"/>
            <a:ext cx="8229600" cy="540396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ídeňská úmluva o smluvním právu z r. 1969 vymezuje smlouvu jako  mezinárodní dohodu, která je uzavřena mezi státy písemnou formou a řídí se mezinárodním právem.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ídeňská úmluva o právu smluv mezi státy a mezinárodními organizacemi nebo mezi mezinárodními organizacemi z roku 198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nohé národní právní řády rozlišují kategorie mezinárodních smluv podle toho, jaká pravidla stanoví při jejich vnitrostátním projednávání a schvalování</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apř. USA – rozdíl mezi „treaty“ (smlouva podléhající schválení Senátu) a „agreement“ (smlouva může být uzavřena výkonnou mocí bez účasti Senát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Francie – smlouvy/„tratés“ (podléhají ratifikaci prezidentem) a dohody /“accords (nevyžadují ratifikac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í obyčej</a:t>
            </a:r>
            <a:endParaRPr b="0" lang="en-US" sz="4000" spc="-1" strike="noStrike">
              <a:solidFill>
                <a:srgbClr val="e3e3ff"/>
              </a:solidFill>
              <a:latin typeface="Arial"/>
            </a:endParaRPr>
          </a:p>
        </p:txBody>
      </p:sp>
      <p:sp>
        <p:nvSpPr>
          <p:cNvPr id="230"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tatický aspekt – forma práva</a:t>
            </a: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 Pevninská mělčina Severního moře (1969) – nezastupitelnou úlohu při zjišťování obyčejového práva má Mezinárodní soudní dvůr</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ynamická stránka – obyčejotvorný proces, kdy se pozvolna přetváří faktická realita v realitu právní</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ecedent = činy nebo opomenutí subjektů mezinárodního práva, které mění v té či oné míře existující realitu. </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ecedent tak vyvolá novou situaci, která nebyla mezinárodním právem upravena, </a:t>
            </a: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 Vypuštění družice Země v r. 1957 </a:t>
            </a: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nebo naopak tam, kde platila odlišná smluvní nebo obyčejová úprava, precedent v takovém případě porušuje zatím platné právo.</a:t>
            </a: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mluvní a obyčejová pravidla</a:t>
            </a: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sou právně rovnocenná</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žnost konkur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 Pravidla obyčejového práva i nadále upravují otázky, které nejsou upraveny ve Vídeňské úmluvě o smluvním právu (196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Kodifikace  mezinárodního práva</a:t>
            </a:r>
            <a:endParaRPr b="0" lang="en-US" sz="4000" spc="-1" strike="noStrike">
              <a:solidFill>
                <a:srgbClr val="e3e3ff"/>
              </a:solidFill>
              <a:latin typeface="Arial"/>
            </a:endParaRPr>
          </a:p>
        </p:txBody>
      </p:sp>
      <p:sp>
        <p:nvSpPr>
          <p:cNvPr id="234" name="PlaceHolder 2"/>
          <p:cNvSpPr>
            <a:spLocks noGrp="1"/>
          </p:cNvSpPr>
          <p:nvPr>
            <p:ph/>
          </p:nvPr>
        </p:nvSpPr>
        <p:spPr>
          <a:xfrm>
            <a:off x="457200" y="836640"/>
            <a:ext cx="8229600" cy="561672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oučasné mezinárodní právo není všeobecně kodifikovano, tj. není sebráno, systematicky uspořádáno a vyhlášeno v kodifikačních instrumentech.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d poloviny 19. století se datují pokusy o částečnou kodifikaci.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álečné právo – Haagské mírové konference v letech 1899, 1907</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Humanitární právo – Ženevské konfer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Letecké právo – konference v Paříži 1919</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acovní právo – Mezinárodní organizace prá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opravní právo – Barcelonská konference 1921</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iplomatické právo – pod patronací Valného shromáždění OSN,  Vídeň 1961</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ořské právo – Ženeva 1958</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mluvní právo – Vídeň 1969</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klarace</a:t>
            </a:r>
            <a:endParaRPr b="0" lang="en-US" sz="4400" spc="-1" strike="noStrike">
              <a:solidFill>
                <a:srgbClr val="e3e3ff"/>
              </a:solidFill>
              <a:latin typeface="Arial"/>
            </a:endParaRPr>
          </a:p>
        </p:txBody>
      </p:sp>
      <p:sp>
        <p:nvSpPr>
          <p:cNvPr id="236" name="PlaceHolder 2"/>
          <p:cNvSpPr>
            <a:spLocks noGrp="1"/>
          </p:cNvSpPr>
          <p:nvPr>
            <p:ph/>
          </p:nvPr>
        </p:nvSpPr>
        <p:spPr>
          <a:xfrm>
            <a:off x="395280" y="1197000"/>
            <a:ext cx="8569440" cy="4898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vnostní rezoluce Valného shromáždění OS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 kodifikace a pokrokového rozvoje mezinárod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jsou závazn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 Všeobecná deklarace lidských práv (194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klarace zásad kosmického práva (196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ednostranné akty států</a:t>
            </a:r>
            <a:endParaRPr b="0" lang="en-US" sz="4400" spc="-1" strike="noStrike">
              <a:solidFill>
                <a:srgbClr val="e3e3ff"/>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 Nepůsobí-li státy samostatně, nýbrž jsou součástí smluvních procedur</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nomní projev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fika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nání</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s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řeknutí s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íslib</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Jaderné pokusy (1974 – vyjádření Mezinárodního soudního dvora k jednání Franc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Jednostranné akty mezinárodních organizací</a:t>
            </a:r>
            <a:endParaRPr b="0" lang="en-US" sz="4000" spc="-1" strike="noStrike">
              <a:solidFill>
                <a:srgbClr val="e3e3ff"/>
              </a:solidFill>
              <a:latin typeface="Arial"/>
            </a:endParaRPr>
          </a:p>
        </p:txBody>
      </p:sp>
      <p:sp>
        <p:nvSpPr>
          <p:cNvPr id="240" name="PlaceHolder 2"/>
          <p:cNvSpPr>
            <a:spLocks noGrp="1"/>
          </p:cNvSpPr>
          <p:nvPr>
            <p:ph/>
          </p:nvPr>
        </p:nvSpPr>
        <p:spPr>
          <a:xfrm>
            <a:off x="324000" y="1341000"/>
            <a:ext cx="8640720" cy="47545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rávně nezávazná doporučení OS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Doporučení</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Doporučující (nezávazný charakter) ovšem nevylučuje, aby vyvolávaly určité dílčí právní následky, tzv. soft law/měkké právo či polopráv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ř. Rezoluce OSN č. 1721 z r. 1961                 o mírovém využívání kosmického prostor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udní rozhodnutí</a:t>
            </a:r>
            <a:endParaRPr b="0" lang="en-US" sz="4400" spc="-1" strike="noStrike">
              <a:solidFill>
                <a:srgbClr val="e3e3ff"/>
              </a:solidFill>
              <a:latin typeface="Arial"/>
            </a:endParaRPr>
          </a:p>
        </p:txBody>
      </p:sp>
      <p:sp>
        <p:nvSpPr>
          <p:cNvPr id="242" name="PlaceHolder 2"/>
          <p:cNvSpPr>
            <a:spLocks noGrp="1"/>
          </p:cNvSpPr>
          <p:nvPr>
            <p:ph/>
          </p:nvPr>
        </p:nvSpPr>
        <p:spPr>
          <a:xfrm>
            <a:off x="457200" y="1267920"/>
            <a:ext cx="8229600" cy="4032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zsudky Mezinárodního soudního dvora, zavazuje pouze strany, nezavazují třetí státy, ale ani samotný Dvůr v další rozhodovací činnost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kvita</a:t>
            </a:r>
            <a:endParaRPr b="0" lang="en-US" sz="4400" spc="-1" strike="noStrike">
              <a:solidFill>
                <a:srgbClr val="e3e3ff"/>
              </a:solidFill>
              <a:latin typeface="Arial"/>
            </a:endParaRPr>
          </a:p>
        </p:txBody>
      </p:sp>
      <p:sp>
        <p:nvSpPr>
          <p:cNvPr id="244"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dnocení obsahu právních norem z hlediska toho, zda jsou spravedlivá.</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Úmluva z r. 1972 o odpovědnosti za škody způsobené kosmickými objek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ýše v ní uvedených škod má být určena podle mezinárodního práva a v souladu se zásadami ekvit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Mezinárodní soudní dvůr - spory v mořském prostředí, delimitace pevninských mělčin mezi dvěma státy (1982 spor mezi Libyí a Tunisk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avidla mezinárodního práva</a:t>
            </a:r>
            <a:endParaRPr b="0" lang="en-US" sz="44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Materiální a procesn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Obecná (univerzální), partikulární (regionální) a lokáln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Dispozitivní a kogentn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Hard law a soft la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dy a konkrétní pravidl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snova, 4. 10. 2008</a:t>
            </a:r>
            <a:endParaRPr b="0" lang="en-US" sz="4400" spc="-1" strike="noStrike">
              <a:solidFill>
                <a:srgbClr val="e3e3ff"/>
              </a:solidFill>
              <a:latin typeface="Arial"/>
            </a:endParaRPr>
          </a:p>
        </p:txBody>
      </p:sp>
      <p:sp>
        <p:nvSpPr>
          <p:cNvPr id="140"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jem a systém mezinárod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kce mezinárod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zinárodní právo veřejné a soukromé</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měr mezinárodního a vnitrostát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jekty mezinárod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meny mezinárod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zinárodně právní odpovědnos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54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klarace zásad přátelských vztahů a spolupráce mezi státy, 1970 Valné shromáždění OSN</a:t>
            </a:r>
            <a:endParaRPr b="0" lang="en-US" sz="4000" spc="-1" strike="noStrike">
              <a:solidFill>
                <a:srgbClr val="e3e3ff"/>
              </a:solidFill>
              <a:latin typeface="Arial"/>
            </a:endParaRPr>
          </a:p>
        </p:txBody>
      </p:sp>
      <p:sp>
        <p:nvSpPr>
          <p:cNvPr id="248"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az hrozby silou nebo použití síl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írové urovnávání mezinárodních sporů</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měšování do vnitřních záležitostí států</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vinná spolupráce mezi stát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vná práva a sebeurčení národů</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vrchovaná rovnost států</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ctivé dodržování mezinárodních závazků</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hrana a respektování lidských práv (vyhlášena až o 5 let později 197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ě právní odpovědnost</a:t>
            </a:r>
            <a:endParaRPr b="0" lang="en-US" sz="40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jem</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kolnosti vylučující protiprávno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Škoda/újm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ižený/poškozený subjek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ara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povědnost za mezinárodní zločin a mezinárodní delik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povědnost za škodlivé následky činností nezakázaných mezinárodním práv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stitut mezinárodně právní odpovědnosti</a:t>
            </a:r>
            <a:endParaRPr b="0" lang="en-US" sz="4000" spc="-1" strike="noStrike">
              <a:solidFill>
                <a:srgbClr val="e3e3ff"/>
              </a:solidFill>
              <a:latin typeface="Arial"/>
            </a:endParaRPr>
          </a:p>
        </p:txBody>
      </p:sp>
      <p:sp>
        <p:nvSpPr>
          <p:cNvPr id="252" name="PlaceHolder 2"/>
          <p:cNvSpPr>
            <a:spLocks noGrp="1"/>
          </p:cNvSpPr>
          <p:nvPr>
            <p:ph/>
          </p:nvPr>
        </p:nvSpPr>
        <p:spPr>
          <a:xfrm>
            <a:off x="457200" y="1413000"/>
            <a:ext cx="8229600" cy="46828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bor norem, které upravují právní následky mezinárodně protiprávního chování státu.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ůvodní povinnost nezaniká, přistupuje k ní odpovědnostní závazek.</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Mezinárodní ochrana práv cizinců</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jehož občanství poškozený cizinec má, je oprávněn využít postupu diplomatické ochrany. Převezme nárok poškozeného občana a napříště jej vymáhá na příslušném státu jako svůj vlastní.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Škoda – hmotná i nehmotná (např. na cti a důstojnost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kolnosti vylučující protiprávnost</a:t>
            </a:r>
            <a:endParaRPr b="0" lang="en-US" sz="4000" spc="-1" strike="noStrike">
              <a:solidFill>
                <a:srgbClr val="e3e3ff"/>
              </a:solidFill>
              <a:latin typeface="Arial"/>
            </a:endParaRPr>
          </a:p>
        </p:txBody>
      </p:sp>
      <p:sp>
        <p:nvSpPr>
          <p:cNvPr id="254"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ivolení postiženého státu</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ýkon sebeobrany (legitimní obrany)</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tiopatření (sankce)</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šší moc (vis maior) a nahodilos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íseň</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 pilot letadla v tísňové situaci neoprávněně vnikne do vzdušného prostoru jiného státu, aby tam mohl vzápětí nouzově přistá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tav krajní nouz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 ochrana životního prostředí – havárie tankerů v teritoriálním moři nebo v jeho blízkosti ohrožuje životní prostředí pobřežního státu, který tak může s odkazem na stav krajní nouze využít všechna vhodná opatření, i třeba zničit loď plující pod cizí vlajkou (1967 poblíž britských vod byl zničen liberijský tanker Torrey Cany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600"/>
            <a:ext cx="82296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Škoda (újma) / postižený (poškozený) </a:t>
            </a:r>
            <a:endParaRPr b="0" lang="en-US" sz="4000" spc="-1" strike="noStrike">
              <a:solidFill>
                <a:srgbClr val="e3e3ff"/>
              </a:solidFill>
              <a:latin typeface="Arial"/>
            </a:endParaRPr>
          </a:p>
        </p:txBody>
      </p:sp>
      <p:sp>
        <p:nvSpPr>
          <p:cNvPr id="256" name="PlaceHolder 2"/>
          <p:cNvSpPr>
            <a:spLocks noGrp="1"/>
          </p:cNvSpPr>
          <p:nvPr>
            <p:ph/>
          </p:nvPr>
        </p:nvSpPr>
        <p:spPr>
          <a:xfrm>
            <a:off x="323640" y="1341000"/>
            <a:ext cx="8569080" cy="475452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Újmy materiální i nehmotné, reparace/odčinění</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Škody přímé, které se pojí s mezinárodním protiprávním chováním.</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zinárodní organizac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1949 – Odčinění škody utrpěné ve službách OSN</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dnotlive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Evropská úmluva o lidských právech (1950) dovoluje jednotlivci předložit stížnost na stát Evropské komisi pro lidská práva, a v konkrétních případech i Evropskému soudu pro lidská práva (právo na spravedlivé zadostiučině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onucení  v mezinárodním právu</a:t>
            </a:r>
            <a:endParaRPr b="0" lang="en-US" sz="4000" spc="-1" strike="noStrike">
              <a:solidFill>
                <a:srgbClr val="e3e3ff"/>
              </a:solidFill>
              <a:latin typeface="Arial"/>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Hlavní znak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Retorze – nátlakové chování, které útočí do faktické zájmové sféry donucovaného subjektu</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Represálie – opatření zasahuje do oprávněné sféry subjektu jako reakce na předešlé mezinárodně protiprávní chování</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Sebeobrana (legitimní obran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Sankce Rady bezpečnosti OS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Zásady přátelských vztahů             a spolupráce mezi státy</a:t>
            </a:r>
            <a:endParaRPr b="0" lang="en-US" sz="4000" spc="-1" strike="noStrike">
              <a:solidFill>
                <a:srgbClr val="e3e3ff"/>
              </a:solidFill>
              <a:latin typeface="Arial"/>
            </a:endParaRPr>
          </a:p>
        </p:txBody>
      </p:sp>
      <p:sp>
        <p:nvSpPr>
          <p:cNvPr id="260" name="PlaceHolder 2"/>
          <p:cNvSpPr>
            <a:spLocks noGrp="1"/>
          </p:cNvSpPr>
          <p:nvPr>
            <p:ph/>
          </p:nvPr>
        </p:nvSpPr>
        <p:spPr>
          <a:xfrm>
            <a:off x="457200" y="1700280"/>
            <a:ext cx="8229600" cy="43956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nepoužití síl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mírového urovnávání sporů</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nevměšování</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spolupráce států</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sebeurčení národů</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svrchované rovnosti</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poctivého dodržování závazků</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sinské zásad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chrana lidských práv</a:t>
            </a:r>
            <a:endParaRPr b="0" lang="en-US" sz="4400" spc="-1" strike="noStrike">
              <a:solidFill>
                <a:srgbClr val="e3e3ff"/>
              </a:solidFill>
              <a:latin typeface="Arial"/>
            </a:endParaRPr>
          </a:p>
        </p:txBody>
      </p:sp>
      <p:sp>
        <p:nvSpPr>
          <p:cNvPr id="262" name="PlaceHolder 2"/>
          <p:cNvSpPr>
            <a:spLocks noGrp="1"/>
          </p:cNvSpPr>
          <p:nvPr>
            <p:ph/>
          </p:nvPr>
        </p:nvSpPr>
        <p:spPr>
          <a:xfrm>
            <a:off x="457200" y="1341000"/>
            <a:ext cx="8229600" cy="4751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šeobecná deklarace lidských práv (1948)</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zinárodní pakty o lidských právec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ropská ochrana základních lidských práv – Evropská úmluva o lidských právech, Evropská sociální charta, Evropská ochrana menš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ednotlivé kategorie práv</a:t>
            </a:r>
            <a:endParaRPr b="0" lang="en-US" sz="4400" spc="-1" strike="noStrike">
              <a:solidFill>
                <a:srgbClr val="e3e3ff"/>
              </a:solidFill>
              <a:latin typeface="Arial"/>
            </a:endParaRPr>
          </a:p>
        </p:txBody>
      </p:sp>
      <p:sp>
        <p:nvSpPr>
          <p:cNvPr id="264" name="PlaceHolder 2"/>
          <p:cNvSpPr>
            <a:spLocks noGrp="1"/>
          </p:cNvSpPr>
          <p:nvPr>
            <p:ph/>
          </p:nvPr>
        </p:nvSpPr>
        <p:spPr>
          <a:xfrm>
            <a:off x="457200" y="1341000"/>
            <a:ext cx="8229600" cy="4319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hrana života, svobody a zdrav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hrana žen a dět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hrana prá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az rasové diskrimina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hrana národnostních menši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ěprávní režimy státního území, moře, Antarktidy, kosmu a životního prostředí</a:t>
            </a:r>
            <a:endParaRPr b="0" lang="en-US" sz="4000" spc="-1" strike="noStrike">
              <a:solidFill>
                <a:srgbClr val="e3e3ff"/>
              </a:solidFill>
              <a:latin typeface="Arial"/>
            </a:endParaRPr>
          </a:p>
        </p:txBody>
      </p:sp>
      <p:sp>
        <p:nvSpPr>
          <p:cNvPr id="266" name="PlaceHolder 2"/>
          <p:cNvSpPr>
            <a:spLocks noGrp="1"/>
          </p:cNvSpPr>
          <p:nvPr>
            <p:ph/>
          </p:nvPr>
        </p:nvSpPr>
        <p:spPr>
          <a:xfrm>
            <a:off x="457200" y="2204640"/>
            <a:ext cx="8229600" cy="41036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átní území – územní výsost, státní hranice a pohraniční režim, vzdušný prostor, vnitrozemské vody, mezinárodní řeky</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ře – pobřežní moře, souostrovní státy, mořské průplavy, mořské průlivy, přilehlá zóna, výlučná ekonomická zóna, kontinentální šelf, volné moře, oblast mořského dna a jeho podzemí za hranicemi národní jurisdikc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arktida</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smický prostor a nebeská tělesa</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ěprávní ochrana životního prostředí</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46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Základní literatura</a:t>
            </a:r>
            <a:endParaRPr b="0" lang="en-US" sz="4000" spc="-1" strike="noStrike">
              <a:solidFill>
                <a:srgbClr val="e3e3ff"/>
              </a:solidFill>
              <a:latin typeface="Arial"/>
            </a:endParaRPr>
          </a:p>
        </p:txBody>
      </p:sp>
      <p:sp>
        <p:nvSpPr>
          <p:cNvPr id="142" name="PlaceHolder 2"/>
          <p:cNvSpPr>
            <a:spLocks noGrp="1"/>
          </p:cNvSpPr>
          <p:nvPr>
            <p:ph/>
          </p:nvPr>
        </p:nvSpPr>
        <p:spPr>
          <a:xfrm>
            <a:off x="457200" y="1125360"/>
            <a:ext cx="8229600" cy="4896000"/>
          </a:xfrm>
          <a:prstGeom prst="rect">
            <a:avLst/>
          </a:prstGeom>
          <a:noFill/>
          <a:ln w="0">
            <a:noFill/>
          </a:ln>
        </p:spPr>
        <p:txBody>
          <a:bodyPr lIns="90000" rIns="90000" tIns="46800" bIns="46800" anchor="t">
            <a:normAutofit/>
          </a:bodyPr>
          <a:p>
            <a:pPr marL="343080" indent="-343080">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MALENOVSKÝ, Jiří: Mezinárodní právo veřejné, Obecná část, Masarykova univerzita, Doplněk, Brno, 2002</a:t>
            </a:r>
            <a:endParaRPr b="0" lang="en-US" sz="32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POTOČNÝ, Miroslav, ONDŘEJ, Jan: Mezinárodní právo veřejné, Zvláštní část, 4. doplněné a rozšířené vydání, Praha, C.H.Beck, 2003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Kučera Z., Mezinárodní právo soukromé, Nakladatelství Doplněk, Brno 1999 (aktuální vydání)</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Knapp, V. : Velké právní systémy, Úvod do srovnávací právní vědy, C. H. Beck, Praha 1996</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mluvní právo</a:t>
            </a:r>
            <a:endParaRPr b="0" lang="en-US" sz="4400" spc="-1" strike="noStrike">
              <a:solidFill>
                <a:srgbClr val="e3e3ff"/>
              </a:solidFill>
              <a:latin typeface="Arial"/>
            </a:endParaRPr>
          </a:p>
        </p:txBody>
      </p:sp>
      <p:sp>
        <p:nvSpPr>
          <p:cNvPr id="268"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uhy smluv</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ace a publikace smluv</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kt Společnosti spojených národů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Čl. 18 všechny mezinárodní smlouvy, zaznamenány a uveřejněny sekretariátem, dokud se tak nestane nebudou závazné</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bírka smluv Společnosti národů</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bírka smluv Organizace spojených národů/OS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bírka zákonů a mezinárodních smluv /česká praxe </a:t>
            </a:r>
            <a:r>
              <a:rPr b="0" lang="en-US" sz="2800" spc="-1" strike="noStrike" u="sng">
                <a:solidFill>
                  <a:srgbClr val="00ffcc"/>
                </a:solidFill>
                <a:uFillTx/>
                <a:latin typeface="Arial"/>
                <a:hlinkClick r:id="rId1"/>
              </a:rPr>
              <a:t>www.sbirkazakonu.cz</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zinárodní právo soukromé</a:t>
            </a:r>
            <a:endParaRPr b="0" lang="en-US" sz="4400" spc="-1" strike="noStrike">
              <a:solidFill>
                <a:srgbClr val="e3e3ff"/>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působy úpravy soukromoprávních vztahů s mezinárodním prvkem</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olizní norma – hraniční ukazate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žívání zahraničního právního řádu v Č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o mezinárodním právu soukromém a procesním, z. č. 97/1963 Sb., v platném znění</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9 volba práva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36 veřejný pořádek Č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České právo mezinárodního obchodu</a:t>
            </a:r>
            <a:endParaRPr b="0" lang="en-US" sz="4000" spc="-1" strike="noStrike">
              <a:solidFill>
                <a:srgbClr val="e3e3ff"/>
              </a:solidFill>
              <a:latin typeface="Arial"/>
            </a:endParaRPr>
          </a:p>
        </p:txBody>
      </p:sp>
      <p:sp>
        <p:nvSpPr>
          <p:cNvPr id="272"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učera, Z. a kol. : Úvod do českého práva mezinárodního obchodu, Právnická fakulta, Plzeň 1997</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jem, předmět, systém a prameny mezinárodního obchodu</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nikání zahraničních osob na území Č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zinárodní organizace významné pro mezinárodní obchodní a hospodářské styk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ouvy o mezinárodní přepravě – železniční, silniční, letecká, námoř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kračování 29. 11. 2008</a:t>
            </a:r>
            <a:endParaRPr b="0" lang="en-US" sz="4400" spc="-1" strike="noStrike">
              <a:solidFill>
                <a:srgbClr val="e3e3ff"/>
              </a:solidFill>
              <a:latin typeface="Arial"/>
            </a:endParaRPr>
          </a:p>
        </p:txBody>
      </p:sp>
      <p:sp>
        <p:nvSpPr>
          <p:cNvPr id="274" name="PlaceHolder 2"/>
          <p:cNvSpPr>
            <a:spLocks noGrp="1"/>
          </p:cNvSpPr>
          <p:nvPr>
            <p:ph/>
          </p:nvPr>
        </p:nvSpPr>
        <p:spPr>
          <a:xfrm>
            <a:off x="457200" y="1412640"/>
            <a:ext cx="8229600" cy="4392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dřej, J. : Mezinárodní právo veřejné, soukromé, obchodní, 2. rozšířené vydání, Vydavatelství a nakladatelství Aleš Čeněk, s. r. o., Plzeň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Kolizní normy</a:t>
            </a:r>
            <a:endParaRPr b="0" lang="en-US" sz="4400" spc="-1" strike="noStrike">
              <a:solidFill>
                <a:srgbClr val="e3e3ff"/>
              </a:solidFill>
              <a:latin typeface="Arial"/>
            </a:endParaRPr>
          </a:p>
        </p:txBody>
      </p:sp>
      <p:sp>
        <p:nvSpPr>
          <p:cNvPr id="276" name="PlaceHolder 2"/>
          <p:cNvSpPr>
            <a:spLocks noGrp="1"/>
          </p:cNvSpPr>
          <p:nvPr>
            <p:ph/>
          </p:nvPr>
        </p:nvSpPr>
        <p:spPr>
          <a:xfrm>
            <a:off x="323640" y="981000"/>
            <a:ext cx="8569080" cy="51148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kcí je provádět výběr práva</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obsahuje věcnou úpravu, nestanoví práva a povinnosti účastníků právního vztahu</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čuje, který z dotčených právních řádů se použije pro úpravu soukromoprávních vztahu s mezinárodním prvkem</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jištění zákonnosti, právní jistoty a spolupráce mezi státy</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Věcná práva k nemovitostem i k věcem movitým se řídí právem místa, kde je věc (§ 5 ZMP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Způsobilost osoby uzavřít manželství, jakož i podmínky jeho platnosti, se řídí právem státu, jehož je osoba příslušníkem (§19 ZMP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ruktura kolizní normy</a:t>
            </a:r>
            <a:endParaRPr b="0" lang="en-US" sz="4400" spc="-1" strike="noStrike">
              <a:solidFill>
                <a:srgbClr val="e3e3ff"/>
              </a:solidFill>
              <a:latin typeface="Arial"/>
            </a:endParaRPr>
          </a:p>
        </p:txBody>
      </p:sp>
      <p:sp>
        <p:nvSpPr>
          <p:cNvPr id="278" name="PlaceHolder 2"/>
          <p:cNvSpPr>
            <a:spLocks noGrp="1"/>
          </p:cNvSpPr>
          <p:nvPr>
            <p:ph/>
          </p:nvPr>
        </p:nvSpPr>
        <p:spPr>
          <a:xfrm>
            <a:off x="457200" y="980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 které právní vztahy či otázky se kolizní norma vztahuj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určení právního řádu, kterého se pro jejich úpravu použij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Hraničním určovatelem</a:t>
            </a:r>
            <a:r>
              <a:rPr b="0" lang="en-US" sz="3200" spc="-1" strike="noStrike">
                <a:solidFill>
                  <a:srgbClr val="ffffff"/>
                </a:solidFill>
                <a:latin typeface="Arial"/>
              </a:rPr>
              <a:t> je určitá skutečnost významná pro daný druh právních vztahů nebo otázek, rozhoduje o určení (výběru) práva, tj. právního řádu, kterého se má použít pro úpravu daných vztah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3e3ff"/>
                </a:solidFill>
                <a:uFillTx/>
                <a:latin typeface="Arial"/>
              </a:rPr>
              <a:t>Volba práva</a:t>
            </a:r>
            <a:r>
              <a:rPr b="0" lang="en-US" sz="4000" spc="-1" strike="noStrike">
                <a:solidFill>
                  <a:srgbClr val="e3e3ff"/>
                </a:solidFill>
                <a:latin typeface="Arial"/>
              </a:rPr>
              <a:t> – zvláštní hraniční určovatel (kolizní kritérium)</a:t>
            </a:r>
            <a:endParaRPr b="0" lang="en-US" sz="4000" spc="-1" strike="noStrike">
              <a:solidFill>
                <a:srgbClr val="e3e3ff"/>
              </a:solidFill>
              <a:latin typeface="Arial"/>
            </a:endParaRPr>
          </a:p>
        </p:txBody>
      </p:sp>
      <p:sp>
        <p:nvSpPr>
          <p:cNvPr id="2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ena v čl. 3 Úmluvy o právu rozhodném pro smluvní závazkové vztahy z roku 1980</a:t>
            </a:r>
            <a:endParaRPr b="0" lang="en-US" sz="3200" spc="-1" strike="noStrike">
              <a:solidFill>
                <a:srgbClr val="ffffff"/>
              </a:solidFill>
              <a:latin typeface="Arial"/>
            </a:endParaRPr>
          </a:p>
          <a:p>
            <a:pPr marL="609480" indent="-60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 1. července 2006 platná i pro ČR, z. č. 64/2006 Sb. m. s. </a:t>
            </a:r>
            <a:endParaRPr b="0" lang="en-US" sz="3200" spc="-1" strike="noStrike">
              <a:solidFill>
                <a:srgbClr val="ffffff"/>
              </a:solidFill>
              <a:latin typeface="Arial"/>
            </a:endParaRPr>
          </a:p>
          <a:p>
            <a:pPr marL="609480" indent="-60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ípustná ve vztazích s mezinárodním prvkem pro: </a:t>
            </a:r>
            <a:endParaRPr b="0" lang="en-US" sz="3200" spc="-1" strike="noStrike">
              <a:solidFill>
                <a:srgbClr val="ffffff"/>
              </a:solidFill>
              <a:latin typeface="Arial"/>
            </a:endParaRPr>
          </a:p>
          <a:p>
            <a:pPr marL="609480" indent="-609480">
              <a:lnSpc>
                <a:spcPct val="90000"/>
              </a:lnSpc>
              <a:spcBef>
                <a:spcPts val="799"/>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azkové vztahy - § 9 odst. 2 ZMPS</a:t>
            </a:r>
            <a:endParaRPr b="0" lang="en-US" sz="3200" spc="-1" strike="noStrike">
              <a:solidFill>
                <a:srgbClr val="ffffff"/>
              </a:solidFill>
              <a:latin typeface="Arial"/>
            </a:endParaRPr>
          </a:p>
          <a:p>
            <a:pPr marL="609480" indent="-609480">
              <a:lnSpc>
                <a:spcPct val="90000"/>
              </a:lnSpc>
              <a:spcBef>
                <a:spcPts val="799"/>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smlouvy - § 16 odst. 1 ZMPS</a:t>
            </a:r>
            <a:endParaRPr b="0" lang="en-US" sz="32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ýhrada veřejného pořádku </a:t>
            </a:r>
            <a:endParaRPr b="0" lang="en-US" sz="4400" spc="-1" strike="noStrike">
              <a:solidFill>
                <a:srgbClr val="e3e3ff"/>
              </a:solidFill>
              <a:latin typeface="Arial"/>
            </a:endParaRPr>
          </a:p>
        </p:txBody>
      </p:sp>
      <p:sp>
        <p:nvSpPr>
          <p:cNvPr id="2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Římská úmluva o právu rozhodném pro smluvní závazkové vztahy z roku 1980 – čl. 16 použití ustanovení právního řádu může být odepřeno, je-li ve zřejmém rozporu s veřejným pořádkem státu soudu.</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36 ZMPS – právního předpisu cizího státu nelze použít, pokud by se účinky použití příčily takovým zásadám společenského a státního zřízení ČR a jejího právního řádu, na nichž je nutno bez výhrad trv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Kolize právních norem</a:t>
            </a:r>
            <a:endParaRPr b="0" lang="en-US" sz="4400" spc="-1" strike="noStrike">
              <a:solidFill>
                <a:srgbClr val="e3e3ff"/>
              </a:solidFill>
              <a:latin typeface="Arial"/>
            </a:endParaRPr>
          </a:p>
        </p:txBody>
      </p:sp>
      <p:sp>
        <p:nvSpPr>
          <p:cNvPr id="284" name="PlaceHolder 2"/>
          <p:cNvSpPr>
            <a:spLocks noGrp="1"/>
          </p:cNvSpPr>
          <p:nvPr>
            <p:ph/>
          </p:nvPr>
        </p:nvSpPr>
        <p:spPr>
          <a:xfrm>
            <a:off x="250920" y="1412640"/>
            <a:ext cx="8642160" cy="4321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zitivní kolize – aplikovatelnost dvou právních řádů</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ní kolize právních norem – neexistuje právní řád, kterým by se právní vztah říd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ybrané oblasti kolizní úpravy</a:t>
            </a:r>
            <a:endParaRPr b="0" lang="en-US" sz="4400" spc="-1" strike="noStrike">
              <a:solidFill>
                <a:srgbClr val="e3e3ff"/>
              </a:solidFill>
              <a:latin typeface="Arial"/>
            </a:endParaRPr>
          </a:p>
        </p:txBody>
      </p:sp>
      <p:sp>
        <p:nvSpPr>
          <p:cNvPr id="286" name="PlaceHolder 2"/>
          <p:cNvSpPr>
            <a:spLocks noGrp="1"/>
          </p:cNvSpPr>
          <p:nvPr>
            <p:ph/>
          </p:nvPr>
        </p:nvSpPr>
        <p:spPr>
          <a:xfrm>
            <a:off x="324000" y="1197000"/>
            <a:ext cx="8640720" cy="48988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Fyzické osoby</a:t>
            </a:r>
            <a:r>
              <a:rPr b="0" lang="en-US" sz="2800" spc="-1" strike="noStrike">
                <a:solidFill>
                  <a:srgbClr val="ffffff"/>
                </a:solidFill>
                <a:latin typeface="Arial"/>
              </a:rPr>
              <a:t> - § 3 odst. 1 ZMPS – dle státní příslušnosti</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ávnické osoby</a:t>
            </a:r>
            <a:r>
              <a:rPr b="0" lang="en-US" sz="2800" spc="-1" strike="noStrike">
                <a:solidFill>
                  <a:srgbClr val="ffffff"/>
                </a:solidFill>
                <a:latin typeface="Arial"/>
              </a:rPr>
              <a:t> – právní subjektivita je odvozena od určitého okruhu fyzických osob, které jsou zakladateli, členy, společníky, akcionáři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sada skutečného sídla (§ 19c občanského zákoníku, z. č. 40/1964 Sb.), místo výkonu hlavní, ústřední správy právnické osoby, tj. místo, kde dochází k zasedání hlavních orgánů, kde se uskutečňuje její činnost. Dle § 21 odst. 2 obchodního zákoníku, z. č. 513/1991 Sb., má česká právnická osoba sídlo na území Č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dborné články:</a:t>
            </a:r>
            <a:endParaRPr b="0" lang="en-US" sz="4400" spc="-1" strike="noStrike">
              <a:solidFill>
                <a:srgbClr val="e3e3ff"/>
              </a:solidFill>
              <a:latin typeface="Arial"/>
            </a:endParaRPr>
          </a:p>
        </p:txBody>
      </p:sp>
      <p:sp>
        <p:nvSpPr>
          <p:cNvPr id="14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ostadinovová, I. : Struktura soudu jako záruka jeho efektivního fungování v praxi. Budování Mezinárodního trestního tribunálu. Via Iuris, 2/2003, </a:t>
            </a:r>
            <a:r>
              <a:rPr b="0" lang="cs-CZ" sz="2400" spc="-1" strike="noStrike" u="sng">
                <a:solidFill>
                  <a:srgbClr val="00ffcc"/>
                </a:solidFill>
                <a:uFillTx/>
                <a:latin typeface="Arial"/>
                <a:hlinkClick r:id="rId1"/>
              </a:rPr>
              <a:t>www.i-eps.cz/viaiuris</a:t>
            </a:r>
            <a:r>
              <a:rPr b="0" lang="cs-CZ"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ostadinovová, I. : Mezinárodní trestní tribunál , www.sweb.cz/ilda</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ostadinovová, I. : Do Mezinárodního trestního soudu bylo zvoleno 18 soudců, </a:t>
            </a:r>
            <a:r>
              <a:rPr b="0" lang="cs-CZ" sz="2400" spc="-1" strike="noStrike" u="sng">
                <a:solidFill>
                  <a:srgbClr val="00ffcc"/>
                </a:solidFill>
                <a:uFillTx/>
                <a:latin typeface="Arial"/>
                <a:hlinkClick r:id="rId2"/>
              </a:rPr>
              <a:t>www.sweb.cz/ilda</a:t>
            </a:r>
            <a:r>
              <a:rPr b="1" lang="cs-CZ" sz="2400" spc="-1" strike="noStrike" u="sng">
                <a:solidFill>
                  <a:srgbClr val="ffffff"/>
                </a:solidFill>
                <a:uFillTx/>
                <a:latin typeface="Arial"/>
              </a:rPr>
              <a:t>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Lukášek, L. : Mezinárodní trestní soud – historický vývoj, současný stav a stručný rozbor jeho statutu, Právník 12, 138/99, ISSN 0231-6625, str. 114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lší příklady kolizní úpravy</a:t>
            </a:r>
            <a:endParaRPr b="0" lang="en-US" sz="4400" spc="-1" strike="noStrike">
              <a:solidFill>
                <a:srgbClr val="e3e3ff"/>
              </a:solidFill>
              <a:latin typeface="Arial"/>
            </a:endParaRPr>
          </a:p>
        </p:txBody>
      </p:sp>
      <p:sp>
        <p:nvSpPr>
          <p:cNvPr id="2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ěcná práva - § 5 ZMPS – dle práva místa, kde věc j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o dědické, rodinné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acovní právo</a:t>
            </a:r>
            <a:r>
              <a:rPr b="0" lang="en-US" sz="2800" spc="-1" strike="noStrike">
                <a:solidFill>
                  <a:srgbClr val="ffffff"/>
                </a:solidFill>
                <a:latin typeface="Arial"/>
              </a:rPr>
              <a:t> – volba práva stranami pracovní smlouvy nesmí zbavovat zaměstnance ochrany, kterou mu poskytují imperativní normy práva a které se použije při neexistenci volby práv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výpovědní lhůt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volba práva nesmí zbavovat zaměstnance výhod, které vyplývají z kolektivní smlouvy.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zinárodní právo procesní</a:t>
            </a:r>
            <a:endParaRPr b="0" lang="en-US" sz="4400" spc="-1" strike="noStrike">
              <a:solidFill>
                <a:srgbClr val="e3e3ff"/>
              </a:solidFill>
              <a:latin typeface="Arial"/>
            </a:endParaRPr>
          </a:p>
        </p:txBody>
      </p:sp>
      <p:sp>
        <p:nvSpPr>
          <p:cNvPr id="2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hrn norem, které upravují postup soudů a jiných orgánů, účastníků a vztahy mezi nimi vznikající v řízení o občanskoprávních věcech, v nichž se vyskytuje mezinárodní prve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vykonání určitého procesního úkonu v zahraničí – doručit předvolání, vyslechnout svědka či znalce, posoudit důkazní moc cizozemské veřejné listiny, účastník řízení je cizinec, mezinárodní právní pomoc, uznání a výkon cizích rozhodnutí, rozhodčí řízení v mezinárodním obchodním styku apo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í občanské právo procesní</a:t>
            </a:r>
            <a:endParaRPr b="0" lang="en-US" sz="4000" spc="-1" strike="noStrike">
              <a:solidFill>
                <a:srgbClr val="e3e3ff"/>
              </a:solidFill>
              <a:latin typeface="Arial"/>
            </a:endParaRPr>
          </a:p>
        </p:txBody>
      </p:sp>
      <p:sp>
        <p:nvSpPr>
          <p:cNvPr id="292" name="PlaceHolder 2"/>
          <p:cNvSpPr>
            <a:spLocks noGrp="1"/>
          </p:cNvSpPr>
          <p:nvPr>
            <p:ph/>
          </p:nvPr>
        </p:nvSpPr>
        <p:spPr>
          <a:xfrm>
            <a:off x="324000" y="1268280"/>
            <a:ext cx="8640720" cy="48276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vomoc a příslušnost tuzemský justičních orgánů</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avení cizinců v řízení, důkazní moc cizozemských veřejných listin, vzájemnost, zjišťování obsahu cizího práv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pomoc ve vztahu k cizině</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nání a výkon cizích rozhodnutí a cizích rozhodčích nálezů</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zhodčí řízení v mezinárodním obchodním styku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Zásady soudního řízení</a:t>
            </a:r>
            <a:endParaRPr b="0" lang="en-US" sz="4400" spc="-1" strike="noStrike">
              <a:solidFill>
                <a:srgbClr val="e3e3ff"/>
              </a:solidFill>
              <a:latin typeface="Arial"/>
            </a:endParaRPr>
          </a:p>
        </p:txBody>
      </p:sp>
      <p:sp>
        <p:nvSpPr>
          <p:cNvPr id="294"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sada priority mezinárodních smluv - § 2 ZMP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 postupuje vždy podle předpisů vlastního právního řádu - § 48 ZMP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sada vzájemnosti – cizinci mají nárok na osvobození od soudních poplatků a záloh a na ustanovení bezplatného zástupce k ochraně svých zájmů v případě, že je zaručena vzájemnost. Jde o jednu z podmínek uznání a výkonu cizích rozhodnutí.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zinec má v řízení, které se vede na základě našich procesních předpisů, stejné postavení jako tuzemský účastník.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ávo mezinárodního obchodu</a:t>
            </a:r>
            <a:endParaRPr b="0" lang="en-US" sz="4400" spc="-1" strike="noStrike">
              <a:solidFill>
                <a:srgbClr val="e3e3ff"/>
              </a:solidFill>
              <a:latin typeface="Arial"/>
            </a:endParaRPr>
          </a:p>
        </p:txBody>
      </p:sp>
      <p:sp>
        <p:nvSpPr>
          <p:cNvPr id="2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Úloha mezinárodních organizací při regulaci mezinárodního obchodu</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hy státu do mezinárodních obchodních styků</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kromoprávní aspekty práva mezinárodního obchodu</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Řešení sporů v mezinárodním obchodním styk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Řešení sporů v mezinárodním styku</a:t>
            </a:r>
            <a:endParaRPr b="0" lang="en-US" sz="4000" spc="-1" strike="noStrike">
              <a:solidFill>
                <a:srgbClr val="e3e3ff"/>
              </a:solidFill>
              <a:latin typeface="Arial"/>
            </a:endParaRPr>
          </a:p>
        </p:txBody>
      </p:sp>
      <p:sp>
        <p:nvSpPr>
          <p:cNvPr id="298" name="PlaceHolder 2"/>
          <p:cNvSpPr>
            <a:spLocks noGrp="1"/>
          </p:cNvSpPr>
          <p:nvPr>
            <p:ph/>
          </p:nvPr>
        </p:nvSpPr>
        <p:spPr>
          <a:xfrm>
            <a:off x="324000" y="1413000"/>
            <a:ext cx="864072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ezinárodní smlouvy – mezinárodní obchodní arbitráž/mezinárodní rozhodčí řízení</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Evropská úmluva o mezinárodní obchodní arbitráži z roku 1961/č. 176/1964 Sb.</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ewyorská úmluva o uznání a výkonu cizích rozhodčích nálezů z roku 1958 (č. 74/1959 Sb.</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pravomoci a výkonu rozsudků v občanských a obchodních věcech z roku 1968 (Bruselská úmluva), převzata do Nařízení Rady ES č. 44/2001 – pro členské státy E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Luganská úmluva z roku 1989 – členské státy ES a členské státy Evropského sdružení volného obcho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ČR</a:t>
            </a:r>
            <a:endParaRPr b="0" lang="en-US" sz="4400" spc="-1" strike="noStrike">
              <a:solidFill>
                <a:srgbClr val="e3e3ff"/>
              </a:solidFill>
              <a:latin typeface="Arial"/>
            </a:endParaRPr>
          </a:p>
        </p:txBody>
      </p:sp>
      <p:sp>
        <p:nvSpPr>
          <p:cNvPr id="3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mezinárodním právu soukromém a procesním č. 97/1963 Sb.</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rozhodčím řízení a o výkonu rozhodčích nálezů č. 216/1994 S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Jiné normy omezující svobodu smluvních stran </a:t>
            </a:r>
            <a:br>
              <a:rPr sz="2800"/>
            </a:br>
            <a:r>
              <a:rPr b="0" lang="en-US" sz="2800" spc="-1" strike="noStrike">
                <a:solidFill>
                  <a:srgbClr val="e3e3ff"/>
                </a:solidFill>
                <a:latin typeface="Arial"/>
              </a:rPr>
              <a:t>v mezinárodním obchodě</a:t>
            </a:r>
            <a:endParaRPr b="0" lang="en-US" sz="2800" spc="-1" strike="noStrike">
              <a:solidFill>
                <a:srgbClr val="e3e3ff"/>
              </a:solidFill>
              <a:latin typeface="Arial"/>
            </a:endParaRPr>
          </a:p>
        </p:txBody>
      </p:sp>
      <p:sp>
        <p:nvSpPr>
          <p:cNvPr id="302" name="PlaceHolder 2"/>
          <p:cNvSpPr>
            <a:spLocks noGrp="1"/>
          </p:cNvSpPr>
          <p:nvPr>
            <p:ph/>
          </p:nvPr>
        </p:nvSpPr>
        <p:spPr>
          <a:xfrm>
            <a:off x="457200" y="980640"/>
            <a:ext cx="8229600" cy="532764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hoda o zřízení Světové obchodní organizace (WTO) z roku 1994 /č. 191/1995 Sb.</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ropská unie/Evropská společenství</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ce pro hospodářskou spolupráci a rozvoj (OECD) – 1949 /z. č. 266/1998 Sb.</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í měnový fond – 1944 /z. č. 373/1990 Sb.</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í banka pro obnovu a rozvoj  - 1944 / z. č. 500/1992 Sb.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louvy o mezinárodní ochraně a podpoře investic včetně řešení sporů z investic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Úmluva o řešení sporů z investic mezi státy a občany druhých států – 1965 /z. č. 420/1992 Sb.</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louvy o zamezení dvojího zdanění</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louva mezi ČR a USA o zamezení dvojího zdanění z roku 1993 /č. 32/1994 S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alší významné organizace při regulaci mezinárodního obchodu</a:t>
            </a:r>
            <a:endParaRPr b="0" lang="en-US" sz="4000" spc="-1" strike="noStrike">
              <a:solidFill>
                <a:srgbClr val="e3e3ff"/>
              </a:solidFill>
              <a:latin typeface="Arial"/>
            </a:endParaRPr>
          </a:p>
        </p:txBody>
      </p:sp>
      <p:sp>
        <p:nvSpPr>
          <p:cNvPr id="3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SN (čl. 1 odst. 3 Charty) – Hospodářská a sociální rada(čl. 67 Charty) podporovat zvyšování životní úrovně, plné zaměstnanosti a vytváření podmínek pro hospodářský pokrok a rozvoj, řešení mezinárodních, hospodářských, sociálních a dalších problémů (čl. 55 Charty)</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šeobecná dohoda o clech a obchodu (GATT)</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šeobecná dohoda o obchodu službami (GAT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ohoda o obchodních aspektech práv k duševnímu vlastnictví (TRIP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jednání o pravidlech a řízení při řešení sporů (DS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Nestátní prostředky regulace mezinárodního obchodního styku</a:t>
            </a:r>
            <a:endParaRPr b="0" lang="en-US" sz="2800" spc="-1" strike="noStrike">
              <a:solidFill>
                <a:srgbClr val="e3e3ff"/>
              </a:solidFill>
              <a:latin typeface="Arial"/>
            </a:endParaRPr>
          </a:p>
        </p:txBody>
      </p:sp>
      <p:sp>
        <p:nvSpPr>
          <p:cNvPr id="306"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í obchodní zvyklosti</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ykládací pravidla</a:t>
            </a:r>
            <a:r>
              <a:rPr b="0" lang="en-US" sz="2400" spc="-1" strike="noStrike">
                <a:solidFill>
                  <a:srgbClr val="ffffff"/>
                </a:solidFill>
                <a:latin typeface="Arial"/>
              </a:rPr>
              <a:t> – jednotné obchodní termín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ř. INCOTERMS – 1980, celkem 13 doložek, závazné na základě ujednání stran a stávají se součástí kupní smlouvy a zavazují obě smluvní strany, tj. kupujícího i prodávajícíh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í obchodní komora se sídlem v Paříži – 1923, znění z roku 1980, 1990, 2000</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hrnná regulace následujících okruhů: dodání, převzetí, placení nákladů, předání a vybavení dokumentů, pojištění, přechod nebezpečí, zkoušky, balení atd.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ř. Je-li v kupní smlouvy např. stanoveno, že dodávka zboží bude uskutečněna na základě doložky CIF Hamburg, jsou prodávajícímu i kupujícímu známy povinnosti při uskutečňování dodávky kontrolovaného zboží a nemusí je složitě upravovat v kupní smlouvě</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46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oporučená literatura</a:t>
            </a:r>
            <a:endParaRPr b="0" lang="en-US" sz="4000" spc="-1" strike="noStrike">
              <a:solidFill>
                <a:srgbClr val="e3e3ff"/>
              </a:solidFill>
              <a:latin typeface="Arial"/>
            </a:endParaRPr>
          </a:p>
        </p:txBody>
      </p:sp>
      <p:sp>
        <p:nvSpPr>
          <p:cNvPr id="146" name="PlaceHolder 2"/>
          <p:cNvSpPr>
            <a:spLocks noGrp="1"/>
          </p:cNvSpPr>
          <p:nvPr>
            <p:ph/>
          </p:nvPr>
        </p:nvSpPr>
        <p:spPr>
          <a:xfrm>
            <a:off x="457200" y="765000"/>
            <a:ext cx="8229600" cy="54007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EIDL-HOHENVELDERN, Ignaz: Mezinárodní právo veřejné, Praha, ASPI, 2001, 415 str.</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BALAŠ, Vladimír, ŠTURMA, Pavel: Kurs mezinárodního ekonomického práva. Praha, C.H.Beck, 1997, 221 str.</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PELKA, Čestmír, ŠTURMA, Pavel: Mezinárodní právo veřejné, Praha, Eurolex Bohemia, 2003, 757 str.</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AVID, Vladislav, SLADKÝ, Pavel, ZBOŘIL, František: Mezinárodní právo veřejné, Linde Praha a.s., 2004, 425 str..</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TOČNÝ, Miroslav, ŠIBAJEVA E.A.: Právo mezinárodních organizací, Praha, Panorama, 1984, 115 str.</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OPAL, Vladimír: Hesla z oboru mezinárodního práva veřejného.</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Šturma, P. : Mezinárodní trestní soud a stíhání zločinů podle mezinárodního práva, Univerzita Karlova v Praze, Nakladatelství Karolinum, Praha 2002</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e3e3ff"/>
                </a:solidFill>
                <a:latin typeface="Arial"/>
              </a:rPr>
              <a:t>Lex mercatoria</a:t>
            </a:r>
            <a:endParaRPr b="0" lang="en-US" sz="4400" spc="-1" strike="noStrike">
              <a:solidFill>
                <a:srgbClr val="e3e3ff"/>
              </a:solidFill>
              <a:latin typeface="Arial"/>
            </a:endParaRPr>
          </a:p>
        </p:txBody>
      </p:sp>
      <p:sp>
        <p:nvSpPr>
          <p:cNvPr id="308" name="PlaceHolder 2"/>
          <p:cNvSpPr>
            <a:spLocks noGrp="1"/>
          </p:cNvSpPr>
          <p:nvPr>
            <p:ph/>
          </p:nvPr>
        </p:nvSpPr>
        <p:spPr>
          <a:xfrm>
            <a:off x="324000" y="1268280"/>
            <a:ext cx="8362800" cy="48276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ransnacionální právo mezinárodních obchodních transakcí, světové právo mezinárodního obchodu, obchodní právo</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yšlenka existence zvláštního samostatného systému norem, resp. samostatného právního odvětví nebo systému práva, jež upravuje vztahy vznikající v mezinárodním obchodním styku.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akýsi třetí právní systém nezávislý na národních právních řáde i na právu mezinárodním.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Cílem je překonání rozdílů v jednotlivých národních úpravách včetně odstranění používání kolizních nor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Zásady mezinárodních obchodních smluv</a:t>
            </a:r>
            <a:endParaRPr b="0" lang="en-US" sz="4000" spc="-1" strike="noStrike">
              <a:solidFill>
                <a:srgbClr val="e3e3ff"/>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DROI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CITRA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agská konference mezinárodního práva soukroméh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sady mezinárodních obchodních smluv, 1997 vydalo nakladatelství CODEX BOHEMIA Praha, znění zásad české, anglické, francouzské, německé, italské a španělsk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00000" y="907560"/>
            <a:ext cx="77868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Děkuji za pozornost </a:t>
            </a:r>
            <a:br>
              <a:rPr sz="5400"/>
            </a:br>
            <a:r>
              <a:rPr b="0" lang="en-US" sz="5400" spc="-1" strike="noStrike">
                <a:solidFill>
                  <a:srgbClr val="e3e3ff"/>
                </a:solidFill>
                <a:latin typeface="Arial"/>
              </a:rPr>
              <a:t>a přeji příjemný zbytek dnešního dne.</a:t>
            </a:r>
            <a:endParaRPr b="0" lang="en-US" sz="5400" spc="-1" strike="noStrike">
              <a:solidFill>
                <a:srgbClr val="e3e3ff"/>
              </a:solidFill>
              <a:latin typeface="Arial"/>
            </a:endParaRPr>
          </a:p>
        </p:txBody>
      </p:sp>
      <p:sp>
        <p:nvSpPr>
          <p:cNvPr id="312" name="PlaceHolder 2"/>
          <p:cNvSpPr>
            <a:spLocks noGrp="1"/>
          </p:cNvSpPr>
          <p:nvPr>
            <p:ph type="subTitle"/>
          </p:nvPr>
        </p:nvSpPr>
        <p:spPr>
          <a:xfrm>
            <a:off x="250560" y="3933360"/>
            <a:ext cx="6265800" cy="201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Mgr. Ilona Kostadinovová</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ffcc"/>
                </a:solidFill>
                <a:uFillTx/>
                <a:latin typeface="Arial"/>
                <a:hlinkClick r:id="rId1"/>
              </a:rPr>
              <a:t>ilda</a:t>
            </a:r>
            <a:r>
              <a:rPr b="0" lang="en-US" sz="3200" spc="-1" strike="noStrike" u="sng">
                <a:solidFill>
                  <a:srgbClr val="00ffcc"/>
                </a:solidFill>
                <a:uFillTx/>
                <a:latin typeface="Arial"/>
                <a:hlinkClick r:id="rId2"/>
              </a:rPr>
              <a:t>@seznam.cz</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rPr>
              <a:t>www.sweb.cz</a:t>
            </a:r>
            <a:r>
              <a:rPr b="0" lang="cs-CZ" sz="3200" spc="-1" strike="noStrike" u="sng">
                <a:solidFill>
                  <a:srgbClr val="00ffcc"/>
                </a:solidFill>
                <a:uFillTx/>
                <a:latin typeface="Arial"/>
                <a:hlinkClick r:id="rId4"/>
              </a:rPr>
              <a:t>/ild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11:15:31Z</dcterms:created>
  <dc:creator>Ilona</dc:creator>
  <dc:description/>
  <dc:language>en-US</dc:language>
  <cp:lastModifiedBy>Ilona</cp:lastModifiedBy>
  <dcterms:modified xsi:type="dcterms:W3CDTF">2008-11-28T19:59:25Z</dcterms:modified>
  <cp:revision>194</cp:revision>
  <dc:subject/>
  <dc:title>Snímek 1</dc:title>
</cp:coreProperties>
</file>