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8.xml.rels" ContentType="application/vnd.openxmlformats-package.relationships+xml"/>
  <Override PartName="/ppt/notesSlides/_rels/notesSlide23.xml.rels" ContentType="application/vnd.openxmlformats-package.relationships+xml"/>
  <Override PartName="/ppt/notesSlides/_rels/notesSlide11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36.xml.rels" ContentType="application/vnd.openxmlformats-package.relationships+xml"/>
  <Override PartName="/ppt/notesSlides/_rels/notesSlide149.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145.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157.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0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80.xml.rels" ContentType="application/vnd.openxmlformats-package.relationships+xml"/>
  <Override PartName="/ppt/notesSlides/_rels/notesSlide138.xml.rels" ContentType="application/vnd.openxmlformats-package.relationships+xml"/>
  <Override PartName="/ppt/notesSlides/_rels/notesSlide25.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49.xml.rels" ContentType="application/vnd.openxmlformats-package.relationships+xml"/>
  <Override PartName="/ppt/notesSlides/_rels/notesSlide132.xml.rels" ContentType="application/vnd.openxmlformats-package.relationships+xml"/>
  <Override PartName="/ppt/notesSlides/_rels/notesSlide128.xml.rels" ContentType="application/vnd.openxmlformats-package.relationships+xml"/>
  <Override PartName="/ppt/notesSlides/_rels/notesSlide70.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9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194.xml.rels" ContentType="application/vnd.openxmlformats-package.relationships+xml"/>
  <Override PartName="/ppt/notesSlides/_rels/notesSlide156.xml.rels" ContentType="application/vnd.openxmlformats-package.relationships+xml"/>
  <Override PartName="/ppt/notesSlides/_rels/notesSlide103.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43.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124.xml.rels" ContentType="application/vnd.openxmlformats-package.relationships+xml"/>
  <Override PartName="/ppt/notesSlides/_rels/notesSlide146.xml.rels" ContentType="application/vnd.openxmlformats-package.relationships+xml"/>
  <Override PartName="/ppt/notesSlides/_rels/notesSlide190.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19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121.xml.rels" ContentType="application/vnd.openxmlformats-package.relationships+xml"/>
  <Override PartName="/ppt/notesSlides/_rels/notesSlide126.xml.rels" ContentType="application/vnd.openxmlformats-package.relationships+xml"/>
  <Override PartName="/ppt/notesSlides/_rels/notesSlide147.xml.rels" ContentType="application/vnd.openxmlformats-package.relationships+xml"/>
  <Override PartName="/ppt/notesSlides/_rels/notesSlide191.xml.rels" ContentType="application/vnd.openxmlformats-package.relationships+xml"/>
  <Override PartName="/ppt/notesSlides/_rels/notesSlide97.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92.xml.rels" ContentType="application/vnd.openxmlformats-package.relationships+xml"/>
  <Override PartName="/ppt/notesSlides/_rels/notesSlide148.xml.rels" ContentType="application/vnd.openxmlformats-package.relationships+xml"/>
  <Override PartName="/ppt/notesSlides/_rels/notesSlide9.xml.rels" ContentType="application/vnd.openxmlformats-package.relationships+xml"/>
  <Override PartName="/ppt/notesSlides/_rels/notesSlide193.xml.rels" ContentType="application/vnd.openxmlformats-package.relationships+xml"/>
  <Override PartName="/ppt/notesSlides/_rels/notesSlide31.xml.rels" ContentType="application/vnd.openxmlformats-package.relationships+xml"/>
  <Override PartName="/ppt/notesSlides/_rels/notesSlide189.xml.rels" ContentType="application/vnd.openxmlformats-package.relationships+xml"/>
  <Override PartName="/ppt/notesSlides/_rels/notesSlide34.xml.rels" ContentType="application/vnd.openxmlformats-package.relationships+xml"/>
  <Override PartName="/ppt/notesSlides/_rels/notesSlide134.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35.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135.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71.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17.xml.rels" ContentType="application/vnd.openxmlformats-package.relationships+xml"/>
  <Override PartName="/ppt/notesSlides/_rels/notesSlide118.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196.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91.xml.rels" ContentType="application/vnd.openxmlformats-package.relationships+xml"/>
  <Override PartName="/ppt/notesSlides/_rels/notesSlide107.xml.rels" ContentType="application/vnd.openxmlformats-package.relationships+xml"/>
  <Override PartName="/ppt/notesSlides/_rels/notesSlide151.xml.rels" ContentType="application/vnd.openxmlformats-package.relationships+xml"/>
  <Override PartName="/ppt/notesSlides/_rels/notesSlide92.xml.rels" ContentType="application/vnd.openxmlformats-package.relationships+xml"/>
  <Override PartName="/ppt/notesSlides/_rels/notesSlide152.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64.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1.xml.rels" ContentType="application/vnd.openxmlformats-package.relationships+xml"/>
  <Override PartName="/ppt/notesSlides/_rels/notesSlide166.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71.xml.rels" ContentType="application/vnd.openxmlformats-package.relationships+xml"/>
  <Override PartName="/ppt/notesSlides/_rels/notesSlide150.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74.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76.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notesSlide179.xml" ContentType="application/vnd.openxmlformats-officedocument.presentationml.notesSlide+xml"/>
  <Override PartName="/ppt/notesSlides/notesSlide76.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7.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01.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42.xml" ContentType="application/vnd.openxmlformats-officedocument.presentationml.notesSlide+xml"/>
  <Override PartName="/ppt/notesSlides/notesSlide190.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169.xml" ContentType="application/vnd.openxmlformats-officedocument.presentationml.notesSlide+xml"/>
  <Override PartName="/ppt/notesSlides/notesSlide141.xml" ContentType="application/vnd.openxmlformats-officedocument.presentationml.notesSlide+xml"/>
  <Override PartName="/ppt/notesSlides/notesSlide191.xml" ContentType="application/vnd.openxmlformats-officedocument.presentationml.notesSlide+xml"/>
  <Override PartName="/ppt/notesSlides/notesSlide79.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46.xml" ContentType="application/vnd.openxmlformats-officedocument.presentationml.notesSlide+xml"/>
  <Override PartName="/ppt/notesSlides/notesSlide131.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143.xml" ContentType="application/vnd.openxmlformats-officedocument.presentationml.notesSlide+xml"/>
  <Override PartName="/ppt/notesSlides/notesSlide96.xml" ContentType="application/vnd.openxmlformats-officedocument.presentationml.notesSlide+xml"/>
  <Override PartName="/ppt/notesSlides/notesSlide199.xml" ContentType="application/vnd.openxmlformats-officedocument.presentationml.notesSlide+xml"/>
  <Override PartName="/ppt/notesSlides/notesSlide15.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17.xml" ContentType="application/vnd.openxmlformats-officedocument.presentationml.notesSlide+xml"/>
  <Override PartName="/ppt/notesSlides/notesSlide45.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41.xml" ContentType="application/vnd.openxmlformats-officedocument.presentationml.notesSlide+xml"/>
  <Override PartName="/ppt/notesSlides/notesSlide132.xml" ContentType="application/vnd.openxmlformats-officedocument.presentationml.notesSlide+xml"/>
  <Override PartName="/ppt/notesSlides/notesSlide16.xml" ContentType="application/vnd.openxmlformats-officedocument.presentationml.notesSlid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9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189.xml" ContentType="application/vnd.openxmlformats-officedocument.presentationml.notesSlide+xml"/>
  <Override PartName="/ppt/notesSlides/notesSlide31.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12.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72.xml" ContentType="application/vnd.openxmlformats-officedocument.presentationml.notesSlide+xml"/>
  <Override PartName="/ppt/notesSlides/notesSlide107.xml" ContentType="application/vnd.openxmlformats-officedocument.presentationml.notesSlide+xml"/>
  <Override PartName="/ppt/notesSlides/notesSlide172.xml" ContentType="application/vnd.openxmlformats-officedocument.presentationml.notesSlide+xml"/>
  <Override PartName="/ppt/notesSlides/notesSlide104.xml" ContentType="application/vnd.openxmlformats-officedocument.presentationml.notesSlide+xml"/>
  <Override PartName="/ppt/notesSlides/notesSlide113.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11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96.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3.xml" ContentType="application/vnd.openxmlformats-officedocument.presentationml.notesSlide+xml"/>
  <Override PartName="/ppt/notesSlides/notesSlide90.xml" ContentType="application/vnd.openxmlformats-officedocument.presentationml.notesSlide+xml"/>
  <Override PartName="/ppt/notesSlides/notesSlide133.xml" ContentType="application/vnd.openxmlformats-officedocument.presentationml.notesSlide+xml"/>
  <Override PartName="/ppt/notesSlides/notesSlide136.xml" ContentType="application/vnd.openxmlformats-officedocument.presentationml.notesSlide+xml"/>
  <Override PartName="/ppt/notesSlides/notesSlide137.xml" ContentType="application/vnd.openxmlformats-officedocument.presentationml.notesSlide+xml"/>
  <Override PartName="/ppt/notesSlides/notesSlide138.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56.xml" ContentType="application/vnd.openxmlformats-officedocument.presentationml.notesSlide+xml"/>
  <Override PartName="/ppt/notesSlides/notesSlide157.xml" ContentType="application/vnd.openxmlformats-officedocument.presentationml.notesSlide+xml"/>
  <Override PartName="/ppt/notesSlides/notesSlide163.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65.xml" ContentType="application/vnd.openxmlformats-officedocument.presentationml.notesSlide+xml"/>
  <Override PartName="/ppt/notesSlides/notesSlide166.xml" ContentType="application/vnd.openxmlformats-officedocument.presentationml.notesSlide+xml"/>
  <Override PartName="/ppt/notesSlides/notesSlide167.xml" ContentType="application/vnd.openxmlformats-officedocument.presentationml.notesSlide+xml"/>
  <Override PartName="/ppt/notesSlides/notesSlide168.xml" ContentType="application/vnd.openxmlformats-officedocument.presentationml.notesSlide+xml"/>
  <Override PartName="/ppt/notesSlides/notesSlide70.xml" ContentType="application/vnd.openxmlformats-officedocument.presentationml.notesSlide+xml"/>
  <Override PartName="/ppt/notesSlides/notesSlide105.xml" ContentType="application/vnd.openxmlformats-officedocument.presentationml.notesSlide+xml"/>
  <Override PartName="/ppt/notesSlides/notesSlide173.xml" ContentType="application/vnd.openxmlformats-officedocument.presentationml.notesSlide+xml"/>
  <Override PartName="/ppt/notesSlides/notesSlide71.xml" ContentType="application/vnd.openxmlformats-officedocument.presentationml.notesSlide+xml"/>
  <Override PartName="/ppt/notesSlides/notesSlide106.xml" ContentType="application/vnd.openxmlformats-officedocument.presentationml.notesSlide+xml"/>
  <Override PartName="/ppt/notesSlides/notesSlide174.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55.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56.xml" ContentType="application/vnd.openxmlformats-officedocument.presentationml.slide+xml"/>
  <Override PartName="/ppt/slides/slide188.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8BED-0646-48CE-9883-CF5B5936B1EA}"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chodní strategii, cíl prostředky k cíli, dosažení cíle, vý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vomoci a povinnosti – důležitý aspekt, </a:t>
            </a: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dmětem jsou listy dopisy, ať v soukromí nebo zasílány poštou, zprávy podávané telefonem, telegrafem, Listina chrání jakýkoli technický ,mechanický elektromagnetický elektronický či záznamový prostředek, kterých je schopen uchovávat přechovávat či přenášet myšlenky, údaje, obrazy a inform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pohybu a pobytu, ve spojení s osobní svobodou čl. 8, určovat si v místo svého bytí v regionu, možnost opuštění území, , omezení svobody pohybu a pobytu je možné z důvodů v odst. 3, např. bezpečnost státu, veřejný pořádek, ochrana českého občana je v odst. 4 a cizinci jsou zakotveni v odst. 5 , odst. 5 je ve spojitosti tematicke s čl 42 odst 2 a čl.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myšlení, základ lidského ducha a intelektu, vědecké bádání, umělecký projev, svoboda zvolit konfesi a opustit konfesi, hranicí je čl.2 odst. 3 pro svobodu lidského ducha a tvůrčího intelektu, např. zákon o vysokých školách upravuje svobodu vědeckého bádání, č. 172/1990 Sb. Spojitost se službou upravenou zákonem, zde omezení čl. 15 článkem 9 odst.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dmětem jsou listy dopisy, ať v soukromí nebo zasílány poštou, zprávy podávané telefonem, telegrafem, Listina chrání jakýkoli technický ,mechanický elektromagnetický elektronický či záznamový prostředek, kterých je schopen uchovávat přechovávat či přenášet myšlenky, údaje, obrazy a inform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pohybu a pobytu, ve spojení s osobní svobodou čl. 8, určovat si v místo svého bytí v regionu, možnost opuštění území, , omezení svobody pohybu a pobytu je možné z důvodů v odst. 3, např. bezpečnost státu, veřejný pořádek, ochrana českého občana je v odst. 4 a cizinci jsou zakotveni v odst. 5 , odst. 5 je ve spojitosti tematicke s čl 42 odst 2 a čl.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myšlení, základ lidského ducha a intelektu, vědecké bádání, umělecký projev, svoboda zvolit konfesi a opustit konfesi, hranicí je čl.2 odst. 3 pro svobodu lidského ducha a tvůrčího intelektu, např. zákon o vysokých školách upravuje svobodu vědeckého bádání, č. 172/1990 Sb. Spojitost se službou upravenou zákonem, zde omezení čl. 15 článkem 9 odst.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ný projev: svobodný výkon náboženství, autonomie církví a náboženských společností, zajišťuje zřízení bohosloveckých fakult, Církve jako veřejnoprávně uznané samosprávy., Str. 207 Klí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oboda projevu: právo vyjadřovat své názory slovem, písmem, tiskem, obrazem nebo jiným způsobem. Obsahem práva na informace je možnost svobodně vyhledávat přijímat a rozšiřovat ideje a informace bez ohledu na hranice státu, omezení v čl. 17 odst. 2, zákonné omezení, Odst. 3 zakazuje přímo cenzuru pro zákonodárce, fyzické a právnické osoby, ve spojitosti zákon o provozování rozhlasového a televizního vysílání, zákony o Č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projevu: právo vyjadřovat své názory slovem, písmem, tiskem, obrazem nebo jiným způsobem. Obsahem práva na informace je možnost svobodně vyhledávat přijímat a rozšiřovat ideje a informace bez ohledu na hranice státu, omezení v čl. 17 odst. 2, zákonné omezení, Odst. 3 zakazuje přímo cenzuru pro zákonodárce, fyzické a právnické osoby, ve spojitosti zákon o provozování rozhlasového a televizního vysílání, zákony o Č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etiční právo: právo fizických osob obracet se  individuelně nebo s jinými žádostmi návrhy a stížnostmi na státní orgány a orgány územní samosprávy, str. 208-209 Klíma</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projevu: právo vyjadřovat své názory slovem, písmem, tiskem, obrazem nebo jiným způsobem. Obsahem práva na informace je možnost svobodně vyhledávat přijímat a rozšiřovat ideje a informace bez ohledu na hranice státu, omezení v čl. 17 odst. 2, zákonné omezení, Odst. 3 zakazuje přímo cenzuru pro zákonodárce, fyzické a právnické osoby, ve spojitosti zákon o provozování rozhlasového a televizního vysílání, zákony o Č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etiční právo: právo fizických osob obracet se  individuelně nebo s jinými žádostmi návrhy a stížnostmi na státní orgány a orgány územní samosprávy, str. 208-209 Klí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shromažďovací, protestní shromáždění, kolektivní projev názoru, barierou je zákonné omezení v odst. 2, ve spojitosti je zákon č. 84/1990, Listina vylučuje povolovací režim, zákon tedy upravuje OZNAMOVAC9 režim, nemusí se oznamovat shromáždění uzavřeného charakteru, platí i pro procesí a pouťě</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projevu: právo vyjadřovat své názory slovem, písmem, tiskem, obrazem nebo jiným způsobem. Obsahem práva na informace je možnost svobodně vyhledávat přijímat a rozšiřovat ideje a informace bez ohledu na hranice státu, omezení v čl. 17 odst. 2, zákonné omezení, Odst. 3 zakazuje přímo cenzuru pro zákonodárce, fyzické a právnické osoby, ve spojitosti zákon o provozování rozhlasového a televizního vysílání, zákony o Č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etiční právo: právo fizických osob obracet se  individuelně nebo s jinými žádostmi návrhy a stížnostmi na státní orgány a orgány územní samosprávy, str. 208-209 Klí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shromažďovací, protestní shromáždění, kolektivní projev názoru, barierou je zákonné omezení v odst. 2, ve spojitosti je zákon č. 84/1990, Listina vylučuje povolovací režim, zákon tedy upravuje OZNAMOVAC9 režim, nemusí se oznamovat shromáždění uzavřeného charakteru, platí i pro procesí a pouť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sdružovací: Spolky odst. 1, politické strany odst. 2, ve spojení s pol. stranami čl. 5 Ústavy ČR, soutěž pol. Stran. , zakládání pol. stran pouze občan státu, kojnkretizací je zíkon o sdružování obč. č. 83/1990 Sb. A zákon o sdružování v pol. stranách č. 118/1994 Sb., spojitost s článkem 22 Listiny, bariera v odst. 3</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projevu: právo vyjadřovat své názory slovem, písmem, tiskem, obrazem nebo jiným způsobem. Obsahem práva na informace je možnost svobodně vyhledávat přijímat a rozšiřovat ideje a informace bez ohledu na hranice státu, omezení v čl. 17 odst. 2, zákonné omezení, Odst. 3 zakazuje přímo cenzuru pro zákonodárce, fyzické a právnické osoby, ve spojitosti zákon o provozování rozhlasového a televizního vysílání, zákony o Č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etiční právo: právo fizických osob obracet se  individuelně nebo s jinými žádostmi návrhy a stížnostmi na státní orgány a orgány územní samosprávy, str. 208-209 Klí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shromažďovací, protestní shromáždění, kolektivní projev názoru, barierou je zákonné omezení v odst. 2, ve spojitosti je zákon č. 84/1990, Listina vylučuje povolovací režim, zákon tedy upravuje OZNAMOVAC9 režim, nemusí se oznamovat shromáždění uzavřeného charakteru, platí i pro procesí a pouť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sdružovací: Spolky odst. 1, politické strany odst. 2, ve spojení s pol. stranami čl. 5 Ústavy ČR, soutěž pol. Stran. , zakládání pol. stran pouze občan státu, kojnkretizací je zíkon o sdružování obč. č. 83/1990 Sb. A zákon o sdružování v pol. stranách č. 118/1994 Sb., spojitost s článkem 22 Listiny, bariera v ods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dpor, pojistka pro restituci dem. systému v případě nefunkčnos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projevu: právo vyjadřovat své názory slovem, písmem, tiskem, obrazem nebo jiným způsobem. Obsahem práva na informace je možnost svobodně vyhledávat přijímat a rozšiřovat ideje a informace bez ohledu na hranice státu, omezení v čl. 17 odst. 2, zákonné omezení, Odst. 3 zakazuje přímo cenzuru pro zákonodárce, fyzické a právnické osoby, ve spojitosti zákon o provozování rozhlasového a televizního vysílání, zákony o Č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etiční právo: právo fizických osob obracet se  individuelně nebo s jinými žádostmi návrhy a stížnostmi na státní orgány a orgány územní samosprávy, str. 208-209 Klí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shromažďovací, protestní shromáždění, kolektivní projev názoru, barierou je zákonné omezení v odst. 2, ve spojitosti je zákon č. 84/1990, Listina vylučuje povolovací režim, zákon tedy upravuje OZNAMOVAC9 režim, nemusí se oznamovat shromáždění uzavřeného charakteru, platí i pro procesí a pouť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sdružovací: Spolky odst. 1, politické strany odst. 2, ve spojení s pol. stranami čl. 5 Ústavy ČR, soutěž pol. Stran. , zakládání pol. stran pouze občan státu, kojnkretizací je zákon o sdružování obč. č. 83/1990 Sb. A zákon o sdružování v pol. stranách č. 118/1994 Sb., spojitost s článkem 22 Listiny – č. 22 je ústavní garance, bariera v ods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dpor, pojistka pro restituci dem. systému v případě nefunkčnos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podílet se na věcech veřejných, konkr. volební právo, periodicita voleb, zákaz prodlužování volebních period, aktivní a pasivní volební právo, 4l. 21 Listiny je ve spojení s čl. 18 odst. 1 a čl 18 odst. 2 , i čl. 102 odst. 1 Ústavy, aktivní právo  od 18, pasivní od 21 resp od 40 do Senátu ČR, konkretizace např. zákon o volbách do parlamentu č. 247/19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parlament, prezident, ústavní soud,  subjektivita zprostředkovaná  právními odvětvími, konkretizace platí u státní správa daní, str. 20 klíma 97, způsobilost k ústavně právním úkonům se projevuje jako pravomoc stanovená ústavními normami, nebo možnost  vystupovat v procesních vztazích ústavního práva, ú.p. řeší i kolizní situace, kdy subjekty poruší ústavní normy, deliktní ústavně právní způsobilost</a:t>
            </a: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dná se  většinou o nároky vzhledem k státu, proto je potřeba interpretačního pravidla, tedy zákonů, které kladou meze těmto nárokům</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á se  většinou o nároky vzhledem k státu, proto je potřeba interpretačního pravidla, tedy zákonů, které kladou meze těmto nároků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Čl. 26, 27, dále: čl. 28 právo na spravedlivou odměnu, čl. 29 právo žen mladistvých a osob zdrav. Postižených na zvýšenou ochranu zdraví při práci a na zvlaštní prac. Podmínky, právo na přiměřené hmotné zabezpečení ve stáří čl. 30, čl. 31 bezplatná zdravotní péče, čl. 32 ochrana rodičovství a rodiny, bezplatmné školní vzdělání v zákl. šklách a stř. školách č. 33, čl. 34 přístup ke kulturním bohatstvím – deklaratorní charakter, čl. 35 včasné a úplné informace o stavu živ. Prostředí – deklaratorní charakter</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ní zásady: odepření výpovědi, tlumočník, požadavek zákonného soudce, zákaz manipulace s účastníky</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Čl. 1 přečíst, odkazat načl. 10, který otevírá ústavní systém mezinárodnímu právu a čl. 10a, který otevírá převod kompetencí směrem ven a dovnitř,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statní konstitutivní charakteristiky jsou:  unitární, územní samospráva, republikánská forma, demokratické zřízení zde čl. 2.5 a pojistku trvalosti demokracie v čl. 9 odst. 3, dále je ČR založena na doktríně právního stá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r. 175 ff.</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jetí je vertikální, horizontální, hranice tedy i nerostné bohatství, prostor vzdušný, </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jetí je vertikální, horizontální, hranice tedy i nerostné bohatství, prostor vzdušný, ústavní zákon čl. 39 odst. 4 podmínky přijetí</a:t>
            </a: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jetí je vertikální, horizontální, hranice tedy i nerostné bohatství, prostor vzdušný, ústavní zákon čl. 39 odst. 4 podmínky přijet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ecip zákony:  V obdobi 1. republiky ustavni zakony o uprave hranic např. S Německem , Madarskem a Rakousk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oucasna situace – ustavni zakony o konecnem vytyceni se sousednimi zememi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neomezeně, pouze ve spojení s jinými podmínkami, modifikovaně</a:t>
            </a: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volební se váže na občanství čl. 18 a 19, výkon poslance a senátora, , prezidenta rep. čl. 57 odst. 1, soudce ústavního soudu čl. 84 odst. 3, a soudce 93 odst.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átoobčanský svazek je právním, ustavně právním vztahem, jenž má své důsledky vnitřní vnější, vnitrostátním důsledkem je, že občan na území státu vykonává celý ústavou i právním řádem daný katalog práv a svobod. Vnějším důsledkem je ochrana, jíž mu stát za jeho pobytu v cizině diplomatickou a konzulární cestou poskytu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r. 185 - 188</a:t>
            </a: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Čl. 2 odst. 1 a 2 Úst., tripartita moci, moderní ústava počítá s tripartitou, </a:t>
            </a: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lanecká sněmovna a senát</a:t>
            </a: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lanecká sněmovna a senát, komory parlamentu nejsou rovnoprávné, rozdíl postavení se projevuje v: </a:t>
            </a: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lanecká sněmovna a senát, komory parlamentu nejsou rovnoprávné, rozdíl postavení se projevuje v: jiná volební období, jiné pravomoci a kompetence, celková či parciální obměňovatelnost.    </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lanecká sněmovna a senát, komory parlamentu nejsou rovnoprávné, rozdíl postavení se projevuje v: jiná volební období, jiné pravomoci a kompetence, celková či parciální obměňovateln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polečné působení při mezinárodních smlouvách dle čl. 10 Ústavy, volbě prezidenta, vyhlášení válečného stavu, vyslání ozbrojených sil mimo území ČR, v tomto případě souhlas obou komor jak to vyžaduje čl. 43 odst. 2 Ústavy. Senát má naopak exkluzivní právo dát souhlas s návrhy prezidenta na soudce Ústavního soudu. Převaha je na straně posl. sněmovny. Posl. Sněmovna může být rozpuštěna dle čl. 35 Úst.. v případ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arlament je kolegiální orgán, k rozhodnutím se dobírá hlasováním pléna ve kvo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němovna struktura: předseda místopředseda, §§ 29 a 30 zákona o jednacím řádu sněmovny, orgány sněmovny jsou např. výbory a komise, §32, § 47 zákona o jednacím řádu posl. sněmovny, mimo jiné tzv. poslanecké kluby v § 77 zákona,  zákon č. 90/1995 S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d národ, etnická skupina, obec, vyšší samosprávní celek, kraj</a:t>
            </a: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arlament je ústavodárce a zákonodárce, nesmí však překročit hranici čl. 9 odst. 2 Úst.. Klíčové postavení při tvorbě zákonů má Posl. sněmovna, to se odvozuje od možnosti, že senát nemusí projednat ani všechny zákony, které Posl. sněmovna schválila, čl. 48 Úst. Nebo čl. 46 odst. 1 a 3 Úst.. Senát může sám přijímat tzv. zákonná opatření, čl. 33 Úst..   </a:t>
            </a:r>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arlament je ústavodárce a zákonodárce, nesmí však překročit hranici čl. 9 odst. 2 Úst.. Klíčové postavení při tvorbě zákonů má Posl. sněmovna, to se odvozuje od možnosti, že senát nemusí projednat ani všechny zákony, které Posl. sněmovna schválila, čl. 48 Úst. Nebo čl. 46 odst. 1 a 3 Úst.. Senát může sám přijímat tzv. zákonná opatření, čl. 33 Ú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reativní pravomoci: ta se projevuje ve volbě prezidenta, projevu důvěry vládě, nebo souhlasu senátu s návrhy prezidenta na ústavní soudce, personální obsazení svých vnitřních orgánů, čl. 29 Úst..  Výbory a komise, čl. 31 Úst..</a:t>
            </a: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arlament je ústavodárce a zákonodárce, nesmí však překročit hranici čl. 9 odst. 2 Úst.. Klíčové postavení při tvorbě zákonů má Posl. sněmovna, to se odvozuje od možnosti, že senát nemusí projednat ani všechny zákony, které Posl. sněmovna schválila, čl. 48 Úst. Nebo čl. 46 odst. 1 a 3 Úst.. Senát může sám přijímat tzv. zákonná opatření, čl. 33 Ú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reativní pravomoci: ta se projevuje ve volbě prezidenta, projevu důvěry vládě, nebo souhlasu senátu s návrhy prezidenta na ústavní soudce, personální obsazení svých vnitřních orgánů, čl. 29 Úst..  Výbory a komise, čl. 31 Ú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ontrolní pravomoci: tvorba vyšetřovacích komisí.</a:t>
            </a: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arlament je ústavodárce a zákonodárce, nesmí však překročit hranici čl. 9 odst. 2 Úst.. Klíčové postavení při tvorbě zákonů má Posl. sněmovna, to se odvozuje od možnosti, že senát nemusí projednat ani všechny zákony, které Posl. sněmovna schválila, čl. 48 Úst. Nebo čl. 46 odst. 1 a 3 Úst.. Senát může sám přijímat tzv. zákonná opatření, čl. 33 Ú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reativní pravomoci: ta se projevuje ve volbě prezidenta, projevu důvěry vládě, nebo souhlasu senátu s návrhy prezidenta na ústavní soudce, personální obsazení svých vnitřních orgánů, čl. 29 Úst..  Výbory a komise, čl. 31 Ú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ontrolní pravomoci: tvorba vyšetřovacích komisí.</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bj. vol. Právo je souhrn organizačních institutů a volebních procesů.</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bj. vol. Právo je souhrn organizačních institutů a volebních proces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ubj. Volební právo, účast na demokratickém vytváření reprezentativních orgánů</a:t>
            </a:r>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bj. vol. Právo je souhrn organizačních institutů a volebních proces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ubj. Volební právo, účast na demokratickém vytváření reprezentativních orgán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ces a postup voleb, např. zákon o volbách do parlamentu</a:t>
            </a:r>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bj. vol. Právo je souhrn organizačních institutů a volebních proces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ubj. Volební právo, účast na demokratickém vytváření reprezentativních orgán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Řád: Proces a postup vol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by do parlamentu upravuje zákon č. 247/1995 Sb.</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litická strana, obč. sdružení, petiční výbor</a:t>
            </a:r>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Územní jednotky vytvářené pro účel voleb,  seznamy zajišťují rovnost volebního práva, zvláštní seznam voličů: pokud není trvalý pobyt v ČR, v nemocnici porodnici, sanatoriu, ve vazbě, voličský průka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Územní jednotky vytvářené pro účel voleb,  seznamy zajišťují rovnost volebního práva, zvláštní seznam voličů: pokud není trvalý pobyt v ČR, v nemocnici porodnici, sanatoriu, ve vazbě, voličský průka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ební komise: zodpovědnost za zdárný průběh voleb, vždy působí ústřední volební komise, stanoví volební zákony tvorbu a ustanove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Územní jednotky vytvářené pro účel voleb, informování o volbách,   seznamy zajišťují rovnost volebního práva, zvláštní seznam voličů: pokud není trvalý pobyt v ČR, v nemocnici porodnici, sanatoriu, ve vazbě, voličský průka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ební komise: zodpovědnost za zdárný průběh voleb, vždy působí ústřední volební komise, stanoví volební zákony tvorbu a ustanove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 volby do Poslanecké sněmovny se tvoří volební kraje § 27 zákona, pro volby do senátu se vytváří 81 jednomandátových volebních obvod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parlamentu české občanství, překážky do parlamentu jsou: zbavení či omezení způsobilosti k právním úkonům §§ 10 a 855 občanského zákoníka, není definitivní rozhodnutí, do obecních zastupitelstev dále: omezení svobody z důvodu výkonu trestu odnětí svobody, výkon základní nebo náhradní voj služby</a:t>
            </a:r>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parlamentu české občanství, překážky do parlamentu jsou: zbavení či omezení způsobilosti k právním úkonům §§ 10 a 855 občanského zákoníka, není definitivní rozhodnutí, do obecních zastupitelstev dále: omezení svobody z důvodu výkonu trestu odnětí svobody, výkon základní nebo náhradní voj služ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ivní, 18 do obecních zastupitelstev, 21 do parlamentu, 40 let do senátu,čl. 19 Úst.</a:t>
            </a:r>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yhlášení je pravomocí prezidenta republiky, do 90 dnů pře jejich konáním, čl. 63 odst. 2 a 3 Ústavy, spolu s vládním činitelem, obec vyhlašuje volby 15 dnů přede dnem konání, vyhláška o místu a době konání voleb, den voleb je ze zákona interpretován a rozložen do 2 dnů, přenosná volební schránka, 2 členové volební komise, </a:t>
            </a:r>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hlášení je pravomocí prezidenta republiky, do 90 dnů pře jejich konáním, čl. 63 odst. 2 a 3 Ústavy, spolu s vládním činitelem, obec vyhlašuje volby 15 dnů přede dnem konání, vyhláška o místu a době konání voleb, den voleb je ze zákona interpretován a rozložen do 2 dnů, přenosná volební schránka, 2 členové volební kom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Ustanovení volebních komisí, politické strany nebo koalice podá návrhy na členy volební komise, pro volby do Posl. sněmovny se vytvářejí tzv. krajské volební komise, do senátu tzv. obvodní volební komise, návrhy se podávají 60 dnů před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andidátní listiny se předkládají 60 dnů předem komisím krajské a obvodní, v další fázi jedná ústřední volební komise, všechny komise kontrolují splnění podmínek stran koalic a kandidátů, stížnosti na činnost krajské a obvodní volební komise se podává na ústřední volební komisi. Ústřední volební komise učiní zápis kandidáta a poté vyrozumí komisi krajskou nebo obvodní, ty zaregistrují poté kandidující subje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ákony stanoví postup volebních komisí před hlasováním, v průběhu hlasování a poté vyhlášení výsledků, komise zjišťuje výsledky hlasování a činí o tom zápis, ústřední volební komise zjišťuje celkové výsledky voleb a tyto vyhlašuje do obou komor, poté vydává do 1 měsíce osvědčení o zvolení. </a:t>
            </a: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hlášení je pravomocí prezidenta republiky, do 90 dnů pře jejich konáním, čl. 63 odst. 2 a 3 Ústavy, spolu s vládním činitelem, obec vyhlašuje volby 15 dnů přede dnem konání, vyhláška o místu a době konání voleb, den voleb je ze zákona interpretován a rozložen do 2 dnů, přenosná volební schránka, 2 členové volební kom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Ustanovení volebních komisí, politické strany nebo koalice podá návrhy na členy volební komise, pro volby do Posl. sněmovny se vytvářejí tzv. krajské volební komise, do senátu tzv. obvodní volební komise, návrhy se podávají 60 dnů před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andidátní listiny se předkládají 60 dnů předem komisím krajské a obvodní, v další fázi jedná ústřední volební komise, všechny komise kontrolují splnění podmínek stran koalic a kandidátů, stížnosti na činnost krajské a obvodní volební komise se podává na ústřední volební komisi. Ústřední volební komise učiní zápis kandidáta a poté vyrozumí komisi krajskou nebo obvodní, ty zaregistrují poté kandidující subje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ákony stanoví postup volebních komisí před hlasováním, v průběhu hlasování a poté vyhlášení výsledků, komise zjišťuje výsledky hlasování a činí o tom zápis, ústřední volební komise zjišťuje celkové výsledky voleb a tyto vyhlašuje do obou komor, poté vydává do 1 měsíce osvědčení o zvolen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olební aritmetika: poměřný systém, většinový systém, str. 287</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legiální – vláda, předseda, monokratické – prezident, monarcha, jiné - soud</a:t>
            </a: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hlášení je pravomocí prezidenta republiky, do 90 dnů pře jejich konáním, čl. 63 odst. 2 a 3 Ústavy, spolu s vládním činitelem, obec vyhlašuje volby 15 dnů přede dnem konání, vyhláška o místu a době konání voleb, den voleb je ze zákona interpretován a rozložen do 2 dnů, přenosná volební schránka, 2 členové volební kom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Ustanovení volebních komisí, politické strany nebo koalice podá návrhy na členy volební komise, pro volby do Posl. sněmovny se vytvářejí tzv. krajské volební komise, do senátu tzv. obvodní volební komise, návrhy se podávají 60 dnů před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andidátní listiny se předkládají 60 dnů předem komisím krajské a obvodní, v další fázi jedná ústřední volební komise, všechny komise kontrolují splnění podmínek stran koalic a kandidátů, stížnosti na činnost krajské a obvodní volební komise se podává na ústřední volební komisi. Ústřední volební komise učiní zápis kandidáta a poté vyrozumí komisi krajskou nebo obvodní, ty zaregistrují poté kandidující subje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ákony stanoví postup volebních komisí před hlasováním, v průběhu hlasování a poté vyhlášení výsledků, komise zjišťuje výsledky hlasování a činí o tom zápis, ústřední volební komise zjišťuje celkové výsledky voleb a tyto vyhlašuje do obou komor, poté vydává do 1 měsíce osvědčení o zvolen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olební aritmetika: poměřný systém, většinový systém, str. 287</a:t>
            </a: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Ústavní stížnost proti rozhodnutí soudu v posledním prostředku, nebo opravný prostředek ve věci ověření volby poslance nebo senátora, Str. 290 Klíma</a:t>
            </a: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ožnost podat návrh zákojna mají poslanec, skupina poslanců, senát, vláda a zastupitelstvo vyššího územního samosprávného celku čl. 41 odst. 2 Ústavy, v případě návrhu o státní rozpočtu je navrhovatelem pouze vlá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vrh zákona je doručen vládě, ta se k němu může do 30ti dnů vyjádřit, pokud tak neučiní, vzniká fikce souhlasu, čl. 44 Úst., </a:t>
            </a: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ožnost podat návrh zákojna mají poslanec, skupina poslanců, senát, vláda a zastupitelstvo vyššího územního samosprávného celku čl. 41 odst. 2 Ústavy, v případě návrhu o státní rozpočtu je navrhovatelem pouze vlá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vrh zákona je doručen vládě, ta se k němu může do 30ti dnů vyjádřit, pokud tak neučiní, vzniká fikce souhlasu, čl. 44 Úst., </a:t>
            </a: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chválení probíhá dle čl. 39 odst. 1 a 2 Ústavy, konkretizace v §§ 86 násl. Zákona o jednacím řádu Posl. Sněmovny, č90/1995 Sb., 1. čtení: zákon uvede navrhovatel  a posléze vystoupí zpravodaj, koná se obecná rozprava, 2 . čtení: obecná rozprava a přechod k rozpravě podrobné, zde se předkládají pozměňovací popřípadě jiné návrhy, 3. čtení se týká pouze návrhů na opravu gramatickou, technickou, písemnou, tiskovou, logickou, závěrem je hlasování. Schválená zákon se předá senátu s 30ti denní lhůtou senátu. Str. 301 a 302 Klíma. </a:t>
            </a:r>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ožnost podat návrh zákona mají poslanec, skupina poslanců, senát, vláda a zastupitelstvo vyššího územního samosprávného celku čl. 41 odst. 2 Ústavy, v případě návrhu o státní rozpočtu je navrhovatelem pouze vlá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vrh zákona je doručen vládě, ta se k němu může do 30ti dnů vyjádřit, pokud tak neučiní, vzniká fikce souhlasu, čl. 44 Ú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chválení probíhá dle čl. 39 odst. 1 a 2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enát projednává: schválí zákon ve lhůtě do 30ti dnů, čí zamítne, vrátí poslanecké sněmovně nebo vyjádří vůli se jím nezabývat, resp. se nevyjádří ve lhůtě,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lední 2 případy jsou fikcí souhlasu, čl. 45 a 46 odst. 3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V případě zamítnutí -  čl. 47 odst. 1 – veta senátem, může posl. sněmovna přehlasovat nadpoloviční většinou všech poslanc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případě vrácení hlasuje poslanecká sněmovna v novém znění a jejím možným usnesením je tento návrh přijat, v případě že sněmovna nesouhlasí s pozměňovacím návrhem, je hlasováno o původním svém textu a tentokrát nadpoloviční většinou všech poslanců může být zákon definitivně přijat, čl. 47 odst. 2 a 3 Ústavy</a:t>
            </a: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ožnost podat návrh zákona mají poslanec, skupina poslanců, senát, vláda a zastupitelstvo vyššího územního samosprávného celku čl. 41 odst. 2 Ústavy, v případě návrhu o státní rozpočtu je navrhovatelem pouze vlá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vrh zákona je doručen vládě, ta se k němu může do 30ti dnů vyjádřit, pokud tak neučiní, vzniká fikce souhlasu, čl. 44 Ú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chválení probíhá dle čl. 39 odst. 1 a 2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enát projednává: schválí zákon ve lhůtě do 30ti dnů, čí zamítne, vrátí poslanecké sněmovně nebo vyjádří vůli se jím nezabývat, resp. se nevyjádří ve lhůtě,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lední 2 případy jsou fikcí souhlasu, čl. 45 a 46 odst. 3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V případě zamítnutí -  čl. 47 odst. 1 – veta senátem, může posl. sněmovna přehlasovat nadpoloviční většinou všech poslanc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případě vrácení hlasuje poslanecká sněmovna v novém znění a jejím možným usnesením je tento návrh přijat, v případě že sněmovna nesouhlasí s pozměňovacím návrhem, je hlasováno o původním svém textu a tentokrát nadpoloviční většinou všech poslanců může být zákon definitivně přijat, čl. 47 odst. 2 a 3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ezident republiky, čl. 50 Ústavy, přehlasování posl. sněmovnou</a:t>
            </a:r>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ožnost podat návrh zákona mají poslanec, skupina poslanců, senát, vláda a zastupitelstvo vyššího územního samosprávného celku čl. 41 odst. 2 Ústavy, v případě návrhu o státní rozpočtu je navrhovatelem pouze vlá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vrh zákona je doručen vládě, ta se k němu může do 30ti dnů vyjádřit, pokud tak neučiní, vzniká fikce souhlasu, čl. 44 Ú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chválení probíhá dle čl. 39 odst. 1 a 2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enát projednává: schválí zákon ve lhůtě do 30ti dnů, čí zamítne, vrátí poslanecké sněmovně nebo vyjádří vůli se jím nezabývat, resp. se nevyjádří ve lhůtě,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lední 2 případy jsou fikcí souhlasu, čl. 45 a 46 odst. 3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V případě zamítnutí -  čl. 47 odst. 1 – veta senátem, může posl. sněmovna přehlasovat nadpoloviční většinou všech poslanc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případě vrácení hlasuje poslanecká sněmovna v novém znění a jejím možným usnesením je tento návrh přijat, v případě že sněmovna nesouhlasí s pozměňovacím návrhem, je hlasováno o původním svém textu a tentokrát nadpoloviční většinou všech poslanců může být zákon definitivně přijat, čl. 47 odst. 2 a 3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ezident republiky, čl. 50 Ústavy, přehlasování posl. Sněmovn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hlášení zákona, podpis předsedou sněmovny, prezidentem republiky a v případě přehlasování dle čl. 47 odst. 1 a 3 Ú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99 zákona o jednacím řádu, stav nouze, urychlené přijímání nore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cní zastup., akademická obec</a:t>
            </a:r>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zident nemůže být stíhán sankčně, čl. 63 odst. 4 úst., vláda odpovídá za rozhodovací činnost, prezident se může dopustit velezrady, § 96 zákona o úst. soudu, č. 182/1993 Sb., návaznost mají čl. 65 odst. 2 a čl. 87 odst. 1 g úst.,  prezident republiky má imunitu, nesmí být trestně stíhán, zadržen atd.. </a:t>
            </a: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ezident nemůže být stíhán sankčně, čl. 63 odst. 4 úst., vláda odpovídá za rozhodovací činnost, prezident se může dopustit velezrady, § 96 zákona o úst. soudu, č. 182/1993 Sb., návaznost mají čl. 65 odst. 2 a čl. 87 odst. 1 g úst.,  prezident republiky má imunitu, nesmí být trestně stíhán, zadržen a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olba: spolu s jednacím řádem Posl. sněmovny §§ 80 a 81, čl. 2 přílohy č. 2 k jednacímu řádu.  </a:t>
            </a:r>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ezident nemůže být stíhán sankčně, čl. 63 odst. 4 úst., vláda odpovídá za rozhodovací činnost, prezident se může dopustit velezrady, § 96 zákona o úst. soudu, č. 182/1993 Sb., návaznost mají čl. 65 odst. 2 a čl. 87 odst. 1 g úst.,  prezident republiky má imunitu, nesmí být trestně stíhán, zadržen at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olba: spolu s jednacím řádem Posl. sněmovny §§ 80 a 81, čl. 2 přílohy č. 2 k jednacímu řádu – zde tajné i veřejné hlasování.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andidát, který má nadpoloviční většinu hlasů všech poslanců a hlasů všech senátorů</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o druhého kola postupují kandidáti z „každé komory“, zvolen je ten, kdo získá nadpoloviční většinu hlasů přítomných poslanců a nadpoloviční většinu hlasů přítomných senátorů</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volen je ten, kdo získá nadpoloviční většinu hlasů přítomných poslanců a senátorů </a:t>
            </a: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ezident nemůže být stíhán sankčně, čl. 63 odst. 4 úst., vláda odpovídá za rozhodovací činnost, prezident se může dopustit velezrady, § 96 zákona o úst. soudu, č. 182/1993 Sb., návaznost mají čl. 65 odst. 2 a čl. 87 odst. 1 g úst.,  prezident republiky má imunitu, nesmí být trestně stíhán, zadržen at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olba: spolu s jednacím řádem Posl. sněmovny §§ 80 a 81, čl. 2 přílohy č. 2 k jednacímu řádu – zde tajné i veřejné hlasování.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andidát, který má nadpoloviční většinu hlasů všech poslanců a hlasů všech senátorů</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o druhého kola postupují kandidáti z „každé komory“, zvolen je ten, kdo získá nadpoloviční většinu hlasů přítomných poslanců a nadpoloviční většinu hlasů přítomných senátorů</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volen je ten, kdo získá nadpoloviční většinu hlasů přítomných poslanců a senátorů </a:t>
            </a: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ezident nemůže být stíhán sankčně, čl. 63 odst. 4 úst., vláda odpovídá za rozhodovací činnost, prezident se může dopustit velezrady, § 96 zákona o úst. soudu, č. 182/1993 Sb., návaznost mají čl. 65 odst. 2 a čl. 87 odst. 1 g úst.,  prezident republiky má imunitu, nesmí být trestně stíhán, zadržen at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olba: spolu s jednacím řádem Posl. sněmovny §§ 80 a 81, čl. 2 přílohy č. 2 k jednacímu řádu – zde tajné i veřejné hlasování.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andidát, který má nadpoloviční většinu hlasů všech poslanců a hlasů všech senátorů</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o druhého kola postupují kandidáti z „každé komory“, zvolen je ten, kdo získá nadpoloviční většinu hlasů přítomných poslanců a nadpoloviční většinu hlasů přítomných senátorů</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volen je ten, kdo získá nadpoloviční většinu hlasů přítomných poslanců a senátorů </a:t>
            </a:r>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ýlučné znamená, že prezident je vykonává nezávisle na vládní moci, jmenuje a odvolává předsedu vlády, přijímá demisi, jmenuje soudce Ústav. soudu,  se souhlasem senátu jeho předsedu a místopředsedu.</a:t>
            </a: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ýlučné znamená, že prezident je vykonává nezávisle na vládní moci, jmenuje a odvolává předsedu vlády, přijímá demisi, jmenuje soudce Ústav. soudu,  se souhlasem senátu jeho předsedu a místopředsedu.</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ntrasignované, je potřeba spolupodpisu předsedy vlády, např.: prezident zastupuje stát navenek, sjednávání a ratifikace mezinárodních smluv, je vrchním velitelem ozbrojených si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římá nebo zprostředkovaná subjektivita</a:t>
            </a:r>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ní možné zasahovat do pravomocí prezidenta dle čl. 62 Úst., vláda může dle čl. 78 Úst. vydávat nařízení k provedení zákona, a v jeho mezích, dle obecného zmocnění, nebo dle konkrétního zmocnění v daném zákoně, má tedy i normotvornou pravomoc, tato nařízení musí být v souladu s ústavou, zákony a mezinárodními smlouvami, součástí jsou ministerstva, ta mohou vydávat právní předpisy, jedná se v obou případech o podzákonné normy.</a:t>
            </a:r>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ní možné zasahovat do pravomocí prezidenta dle čl. 62 Úst., vláda může dle čl. 78 Úst. vydávat nařízení k provedení zákona, a v jeho mezích, dle obecného zmocnění, nebo dle konkrétního zmocnění v daném zákoně, má tedy i normotvornou pravomoc, tato nařízení musí být v souladu s ústavou, zákony a mezinárodními smlouvami, součástí jsou ministerstva, ta mohou vydávat právní předpisy, jedná se v obou případech o podzákonné normy.</a:t>
            </a:r>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ní možné zasahovat do pravomocí prezidenta dle čl. 62 Úst., vláda může dle čl. 78 Úst. vydávat nařízení k provedení zákona, a v jeho mezích, dle obecného zmocnění, nebo dle konkrétního zmocnění v daném zákoně, má tedy i normotvornou pravomoc, tato nařízení musí být v souladu s ústavou, zákony a mezinárodními smlouvami, součástí jsou ministerstva čl. 79 Úst., ta mohou vydávat právní předpisy, jedná se v obou případech o podzákonné no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átní zastupitelství, orgán zastupující veřejnou žalobu v trestní řízení  </a:t>
            </a:r>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ákon č. 182/1993 Sb., organizace ú. soudu, platové podmínky, řízení před ním, kárná řízení </a:t>
            </a:r>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Ústavní soud: Čl. 83 – 89 Ústavy, Úst. Soud je výlučným orgánem, např. přezkoumání zákonů, zda jsou v souladu s Ústavou, pojem ochrany ústavnosti není definován, vykládá se na základě pravomocí a věcné působnosti, je to souhrn prostředků k zjištění a dodržování práv a působnosti subjektů ústavního práva, normativním základem ochrany ústavnosti je především Ústava a ústavní zákony a Listina základních práv a svo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dy – čl. 90-96 Ústavy, </a:t>
            </a:r>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Ústavní soud zaručuje ochranu ústavnosti Ústavní soudy zaručují ochranu ústavnosti : Čl. 83 – 89 Ústavy, Úst. Soud je výlučným orgánem, např. přezkoumání zákonů, zda jsou v souladu s Ústavou, pojem ochrany ústavnosti není definován, vykládá se na základě pravomocí a věcné působnosti, je to souhrn prostředků k zjištění a dodržování práv a působnosti subjektů ústavního práva, normativním základem ochrany ústavnosti je především Ústava a ústavní zákony a Listina základních práv a svo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cné Soudy – čl. 90 – 96 Ústavy, pojem ochrany práv utvrzuje čl. 90 Ústavy, má se jím na mysli: zajistit právo každému, tedy fyzické osobě, čl. 36 Listiny, záruku, že pouze soud rozhoduje o vině a trestu za trestné činy a že budou dodržena pravidla v čl. 40 Listiny, </a:t>
            </a:r>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Čl. 83 – 89 Ústavy, Úst. Soud je výlučným orgánem, např. přezkoumání zákonů, zda jsou v souladu s Ústavou, pojem ochrany ústavnosti není definován, vykládá se na základě pravomocí a věcné působnosti, je to souhrn prostředků k zjištění a dodržování práv a působnosti subjektů ústavního práva, normativním základem ochrany ústavnosti je především Ústava a ústavní zákony a Listina základních práv a svo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cné soudy – čl. 90 – 96 Ústavy, pojem ochrany práv utvrzuje čl. 90 Ústavy, má se jím na mysli: zajistit právo každému, tedy fyzické osobě, čl. 36 Listiny, záruku, že pouze soud rozhoduje o vině a trestu za trestné činy a že budou dodržena pravidla v čl. 40 Li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ázanost: Soudce Ústavního soudu je vázán pouze ústavními zákony, mezinárodními smlouvami podle čl. 10 ústavy, zákonem o ústavním soudu, čl. 88 odst. 2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dce obecného soudu je vázán zákonem, soudce má možnost posoudit souladnost zákona, který aplikuje s ústavním zákonem, v případě pochybností o souladu zákona s ústavním zákonem předloží věc ústavním soudu, čl. 95 ústavy, plénum, senáty, jsou tedy 2 organizační subjekty Ústavního sou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jímavost, Ústavní soud má předsedu a místopředsedu, to plyne z čl. 62 písm. E , k jejich jmenování není potřeba kontrasignace vládou, to plyne z čl. 84 odst. 2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énum a senát, Ústavní soud má tedy 2 organizační subjekty, plénum tvoří všichni soudci, stačí 10 z 15, senáty 4 ze 3 soudců</a:t>
            </a:r>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Ústavní soud je orgánem výlučným, vertikální soustavu tvoří obecné soudy, zde pouze obecné soudy. Ústava upravuje i krajské okresní, vrchní soudy, zákon může stanovit jejich jiná označení, ústava vylučuje jiné mimořádné so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Nejvyšší soud (správní) rozhoduje o mimořádných opravných prostředcích proti rozhodnutí vrchních soudů, zaujímá stanoviska k výkladu zákona a jiných předpisů, rozhoduje i o vykanatelnosti rozhodnutí cizozemských soudů na území ČR, tvoří jej kolegia trestní, vojenské, občansko právní a obchodn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rchní soud rozhoduje o mimořádných opravných prostředcích, zaujímá stanoviska k výkladu zákona a jiných právních předpisů, má kolegia trestní, vojenské, občanskoprávní, obchodní a správní.</a:t>
            </a:r>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alog je v čl. 87 určuje věcnou působnost, ve spojitosti s uvedenými působnostmi, § 64 zákona o ústavním soudě, § 72 zákona o úst. soudě. Probrat zbývající katalogová čísla.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bodu 2 -Např. čl. 11 odst. 1  a 5 listiny, str. 17 ÚZ 521, potřeba zák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bodu 4,úprava veřejné moci probíhá normami ústavního práva a správního práva, např.  volební zákony, zákon o jednacím řádu parlamentu, zák. o politických stranách, o Ústav. Sou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alog je v čl. 87 určuje věcnou působnost, ve spojitosti s uvedenými působnostmi, § 64 zákona o ústavním soudě, § 72 zákona o úst. soudě. Probrat zbývající katalogová čísla. </a:t>
            </a:r>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dná se zásadně na návrh, návrh podávají strany s aktivní legitimací, případ v § 78 odst. 2 zákona o ústavním soudě, kdy návrh pro plénum může vzejít ze senátu, návrh musí dodržovat náležitosti formální, § 34 zákona o ústavním soudě </a:t>
            </a:r>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dná se zásadně na návrh, návrh podávají strany s aktivní legitimací, případ v § 78 odst. 2 zákona o ústavním soudě, kdy návrh pro plénum může vzejít ze senátu, návrh musí dodržovat náležitosti formální, § 34 zákona o ústavním soud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Účastnící navrhovatel, §§ 29, 30 zákona č. 182/1992 Sb. – zákon o ústavní soudě</a:t>
            </a:r>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á se zásadně na návrh, návrh podávají strany s aktivní legitimací, případ v § 78 odst. 2 zákona o ústavním soudě, kdy návrh pro plénum může vzejít ze senátu, návrh musí dodržovat náležitosti formální, § 34 zákona o ústavním soud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Účastnící navrhovatel, §§ 29, 30, 32 zákona č. 182/1992 Sb. – zákon o ústavní soud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prava: přezkoumání, zda jsou dodržené lhůty, zda se podílejí oprávnění účastnící, zda je soud příslušný, zda je opodstatněný, je li podán přípustný návrh, rozhoduje soudce zpravodaj dle § 43 zákona o 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á se zásadně na návrh, návrh podávají strany s aktivní legitimací, případ v § 78 odst. 2 zákona o ústavním soudě, kdy návrh pro plénum může vzejít ze senátu, návrh musí dodržovat náležitosti formální, § 34 zákona o ústavním soud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Účastnící navrhovatel, §§ 29, 30, 32 zákona č. 182/1992 Sb. – zákon o ústavní soud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prava: přezkoumání, zda jsou dodržené lhůty, zda se podílejí oprávnění účastnící, zda je soud příslušný, zda je opodstatněný, je li podán přípustný návrh, rozhoduje soudce zpravodaj dle § 43 zákona o 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ání je ústní –platí pro všechny věcné působnosti v čl. 87 odst. 1 - a veřejné, doručení předvolání, soudce zpravodaj sdělí nejprve návrh, výsledky dosavadního říze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á se zásadně na návrh, návrh podávají strany s aktivní legitimací, případ v § 78 odst. 2 zákona o ústavním soudě, kdy návrh pro plénum může vzejít ze senátu, návrh musí dodržovat náležitosti formální, § 34 zákona o ústavním soud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Účastnící navrhovatel, §§ 29, 30, 32 zákona č. 182/1992 Sb. – zákon o ústavní soud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prava: přezkoumání, zda jsou dodržené lhůty, zda se podílejí oprávnění účastnící, zda je soud příslušný, zda je opodstatněný, je li podán přípustný návrh, rozhoduje soudce zpravodaj dle § 43 zákona o 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ání je ústní –platí pro všechny věcné působnosti v čl. 87 odst. 1 - a veřejné, doručení předvolání, soudce zpravodaj sdělí nejprve návrh, výsledky dosavadního říze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okazování  při ústním jednání nebo mimo toto jedná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Jedná se zásadně na návrh, návrh podávají strany s aktivní legitimací, případ v § 78 odst. 2 zákona o ústavním soudě, kdy návrh pro plénum může vzejít ze senátu, návrh musí dodržovat náležitosti formální, § 34 zákona o ústavním soudě.</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Účastnící navrhovatel, §§ 29, 30, 32 zákona č. 182/1992 Sb. – zákon o ústavní soudě</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Příprava: přezkoumání, zda jsou dodržené lhůty, zda se podílejí oprávnění účastnící, zda je soud příslušný, zda je opodstatněný, je li podán přípustný návrh, rozhoduje soudce zpravodaj dle § 43 zákona o ú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Jednání je ústní –platí pro všechny věcné působnosti v čl. 87 odst. 1 - a veřejné, doručení předvolání, soudce zpravodaj sdělí nejprve návrh, výsledky dosavadního řízen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Dokazování  při ústním jednání nebo mimo toto jednán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Rozhodnutí, Nález a Usnesení, Nálezem se rozhoduje ve věci samé, nález je interpretace ústavního textu, musí mít náležitosti : výrok, odůvodnění a poučení, jiná rozhodnutí jsou usnesení, § 54 zákona o ú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Ústavní soud rozhoduje v plénu, senátech nebo soudce zpravodaj, §§ 11,15 zákona o ús.  Plénum rozhoduje většinou za přítomnosti alespoň 10 soudců, kvalifikovaná většina je potřeba v případech čl. 87 odst. 1 písm. a,g h..  To plyne z § 13 zákona o úst. soudě.</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Náklady řízení nepodléhají soudním poplatkům, hradí se z rozpočtu ústavního soudu, např.: důkazy a tlumočení, náklady účastníka nebo vedlejšího účastníka hradí tento sám, § 62 zákona o ú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040"/>
            <a:ext cx="5486400" cy="4476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á se zásadně na návrh, návrh podávají strany s aktivní legitimací, případ v § 78 odst. 2 zákona o ústavním soudě, kdy návrh pro plénum může vzejít ze senátu, návrh musí dodržovat náležitosti formální, § 34 zákona o ústavním soudě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an J. H. byl aktivně legitimován k tomu, aby podal ústavní stížnost, a rovněž splnil podmínku řádného právního zastoupe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hůta – novela č. 83/2004 Sb. – 60 dnů od doručení rozhodnutí o mimořádném opravném prostředku (dovolá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čerpání všech  procesních prostředků v trestním řízení – pravomocné rozhodnutí ve druhém stupni, zbývá podat dovolání dle § 265a a násl. trestního řádu, lhůta 2 měsíce od doručení rozhodnutí, proti kterému bude směřovat.Teprve v případě neúspěšného dovolání k Nejvyššímu soudu CR je možné podat ústavní stížnost k Ústavnímu soudu ČR. Absence podání dovolání bude Ústavním soudem posouzena jako nesplnění podmínek přípustnosti ústavní stížnosti dle § 72 odst. 3 zákona o Ústavním soud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licie získala důkaz z registrace telekomunikačního provozu před sdělením obvinění, nemohlo se jednat o neodkladný úk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chrana tajemství zpráv podávaných telefonem zakládá i ochranu dalších údaj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1 , trestní prá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 2. podnikatelské aktivity, soukromoprávní obsah ústavněprávních nor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cné, např. čl. 2 odst. 1 Listiny, stát je založen na demokratických hodnotách</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cné, např. čl. 2 odst. 1 Listiny, stát je založen na demokratických hodnotá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ovící práva, čl. 19 odst. 1 listiny, právo pokojně se sdružovat je zaručen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becné, např. čl. 2 odst. 1 Listiny, stát je založen na demokratických hodnotá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tanovící práva, čl. 19 odst. 1 listiny, právo pokojně se sdružovat je zaručeno, pravidla chování, občan musí dodržovat pravidla pro realizaci svých práv, v opačném případě hrozí sankce v jiném právním předpisu, normy se sankcí v ústavě jsou např. čl. 59, ten má kompletní strukturu, tedy hypotézu, dispozici a sank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onstitutivní, největší část ústavy,  hlava 2 – 7 ústavy, základem je constitutio, zřizovat instituce, jejich strukturu, vznik , způsob vzniku, pravomoc, působnost, vztahy vzájemné, metody činnosti, souhrnem: organizaci mechanismu veřejné moci</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literatuře jsou pokusy o vyčleňování norem a jejich třídění</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4innost: Např. čl. 60 Ústavy o slibu prezidenta, činnost by měla být předpokládána Ústav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dpovědnost směřuje k realizaci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incipy: vztahy veřejné moci a postavení individu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ank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1.Zrušení zákona nesouladného s Ústavou, čl. 87 odst. 1 písm.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Odvolání orgánu, kdy ústavní orgán, nenaplní podmínky odpovědnosti, čl. 75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Rozpuštění orgánu čl. 35, rozpuštění Poslanecké sněmov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4. Ztráta mandátu, např. čl.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5. Zrušení výsledku voleb, Ústavním soud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iné sankce: uvolnění z funkce, náprava a opakování postupu, uvedení v předešlí sta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ZOR: Snítilý, problém, jak na něj:</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ealizace Ústavy: vydání právního předpisu, ústavního zákona, zákona, zákonného opatření, obecně závazné vyhlášky, nebo rozhodnutí orgánu čl. 62 Ústavy o pravomoci prez. republiky, kontrolní činnost – čl. 97 Úst. Činnost Nejvyššího kontrolního úřadu, rozhodování sporů podle Ústavy čl. 87 Úst. Pravomoci Ústavního soudu, jednáním ústavních orgánů – čl. 63 odst. 1. písm. a o pravomoci prezidenta zastupovat stát naven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onflikty jsou např: spor o pravomoc nebo působnost stát. orgánu, orgán veřejné správy nepovolí činnost politické strany, obecní orgán zakáže demonstraci, konflikty řeší ústavní soudnictví</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 je ústava živým nástroj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lament, ústavní sou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etody: interpretace soudců ústav. Soudu při výkladu ústavních norem je podobná jako při výkladů norem zákonů, výklady gramatické, systémové, teleologické, historickogenetick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jímavý je také pojem aktualizace pojmů</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etody: interpretace soudců ústav. Soudu při výkladu ústavních norem je podobná jako při výkladů norem zákonů, výklady gramatické, systémové, teleologické, historickogenetick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jímavý je také pojem aktualizace pojmů</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etody: interpretace soudců ústav. Soudu při výkladu ústavních norem je podobná jako při výkladů norem zákonů, výklady gramatické, systémové, teleologické, historickogenetick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jímavý je také pojem aktualizace pojm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oktrinální výklad dle učebnicové literatury, né částečně psaná ústava obyčejů a tradic</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yto ústavy jsou založeny na dělbě moci, upravují soustavu nejvyšších státních orgánů a jejich vztahy, amer. revoluce, franc., anglická. Zakotvení postavení člověka a občana a jeho právní ochranu.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yto ústavy jsou založeny na dělbě moci, upravují soustavu nejvyšších státních orgánů a jejich vztahy, amer. revoluce, franc., anglická. Zakotvení postavení člověka a občana a jeho právní ochran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bod, formování národních států, stí monarchických či republikánských režimů, üstavy utvrzující politické svobody, např. Üstava Norska 181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yhledat na internetu, stačí poznámky</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yto ústavy jsou založeny na dělbě moci, upravují soustavu nejvyšších státních orgánů a jejich vztahy, amer. revoluce, franc., anglická. Zakotvení postavení člověka a občana a jeho právní ochran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bod, formování národních států, stí monarchických či republikánských režimů, üstavy utvrzující politické svobody, např. Üstava Norska 18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od3. Výmarská Republika 1919, Ústava Republiky Československé 1920, parlamentní demokracie, politická práva občanů, svobodu sdružovací, právo volební</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yto ústavy jsou založeny na dělbě moci, upravují soustavu nejvyšších státních orgánů a jejich vztahy, amer. revoluce, franc., anglická. Zakotvení postavení člověka a občana a jeho právní ochran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bod, formování národních států, stí monarchických či republikánských režimů, üstavy utvrzující politické svobody, např. Üstava Norska 18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od3. Výmarská Republika 1919, Ústava Republiky Československé 1920, parlamentní demokracie, politická práva občanů, svobodu sdružovací, právo voleb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od 4, zde jsopu základní 4 etapy, 1. vznik poválečných demokratických režimů v zemích s totalitárním režimem Itálie, vznik lidově demokratických států 1945-1949 Československo 2. Šedesátá léta vznik nových států v Africe, 3. Sedmdesátá léta, pád evropských diktatur v Řecku, Portugalsku Španělsku 4. Rozpad reálného socialismu SSSR, vznik států nových, obnova demokratických institucí</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částí světově uznávané ústavní koncepc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ou částí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sanou částí britské ústavy jsou zákony, které upravují vztahy mezi součástmi Spoj. Království, mezi nejvyššími státními orgány, ale i dokumenty upravující práva občanů: Bill of Rights 1689, Magna Charta Libertatum 121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olat jindy</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8 vznik – prozatímní ústava do roku 1920, po roce 1989 ČSFR přechodový systém – zánik 1992 prosinec, od 1993 Č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ztah obcan obcan, vztah instituce obcan, řešením pro soukromé do té míry, že udává pozici individua k státu a tím i pozici individuí k sob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Ústava ČR – z. č. 1.1993 Sb. + Listina ZPS – z. č. 2/1993 Sb. – tzv. ústavní pořádek ČR</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Č. 541/1992 Sb., 542/1992 Sb., samozřejmě i slovenská ústava  ze září 1992, ta platila paralelně s existující federací, paradox ústavního práva, měl proběhnout přechod poslanců federálního parlamentu do republikových parlamentů , došlo ovšem jen k převzetí k převzetí národní rady, ne k převzetí poslanců bývalého federálního parlamentu, za ČSFR byly národní rady česká a slovenská a federální parla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 potřeba brát v potaz recepční zákon 4/1993 Sb. ,který měl založit novou ústavní situaci od 1.1.1993 pro případ, že by ČNRada nepřijala novou ústavu, jak se dne 16.12.1992 s platností od 1.1.1993 stal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zpor mezi zákony, které ukončily platnost ČSFR a novou ústavou. Převzetí působnosti ústavního soudu ČSFR na nejvyšší soud ČR, ústava převedla všechny soudce soudů České republiky do nového ústavního systému nové ústavy, počítalo se pouze s převzetím pracovníků kancelář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čl. 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územní čl. 112 odst.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ávní čl. 112 odst. 2,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částí je i Listina zákl. práv a svo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jímavý je i článek 106, o převzetí zákonodárc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c zákonodárná, výkonnou a soudní, tedy struktura státní moci</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c zákonodárná, výkonnou a soudní, tedy struktura státní moci</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lava II – IV Moc zákonodárná, výkonnou a soudní, tedy struktura státní mo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lava V, nejvyšší kontrolní úř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II – IV Moc zákonodárná, výkonnou a soudní, tedy struktura státní mo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V, nejvyšší kontrolní úř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VI, 4eská nár. ba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II – IV Moc zákonodárná, výkonnou a soudní, tedy struktura státní mo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V, nejvyšší kontrolní úř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VI, 4eská nár. ba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II – IV Moc zákonodárná, výkonnou a soudní, tedy struktura státní mo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V, nejvyšší kontrolní úř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VI, 4eská nár. ba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lava I, základní ustanovení, hlavní město, občanství atd… 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Ústava 1. místo ústavního pořád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nterpretační základ ústavního systém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Čl. 112 ú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bírka zákonů je: dopl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 dualisticke pojeti a monisticke, dualistické znamená, že mezinarodni a narodni systémy jsou oddelene, pote je potreba transformace, v pripade monisticke teorie jde o jeden systém s ruznymi prioritami norem, Pokud ústava obsahuje normy, které zavazují z mezinárodněprávního hlediska či zda je neobsahuje nebo nepřipouští, potom uzavřený systé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Čl. 10, upravuje závaznost mezinárodních smluv, pokud se týkají lidských práv a svo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Čl. 10 inkorporuje smlouvy do ústavního systému, tyto smlouvy jsou závazné pro normy s nižší právní sílo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ká definice, historická definice, normativně právní definice, </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ud ústava obsahuje normy, které zavazují z mezinárodněprávního hlediska či zda je neobsahuje nebo nepřipouští, potom uzavřený systé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Čl. 10, upravuje závaznost mezinárodních smluv, pokud se týkají lidských práv a svo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Čl. 10 inkorporuje smlouvy do ústavního systému, tyto smlouvy jsou závazné pro normy s nižší právní sílou</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ud ústava obsahuje normy, které zavazují z mezinárodněprávního hlediska či zda je neobsahuje nebo nepřipouští, potom uzavřený systé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Čl. 10, upravuje závaznost mezinárodních smluv, pokud se týkají lidských práv a svo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Čl. 10 inkorporuje smlouvy do ústavního systému, tyto smlouvy jsou závazné pro normy s nižší právní sílou</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ud ústava obsahuje normy, které zavazují z mezinárodněprávního hlediska či zda je neobsahuje nebo nepřipouští, potom uzavřený systé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Čl. 10, upravuje závaznost mezinárodních smluv, pokud se týkají lidských práv a svob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Čl. 10 inkorporuje smlouvy do ústavního systému, tyto smlouvy jsou závazné pro normy s nižší právní síl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Ústava tedy uznává závaznost určitého druhu mezinárodních smlu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ř.i  čl. 39 odst. 4 úst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kázat na čl. 10 a, převádění pravomocí na mezinárodní organizace, možnost postoupení kompetence státu na nadnárodní instituce, převedení vnitřní suverenity směrem k ES a příjem nových kompetencí směrem od ES</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ela ustavy, euronovela, integracni zmocneni je ust. zak. 395/2001, ucelem je institucionalni tvor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Ustavni zaklad pro prevod kompetenci na mezinarodni org. nebo instituci je cl. 10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cl. 87 odst. 2 upravuje kontrolu ust. soudu před ratifikaci dle cl. 10a II Ústavy.</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základem pro vyřizováni ústavní stížnosti občan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ce státu, jeho zařazení do globálního systému, jeho poměr k individuu, jeho prostředek k tvorbě norem a řešení, ústava může upravovat i další typy vztahů, ideové a náboženské základy, národní suverenitu, vztah k nadnárodním společenstvím.</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 ústavní postavení člověka a občana je nejdůležitější čl. 1, nezcizitelnost, zásada rovnosti lidí, čl. 2 svoboda člověka, čl. 3 odst. 1 zaručení práv bez ohledu na víru a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 čl 3 ods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 činnost státu je důležité připomenout čl. 2 odst. 2 státní moc se uplatňuje jen v případech stanovených zákonem a způsobem, který zákon stanov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Čl. 4 odst. 1 povinnosti mohou být ukládány jen na základě zákona a v jeho mezí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čl. 4 odst 4 a čl 40 ListinyZáklPaS</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a je závazná pro vnitřní právo ČR. Způsobilost mít práva</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ožnost být svobodně splozen a zrozen, souběžně s eužívá s právem nedotknutelnosti osoby, zákaz trestu smrti, nutná obrana</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Život: Možnost být svobodně splozen a zrozen, souběžně s eužívá s právem nedotknutelnosti osoby, zákaz trestu smrti, nutná ob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edotknutelnost: vydírání, fyzické násilí, psychický teror, zadržování, omezení pouze zákonem, čl. 7 a čl 4 ods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Život: Možnost být svobodně splozen a zrozen, souběžně s eužívá s právem nedotknutelnosti osoby, zákaz trestu smrti, nutná ob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edotknutelnost: vydírání, fyzické násilí, psychický teror, zadržování, omezení pouze zákonem, čl. 7 a čl 4 ods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sobní svoboda: svobodná existence, prosperita člověka, v užším smyslu  i procesní ochrana před zásahy veřejné moci, státních orgánů, stíháni čl. 8 odst. 2, zadržení čl. 8 odst. 3, zatčení čl.8 odst. 4, jedná se o konkrétní normy, je tedy možná přímá aplikace, v praxi si vyžaduje aplikaci ve spojení s trestněprávními normami, zákon o trestním říze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Život: Možnost být svobodně splozen a zrozen, souběžně s eužívá s právem nedotknutelnosti osoby, zákaz trestu smrti, nutná ob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edotknutelnost: vydírání, fyzické násilí, psychický teror, zadržování, omezení pouze zákonem, čl. 7 a čl 4 ods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sobní svoboda: svobodná existence, prosperita člověka, v užším smyslu  i procesní ochrana před zásahy veřejné moci, státních orgánů, stíháni čl. 8 odst. 2, zadržení čl. 8 odst. 3, zatčení čl.8 odst. 4, jedná se o konkrétní normy, je tedy možná přímá aplikace, v praxi si vyžaduje aplikaci ve spojení s trestněprávními normami, zákon o trestním říze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ce a služby: otroctví, zde chrání předpisy trestního práva, vydírání , omezování osobní svobody, ustanovení o zneužití pravomoci veřejného činitele, tato zásada se může aplikovat v těchto prípadech čl. 9 odst. 2, str. 197 Klíma pojem nucené prá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Život: Možnost být svobodně splozen a zrozen, souběžně s eužívá s právem nedotknutelnosti osoby, zákaz trestu smrti, nutná ob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edotknutelnost: vydírání, fyzické násilí, psychický teror, zadržování, omezení pouze zákonem, čl. 7 a čl 4 ods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sobní svoboda: svobodná existence, prosperita člověka, v užším smyslu  i procesní ochrana před zásahy veřejné moci, státních orgánů, stíháni čl. 8 odst. 2, zadržení čl. 8 odst. 3, zatčení čl.8 odst. 4, jedná se o konkrétní normy, je tedy možná přímá aplikace, v praxi si vyžaduje aplikaci ve spojení s trestněprávními normami, zákon o trestním říze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ce a služby: otroctví, zde chrání předpisy trestního práva, vydírání , omezování osobní svobody, ustanovení o zneužití pravomoci veřejného činitele, tato zásada se může aplikovat v těchto prípadech čl. 9 odst. 2, str. 197 Klíma pojem nucené prá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vlastnictví: vlastnictví je nejen právem ale i závazkem,  vlastník je při užívání svobodný, musí brát ohled na své spoluobčany, nesmí poškozovat lidské zdraví, životní prostředí jinak než je přípustné zákonem, vyvlastnění a omezení vlastnického práva je možné jen ve veřejném zájmu a za náhradu, úhrada je důležitá, bez úhrady je zákon protiústavní, podrobnosti vlastnického práva upravuje občanský zákoník, procesní ochrana je též zajištěna, § 128 odst. 2, také ve stavebním zákoně je upraveno vlast. Právo. I vyvlastnění , zásah je též daňová zátěž, tu musejí upravovat daňové zák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Život: Možnost být svobodně splozen a zrozen, souběžně s eužívá s právem nedotknutelnosti osoby, zákaz trestu smrti, nutná ob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edotknutelnost: vydírání, fyzické násilí, psychický teror, zadržování, omezení pouze zákonem, čl. 7 a čl 4 ods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sobní svoboda: svobodná existence, prosperita člověka, v užším smyslu  i procesní ochrana před zásahy veřejné moci, státních orgánů, stíháni čl. 8 odst. 2, zadržení čl. 8 odst. 3, zatčení čl.8 odst. 4, jedná se o konkrétní normy, je tedy možná přímá aplikace, v praxi si vyžaduje aplikaci ve spojení s trestněprávními normami, zákon o trestním říze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ce a služby: otroctví, zde chrání předpisy trestního práva, vydírání , omezování osobní svobody, ustanovení o zneužití pravomoci veřejného činitele, tato zásada se může aplikovat v těchto prípadech čl. 9 odst. 2, str. 197 Klíma pojem nucené prá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ávo vlastnictví: vlastnictví je nejen právem ale i závazkem,  vlastník je při užívání svobodný, musí brát ohled na své spoluobčany, nesmí poškozovat lidské zdraví, životní prostředí jinak než je přípustné zákonem, vyvlastnění a omezení vlastnického práva je možné jen ve veřejném zájmu a za náhradu, úhrada je důležitá, bez úhrady je zákon protiústavní, podrobnosti vlastnického práva upravuje občanský zákoník, procesní ochrana je též zajištěna, § 128 odst. 2, také ve stavebním zákoně a zákoně o územním plánování je upraveno vlast. Právo a vyvlastnění , zásah je též daňová zátěž, tu musejí upravovat daňové zák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edotknutelnost obydli: posiluje sferu ochrany obidli a soukromeho zivota jedince, obydli je jakykoliv objemovy kryty prostor, na který ma osoba vlastnicky nebo jiný uzivaci pravni titul, napr. V katastru zapsana nebo dle najemni smlouvy, listina chrani pravni duvod bydleni, nedoknutelnost bydleni pusobi vuci vsem, verjne moci i soukrome, listina vymezuje domovni prohlidku ve trech pripadech – trestni rizeni za 1, ochrana zivota zdravi pra a svobod druhych a odvraceni ohrozeni verejne bezpecnosti a pro plneni ukolu verejne spravy, pokud je obydli uzivano i k podnikani a jiné hospodarske cinnosti za 3, čl. 12 ods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voleny jsou i jiné  zasahy do obydli, čl. 12 odst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dmětem jsou listy dopisy, ať v soukromí nebo zasílány poštou, zprávy podávané telefonem, telegrafem, Listina chrání jakýkoli technický ,mechanický elektromagnetický elektronický či záznamový prostředek, kterých je schopen uchovávat přechovávat či přenášet myšlenky, údaje, obrazy a inform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pohybu a pobytu, ve spojení s osobní svobodou čl. 8, určovat si v místo svého bytí v regionu, možnost opuštění území, , omezení svobody pohybu a pobytu je možné z důvodů v odst. 3, např. bezpečnost státu, veřejný pořádek, ochrana českého občana je v odst. 4 a cizinci jsou zakotveni v odst. 5 , odst. 5 je ve spojitosti tematicke s čl 42 odst 2 a čl.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dmětem jsou listy dopisy, ať v soukromí nebo zasílány poštou, zprávy podávané telefonem, telegrafem, Listina chrání jakýkoli technický ,mechanický elektromagnetický elektronický či záznamový prostředek, kterých je schopen uchovávat přechovávat či přenášet myšlenky, údaje, obrazy a inform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voboda pohybu a pobytu, ve spojení s osobní svobodou čl. 8, určovat si v místo svého bytí v regionu, možnost opuštění území, , omezení svobody pohybu a pobytu je možné z důvodů v odst. 3, např. bezpečnost státu, veřejný pořádek, ochrana českého občana je v odst. 4 a cizinci jsou zakotveni v odst. 5 , odst. 5 je ve spojitosti tematicke s čl 42 odst 2 a čl.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1C8E6-D1A5-4E67-89FC-2BE35B957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5D0CB-3931-4825-A763-E110584FC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5B04A-1F13-4FC3-8A32-B9CCB29EF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8C3FA-E5B4-4A3D-874F-AE92A2BDA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3BCB19-DC86-482F-8D3D-9659D109B0B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4C0E99-1562-42CC-9ECC-4AE37CC744A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E7C990-E4B1-4EB4-879F-C3030C5352C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2FD0CC-AEF5-4030-AC61-1E565EAF62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425AA7-59AB-4184-B33A-3B5C9CA7D0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1D948F-95DB-47C2-818E-C66D825D90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5EBF78-E192-41D9-8BC5-A28BC9AC09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87764-A9A8-4C36-9538-70DD63B35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3DABA4-450D-4AD8-AFAD-7DB6F52B8D2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E2DDB0-A73A-4C8E-A1A1-765B800AAE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19C814-B3E4-4F47-B9B0-588634EC841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BCBF13-A4CA-4AF6-9A25-9DC93BDFB12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04B155-2256-4220-9E6B-C72CB999CB4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4A68D-28B4-4F59-BF60-FEB892956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801B3-9B88-4977-BADA-FF39A3762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13B86-4895-4396-BA9F-79BCC4CBF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20A63-3BF6-48FB-8694-9C5D1F3FD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FF30E-816B-4223-8BF0-AFE7BCA56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33F85-B0A2-4C71-887E-FFEBF8185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0BE0C-6A97-48BA-9B16-36C0707A4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6B75-A314-4FC2-8A49-8CF05131DE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366F0-66FA-4798-98A1-0CAD941778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http://www.sweb.cz/ilda" TargetMode="External"/><Relationship Id="rId5" Type="http://schemas.openxmlformats.org/officeDocument/2006/relationships/hyperlink" Target="http://www.sweb.cz/ilda" TargetMode="External"/><Relationship Id="rId6" Type="http://schemas.openxmlformats.org/officeDocument/2006/relationships/slideLayout" Target="../slideLayouts/slideLayout14.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lda@seznam.cz"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lda@seznam.cz" TargetMode="External"/><Relationship Id="rId3" Type="http://schemas.openxmlformats.org/officeDocument/2006/relationships/hyperlink" Target="http://www.sweb.cz/ilda" TargetMode="External"/><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692280"/>
            <a:ext cx="7772400" cy="1441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Ústavní právo ČR</a:t>
            </a:r>
            <a:br>
              <a:rPr sz="4400"/>
            </a:br>
            <a:endParaRPr b="0" lang="en-US" sz="4400" spc="-1" strike="noStrike">
              <a:solidFill>
                <a:srgbClr val="ffffff"/>
              </a:solidFill>
              <a:latin typeface="Tahoma"/>
            </a:endParaRPr>
          </a:p>
        </p:txBody>
      </p:sp>
      <p:sp>
        <p:nvSpPr>
          <p:cNvPr id="91" name="PlaceHolder 2"/>
          <p:cNvSpPr>
            <a:spLocks noGrp="1"/>
          </p:cNvSpPr>
          <p:nvPr>
            <p:ph type="subTitle"/>
          </p:nvPr>
        </p:nvSpPr>
        <p:spPr>
          <a:xfrm>
            <a:off x="1332000" y="2349000"/>
            <a:ext cx="6400800" cy="3527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Mgr. Ilona Kostadinovová</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rávnická fakulta ZČU v Plzni</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ffcc00"/>
                </a:solidFill>
                <a:uFillTx/>
                <a:latin typeface="Tahoma"/>
                <a:hlinkClick r:id="rId2"/>
              </a:rPr>
              <a:t>ilda</a:t>
            </a:r>
            <a:r>
              <a:rPr b="0" lang="en-US" sz="3200" spc="-1" strike="noStrike" u="sng">
                <a:solidFill>
                  <a:srgbClr val="ffcc00"/>
                </a:solidFill>
                <a:uFillTx/>
                <a:latin typeface="Tahoma"/>
                <a:hlinkClick r:id="rId3"/>
              </a:rPr>
              <a:t>@seznam.cz</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4"/>
              </a:rPr>
              <a:t>www.sweb.cz</a:t>
            </a:r>
            <a:r>
              <a:rPr b="0" lang="cs-CZ" sz="3200" spc="-1" strike="noStrike" u="sng">
                <a:solidFill>
                  <a:srgbClr val="ffcc00"/>
                </a:solidFill>
                <a:uFillTx/>
                <a:latin typeface="Tahoma"/>
                <a:hlinkClick r:id="rId5"/>
              </a:rPr>
              <a:t>/ilda</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Subjekty ústavního práva, ústavněprávní vztah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ztahy vznikají mezi subjekty – jejich aktivitou</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jekty ú.p. jsou ústavou upravené okruhy institucí, orgánů či jiných útvarů a osob či jejich účelových skupin, jimž jsou poskytnuta práva, pravomoci i povinnosti</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jektivita ú.p. je způsobilost být subjektem ú.p. vztahů, mít možnost naplňovat ústavní normy a ú.p. úkon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2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ovní tajemství, tajemství jiných písemností a záznamů, tajemství přepravovaných zpráv, čl. 13</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pohybu a pobytu čl. 14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myšlení, svědomí a náboženského vyznání, vědeckého bádání a umělecké tvorby, čl. 15</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2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ovní tajemství, tajemství jiných písemností a záznamů, tajemství přepravovaných zpráv, čl. 13</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pohybu a pobytu čl. 14 </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myšlení, svědomí a náboženského vyznání, vědeckého bádání a umělecké tvorby, čl. 15</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svobodného projevu náboženství nebo víry, čl. 1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2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projevu a právo na informace, čl. 17</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2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projevu a právo na informace, čl. 17</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iční právo, čl. 1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2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projevu a právo na informace, čl. 17</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iční právo, čl. 18</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shromažďovací, čl. 19</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2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projevu a právo na informace, čl. 17</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iční právo, čl. 18</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shromažďovací, čl. 19</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sdružovací, čl. 20</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3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projevu a právo na informace, čl. 17</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iční právo, čl. 18</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shromažďovací, čl. 19</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sdružovací, čl. 20</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na odpor, čl. 23</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3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projevu a právo na informace, čl. 17</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iční právo, čl. 18</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shromažďovací, čl. 19</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sdružovací, čl. 20</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na odpor, čl. 23</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podílet se na správě věcí veřejných, čl. 21</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Právo národnostních a etnických menšin, ústavněprávní základ</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24 a 25 Listiny, hl.III   (čl. 3 odst. 2 L.)</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ravují vztah k menšinám</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hrana fyzické osoby</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zdělání, kulturní rozvoj</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zvoj vlastní kultury</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zyková garance</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ytváření národnostních sdruže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Práva hospodářská, sociální a kulturní</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V,  čl. 26 až 35 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Subjekty ústavního práva, ústavněprávní vztah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11" name="PlaceHolder 2"/>
          <p:cNvSpPr>
            <a:spLocks noGrp="1"/>
          </p:cNvSpPr>
          <p:nvPr>
            <p:ph/>
          </p:nvPr>
        </p:nvSpPr>
        <p:spPr>
          <a:xfrm>
            <a:off x="468360" y="1268280"/>
            <a:ext cx="8229600" cy="4897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jekty odvíjejí svůj statut přímo z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jekty jsou konkretizovány i jinými právními odvětvím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ípadě orgánů veřejné moci se obě složky subjektivity prolínají</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Práva hospodářská, sociální a kulturní</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V,  čl. 26 až 35 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ravuje práva fyzické osoby či občana v ekonomické sféře, v sociálních vztazích, ve sféře vzdělávací a v zájmu ekologické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Práva hospodářská, sociální a kulturní</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V,  čl. 26 až 35 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ravuje práva fyzické osoby či občana v ekonomické sféře, v sociálních vztazích, ve sféře vzdělávací a v zájmu ekologické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41 odst. 1 L. interpretační pravidl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Práva hospodářská, sociální a kulturní</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V,  čl. 26 až 35 L.</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ravuje práva fyzické osoby či občana v ekonomické sféře, v sociálních vztazích, ve sféře vzdělávací a v zájmu ekologickém</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41 odst. 1 L. interpretační pravidlo</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př. čl. 26 - postavení občana ve vztahu k hospodářskému systému, čl. 27 odborová svoboda</a:t>
            </a:r>
            <a:endParaRPr b="0" lang="en-US" sz="32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Právo na soudní a jinou právní ochranu</a:t>
            </a:r>
            <a:endParaRPr b="0" lang="en-US" sz="4000" spc="-1" strike="noStrike">
              <a:solidFill>
                <a:srgbClr val="ffffff"/>
              </a:solidFill>
              <a:latin typeface="Tahoma"/>
            </a:endParaRPr>
          </a:p>
        </p:txBody>
      </p:sp>
      <p:sp>
        <p:nvSpPr>
          <p:cNvPr id="3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 čl. 36 – 40 L.</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ém institucionální a normativní právní ochrany</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motně právní principy a procesní principy</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na nezávislý a nestranný soud, čl. 36 odst. 1 a 2, právo na náhradu škody čl. 36 odst. 3, právo na právní pomoc, právo na zajištění procesních zásad</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Ústavní základy suverenity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obsahuje odkaz na tradice státnosti zemí Koruny České a státnosti československ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ní základy suverenity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obsahuje odkaz na tradice státnosti zemí Koruny České a státnosti československé</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onstitutivní charakteristika českého státu je svrchovanost a samostatnos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ní základy suverenity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obsahuje odkaz na tradice státnosti zemí Koruny České a státnosti československé</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onstitutivní charakteristika českého státu je svrchovanost a samostatnos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rchovanost se opírá o preambuli a č. 1 Ústav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Státní území, státní hranice</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11 – jednota území a státní hranic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Státní území, státní hranice</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11 – jednota území a státní hrani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a je možná pouze ústavními zákon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Státní území, státní hranice</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11 – jednota území a státní hrani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a je možná pouze ústavními zákon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zemí se určuje prostřednictvím všech recipovaných ústavních zákonů čs. histori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yzické osoby ?</a:t>
            </a: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čan má statut subjektu ústavního práva</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ho realizace je modifikována splněním určitých podmínek, volební právo aktivní a pasiv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Státní symboly, hlavní město</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13, 14</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řední orgány se nemusejí nacházet v hlavním městě</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boly jsou velký a malý státní znak, státní barvy, státní vlajka, státní pečeť, státní hymna, vlajka prezidenta republik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Státní občanství</a:t>
            </a:r>
            <a:endParaRPr b="0" lang="en-US" sz="4400" spc="-1" strike="noStrike">
              <a:solidFill>
                <a:srgbClr val="ffffff"/>
              </a:solidFill>
              <a:latin typeface="Tahoma"/>
            </a:endParaRPr>
          </a:p>
        </p:txBody>
      </p:sp>
      <p:sp>
        <p:nvSpPr>
          <p:cNvPr id="3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zdůrazňuje občanskou společnost, My občané….</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12 odst. 1 svěřuje úpravu státního občanství zákonu</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12 odst. 2 obsahuje pro tento zákon materiální ústavní normu - zákaz zbavení občanství</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NR č. 40/1993Sb</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0000cc"/>
                </a:solidFill>
                <a:latin typeface="Tahoma"/>
              </a:rPr>
              <a:t>Ústavní systém dělby moci</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odárná</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Ústavní systém dělby moci </a:t>
            </a:r>
            <a:endParaRPr b="0" lang="en-US" sz="4400" spc="-1" strike="noStrike">
              <a:solidFill>
                <a:srgbClr val="ffffff"/>
              </a:solidFill>
              <a:latin typeface="Tahoma"/>
            </a:endParaRPr>
          </a:p>
        </p:txBody>
      </p:sp>
      <p:sp>
        <p:nvSpPr>
          <p:cNvPr id="3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odárná</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ýkonná</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Ústavní systém dělby moci </a:t>
            </a:r>
            <a:endParaRPr b="0" lang="en-US" sz="4400" spc="-1" strike="noStrike">
              <a:solidFill>
                <a:srgbClr val="ffffff"/>
              </a:solidFill>
              <a:latin typeface="Tahoma"/>
            </a:endParaRPr>
          </a:p>
        </p:txBody>
      </p:sp>
      <p:sp>
        <p:nvSpPr>
          <p:cNvPr id="3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odárná</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ýkonná</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d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0000cc"/>
                </a:solidFill>
                <a:latin typeface="Tahoma"/>
              </a:rPr>
              <a:t>Moc zákonodárná</a:t>
            </a:r>
            <a:endParaRPr b="0" lang="en-US" sz="4400" spc="-1" strike="noStrike">
              <a:solidFill>
                <a:srgbClr val="ffffff"/>
              </a:solidFill>
              <a:latin typeface="Tahoma"/>
            </a:endParaRPr>
          </a:p>
        </p:txBody>
      </p:sp>
      <p:sp>
        <p:nvSpPr>
          <p:cNvPr id="3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ze 2 kom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0000cc"/>
                </a:solidFill>
                <a:latin typeface="Tahoma"/>
              </a:rPr>
              <a:t>Moc zákonodárná</a:t>
            </a:r>
            <a:endParaRPr b="0" lang="en-US" sz="4400" spc="-1" strike="noStrike">
              <a:solidFill>
                <a:srgbClr val="ffffff"/>
              </a:solidFill>
              <a:latin typeface="Tahoma"/>
            </a:endParaRPr>
          </a:p>
        </p:txBody>
      </p:sp>
      <p:sp>
        <p:nvSpPr>
          <p:cNvPr id="3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ze 2 komo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lanecká sněmovna , 200 poslanců na 4 rok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Moc zákonodárná</a:t>
            </a:r>
            <a:endParaRPr b="0" lang="en-US" sz="4400" spc="-1" strike="noStrike">
              <a:solidFill>
                <a:srgbClr val="ffffff"/>
              </a:solidFill>
              <a:latin typeface="Tahoma"/>
            </a:endParaRPr>
          </a:p>
        </p:txBody>
      </p:sp>
      <p:sp>
        <p:nvSpPr>
          <p:cNvPr id="3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ze 2 komo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lanecká sněmovna , 200 poslanců na 4 rok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át 81 senátorů na 6 let, parciální obměna 1/3 každé 2 rok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Moc zákonodárná</a:t>
            </a:r>
            <a:endParaRPr b="0" lang="en-US" sz="4400" spc="-1" strike="noStrike">
              <a:solidFill>
                <a:srgbClr val="ffffff"/>
              </a:solidFill>
              <a:latin typeface="Tahoma"/>
            </a:endParaRPr>
          </a:p>
        </p:txBody>
      </p:sp>
      <p:sp>
        <p:nvSpPr>
          <p:cNvPr id="3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ze 2 komo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lanecká sněmovna , 200 poslanců na 4 rok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át 81 senátorů na 6 let, parciální obměna 1/3 každé 2 rok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omory nejsou rovnoprávné</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6600"/>
                </a:solidFill>
                <a:latin typeface="Tahoma"/>
              </a:rPr>
              <a:t>Moc zákonodárná</a:t>
            </a:r>
            <a:endParaRPr b="0" lang="en-US" sz="4400" spc="-1" strike="noStrike">
              <a:solidFill>
                <a:srgbClr val="ffffff"/>
              </a:solidFill>
              <a:latin typeface="Tahoma"/>
            </a:endParaRPr>
          </a:p>
        </p:txBody>
      </p:sp>
      <p:sp>
        <p:nvSpPr>
          <p:cNvPr id="3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arlament ze 2 komor</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oslanecká sněmovna , 200 poslanců na 4 roky</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Senát 81 senátorů na 6 let, parciální obměna 1/3 každé 2 roky</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Komory nejsou rovnoprávné</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Společné působení komor např. při schvalování ústavních zákonů</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bjekty ústavního práva lze dělit na..</a:t>
            </a:r>
            <a:endParaRPr b="0" lang="en-US" sz="40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y seskupení osob obecného neurčitého charakter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Pravomoc a působnost parlamentu</a:t>
            </a:r>
            <a:endParaRPr b="0" lang="en-US" sz="4000" spc="-1" strike="noStrike">
              <a:solidFill>
                <a:srgbClr val="ffffff"/>
              </a:solidFill>
              <a:latin typeface="Tahoma"/>
            </a:endParaRPr>
          </a:p>
        </p:txBody>
      </p:sp>
      <p:sp>
        <p:nvSpPr>
          <p:cNvPr id="3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I vymezuje působnost parlament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avomoc a působnost parlamentu</a:t>
            </a:r>
            <a:endParaRPr b="0" lang="en-US" sz="4000" spc="-1" strike="noStrike">
              <a:solidFill>
                <a:srgbClr val="ffffff"/>
              </a:solidFill>
              <a:latin typeface="Tahoma"/>
            </a:endParaRPr>
          </a:p>
        </p:txBody>
      </p:sp>
      <p:sp>
        <p:nvSpPr>
          <p:cNvPr id="3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I vymezuje působnost parlament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ěcná působnost je vymezena v § 50 zákona o jednací řádu Poslanecké sněmovn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avomoc a působnost parlamentu</a:t>
            </a:r>
            <a:endParaRPr b="0" lang="en-US" sz="4000" spc="-1" strike="noStrike">
              <a:solidFill>
                <a:srgbClr val="ffffff"/>
              </a:solidFill>
              <a:latin typeface="Tahoma"/>
            </a:endParaRPr>
          </a:p>
        </p:txBody>
      </p:sp>
      <p:sp>
        <p:nvSpPr>
          <p:cNvPr id="3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I vymezuje působnost parlament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ěcná působnost je vymezena v § 50 zákona o jednací řádu Poslanecké sněmovn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má pravomoci kreativ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avomoc a působnost parlamentu</a:t>
            </a:r>
            <a:endParaRPr b="0" lang="en-US" sz="4000" spc="-1" strike="noStrike">
              <a:solidFill>
                <a:srgbClr val="ffffff"/>
              </a:solidFill>
              <a:latin typeface="Tahoma"/>
            </a:endParaRPr>
          </a:p>
        </p:txBody>
      </p:sp>
      <p:sp>
        <p:nvSpPr>
          <p:cNvPr id="3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I vymezuje působnost parlament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ěcná působnost je vymezena v § 50 zákona o jednací řádu Poslanecké sněmovn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má pravomoci kreativ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má pravomoci kontrol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avomoc a působnost parlamentu</a:t>
            </a:r>
            <a:endParaRPr b="0" lang="en-US" sz="4000" spc="-1" strike="noStrike">
              <a:solidFill>
                <a:srgbClr val="ffffff"/>
              </a:solidFill>
              <a:latin typeface="Tahoma"/>
            </a:endParaRPr>
          </a:p>
        </p:txBody>
      </p:sp>
      <p:sp>
        <p:nvSpPr>
          <p:cNvPr id="3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I vymezuje působnost parlamentu</a:t>
            </a:r>
            <a:endParaRPr b="0" lang="en-US" sz="3200" spc="-1" strike="noStrike">
              <a:solidFill>
                <a:srgbClr val="ffffff"/>
              </a:solidFill>
              <a:latin typeface="Tahoma"/>
            </a:endParaRPr>
          </a:p>
          <a:p>
            <a:pPr marL="312120" indent="-3121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ěcná působnost je vymezena v § 50 zákona o jednací řádu Poslanecké sněmovny</a:t>
            </a:r>
            <a:endParaRPr b="0" lang="en-US" sz="3200" spc="-1" strike="noStrike">
              <a:solidFill>
                <a:srgbClr val="ffffff"/>
              </a:solidFill>
              <a:latin typeface="Tahoma"/>
            </a:endParaRPr>
          </a:p>
          <a:p>
            <a:pPr marL="312120" indent="-3121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má pravomoci kreativní</a:t>
            </a:r>
            <a:endParaRPr b="0" lang="en-US" sz="3200" spc="-1" strike="noStrike">
              <a:solidFill>
                <a:srgbClr val="ffffff"/>
              </a:solidFill>
              <a:latin typeface="Tahoma"/>
            </a:endParaRPr>
          </a:p>
          <a:p>
            <a:pPr marL="312120" indent="-3121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má pravomoci kontrolní</a:t>
            </a:r>
            <a:endParaRPr b="0" lang="en-US" sz="3200" spc="-1" strike="noStrike">
              <a:solidFill>
                <a:srgbClr val="ffffff"/>
              </a:solidFill>
              <a:latin typeface="Tahoma"/>
            </a:endParaRPr>
          </a:p>
          <a:p>
            <a:pPr marL="312120" indent="-3121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vomoci ostatní vyjmenované v Ústavě: např. čl. 11, 43, 39 odst. 3 Ústav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ahoma"/>
              </a:rPr>
              <a:t>Volební systém České republik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ktivní volební prá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olební systém České republik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ktivní volební práv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jektivní volební prá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olební systém České republik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ktivní volební práv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jektivní volební práv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Řád voleb do Poslanecké sněmovny, Senátu, obecních a krajských zastupitelstev</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olební systém České republik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3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ktivní volební práv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jektivní volební práv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Řád voleb do Poslanecké sněmovny, Senátu, obecních a krajských zastupitelstev</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dní přezkum zákonnosti a ústavnosti voleb</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0000cc"/>
                </a:solidFill>
                <a:latin typeface="Tahoma"/>
              </a:rPr>
              <a:t>Objektivní volební právo</a:t>
            </a:r>
            <a:endParaRPr b="0" lang="en-US" sz="4400" spc="-1" strike="noStrike">
              <a:solidFill>
                <a:srgbClr val="ffffff"/>
              </a:solidFill>
              <a:latin typeface="Tahoma"/>
            </a:endParaRPr>
          </a:p>
        </p:txBody>
      </p:sp>
      <p:sp>
        <p:nvSpPr>
          <p:cNvPr id="3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lanecká sněmovna, krajská a obecní zastupitelstva dle principu poměrného zastoupe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bjekty ústavního práva lze dělit na..</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y seskupení osob obecného neurčitého charakter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y seskupení osob konkrétního charakter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Objektivní volební právo</a:t>
            </a:r>
            <a:endParaRPr b="0" lang="en-US" sz="4400" spc="-1" strike="noStrike">
              <a:solidFill>
                <a:srgbClr val="ffffff"/>
              </a:solidFill>
              <a:latin typeface="Tahoma"/>
            </a:endParaRPr>
          </a:p>
        </p:txBody>
      </p:sp>
      <p:sp>
        <p:nvSpPr>
          <p:cNvPr id="3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lanecká sněmovna, krajská a obecní zastupitelstva dle principu poměrného zastoup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át dle zásady většinové, vítěz je jen jeden kandidá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Objektivní volební právo</a:t>
            </a:r>
            <a:endParaRPr b="0" lang="en-US" sz="4400" spc="-1" strike="noStrike">
              <a:solidFill>
                <a:srgbClr val="ffffff"/>
              </a:solidFill>
              <a:latin typeface="Tahoma"/>
            </a:endParaRPr>
          </a:p>
        </p:txBody>
      </p:sp>
      <p:sp>
        <p:nvSpPr>
          <p:cNvPr id="3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lanecká sněmovna, krajská a obecní zastupitelstva dle principu poměrného zastoup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át dle zásady většinové, vítěz je jen jeden kandidá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ební okrsky a seznamy volič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Objektivní volební právo</a:t>
            </a:r>
            <a:endParaRPr b="0" lang="en-US" sz="4400" spc="-1" strike="noStrike">
              <a:solidFill>
                <a:srgbClr val="ffffff"/>
              </a:solidFill>
              <a:latin typeface="Tahoma"/>
            </a:endParaRPr>
          </a:p>
        </p:txBody>
      </p:sp>
      <p:sp>
        <p:nvSpPr>
          <p:cNvPr id="3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lanecká sněmovna, krajská a obecní zastupitelstva dle principu poměrného zastoup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át dle zásady většinové, vítěz je jen jeden kandidá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ební okrsky a seznamy volič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ební komi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Objektivní volební právo</a:t>
            </a:r>
            <a:endParaRPr b="0" lang="en-US" sz="4400" spc="-1" strike="noStrike">
              <a:solidFill>
                <a:srgbClr val="ffffff"/>
              </a:solidFill>
              <a:latin typeface="Tahoma"/>
            </a:endParaRPr>
          </a:p>
        </p:txBody>
      </p:sp>
      <p:sp>
        <p:nvSpPr>
          <p:cNvPr id="3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lanecká sněmovna, krajská a obecní zastupitelstva dle principu poměrného zastoupení</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nát dle zásady většinové, vítěz je jen jeden kandidát</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ební okrsky a seznamy voličů</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ební komise</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ební kraje a volební obvod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0000cc"/>
                </a:solidFill>
                <a:latin typeface="Tahoma"/>
              </a:rPr>
              <a:t>Subjektivní volební právo</a:t>
            </a:r>
            <a:endParaRPr b="0" lang="en-US" sz="4400" spc="-1" strike="noStrike">
              <a:solidFill>
                <a:srgbClr val="ffffff"/>
              </a:solidFill>
              <a:latin typeface="Tahoma"/>
            </a:endParaRPr>
          </a:p>
        </p:txBody>
      </p:sp>
      <p:sp>
        <p:nvSpPr>
          <p:cNvPr id="37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by se konají na základě všeobecného, rovného a přímého volebního práva s tajným hlasováním, čl. 18 Ústav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Subjektivní volební právo</a:t>
            </a:r>
            <a:endParaRPr b="0" lang="en-US" sz="4400" spc="-1" strike="noStrike">
              <a:solidFill>
                <a:srgbClr val="ffffff"/>
              </a:solidFill>
              <a:latin typeface="Tahoma"/>
            </a:endParaRPr>
          </a:p>
        </p:txBody>
      </p:sp>
      <p:sp>
        <p:nvSpPr>
          <p:cNvPr id="3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by se konají na základě všeobecného, rovného a přímého volebního práva s tajným hlasováním, čl. 18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volit – nad 18 let, obča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91960"/>
            <a:ext cx="8229600" cy="1384560"/>
          </a:xfrm>
          <a:prstGeom prst="rect">
            <a:avLst/>
          </a:prstGeom>
          <a:noFill/>
          <a:ln w="9360">
            <a:solidFill>
              <a:srgbClr val="ff66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6600"/>
                </a:solidFill>
                <a:latin typeface="Tahoma"/>
              </a:rPr>
              <a:t>Subjektivní volební právo</a:t>
            </a:r>
            <a:endParaRPr b="0" lang="en-US" sz="4400" spc="-1" strike="noStrike">
              <a:solidFill>
                <a:srgbClr val="ffffff"/>
              </a:solidFill>
              <a:latin typeface="Tahoma"/>
            </a:endParaRPr>
          </a:p>
        </p:txBody>
      </p:sp>
      <p:sp>
        <p:nvSpPr>
          <p:cNvPr id="381" name="PlaceHolder 2"/>
          <p:cNvSpPr>
            <a:spLocks noGrp="1"/>
          </p:cNvSpPr>
          <p:nvPr>
            <p:ph/>
          </p:nvPr>
        </p:nvSpPr>
        <p:spPr>
          <a:xfrm>
            <a:off x="457200" y="1905120"/>
            <a:ext cx="8229600" cy="4114800"/>
          </a:xfrm>
          <a:prstGeom prst="rect">
            <a:avLst/>
          </a:prstGeom>
          <a:noFill/>
          <a:ln w="9360">
            <a:solidFill>
              <a:srgbClr val="ff6600"/>
            </a:solidFill>
            <a:miter/>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Volby se konají na základě všeobecného, rovného a přímého volebního práva s tajným hlasováním, čl. 18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volit – nad 18 let, občanstv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být volen, pasiv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0000cc"/>
                </a:solidFill>
                <a:latin typeface="Tahoma"/>
              </a:rPr>
              <a:t>Volební řád</a:t>
            </a:r>
            <a:endParaRPr b="0" lang="en-US" sz="4400" spc="-1" strike="noStrike">
              <a:solidFill>
                <a:srgbClr val="ffffff"/>
              </a:solidFill>
              <a:latin typeface="Tahoma"/>
            </a:endParaRPr>
          </a:p>
        </p:txBody>
      </p:sp>
      <p:sp>
        <p:nvSpPr>
          <p:cNvPr id="3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yhlášení voleb</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Volební řád</a:t>
            </a:r>
            <a:endParaRPr b="0" lang="en-US" sz="4400" spc="-1" strike="noStrike">
              <a:solidFill>
                <a:srgbClr val="ffffff"/>
              </a:solidFill>
              <a:latin typeface="Tahoma"/>
            </a:endParaRPr>
          </a:p>
        </p:txBody>
      </p:sp>
      <p:sp>
        <p:nvSpPr>
          <p:cNvPr id="3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yhlášení voleb</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tanovení volebních komisí</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Volební řád</a:t>
            </a:r>
            <a:endParaRPr b="0" lang="en-US" sz="4400" spc="-1" strike="noStrike">
              <a:solidFill>
                <a:srgbClr val="ffffff"/>
              </a:solidFill>
              <a:latin typeface="Tahoma"/>
            </a:endParaRPr>
          </a:p>
        </p:txBody>
      </p:sp>
      <p:sp>
        <p:nvSpPr>
          <p:cNvPr id="3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yhlášení voleb</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tanovení volebních komis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tanovení kandidátů</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bjekty ústavního práva lze dělit na..</a:t>
            </a:r>
            <a:endParaRPr b="0" lang="en-US" sz="40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y seskupení osob obecného neurčitého charakter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y seskupení osob konkrétního charakter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gány veřejné moc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Volební řád</a:t>
            </a:r>
            <a:endParaRPr b="0" lang="en-US" sz="4400" spc="-1" strike="noStrike">
              <a:solidFill>
                <a:srgbClr val="ffffff"/>
              </a:solidFill>
              <a:latin typeface="Tahoma"/>
            </a:endParaRPr>
          </a:p>
        </p:txBody>
      </p:sp>
      <p:sp>
        <p:nvSpPr>
          <p:cNvPr id="3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yhlášení voleb</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tanovení volebních komis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tanovení kandidát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ební aritmetik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1960"/>
            <a:ext cx="8229600" cy="112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Soudní přezkum zákonnosti a ústavnosti voleb</a:t>
            </a:r>
            <a:endParaRPr b="0" lang="en-US" sz="4000" spc="-1" strike="noStrike">
              <a:solidFill>
                <a:srgbClr val="ffffff"/>
              </a:solidFill>
              <a:latin typeface="Tahoma"/>
            </a:endParaRPr>
          </a:p>
        </p:txBody>
      </p:sp>
      <p:sp>
        <p:nvSpPr>
          <p:cNvPr id="391"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Zajištění volební spravedlnosti</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Definitivní rozhodnutí orgánu soudního typu</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ff"/>
                </a:solidFill>
                <a:latin typeface="Tahoma"/>
              </a:rPr>
              <a:t>Nejvyšší soud ČR dle OSŘ, např. §§ 200m, 200n OSŘ, přes §§ 86,87 č. 247/1995Sb., zákon o volbách do Parl.</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Ústavní soud dle čl. 87 odst. 1 písm. d) Ústavy nebo § 85 zákona o řízení před Ústavním soud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Zákonodárný proces, jednací řád              </a:t>
            </a:r>
            <a:br>
              <a:rPr sz="4000"/>
            </a:br>
            <a:r>
              <a:rPr b="0" lang="en-US" sz="4000" spc="-1" strike="noStrike">
                <a:solidFill>
                  <a:srgbClr val="0000cc"/>
                </a:solidFill>
                <a:latin typeface="Tahoma"/>
              </a:rPr>
              <a:t>            Parlamentu ČR</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odárná iniciativ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Zákonodárný proces, jednací řád              </a:t>
            </a:r>
            <a:br>
              <a:rPr sz="4000"/>
            </a:br>
            <a:r>
              <a:rPr b="0" lang="en-US" sz="4000" spc="-1" strike="noStrike">
                <a:solidFill>
                  <a:srgbClr val="ffffff"/>
                </a:solidFill>
                <a:latin typeface="Tahoma"/>
              </a:rPr>
              <a:t>            Parlamentu ČR</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odárná iniciati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ručení vládě</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Zákonodárný proces, jednací řád              </a:t>
            </a:r>
            <a:br>
              <a:rPr sz="4000"/>
            </a:br>
            <a:r>
              <a:rPr b="0" lang="en-US" sz="4000" spc="-1" strike="noStrike">
                <a:solidFill>
                  <a:srgbClr val="ffffff"/>
                </a:solidFill>
                <a:latin typeface="Tahoma"/>
              </a:rPr>
              <a:t>            Parlamentu ČR</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odárná iniciati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ručení vládě</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válení v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Zákonodárný proces, jednací řád              </a:t>
            </a:r>
            <a:br>
              <a:rPr sz="4000"/>
            </a:br>
            <a:r>
              <a:rPr b="0" lang="en-US" sz="4000" spc="-1" strike="noStrike">
                <a:solidFill>
                  <a:srgbClr val="ffffff"/>
                </a:solidFill>
                <a:latin typeface="Tahoma"/>
              </a:rPr>
              <a:t>            Parlamentu ČR</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3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odárná iniciati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ručení vládě</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válení v Poslanecké sněmovně</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ložení senátu k projedn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ahoma"/>
              </a:rPr>
              <a:t>Zákonodárný proces, jednací řád              </a:t>
            </a:r>
            <a:br>
              <a:rPr sz="4000"/>
            </a:br>
            <a:r>
              <a:rPr b="0" lang="en-US" sz="4000" spc="-1" strike="noStrike">
                <a:solidFill>
                  <a:srgbClr val="ff6600"/>
                </a:solidFill>
                <a:latin typeface="Tahoma"/>
              </a:rPr>
              <a:t>            Parlamentu ČR</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Zákonodárná iniciati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Doručení vládě</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Schválení v Poslanecké sněmovně</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ředložení senátu k projedná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vrácení zákona prezidentem republik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ahoma"/>
              </a:rPr>
              <a:t>Zákonodárný proces, jednací řád              </a:t>
            </a:r>
            <a:br>
              <a:rPr sz="4000"/>
            </a:br>
            <a:r>
              <a:rPr b="0" lang="en-US" sz="4000" spc="-1" strike="noStrike">
                <a:solidFill>
                  <a:srgbClr val="ff6600"/>
                </a:solidFill>
                <a:latin typeface="Tahoma"/>
              </a:rPr>
              <a:t>            Parlamentu ČR</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Zákonodárná iniciati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Doručení vládě</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Schválení v Poslanecké sněmovně</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ředložení senátu k projedná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vrácení zákona prezidentem republik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Vyhlášení zákon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Moc výkonná, postavení prezidenta </a:t>
            </a:r>
            <a:br>
              <a:rPr sz="4000"/>
            </a:br>
            <a:r>
              <a:rPr b="0" lang="en-US" sz="4000" spc="-1" strike="noStrike">
                <a:solidFill>
                  <a:srgbClr val="0000cc"/>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lád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ubjekty ústavního práva lze dělit na..</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y seskupení osob obecného neurčitého charakter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y seskupení osob konkrétního charakter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gány veřejné moc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gány samospráv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lád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átní zastupitel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 j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 j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státu , čl. 54 Ústav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 j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státu , čl. 54 Ústav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stupuje stát navenek, čl. 63 odst. 1 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 j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státu , čl. 54 Ústav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stupuje stát navenek, čl. 63 odst. 1 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ezident je volen dle čl. 54 – 61 Ústav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 j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státu , čl. 54 Ústav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stupuje stát navenek, čl. 63 odst. 1 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ezident je volen dle čl. 54 – 61 Ústav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Třífázový systé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 j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státu , čl. 54 Ústav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stupuje stát navenek, čl. 63 odst. 1 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ezident je volen dle čl. 54 – 61 Ústav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Třífázový systé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ětiletý mandát, čl. 55 Ú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zident republiky j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státu , čl. 54 Ústavy</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stupuje stát navenek, čl. 63 odst. 1 a</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ezident je volen dle čl. 54 – 61 Ústavy</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Třífázový systém</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ětiletý mandát, čl. 55 Úst.</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vomoci rozhodovací a kreační</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vomoci výlučné</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c výkonná, postavení prezidenta </a:t>
            </a:r>
            <a:br>
              <a:rPr sz="4000"/>
            </a:br>
            <a:r>
              <a:rPr b="0" lang="en-US" sz="4000" spc="-1" strike="noStrike">
                <a:solidFill>
                  <a:srgbClr val="ffffff"/>
                </a:solidFill>
                <a:latin typeface="Tahoma"/>
              </a:rPr>
              <a:t>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vomoci výlučné</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vomoci kontrasignované</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ahoma"/>
              </a:rPr>
              <a:t>Subjekty ústavního práva lze dělit na..</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Formy seskupení osob obecného neurčitého charakter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Formy seskupení osob konkrétního charakter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Orgány veřejné moc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Orgány samosprá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Fyzické , právnick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Ústavní postavení vlády ČR, ministerstva ČR, státní zastupitelství</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láda je vrcholný orgán ústavy ČR, čl 67 odst. 1 Ústav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Ústavní postavení vlády ČR, ministerstva ČR, státní zastupitelství</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láda je vrcholný orgán Ústavy ČR, čl. 67 odst. 1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neurčuje věcnou působnost vlády, jedná se tedy o všeobecnou působnost, pokud není určeno jina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Ústavní postavení vlády ČR, ministerstva ČR, státní zastupitelství</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láda je vrcholný orgán Ústavy ČR, čl. 67 odst. 1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neurčuje věcnou působnost vlády, jedná se tedy o všeobecnou působnost, pokud není určeno jinak</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nisterstva – součást výkonné moc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Ústavní postavení vlády ČR, ministerstva ČR, státní zastupitelství</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láda je vrcholný orgán Ústavy ČR, čl. 67 odst. 1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neurčuje věcnou působnost vlády, jedná se tedy o všeobecnou působnost, pokud není určeno jinak</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nisterstva – součást výkonné moc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 zastupitelství – čl. 80 Ústav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ahoma"/>
              </a:rPr>
              <a:t>Moc soudní, ústavní koncepce</a:t>
            </a:r>
            <a:endParaRPr b="0" lang="en-US" sz="4400" spc="-1" strike="noStrike">
              <a:solidFill>
                <a:srgbClr val="ffffff"/>
              </a:solidFill>
              <a:latin typeface="Tahoma"/>
            </a:endParaRPr>
          </a:p>
        </p:txBody>
      </p:sp>
      <p:sp>
        <p:nvSpPr>
          <p:cNvPr id="4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V</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c soudní, ústavní koncepce</a:t>
            </a:r>
            <a:endParaRPr b="0" lang="en-US" sz="4400" spc="-1" strike="noStrike">
              <a:solidFill>
                <a:srgbClr val="ffffff"/>
              </a:solidFill>
              <a:latin typeface="Tahoma"/>
            </a:endParaRPr>
          </a:p>
        </p:txBody>
      </p:sp>
      <p:sp>
        <p:nvSpPr>
          <p:cNvPr id="4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V</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závislost a nestrannost, čl. 82 Ústav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c soudní, ústavní koncepce</a:t>
            </a:r>
            <a:endParaRPr b="0" lang="en-US" sz="4400" spc="-1" strike="noStrike">
              <a:solidFill>
                <a:srgbClr val="ffffff"/>
              </a:solidFill>
              <a:latin typeface="Tahoma"/>
            </a:endParaRPr>
          </a:p>
        </p:txBody>
      </p:sp>
      <p:sp>
        <p:nvSpPr>
          <p:cNvPr id="4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V</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závislost a nestrannost, čl. 82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dní ochrana ústavnosti, čl. 83 Ús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c soudní, ústavní koncepce</a:t>
            </a:r>
            <a:endParaRPr b="0" lang="en-US" sz="4400" spc="-1" strike="noStrike">
              <a:solidFill>
                <a:srgbClr val="ffffff"/>
              </a:solidFill>
              <a:latin typeface="Tahoma"/>
            </a:endParaRPr>
          </a:p>
        </p:txBody>
      </p:sp>
      <p:sp>
        <p:nvSpPr>
          <p:cNvPr id="4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Hlava IV</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Nezávislost a nestrannost, čl. 82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Soudní ochrana ústavnosti, čl. 83 Ús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oskytování ochrany právům, čl. 90 a násl. Ústav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c soudní, ústavní koncepce</a:t>
            </a:r>
            <a:endParaRPr b="0" lang="en-US" sz="4400" spc="-1" strike="noStrike">
              <a:solidFill>
                <a:srgbClr val="ffffff"/>
              </a:solidFill>
              <a:latin typeface="Tahoma"/>
            </a:endParaRPr>
          </a:p>
        </p:txBody>
      </p:sp>
      <p:sp>
        <p:nvSpPr>
          <p:cNvPr id="4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Hlava IV</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Nezávislost a nestrannost, čl. 82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Soudní ochrana ústavnosti, čl. 83 Ús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oskytování ochrany právům, čl. 90 a násl.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Odlišná vázanost soudců Ústavního a obecného soud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ahoma"/>
              </a:rPr>
              <a:t>Soudní soustava</a:t>
            </a:r>
            <a:endParaRPr b="0" lang="en-US" sz="4400" spc="-1" strike="noStrike">
              <a:solidFill>
                <a:srgbClr val="ffffff"/>
              </a:solidFill>
              <a:latin typeface="Tahoma"/>
            </a:endParaRPr>
          </a:p>
        </p:txBody>
      </p:sp>
      <p:sp>
        <p:nvSpPr>
          <p:cNvPr id="4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91 Ústavy určuje soudní soustav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zlišují se soudy nejvyšší a jin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Moderní ústava</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mokratické revoluce vedou k moderním ústavám</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ahoma"/>
              </a:rPr>
              <a:t>Moderní ústava počítá s pluralitou, organizuje a vymezuje veřejnou moc, chrání demokracii a občana</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incipy ústavnosti jsou svoboda jednotlivce, rovnoprávnost, politický pluralismus, dělba moci, nezávislost soudcovská aj.</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Začlenění do primárního evropského práv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stanovuje pravomoc a působnos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stanovuje pravomoc a působnos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ěcná působnost je taxativně vyjmenov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stanovuje pravomoc a působnos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ěcná působnost je taxativně vyjmenová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upravuje pravomoci ve vnitřních vztazíc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stanovuje pravomoc a působnost</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ěcná působnost je taxativně vyjmenována</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upravuje pravomoci ve vnitřních vztazích</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 je samostatný, neodvolatelný, nerozpustitelný</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ho rozhodnutí jsou konečná a nepřezkoumatelná</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5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ho rozhodnutí jsou konečná a nepřezkoumatelná</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Řídí se Ústavou a zákonem o Ústavní soudu</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ho rozhodnutí jsou konečná a nepřezkoumatelná</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Řídí se Ústavou a zákonem o Ústavní soud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 možnost senátu vyslovit souhlas s trestní stíháním soudce Úst. soudu, čl. 86 odst. 1 Ús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 působí v těchto věcech, čl. 87 odst. 1 Ús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 působí v těchto věcech, čl. 87 odst. 1 Ús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zhoduje o zrušení zákonů nebo jednotlivých ustanovení, jsou – li v rozporu s ústavním zákonem nebo mezinárodní smlouvou, písm. 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Ústavní soud působí v těchto věcech, čl. 87 odst. 1 Úst.</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Rozhoduje o </a:t>
            </a:r>
            <a:r>
              <a:rPr b="1" lang="en-US" sz="3200" spc="-1" strike="noStrike" u="sng">
                <a:solidFill>
                  <a:srgbClr val="ff6600"/>
                </a:solidFill>
                <a:uFillTx/>
                <a:latin typeface="Tahoma"/>
              </a:rPr>
              <a:t>zrušení zákonů</a:t>
            </a:r>
            <a:r>
              <a:rPr b="0" lang="en-US" sz="3200" spc="-1" strike="noStrike">
                <a:solidFill>
                  <a:srgbClr val="ff6600"/>
                </a:solidFill>
                <a:latin typeface="Tahoma"/>
              </a:rPr>
              <a:t> nebo jednotlivých ustanovení, jsou – li v rozporu s ústavním zákonem nebo mezinárodní smlouvou, čl. 87 I písm. A</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Rozhoduje o </a:t>
            </a:r>
            <a:r>
              <a:rPr b="1" lang="en-US" sz="3200" spc="-1" strike="noStrike" u="sng">
                <a:solidFill>
                  <a:srgbClr val="ff6600"/>
                </a:solidFill>
                <a:uFillTx/>
                <a:latin typeface="Tahoma"/>
              </a:rPr>
              <a:t>ústavní stížnosti</a:t>
            </a:r>
            <a:r>
              <a:rPr b="0" lang="en-US" sz="3200" spc="-1" strike="noStrike">
                <a:solidFill>
                  <a:srgbClr val="ff6600"/>
                </a:solidFill>
                <a:latin typeface="Tahoma"/>
              </a:rPr>
              <a:t> fyzických čí právnických osob, Čl. 87 I písm. D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Ústava jako základní zák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rchol soustavy právních norem</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třeba konkretizace normami běžných zákonů</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ladní obsahový zákon</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uje konstitutivní ustanovení pro úpravu veřejné moci</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 základem pro organizaci finanční správy</a:t>
            </a: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stavení a kompetence Ústavního soud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Druh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Aktivní legitim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Lhůt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eti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Výrok soudu</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Řízení před Ústavním soudem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hájení říze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Řízení před Ústavním soudem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hájení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častnící říze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Řízení před Ústavním soudem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hájení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častnící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prava jedn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Řízení před Ústavním soudem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7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hájení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častnící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prava jedná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ní jedn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Řízení před Ústavním soudem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hájení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častnící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prava jedná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ní jedná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kazov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Řízení před Ústavním soudem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hájení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častnící říze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prava jedná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ní jedná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kazová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zhodnut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1600"/>
            <a:ext cx="8229600" cy="54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říklady - Nález Ústavního soudu</a:t>
            </a:r>
            <a:endParaRPr b="0" lang="en-US" sz="4000" spc="-1" strike="noStrike">
              <a:solidFill>
                <a:srgbClr val="ffffff"/>
              </a:solidFill>
              <a:latin typeface="Tahoma"/>
            </a:endParaRPr>
          </a:p>
        </p:txBody>
      </p:sp>
      <p:sp>
        <p:nvSpPr>
          <p:cNvPr id="483" name="PlaceHolder 2"/>
          <p:cNvSpPr>
            <a:spLocks noGrp="1"/>
          </p:cNvSpPr>
          <p:nvPr>
            <p:ph/>
          </p:nvPr>
        </p:nvSpPr>
        <p:spPr>
          <a:xfrm>
            <a:off x="178920" y="980640"/>
            <a:ext cx="8713800" cy="554364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rušení části zákonů:</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 č. 116/2008 Sb., rozhodnutí Ústavního soudu ze dne 12. 3. 2008 o návrhu skupiny poslanců na zrušení některých ustanovení zákoníku práce, z. č. 262/2006 Sb.</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 rozhodl dne 23. 4. 2008,         o návrhu na zrušení části zákona                         o nemocenském pojištění zaměstnanců,       z. č. 54/1956 Sb., že nemocenská bude náležet i za první 3 dny nemoci </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91600"/>
            <a:ext cx="8229600" cy="54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říklad:</a:t>
            </a:r>
            <a:endParaRPr b="0" lang="en-US" sz="4000" spc="-1" strike="noStrike">
              <a:solidFill>
                <a:srgbClr val="ffffff"/>
              </a:solidFill>
              <a:latin typeface="Tahoma"/>
            </a:endParaRPr>
          </a:p>
        </p:txBody>
      </p:sp>
      <p:sp>
        <p:nvSpPr>
          <p:cNvPr id="485"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n J. H. byl obviněn a následně odsouzen Krajským soudem v Praze za trestný čin loupeže podle §234 odst. 1 a 2 trestního zákona, který měl spáchat přepadením kamionu s cigaretami. Jako hlavní důkaz při prokazování jeho účasti na trestné činnosti byly použity výpisy evidence hovorů z jeho mobilního telefonu, obsahující vždy datum, čas, buňku mobilního operátora, volané číslo a dobu volání hovorů, které nejenom prokazovaly rozhovor pana J. H. s dalšími obviněnými, ale i místo a čas konání hovoru. </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to výpisy vydala telekomunikační společnost na žádost orgánům činným v trestním řízení, aniž by zkoumala, zda byl vydán soudní příkaz k jejich vydání. Kromě jiného tyto záznamy byly orgány činnými v trestním řízení získány již před tím, než bylo panu J. H. doručeno usnesení o zahájení trestního stíhání.</a:t>
            </a:r>
            <a:endParaRPr b="0" lang="en-US" sz="2400" spc="-1" strike="noStrike">
              <a:solidFill>
                <a:srgbClr val="ffffff"/>
              </a:solidFill>
              <a:latin typeface="Tahoma"/>
            </a:endParaRPr>
          </a:p>
          <a:p>
            <a:pPr marL="339480" indent="-3394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n J. H. se proti rozsudku odvolal k Vrchnímu soudu v Praze a ten jeho odvolání jako bezdůvodné zamítl. </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Řešení příkladu</a:t>
            </a:r>
            <a:endParaRPr b="0" lang="en-US" sz="4000" spc="-1" strike="noStrike">
              <a:solidFill>
                <a:srgbClr val="ffffff"/>
              </a:solidFill>
              <a:latin typeface="Tahoma"/>
            </a:endParaRPr>
          </a:p>
        </p:txBody>
      </p:sp>
      <p:sp>
        <p:nvSpPr>
          <p:cNvPr id="487" name="PlaceHolder 2"/>
          <p:cNvSpPr>
            <a:spLocks noGrp="1"/>
          </p:cNvSpPr>
          <p:nvPr>
            <p:ph/>
          </p:nvPr>
        </p:nvSpPr>
        <p:spPr>
          <a:xfrm>
            <a:off x="179280" y="836640"/>
            <a:ext cx="8686800" cy="5759280"/>
          </a:xfrm>
          <a:prstGeom prst="rect">
            <a:avLst/>
          </a:prstGeom>
          <a:noFill/>
          <a:ln w="0">
            <a:noFill/>
          </a:ln>
        </p:spPr>
        <p:txBody>
          <a:bodyPr lIns="90000" rIns="90000" tIns="46800" bIns="46800" anchor="t">
            <a:normAutofit/>
          </a:bodyPr>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odmínky přípustnosti ústavní stížnosti</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ktivní legitimace stěžovatele - § 72 odst. 1) písm. a) z.č. 182/1993 Sb., o Ústavním soudu</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astoupení stěžovatele - § 30 odst.1 </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hůta - § 72 odst. 3 </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čerpání všech procesních prostředků- § 75</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Porušení ústavních norem ČR a mezinárodních smluv</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Čl. 10 odst. 3 Listiny základních práv a svobod</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Čl. 13 Listiny základních práv a svobod</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plňující články – čl. 2 odst. 2 Listiny, čl. 90 Ústavy, čl. 8 Úmluvy o ochraně lidských práv a základních svobod, čl. 17 Paktu o občanských a  politických právec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263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u="sng">
                <a:solidFill>
                  <a:srgbClr val="ffffff"/>
                </a:solidFill>
                <a:uFillTx/>
                <a:latin typeface="Tahoma"/>
              </a:rPr>
              <a:t>Ústavní právo ČR</a:t>
            </a:r>
            <a:br>
              <a:rPr sz="4400"/>
            </a:br>
            <a:r>
              <a:rPr b="0" lang="en-US" sz="4000" spc="-1" strike="noStrike">
                <a:solidFill>
                  <a:srgbClr val="ffffff"/>
                </a:solidFill>
                <a:latin typeface="Tahoma"/>
              </a:rPr>
              <a:t> </a:t>
            </a:r>
            <a:br>
              <a:rPr sz="4000"/>
            </a:br>
            <a:r>
              <a:rPr b="0" lang="en-US" sz="4000" spc="-1" strike="noStrike">
                <a:solidFill>
                  <a:srgbClr val="ffffff"/>
                </a:solidFill>
                <a:latin typeface="Tahoma"/>
              </a:rPr>
              <a:t>Písek</a:t>
            </a:r>
            <a:br>
              <a:rPr sz="4000"/>
            </a:br>
            <a:endParaRPr b="0" lang="en-US" sz="4000" spc="-1" strike="noStrike">
              <a:solidFill>
                <a:srgbClr val="ffffff"/>
              </a:solidFill>
              <a:latin typeface="Tahoma"/>
            </a:endParaRPr>
          </a:p>
        </p:txBody>
      </p:sp>
      <p:sp>
        <p:nvSpPr>
          <p:cNvPr id="93" name="PlaceHolder 2"/>
          <p:cNvSpPr>
            <a:spLocks noGrp="1"/>
          </p:cNvSpPr>
          <p:nvPr>
            <p:ph/>
          </p:nvPr>
        </p:nvSpPr>
        <p:spPr>
          <a:xfrm>
            <a:off x="457200" y="2565360"/>
            <a:ext cx="7570800" cy="3454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4. 10. 2008</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8. 10. 2008</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9. 11. 2008</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Ústava jako základní zák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uje princip organizace a činnosti justice a principy ochrany občan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ravuje postavení občana v hospodářském systému</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Ústavní postavení Nejvyššího kontrolního úřadu a České národní ban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489" name="PlaceHolder 2"/>
          <p:cNvSpPr>
            <a:spLocks noGrp="1"/>
          </p:cNvSpPr>
          <p:nvPr>
            <p:ph/>
          </p:nvPr>
        </p:nvSpPr>
        <p:spPr>
          <a:xfrm>
            <a:off x="457200" y="1905120"/>
            <a:ext cx="8229600" cy="45482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NKÚ – čl. 97 Ústavy ČR – nezávislý orgán, vykonává kontrolu hospodaření se státním majetkem a plnění státního rozpočtu, prezidenta a víceprezidenta jmenuje prezident republiky na návrh poslanecké sněmovny, z. č. 166/1993 Sb.</a:t>
            </a:r>
            <a:endParaRPr b="0" lang="en-US" sz="3200" spc="-1" strike="noStrike">
              <a:solidFill>
                <a:srgbClr val="ffffff"/>
              </a:solidFill>
              <a:latin typeface="Tahoma"/>
            </a:endParaRPr>
          </a:p>
          <a:p>
            <a:pPr marL="339480" indent="-33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ČNB – čl. 98 Ústavy ČR, ústřední banka státu, cílem její činnosti je péče o cenovou stabilitu, z. č. 6/1993 Sb.</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ahoma"/>
              </a:rPr>
              <a:t>Pojetí územní samosprávy v České republice</a:t>
            </a:r>
            <a:endParaRPr b="0" lang="en-US" sz="4000" spc="-1" strike="noStrike">
              <a:solidFill>
                <a:srgbClr val="ffffff"/>
              </a:solidFill>
              <a:latin typeface="Tahoma"/>
            </a:endParaRPr>
          </a:p>
        </p:txBody>
      </p:sp>
      <p:sp>
        <p:nvSpPr>
          <p:cNvPr id="491" name="PlaceHolder 2"/>
          <p:cNvSpPr>
            <a:spLocks noGrp="1"/>
          </p:cNvSpPr>
          <p:nvPr>
            <p:ph/>
          </p:nvPr>
        </p:nvSpPr>
        <p:spPr>
          <a:xfrm>
            <a:off x="179280" y="1699920"/>
            <a:ext cx="8785440" cy="48243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Čl. 99 – obce, kraje – zastupitelstva: volby tajné, všeobecné, rovné a přímé volební právo, 4leté funkční období, vydávají obecně závazné vyhlášky (čl. 104 odst. 3 Ústavy ČR)</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át může zasahovat do jejich činnosti, vyžaduje-li to ochrana zákon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zemní samosprávné celky jsou veřejnoprávními korporacemi, které mohou mít vlastní majetek a hospodaří podle vlastního rozpočtu</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č. 120/2000 Sb., o obcích (obecní zřízení)</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č. 129/2000 Sb., o krajích (krajské zřízen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11280" y="25308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ffffff"/>
              </a:solidFill>
              <a:latin typeface="Tahoma"/>
            </a:endParaRPr>
          </a:p>
        </p:txBody>
      </p:sp>
      <p:sp>
        <p:nvSpPr>
          <p:cNvPr id="4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Vážení posluchači,</a:t>
            </a:r>
            <a:br>
              <a:rPr sz="2800"/>
            </a:br>
            <a:r>
              <a:rPr b="0" lang="cs-CZ" sz="2800" spc="-1" strike="noStrike">
                <a:solidFill>
                  <a:srgbClr val="ffffff"/>
                </a:solidFill>
                <a:latin typeface="Tahoma"/>
              </a:rPr>
              <a:t>děkuji Vám za pozornost.</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 </a:t>
            </a:r>
            <a:br>
              <a:rPr sz="2800"/>
            </a:br>
            <a:r>
              <a:rPr b="0" lang="cs-CZ" sz="2800" spc="-1" strike="noStrike">
                <a:solidFill>
                  <a:srgbClr val="ffffff"/>
                </a:solidFill>
                <a:latin typeface="Tahoma"/>
              </a:rPr>
              <a:t>Přeji příjemný zbytek dnešního dne.</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Mgr. Ilona Kostadinovová</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ffcc00"/>
                </a:solidFill>
                <a:uFillTx/>
                <a:latin typeface="Tahoma"/>
                <a:hlinkClick r:id="rId2"/>
              </a:rPr>
              <a:t>ilda@seznam.cz</a:t>
            </a:r>
            <a:endParaRPr b="0" lang="en-US" sz="3200" spc="-1" strike="noStrike">
              <a:solidFill>
                <a:srgbClr val="ffffff"/>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Normy ústav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je složena z právních nore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Normy ústav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je složena z právních nore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normy obecné</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Normy ústav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je složena z právních norem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normy obecné</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normy stanovící práva a povinnosti jejich subjektů</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Normy ústav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7" name="PlaceHolder 2"/>
          <p:cNvSpPr>
            <a:spLocks noGrp="1"/>
          </p:cNvSpPr>
          <p:nvPr>
            <p:ph/>
          </p:nvPr>
        </p:nvSpPr>
        <p:spPr>
          <a:xfrm>
            <a:off x="457200" y="1904760"/>
            <a:ext cx="8229600" cy="36925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je složena z právních norem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normy obecné</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normy stanovící práva a povinnosti jejich subjekt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normy zřizující , konstitutivní</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6600"/>
                </a:solidFill>
                <a:latin typeface="Tahoma"/>
              </a:rPr>
              <a:t>Normy ústavy</a:t>
            </a: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Ústava je složena z právních norem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Ústavní normy obecné</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Ústavní normy stanovící práva a povinnosti jejich subjekt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Ústavní normy zřizující , konstitutiv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Normy jsou rovnocenné, princip jednoty ústav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Odpovědnost v ústavním právu</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dpovědnost je naplněna podle Ústavy jednáním, jímž jsou porušena ustanovení ústavy, nebo nečinností, či jinou činností</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dpovědnost podle ústavního práva směřuje k naplnění těch principů a těch norem, které jsou předmětem ústavní úpravy</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dpovědnost je realizována sankcem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Ústavněprávní spor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lizace ústavy, ústavních norem vede ke konfliktů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Ústavněprávní spor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lizace ústavy, ústavních norem vede ke konfliktů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 ústavně právní konflikt lze považovat situaci, spor, kdy ústavní orgán poruší ústavu, poruší základní právo fyzické čí právnické osoby, rozhodnutím omezí působnost samosprávného cel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Interpretace ústav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musí být řádně pochopena, potřeba výkladu interpreta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263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400" spc="-1" strike="noStrike" u="sng">
                <a:solidFill>
                  <a:srgbClr val="ffffff"/>
                </a:solidFill>
                <a:uFillTx/>
                <a:latin typeface="Tahoma"/>
              </a:rPr>
              <a:t>Ústavní právo ČR</a:t>
            </a:r>
            <a:r>
              <a:rPr b="0" lang="cs-CZ" sz="4000" spc="-1" strike="noStrike">
                <a:solidFill>
                  <a:srgbClr val="ffffff"/>
                </a:solidFill>
                <a:latin typeface="Tahoma"/>
              </a:rPr>
              <a:t> </a:t>
            </a:r>
            <a:br>
              <a:rPr sz="4000"/>
            </a:br>
            <a:r>
              <a:rPr b="0" lang="cs-CZ" sz="4000" spc="-1" strike="noStrike">
                <a:solidFill>
                  <a:srgbClr val="ffffff"/>
                </a:solidFill>
                <a:latin typeface="Tahoma"/>
              </a:rPr>
              <a:t>Písek</a:t>
            </a:r>
            <a:br>
              <a:rPr sz="4000"/>
            </a:br>
            <a:endParaRPr b="0" lang="en-US" sz="4000" spc="-1" strike="noStrike">
              <a:solidFill>
                <a:srgbClr val="ffffff"/>
              </a:solidFill>
              <a:latin typeface="Tahoma"/>
            </a:endParaRPr>
          </a:p>
        </p:txBody>
      </p:sp>
      <p:sp>
        <p:nvSpPr>
          <p:cNvPr id="95" name="PlaceHolder 2"/>
          <p:cNvSpPr>
            <a:spLocks noGrp="1"/>
          </p:cNvSpPr>
          <p:nvPr>
            <p:ph/>
          </p:nvPr>
        </p:nvSpPr>
        <p:spPr>
          <a:xfrm>
            <a:off x="457200" y="2565360"/>
            <a:ext cx="8229600" cy="3454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8. 10. 2008</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09. 01. 2009</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Interpretace ústav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musí být řádně pochopena, potřeba výkladu interpret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pretace je úkolem každého subjektu, jenž ústavu užívá</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6600"/>
                </a:solidFill>
                <a:latin typeface="Tahoma"/>
              </a:rPr>
              <a:t>Interpretace ústav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Ústava musí být řádně pochopena, potřeba výkladu interpret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Interpretace je úkolem každého subjektu, jenž ústavu užívá</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ředevším úkolem </a:t>
            </a:r>
            <a:r>
              <a:rPr b="0" lang="en-US" sz="3200" spc="-1" strike="noStrike" u="sng">
                <a:solidFill>
                  <a:srgbClr val="ff6600"/>
                </a:solidFill>
                <a:uFillTx/>
                <a:latin typeface="Tahoma"/>
              </a:rPr>
              <a:t>ústavodárného</a:t>
            </a:r>
            <a:r>
              <a:rPr b="0" lang="en-US" sz="3200" spc="-1" strike="noStrike">
                <a:solidFill>
                  <a:srgbClr val="ff6600"/>
                </a:solidFill>
                <a:latin typeface="Tahoma"/>
              </a:rPr>
              <a:t>, </a:t>
            </a:r>
            <a:r>
              <a:rPr b="0" lang="en-US" sz="3200" spc="-1" strike="noStrike" u="sng">
                <a:solidFill>
                  <a:srgbClr val="ff6600"/>
                </a:solidFill>
                <a:uFillTx/>
                <a:latin typeface="Tahoma"/>
              </a:rPr>
              <a:t>zákonodárného</a:t>
            </a:r>
            <a:r>
              <a:rPr b="0" lang="en-US" sz="3200" spc="-1" strike="noStrike">
                <a:solidFill>
                  <a:srgbClr val="ff6600"/>
                </a:solidFill>
                <a:latin typeface="Tahoma"/>
              </a:rPr>
              <a:t> a </a:t>
            </a:r>
            <a:r>
              <a:rPr b="0" lang="en-US" sz="3200" spc="-1" strike="noStrike" u="sng">
                <a:solidFill>
                  <a:srgbClr val="ff6600"/>
                </a:solidFill>
                <a:uFillTx/>
                <a:latin typeface="Tahoma"/>
              </a:rPr>
              <a:t>orgánu kontroly</a:t>
            </a:r>
            <a:r>
              <a:rPr b="0" lang="en-US" sz="3200" spc="-1" strike="noStrike">
                <a:solidFill>
                  <a:srgbClr val="ff6600"/>
                </a:solidFill>
                <a:latin typeface="Tahoma"/>
              </a:rPr>
              <a:t> </a:t>
            </a:r>
            <a:r>
              <a:rPr b="0" lang="en-US" sz="3200" spc="-1" strike="noStrike" u="sng">
                <a:solidFill>
                  <a:srgbClr val="ff6600"/>
                </a:solidFill>
                <a:uFillTx/>
                <a:latin typeface="Tahoma"/>
              </a:rPr>
              <a:t>ústavn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ffffff"/>
                </a:solidFill>
                <a:latin typeface="Tahoma"/>
              </a:rPr>
              <a:t>Interpretace ústavy</a:t>
            </a:r>
            <a:r>
              <a:rPr b="0" lang="en-US" sz="4000" spc="-1" strike="noStrike">
                <a:solidFill>
                  <a:srgbClr val="ffffff"/>
                </a:solidFill>
                <a:latin typeface="Tahoma"/>
              </a:rPr>
              <a:t> </a:t>
            </a:r>
            <a:br>
              <a:rPr sz="4000"/>
            </a:br>
            <a:br>
              <a:rPr sz="4000"/>
            </a:br>
            <a:r>
              <a:rPr b="0" lang="en-US" sz="4000" spc="-1" strike="noStrike" u="sng">
                <a:solidFill>
                  <a:srgbClr val="ffffff"/>
                </a:solidFill>
                <a:uFillTx/>
                <a:latin typeface="Tahoma"/>
              </a:rPr>
              <a:t>Interpretace parlamentu</a:t>
            </a:r>
            <a:endParaRPr b="0" lang="en-US" sz="40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musí při tvorbě zákonů interpretovat text ústavy tak, aby zákon </a:t>
            </a:r>
            <a:r>
              <a:rPr b="0" lang="en-US" sz="3200" spc="-1" strike="noStrike" u="sng">
                <a:solidFill>
                  <a:srgbClr val="ffffff"/>
                </a:solidFill>
                <a:uFillTx/>
                <a:latin typeface="Tahoma"/>
              </a:rPr>
              <a:t>nebyl v rozporu s ústa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ffffff"/>
                </a:solidFill>
                <a:latin typeface="Tahoma"/>
              </a:rPr>
              <a:t>Interpretace ústavy</a:t>
            </a:r>
            <a:r>
              <a:rPr b="0" lang="en-US" sz="4000" spc="-1" strike="noStrike">
                <a:solidFill>
                  <a:srgbClr val="ffffff"/>
                </a:solidFill>
                <a:latin typeface="Tahoma"/>
              </a:rPr>
              <a:t> </a:t>
            </a:r>
            <a:br>
              <a:rPr sz="4000"/>
            </a:br>
            <a:br>
              <a:rPr sz="4000"/>
            </a:br>
            <a:r>
              <a:rPr b="0" lang="en-US" sz="4000" spc="-1" strike="noStrike" u="sng">
                <a:solidFill>
                  <a:srgbClr val="ffffff"/>
                </a:solidFill>
                <a:uFillTx/>
                <a:latin typeface="Tahoma"/>
              </a:rPr>
              <a:t>Interpretace parlamentu</a:t>
            </a:r>
            <a:endParaRPr b="0" lang="en-US" sz="4000" spc="-1" strike="noStrike">
              <a:solidFill>
                <a:srgbClr val="ffffff"/>
              </a:solidFill>
              <a:latin typeface="Tahoma"/>
            </a:endParaRPr>
          </a:p>
        </p:txBody>
      </p:sp>
      <p:sp>
        <p:nvSpPr>
          <p:cNvPr id="155" name="PlaceHolder 2"/>
          <p:cNvSpPr>
            <a:spLocks noGrp="1"/>
          </p:cNvSpPr>
          <p:nvPr>
            <p:ph/>
          </p:nvPr>
        </p:nvSpPr>
        <p:spPr>
          <a:xfrm>
            <a:off x="457200" y="3042720"/>
            <a:ext cx="8229600" cy="297684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ament musí při tvorbě zákonů interpretovat text ústavy tak, aby zákon </a:t>
            </a:r>
            <a:r>
              <a:rPr b="0" lang="en-US" sz="3200" spc="-1" strike="noStrike" u="sng">
                <a:solidFill>
                  <a:srgbClr val="ffffff"/>
                </a:solidFill>
                <a:uFillTx/>
                <a:latin typeface="Tahoma"/>
              </a:rPr>
              <a:t>nebyl v rozporu s ústavou</a:t>
            </a:r>
            <a:endParaRPr b="0" lang="en-US" sz="3200" spc="-1" strike="noStrike">
              <a:solidFill>
                <a:srgbClr val="ffffff"/>
              </a:solidFill>
              <a:latin typeface="Tahoma"/>
            </a:endParaRPr>
          </a:p>
          <a:p>
            <a:pPr marL="305280" indent="-3052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a:t>
            </a:r>
            <a:r>
              <a:rPr b="0" lang="en-US" sz="3200" spc="-1" strike="noStrike" u="sng">
                <a:solidFill>
                  <a:srgbClr val="ffffff"/>
                </a:solidFill>
                <a:uFillTx/>
                <a:latin typeface="Tahoma"/>
              </a:rPr>
              <a:t>není v rozporu s ústavou</a:t>
            </a:r>
            <a:r>
              <a:rPr b="0" lang="en-US" sz="3200" spc="-1" strike="noStrike">
                <a:solidFill>
                  <a:srgbClr val="ffffff"/>
                </a:solidFill>
                <a:latin typeface="Tahoma"/>
              </a:rPr>
              <a:t>, jestliže je možný pouze takový jeho výklad, který je v souladu se základním zákonem a zákon si při tomto výkladu zachovává svůj smysl</a:t>
            </a:r>
            <a:endParaRPr b="0" lang="en-US" sz="3200" spc="-1" strike="noStrike">
              <a:solidFill>
                <a:srgbClr val="ffffff"/>
              </a:solidFill>
              <a:latin typeface="Tahoma"/>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ffffff"/>
                </a:solidFill>
                <a:latin typeface="Tahoma"/>
              </a:rPr>
              <a:t>Interpretace ústavy</a:t>
            </a:r>
            <a:r>
              <a:rPr b="0" lang="en-US" sz="4000" spc="-1" strike="noStrike">
                <a:solidFill>
                  <a:srgbClr val="ffffff"/>
                </a:solidFill>
                <a:latin typeface="Tahoma"/>
              </a:rPr>
              <a:t> </a:t>
            </a:r>
            <a:br>
              <a:rPr sz="4000"/>
            </a:br>
            <a:br>
              <a:rPr sz="4000"/>
            </a:br>
            <a:r>
              <a:rPr b="0" lang="en-US" sz="4000" spc="-1" strike="noStrike" u="sng">
                <a:solidFill>
                  <a:srgbClr val="ffffff"/>
                </a:solidFill>
                <a:uFillTx/>
                <a:latin typeface="Tahoma"/>
              </a:rPr>
              <a:t>Interpretace Ústavního soudu</a:t>
            </a:r>
            <a:endParaRPr b="0" lang="en-US" sz="4000" spc="-1" strike="noStrike">
              <a:solidFill>
                <a:srgbClr val="ffffff"/>
              </a:solidFill>
              <a:latin typeface="Tahoma"/>
            </a:endParaRPr>
          </a:p>
        </p:txBody>
      </p:sp>
      <p:sp>
        <p:nvSpPr>
          <p:cNvPr id="157" name="PlaceHolder 2"/>
          <p:cNvSpPr>
            <a:spLocks noGrp="1"/>
          </p:cNvSpPr>
          <p:nvPr>
            <p:ph/>
          </p:nvPr>
        </p:nvSpPr>
        <p:spPr>
          <a:xfrm>
            <a:off x="457200" y="3042720"/>
            <a:ext cx="8229600" cy="297684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 (kontroluje ústavnost a řeší ústavní konflikty) používá interpretaci jako základní metodu při naplňování své funk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ffffff"/>
                </a:solidFill>
                <a:latin typeface="Tahoma"/>
              </a:rPr>
              <a:t>Interpretace ústavy</a:t>
            </a:r>
            <a:r>
              <a:rPr b="0" lang="en-US" sz="4000" spc="-1" strike="noStrike">
                <a:solidFill>
                  <a:srgbClr val="ffffff"/>
                </a:solidFill>
                <a:latin typeface="Tahoma"/>
              </a:rPr>
              <a:t> </a:t>
            </a:r>
            <a:br>
              <a:rPr sz="4000"/>
            </a:br>
            <a:br>
              <a:rPr sz="4000"/>
            </a:br>
            <a:r>
              <a:rPr b="0" lang="en-US" sz="4000" spc="-1" strike="noStrike" u="sng">
                <a:solidFill>
                  <a:srgbClr val="ffffff"/>
                </a:solidFill>
                <a:uFillTx/>
                <a:latin typeface="Tahoma"/>
              </a:rPr>
              <a:t>Interpretace Ústavního soudu</a:t>
            </a:r>
            <a:endParaRPr b="0" lang="en-US" sz="4000" spc="-1" strike="noStrike">
              <a:solidFill>
                <a:srgbClr val="ffffff"/>
              </a:solidFill>
              <a:latin typeface="Tahoma"/>
            </a:endParaRPr>
          </a:p>
        </p:txBody>
      </p:sp>
      <p:sp>
        <p:nvSpPr>
          <p:cNvPr id="159" name="PlaceHolder 2"/>
          <p:cNvSpPr>
            <a:spLocks noGrp="1"/>
          </p:cNvSpPr>
          <p:nvPr>
            <p:ph/>
          </p:nvPr>
        </p:nvSpPr>
        <p:spPr>
          <a:xfrm>
            <a:off x="457200" y="3042720"/>
            <a:ext cx="8229600" cy="297684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 (kontroluje ústavnost a řeší ústavní konflikty) používá interpretaci jako základní metodu při naplňování své funkce</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ce zjišťuje obsah a význam normy </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ffffff"/>
                </a:solidFill>
                <a:latin typeface="Tahoma"/>
              </a:rPr>
              <a:t>Interpretace ústavy</a:t>
            </a:r>
            <a:r>
              <a:rPr b="0" lang="en-US" sz="4000" spc="-1" strike="noStrike">
                <a:solidFill>
                  <a:srgbClr val="ffffff"/>
                </a:solidFill>
                <a:latin typeface="Tahoma"/>
              </a:rPr>
              <a:t> </a:t>
            </a:r>
            <a:br>
              <a:rPr sz="4000"/>
            </a:br>
            <a:br>
              <a:rPr sz="4000"/>
            </a:br>
            <a:r>
              <a:rPr b="0" lang="en-US" sz="4000" spc="-1" strike="noStrike" u="sng">
                <a:solidFill>
                  <a:srgbClr val="ffffff"/>
                </a:solidFill>
                <a:uFillTx/>
                <a:latin typeface="Tahoma"/>
              </a:rPr>
              <a:t>Interpretace Ústavního soudu</a:t>
            </a:r>
            <a:endParaRPr b="0" lang="en-US" sz="4000" spc="-1" strike="noStrike">
              <a:solidFill>
                <a:srgbClr val="ffffff"/>
              </a:solidFill>
              <a:latin typeface="Tahoma"/>
            </a:endParaRPr>
          </a:p>
        </p:txBody>
      </p:sp>
      <p:sp>
        <p:nvSpPr>
          <p:cNvPr id="161" name="PlaceHolder 2"/>
          <p:cNvSpPr>
            <a:spLocks noGrp="1"/>
          </p:cNvSpPr>
          <p:nvPr>
            <p:ph/>
          </p:nvPr>
        </p:nvSpPr>
        <p:spPr>
          <a:xfrm>
            <a:off x="457200" y="3042720"/>
            <a:ext cx="8229600" cy="297684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 (kontroluje ústavnost a řeší ústavní konflikty) používá interpretaci jako základní metodu při naplňování své funkce</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ce zjišťuje obsah a význam normy </a:t>
            </a:r>
            <a:endParaRPr b="0" lang="en-US" sz="3200" spc="-1" strike="noStrike">
              <a:solidFill>
                <a:srgbClr val="ffffff"/>
              </a:solidFill>
              <a:latin typeface="Tahoma"/>
            </a:endParaRPr>
          </a:p>
          <a:p>
            <a:pPr marL="312120" indent="-312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smí nahrazovat zákonodárce</a:t>
            </a:r>
            <a:endParaRPr b="0" lang="en-US" sz="3200" spc="-1" strike="noStrike">
              <a:solidFill>
                <a:srgbClr val="ffffff"/>
              </a:solidFill>
              <a:latin typeface="Tahoma"/>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Ústavní systémy světa, ústavní model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ní systémy světa, ústavní model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spjaté s revolucem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ní systémy světa, ústavní model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spjaté s revolucem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19. stolet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40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Základní doporučená literatura:</a:t>
            </a:r>
            <a:endParaRPr b="0" lang="en-US" sz="4000" spc="-1" strike="noStrike">
              <a:solidFill>
                <a:srgbClr val="ffffff"/>
              </a:solidFill>
              <a:latin typeface="Tahoma"/>
            </a:endParaRPr>
          </a:p>
        </p:txBody>
      </p:sp>
      <p:sp>
        <p:nvSpPr>
          <p:cNvPr id="97" name="PlaceHolder 2"/>
          <p:cNvSpPr>
            <a:spLocks noGrp="1"/>
          </p:cNvSpPr>
          <p:nvPr>
            <p:ph/>
          </p:nvPr>
        </p:nvSpPr>
        <p:spPr>
          <a:xfrm>
            <a:off x="457200" y="836640"/>
            <a:ext cx="8229600" cy="60213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ahoma"/>
              </a:rPr>
              <a:t>ÚZ č. 612, Ústava ČR, Listina zákl. práv a svobod</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ahoma"/>
              </a:rPr>
              <a:t>ÚZ č. 625 – Evropské právo a základní dokumenty</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ahoma"/>
              </a:rPr>
              <a:t>Pezl, T. : Dokumenty ke studiu ústavního práva, Nakladatelství a vydavatelství Aleš Čeněk, s. r. o., Plzeň 2004</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ahoma"/>
              </a:rPr>
              <a:t>Klima, K. a kol. : Ústavní právo, 3. rozšířené vydání, Vydavatelství a nakladatelství Aleš Čeněk, s. r. o., Plzeň 2006</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ahoma"/>
              </a:rPr>
              <a:t>Klíma, K. a kol. : Státověda, Vyd. a nakl. Aleš Čeněk, s. r. o., Plzeň 2006</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ahoma"/>
              </a:rPr>
              <a:t>Klíma, K. a kol. : Praktikum ústavního práva, Vyd. a nakl. Aleš Čeněk, s. r. o. Plzeň 2005</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ahoma"/>
              </a:rPr>
              <a:t>Klíma, K. a kol. : Komentář k ústavě a listině, Vydavatelství a nakladatelství Aleš Čeněk, s. r. o., Plzeň 2005 (nové vydání plánováno na rok 2008)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ahoma"/>
              </a:rPr>
              <a:t>Blahož, J.,  Balaš, V.,  Klíma, K. : Praha 2003, Srovnávací ústavní právo, Praha 2003</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ní systémy světa, ústavní model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spjaté s revolucem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19. stolet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po I. Světové vál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ní systémy světa, ústavní model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spjaté s revolucem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19. stolet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po I. Světové vál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po II. Světové vál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ncouzský mode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ncouzský mode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klarace práv člověka a občana, r. 1789</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ncouzský mode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klarace práv člověka a občana, r. 1789</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 základem francouzské demokraci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ahoma"/>
              </a:rPr>
              <a:t>Dominantní ústavní modely</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Francouzský mode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Deklarace práv člověka a občana, r. 1789</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Je základem francouzské demokraci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Utvrzuje individuální svobodu občana a svobodu názorů, svobodu vlastnickou, suverenitu lidu, princip dělby moci</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lický mode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lický model – Britská ústa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upný vývoj, je tvořena psanými dokumenty a nepsanými pravidl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nglický model – Britská ústa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ostupný vývoj, je tvořena psanými dokumenty a nepsanými pravid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Součástí je common law –právo rozvíjené judikaturou soud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nglický model – Britská ústa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ostupný vývoj, je tvořena psanými dokumenty a nepsanými pravid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Součástí je common law –právo rozvíjené judikaturou soud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Součástí jsou ústavní konvence pro ústavní procesní pravidl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oporučená literatura doplňující:</a:t>
            </a:r>
            <a:endParaRPr b="0" lang="en-US" sz="4000" spc="-1" strike="noStrike">
              <a:solidFill>
                <a:srgbClr val="ffffff"/>
              </a:solidFill>
              <a:latin typeface="Tahoma"/>
            </a:endParaRPr>
          </a:p>
        </p:txBody>
      </p:sp>
      <p:sp>
        <p:nvSpPr>
          <p:cNvPr id="99" name="PlaceHolder 2"/>
          <p:cNvSpPr>
            <a:spLocks noGrp="1"/>
          </p:cNvSpPr>
          <p:nvPr>
            <p:ph/>
          </p:nvPr>
        </p:nvSpPr>
        <p:spPr>
          <a:xfrm>
            <a:off x="457200" y="1483920"/>
            <a:ext cx="82296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Teorie veřejné moci (vládnutí), K.Klíma, Praha 2003; 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Soudní kontrola ústavnosti, J. Blahož, Praha 2001;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Ústavní právo 1, J. Filip, MU Brno 1999;</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Vybrané kapitoly ke studiu ústavního práva, J. Filip, MU Brno 2001;</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Zákon o Ústavním soudu, komentář; J.Filip/ P.Holländer/ V.Šimíček,    Praha 2001;</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Ústavní stížnost, V. Šimíček, Praha 2001;</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Ústavní systémy evropských států, V. Klokočka, Praha 1996;</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Ústavní právo a státověda, II. díl; V. Pavlíček, Prah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ahoma"/>
              </a:rPr>
              <a:t>Dominantní ústavní modely</a:t>
            </a: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6600"/>
                </a:solidFill>
                <a:latin typeface="Tahoma"/>
              </a:rPr>
              <a:t>Anglický model – Britská ústava</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6600"/>
                </a:solidFill>
                <a:latin typeface="Tahoma"/>
              </a:rPr>
              <a:t>Postupný vývoj, je tvořena psanými dokumenty a nepsanými pravidly</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6600"/>
                </a:solidFill>
                <a:latin typeface="Tahoma"/>
              </a:rPr>
              <a:t>Součástí je common law –právo rozvíjené judikaturou soudů</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6600"/>
                </a:solidFill>
                <a:latin typeface="Tahoma"/>
              </a:rPr>
              <a:t>Součástí jsou ústavní konvence pro ústavní procesní pravidla</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6600"/>
                </a:solidFill>
                <a:latin typeface="Tahoma"/>
              </a:rPr>
              <a:t>Moderní britská ústavnost r. 168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erický mode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erický model – Ústava z r. 1787</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jstarší platná ústava svět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minantní ústavní modely</a:t>
            </a: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erický model – Ústava z r. 1787</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jstarší platná ústava svět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kotvuje princip suverenity lidu, princip většiny, princip dělby moci a systém rovnováhy a vzájemných brzd, princip federalism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ahoma"/>
              </a:rPr>
              <a:t>Dominantní ústavní modely</a:t>
            </a:r>
            <a:endParaRPr b="0" lang="en-US" sz="4400" spc="-1" strike="noStrike">
              <a:solidFill>
                <a:srgbClr val="ffffff"/>
              </a:solidFill>
              <a:latin typeface="Tahoma"/>
            </a:endParaRPr>
          </a:p>
        </p:txBody>
      </p:sp>
      <p:sp>
        <p:nvSpPr>
          <p:cNvPr id="1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Americký model – Ústava z r. 1787</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Nejstarší platná ústava světa</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Zakotvuje princip suverenity lidu, princip většiny, princip dělby moci a systém rovnováhy a vzájemných brzd, princip federalismu</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Každý z 50 států Unie má svoji ústavu, ta se řídí ústavou federál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Typy ústav</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právní – de iur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y faktické – de facto</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zpor mezi psanou a faktickou ústavou lze řešit průběžnými změnami, novou ústavou nebo také aktualizací, změnou interpreta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Vývoj čs. ústavy  - rysy</a:t>
            </a:r>
            <a:endParaRPr b="0" lang="en-US" sz="44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znik I. Československé republik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Vývoj čs. ústavy  - rysy</a:t>
            </a:r>
            <a:endParaRPr b="0" lang="en-US" sz="4400" spc="-1" strike="noStrike">
              <a:solidFill>
                <a:srgbClr val="ffffff"/>
              </a:solidFill>
              <a:latin typeface="Tahoma"/>
            </a:endParaRPr>
          </a:p>
        </p:txBody>
      </p:sp>
      <p:sp>
        <p:nvSpPr>
          <p:cNvPr id="2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znik I. Československé republik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I. Světová válk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Vývoj čs. ústavy  - rysy</a:t>
            </a:r>
            <a:endParaRPr b="0" lang="en-US" sz="4400" spc="-1" strike="noStrike">
              <a:solidFill>
                <a:srgbClr val="ffffff"/>
              </a:solidFill>
              <a:latin typeface="Tahoma"/>
            </a:endParaRPr>
          </a:p>
        </p:txBody>
      </p:sp>
      <p:sp>
        <p:nvSpPr>
          <p:cNvPr id="2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znik I. Československé republik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I. Světová válk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 1948 zařazení do systému sovětského konstitucionalism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Vývoj čs. ústavy  - rysy</a:t>
            </a: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znik I. Československé republik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I. Světová válk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 1948 zařazení do systému sovětského konstitucionalism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žské jaro – vznik federa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ontakt</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Konzultační hodin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Mgr. Ilona Kostadinovová</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ffcc00"/>
                </a:solidFill>
                <a:uFillTx/>
                <a:latin typeface="Tahoma"/>
                <a:hlinkClick r:id="rId2"/>
              </a:rPr>
              <a:t>ilda@seznam.cz</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ffcc00"/>
                </a:solidFill>
                <a:uFillTx/>
                <a:latin typeface="Tahoma"/>
                <a:hlinkClick r:id="rId3"/>
              </a:rPr>
              <a:t>www.sweb.cz/ild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Vývoj čs. ústavy  - rysy</a:t>
            </a:r>
            <a:endParaRPr b="0" lang="en-US" sz="44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znik I. Československé republik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I. Světová válk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 1948 zařazení do systému sovětského konstitucionalism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žské jaro – vznik feder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chodový ústavní systém po roce 1989 a vznik samostatného stát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Vývoj čs. ústavy  - rysy</a:t>
            </a:r>
            <a:endParaRPr b="0" lang="en-US" sz="44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znik I. Československé republiky</a:t>
            </a:r>
            <a:endParaRPr b="0" lang="en-US" sz="3200" spc="-1" strike="noStrike">
              <a:solidFill>
                <a:srgbClr val="ffffff"/>
              </a:solidFill>
              <a:latin typeface="Tahoma"/>
            </a:endParaRPr>
          </a:p>
          <a:p>
            <a:pPr marL="308520" indent="-3085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I. Světová válka</a:t>
            </a:r>
            <a:endParaRPr b="0" lang="en-US" sz="3200" spc="-1" strike="noStrike">
              <a:solidFill>
                <a:srgbClr val="ffffff"/>
              </a:solidFill>
              <a:latin typeface="Tahoma"/>
            </a:endParaRPr>
          </a:p>
          <a:p>
            <a:pPr marL="308520" indent="-3085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 1948 zařazení do systému sovětského konstitucionalismu</a:t>
            </a:r>
            <a:endParaRPr b="0" lang="en-US" sz="3200" spc="-1" strike="noStrike">
              <a:solidFill>
                <a:srgbClr val="ffffff"/>
              </a:solidFill>
              <a:latin typeface="Tahoma"/>
            </a:endParaRPr>
          </a:p>
          <a:p>
            <a:pPr marL="308520" indent="-3085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žské jaro – vznik federace</a:t>
            </a:r>
            <a:endParaRPr b="0" lang="en-US" sz="3200" spc="-1" strike="noStrike">
              <a:solidFill>
                <a:srgbClr val="ffffff"/>
              </a:solidFill>
              <a:latin typeface="Tahoma"/>
            </a:endParaRPr>
          </a:p>
          <a:p>
            <a:pPr marL="308520" indent="-3085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chodový ústavní systém po roce 1989 a vznik samostatného státu</a:t>
            </a:r>
            <a:endParaRPr b="0" lang="en-US" sz="3200" spc="-1" strike="noStrike">
              <a:solidFill>
                <a:srgbClr val="ffffff"/>
              </a:solidFill>
              <a:latin typeface="Tahoma"/>
            </a:endParaRPr>
          </a:p>
          <a:p>
            <a:pPr marL="308520" indent="-30852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žádné souvislé a stabilní vnější a vnitřní pomě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0000cc"/>
                </a:solidFill>
                <a:latin typeface="Tahoma"/>
              </a:rPr>
              <a:t>Etapizace čs. ústavního vývoje</a:t>
            </a:r>
            <a:r>
              <a:rPr b="0" lang="cs-CZ" sz="4400" spc="-1" strike="noStrike">
                <a:solidFill>
                  <a:srgbClr val="ffffff"/>
                </a:solidFill>
                <a:latin typeface="Tahoma"/>
              </a:rPr>
              <a:t> </a:t>
            </a:r>
            <a:endParaRPr b="0" lang="en-US" sz="44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ozatímní ústava z roku 191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ffff"/>
                </a:solidFill>
                <a:latin typeface="Tahoma"/>
              </a:rPr>
              <a:t>Etapizace čs. ústavního vývoje</a:t>
            </a:r>
            <a:r>
              <a:rPr b="0" lang="cs-CZ" sz="4400" spc="-1" strike="noStrike">
                <a:solidFill>
                  <a:srgbClr val="ffffff"/>
                </a:solidFill>
                <a:latin typeface="Tahoma"/>
              </a:rPr>
              <a:t> </a:t>
            </a:r>
            <a:endParaRPr b="0" lang="en-US" sz="4400" spc="-1" strike="noStrike">
              <a:solidFill>
                <a:srgbClr val="ffffff"/>
              </a:solidFill>
              <a:latin typeface="Tahoma"/>
            </a:endParaRPr>
          </a:p>
        </p:txBody>
      </p:sp>
      <p:sp>
        <p:nvSpPr>
          <p:cNvPr id="2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ozatímní ústava z roku 1918</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ČSR z r. 1920 až do roku 1938 resp. 1939 – Mnichovská dohod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ffff"/>
                </a:solidFill>
                <a:latin typeface="Tahoma"/>
              </a:rPr>
              <a:t>Etapizace čs. ústavního vývoje</a:t>
            </a:r>
            <a:r>
              <a:rPr b="0" lang="cs-CZ" sz="4400" spc="-1" strike="noStrike">
                <a:solidFill>
                  <a:srgbClr val="ffffff"/>
                </a:solidFill>
                <a:latin typeface="Tahoma"/>
              </a:rPr>
              <a:t> </a:t>
            </a:r>
            <a:endParaRPr b="0" lang="en-US" sz="4400" spc="-1" strike="noStrike">
              <a:solidFill>
                <a:srgbClr val="ffffff"/>
              </a:solidFill>
              <a:latin typeface="Tahoma"/>
            </a:endParaRPr>
          </a:p>
        </p:txBody>
      </p:sp>
      <p:sp>
        <p:nvSpPr>
          <p:cNvPr id="2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zatímní ústava z roku 1918</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a ČSR z r. 1920 až do roku 1938 resp. 1939 – Mnichovská dohod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tapa prozatímního zřízení Londýnského 1939 – 1945, osvobozování ČS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ffff"/>
                </a:solidFill>
                <a:latin typeface="Tahoma"/>
              </a:rPr>
              <a:t>Etapizace čs. ústavního vývoje</a:t>
            </a:r>
            <a:r>
              <a:rPr b="0" lang="cs-CZ" sz="4400" spc="-1" strike="noStrike">
                <a:solidFill>
                  <a:srgbClr val="ffffff"/>
                </a:solidFill>
                <a:latin typeface="Tahoma"/>
              </a:rPr>
              <a:t> </a:t>
            </a:r>
            <a:endParaRPr b="0" lang="en-US" sz="4400" spc="-1" strike="noStrike">
              <a:solidFill>
                <a:srgbClr val="ffffff"/>
              </a:solidFill>
              <a:latin typeface="Tahoma"/>
            </a:endParaRPr>
          </a:p>
        </p:txBody>
      </p:sp>
      <p:sp>
        <p:nvSpPr>
          <p:cNvPr id="2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ff"/>
                </a:solidFill>
                <a:latin typeface="Tahoma"/>
              </a:rPr>
              <a:t>Prozatímní ústava z roku 1918</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Ústava ČSR z r. 1920 až do roku 1938 resp. 1939 – Mnichovská dohoda</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Etapa prozatímního zřízení Londýnského 1939 – 1945, osvobozování ČSR</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1945 – 1948 příprava nové ústavy Ústavodárným nár. shromáždění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ffff"/>
                </a:solidFill>
                <a:latin typeface="Tahoma"/>
              </a:rPr>
              <a:t>Etapizace čs. ústavního vývoje</a:t>
            </a:r>
            <a:r>
              <a:rPr b="0" lang="cs-CZ" sz="4400" spc="-1" strike="noStrike">
                <a:solidFill>
                  <a:srgbClr val="ffffff"/>
                </a:solidFill>
                <a:latin typeface="Tahoma"/>
              </a:rPr>
              <a:t> </a:t>
            </a:r>
            <a:endParaRPr b="0" lang="en-US" sz="4400" spc="-1" strike="noStrike">
              <a:solidFill>
                <a:srgbClr val="ffffff"/>
              </a:solidFill>
              <a:latin typeface="Tahoma"/>
            </a:endParaRPr>
          </a:p>
        </p:txBody>
      </p:sp>
      <p:sp>
        <p:nvSpPr>
          <p:cNvPr id="2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ff"/>
                </a:solidFill>
                <a:latin typeface="Tahoma"/>
              </a:rPr>
              <a:t>Prozatímní ústava z roku 1918</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Ústava ČSR z r. 1920 až do roku 1938 resp. 1939 – Mnichovská dohoda</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Etapa prozatímního zřízení Londýnského 1939 – 1945, osvobozování ČSR</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1945 – 1948 příprava nové ústavy Ústavodárným nár. shromážděním</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Platnost Ústavy 1948 – 1960, 9.květ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ffff"/>
                </a:solidFill>
                <a:latin typeface="Tahoma"/>
              </a:rPr>
              <a:t>Etapizace čs. ústavního vývoje</a:t>
            </a:r>
            <a:r>
              <a:rPr b="0" lang="cs-CZ" sz="4400" spc="-1" strike="noStrike">
                <a:solidFill>
                  <a:srgbClr val="ffffff"/>
                </a:solidFill>
                <a:latin typeface="Tahoma"/>
              </a:rPr>
              <a:t> </a:t>
            </a:r>
            <a:endParaRPr b="0" lang="en-US" sz="44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dobí plné platnosti Ústavy ČSSR z roku 1960 – 1968</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ffff"/>
                </a:solidFill>
                <a:latin typeface="Tahoma"/>
              </a:rPr>
              <a:t>Etapizace čs. ústavního vývoje</a:t>
            </a:r>
            <a:r>
              <a:rPr b="0" lang="cs-CZ" sz="4400" spc="-1" strike="noStrike">
                <a:solidFill>
                  <a:srgbClr val="ffffff"/>
                </a:solidFill>
                <a:latin typeface="Tahoma"/>
              </a:rPr>
              <a:t> </a:t>
            </a:r>
            <a:endParaRPr b="0" lang="en-US" sz="44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dobí plné platnosti Ústavy ČSSR z roku 1960 – 1968</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dobí federativní ČSSR, novelizace Ústavy z roku 1960, č.143/1968Sb., 1968 - 1989</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11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ffff"/>
                </a:solidFill>
                <a:latin typeface="Tahoma"/>
              </a:rPr>
              <a:t>Etapizace čs. ústavního vývoje</a:t>
            </a:r>
            <a:r>
              <a:rPr b="0" lang="cs-CZ" sz="4400" spc="-1" strike="noStrike">
                <a:solidFill>
                  <a:srgbClr val="ffffff"/>
                </a:solidFill>
                <a:latin typeface="Tahoma"/>
              </a:rPr>
              <a:t> </a:t>
            </a:r>
            <a:endParaRPr b="0" lang="en-US" sz="4400" spc="-1" strike="noStrike">
              <a:solidFill>
                <a:srgbClr val="ffffff"/>
              </a:solidFill>
              <a:latin typeface="Tahoma"/>
            </a:endParaRPr>
          </a:p>
        </p:txBody>
      </p:sp>
      <p:sp>
        <p:nvSpPr>
          <p:cNvPr id="22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dobí plné platnosti Ústavy ČSSR z roku 1960 – 1968</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dobí federativní ČSSR, novelizace Ústavy z roku 1960, č.143/1968Sb., 1968 – 1989</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chodový ústavní systém, obnova politické demokracie, tržního hospodářství, zánik Československa - ČSFR, 1989 – 1992 resp. 1993</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Pojem  ústavního práva</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Římský právník Ulpián 170-228 n.l., dělení na veřejné a soukromé právo</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Ústava se vztahuje na veřejné právo</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eřejné právo je souhrn právních norem, jejichž prostřednictvím se veřejná moc utváří, konstituuje, vykonává a ztělesňuje</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Ústava tvoří basic veřejného práva, např. správní, finanční, trestní, je i řešením pro soukromé práv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Ústavní aspekty rozdělení Československ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m základem pro rozdělení Československa jsou:</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Ústavní zákony ze dne 13.11.1992 o dělení majetku ČSFR mezi ČR a SR</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zákon ze dne 25.11.1992 o zániku ČSFR</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ýsledkem byla Česká ústava přijata dne 16.12.1992 s účinností od 1.1.1993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Kontinuita a diskontinuita při vzniku České republiky</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át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zem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Ústava České republiky,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 8 hlav členěných do člán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a České republiky,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 8 hlav členěných do článk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I-IV , členění státní moc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a České republiky,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 8 hlav členěných do článk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I-IV , členění státní moc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 NKÚ</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a České republiky,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 8 hlav členěných do článk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I-IV , členění státní moc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 NKÚ</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I, ČNB</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a České republiky,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 8 hlav členěných do článk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II-IV , členění státní moc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 NKÚ</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I, ČNB</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II, územní samospráv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a České republiky,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mbule + 8 hlav členěných do článk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Hlava II-IV , členění státní moc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 NKÚ</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I, ČNB</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II, územní samospráv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lava VIII, přechodná a závěrečná ustanove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Ústava České republiky a mezinárodní právo</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R je součástí mezinárodního společenství států – vztahy mezinárodně práv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a České republiky a mezinárodní právo</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R je součástí mezinárodního společenství států – vztahy mezinárodně práv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evřený a uzavřený ústavní systé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Tahoma"/>
              </a:rPr>
              <a:t>Předmět ústavního práva</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p. vyjadřuje  organizaci společnosti, veřejné moci a strukturu mocenských prostředků</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p. je spjato s revolučním vývojem, francouzská revoluce</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p. vyjadřuje vztahy, které vznikají při výkonu moci, prostor pro činnost individua</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mětem ústavního práva jsou normy, normativně právní poj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a České republiky a mezinárodní právo</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R je součástí mezinárodního společenství států – vztahy mezinárodně práv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evřený a uzavřený ústavní systé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vek otevřenosti je čl. 10 Ústav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a České republiky a mezinárodní právo</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R je součástí mezinárodního společenství států – vztahy mezinárodně práv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evřený a uzavřený ústavní systé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vek otevřenosti je čl. 10 Ústav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10 staví mez. smlouvy na roveň ústavním zákonům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Ústava České republiky a mezinárodní právo</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R je součástí mezinárodního společenství států – vztahy mezinárodně právní</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evřený a uzavřený ústavní systém</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vek otevřenosti je čl. 10 Ústavy</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10 staví určité mez. smlouvy na roveň ústavním zákonům </a:t>
            </a: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Ústavní soud rozhoduje o opatřeních k realizaci rozhodnutí mez. soudu</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Ústava České republiky a mezinárodní smlouvy</a:t>
            </a:r>
            <a:endParaRPr b="0" lang="en-US" sz="40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z. Právo a 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Česká republika jako členský stát EU</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z právo a 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Listina základních práv a svobod,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5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kument v právní řádu bývalé ČSFR</a:t>
            </a:r>
            <a:endParaRPr b="0" lang="en-US" sz="3200" spc="-1" strike="noStrike">
              <a:solidFill>
                <a:srgbClr val="ffffff"/>
              </a:solidFill>
              <a:latin typeface="Tahoma"/>
            </a:endParaRPr>
          </a:p>
          <a:p>
            <a:pPr marL="308520" indent="-3085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Federálního shromáždění ČSFR, č. 23/1991 Sb.</a:t>
            </a:r>
            <a:endParaRPr b="0" lang="en-US" sz="3200" spc="-1" strike="noStrike">
              <a:solidFill>
                <a:srgbClr val="ffffff"/>
              </a:solidFill>
              <a:latin typeface="Tahoma"/>
            </a:endParaRPr>
          </a:p>
          <a:p>
            <a:pPr marL="308520" indent="-3085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Čl. 112</a:t>
            </a:r>
            <a:endParaRPr b="0" lang="en-US" sz="3200" spc="-1" strike="noStrike">
              <a:solidFill>
                <a:srgbClr val="ffffff"/>
              </a:solidFill>
              <a:latin typeface="Tahoma"/>
            </a:endParaRPr>
          </a:p>
          <a:p>
            <a:pPr marL="308520" indent="-3085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vazná pro všechny subjekty</a:t>
            </a:r>
            <a:endParaRPr b="0" lang="en-US" sz="3200" spc="-1" strike="noStrike">
              <a:solidFill>
                <a:srgbClr val="ffffff"/>
              </a:solidFill>
              <a:latin typeface="Tahoma"/>
            </a:endParaRPr>
          </a:p>
          <a:p>
            <a:pPr marL="308520" indent="-3085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menem ústavního práva, součástí ústavního pořádku</a:t>
            </a:r>
            <a:endParaRPr b="0" lang="en-US" sz="3200" spc="-1" strike="noStrike">
              <a:solidFill>
                <a:srgbClr val="ffffff"/>
              </a:solidFill>
              <a:latin typeface="Tahoma"/>
            </a:endParaRPr>
          </a:p>
          <a:p>
            <a:pPr marL="308520" indent="-3085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lad pro rozhodování Ústavního soud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stina základních práv a svobod,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zákl. p. s. upravuje práva občana a člověk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stina základních práv a svobod,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zákl. p. s. upravuje práva občana a člověk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dská práva a základní svobody hl. I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stina základních práv a svobod,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zákl. p. s. upravuje práva občana a člověk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dská práva a základní svobody hl. I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a národnostních a etnických menšin hl. II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stina základních práv a svobod,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zákl. p. s. upravuje práva občana a člověk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dská práva a základní svobody hl. I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a národnostních a etnických menšin hl. II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spodářská, sociální a kulturní práva hl. IV</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ředmětem ú.p. jsou tyto skupiny</a:t>
            </a:r>
            <a:endParaRPr b="0" lang="en-US" sz="40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a státu, forma vlády, výkon moci lidu, vymezení a omezení veřejné moci, suverenita lidu, tvorba orgánů</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ospráva, národní</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znání a vymezení svobody individu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lady parlamentní demokracie, soutěž politických str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stina základních práv a svobod, charakteristika, struktur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zákl. p. s. upravuje práva občana a člověka</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dská práva a základní svobody hl. II</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a národnostních a etnických menšin hl. III</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spodářská, sociální a kulturní práva hl. IV</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na soudní a jinou ochranu hl. V</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Tahoma"/>
              </a:rPr>
              <a:t>Lidská práva a základní svobody,</a:t>
            </a:r>
            <a:br>
              <a:rPr sz="4000"/>
            </a:br>
            <a:r>
              <a:rPr b="0" i="1" lang="en-US" sz="4000" spc="-1" strike="noStrike">
                <a:solidFill>
                  <a:srgbClr val="0000cc"/>
                </a:solidFill>
                <a:latin typeface="Tahoma"/>
              </a:rPr>
              <a:t>ústavněprávní základ</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garantuje v čl. 5 každé fyzické osobě postavení v právním systém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garantuje v čl. 5 každé fyzické osobě postavení v právním systém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na život, čl. 6 Listin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garantuje v čl. 5 každé fyzické osobě postavení v právním systém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na život, čl. 6 Listin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dotknutelnost osoby, čl. 7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7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garantuje v čl. 5 každé fyzické osobě postavení v právním systém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na život, čl. 6 Listin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dotknutelnost osoby, čl. 7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sobní svoboda, čl. 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garantuje v čl. 5 každé fyzické osobě postavení v právním systém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na život, čl. 6 Listin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dotknutelnost osoby, čl. 7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sobní svoboda, čl. 8</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az nucených prací nebo služeb, čl. 9</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garantuje v čl. 5 každé fyzické osobě postavení v právním systém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na život, čl. 6 Listin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dotknutelnost osoby, čl. 7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sobní svoboda, čl. 8</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az nucených prací nebo služeb, čl. 9</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vlastnictví, čl. 11 Listiny</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ina garantuje v čl. 5 každé fyzické osobě postavení v právním systému</a:t>
            </a:r>
            <a:endParaRPr b="0" lang="en-US" sz="3200" spc="-1" strike="noStrike">
              <a:solidFill>
                <a:srgbClr val="ffffff"/>
              </a:solidFill>
              <a:latin typeface="Tahoma"/>
            </a:endParaRPr>
          </a:p>
          <a:p>
            <a:pPr marL="332640" indent="-3326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na život, čl. 6 Listiny</a:t>
            </a:r>
            <a:endParaRPr b="0" lang="en-US" sz="3200" spc="-1" strike="noStrike">
              <a:solidFill>
                <a:srgbClr val="ffffff"/>
              </a:solidFill>
              <a:latin typeface="Tahoma"/>
            </a:endParaRPr>
          </a:p>
          <a:p>
            <a:pPr marL="332640" indent="-3326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dotknutelnost osoby, čl. 7 </a:t>
            </a:r>
            <a:endParaRPr b="0" lang="en-US" sz="3200" spc="-1" strike="noStrike">
              <a:solidFill>
                <a:srgbClr val="ffffff"/>
              </a:solidFill>
              <a:latin typeface="Tahoma"/>
            </a:endParaRPr>
          </a:p>
          <a:p>
            <a:pPr marL="332640" indent="-3326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sobní svoboda, čl. 8</a:t>
            </a:r>
            <a:endParaRPr b="0" lang="en-US" sz="3200" spc="-1" strike="noStrike">
              <a:solidFill>
                <a:srgbClr val="ffffff"/>
              </a:solidFill>
              <a:latin typeface="Tahoma"/>
            </a:endParaRPr>
          </a:p>
          <a:p>
            <a:pPr marL="332640" indent="-3326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az nucených prací nebo služeb, čl. 9</a:t>
            </a:r>
            <a:endParaRPr b="0" lang="en-US" sz="3200" spc="-1" strike="noStrike">
              <a:solidFill>
                <a:srgbClr val="ffffff"/>
              </a:solidFill>
              <a:latin typeface="Tahoma"/>
            </a:endParaRPr>
          </a:p>
          <a:p>
            <a:pPr marL="332640" indent="-3326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Právo vlastnictví, čl. 11</a:t>
            </a:r>
            <a:r>
              <a:rPr b="0" lang="en-US" sz="3200" spc="-1" strike="noStrike">
                <a:solidFill>
                  <a:srgbClr val="ffffff"/>
                </a:solidFill>
                <a:latin typeface="Tahoma"/>
              </a:rPr>
              <a:t> </a:t>
            </a:r>
            <a:endParaRPr b="0" lang="en-US" sz="3200" spc="-1" strike="noStrike">
              <a:solidFill>
                <a:srgbClr val="ffffff"/>
              </a:solidFill>
              <a:latin typeface="Tahoma"/>
            </a:endParaRPr>
          </a:p>
          <a:p>
            <a:pPr marL="332640" indent="-3326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dotknutelnost obydlí, čl. 1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ovní tajemství, tajemství jiných písemností a záznamů, tajemství přepravovaných zpráv, čl. 13</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Lidská práva a základní svobody,</a:t>
            </a:r>
            <a:br>
              <a:rPr sz="4000"/>
            </a:br>
            <a:r>
              <a:rPr b="0" i="1" lang="en-US" sz="4000" spc="-1" strike="noStrike">
                <a:solidFill>
                  <a:srgbClr val="ffffff"/>
                </a:solidFill>
                <a:latin typeface="Tahoma"/>
              </a:rPr>
              <a:t>ústavněprávní základ</a:t>
            </a:r>
            <a:endParaRPr b="0" lang="en-US" sz="4000" spc="-1" strike="noStrike">
              <a:solidFill>
                <a:srgbClr val="ffffff"/>
              </a:solidFill>
              <a:latin typeface="Tahoma"/>
            </a:endParaRPr>
          </a:p>
        </p:txBody>
      </p:sp>
      <p:sp>
        <p:nvSpPr>
          <p:cNvPr id="2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ovní tajemství, tajemství jiných písemností a záznamů, tajemství přepravovaných zpráv, čl. 13</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voboda pohybu a pobytu čl. 14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10:54:16Z</dcterms:created>
  <dc:creator>Petr</dc:creator>
  <dc:description/>
  <dc:language>en-US</dc:language>
  <cp:lastModifiedBy>Ilona</cp:lastModifiedBy>
  <dcterms:modified xsi:type="dcterms:W3CDTF">2008-12-15T20:23:43Z</dcterms:modified>
  <cp:revision>218</cp:revision>
  <dc:subject/>
  <dc:title>ÚSTAVNÍ PRÁVO </dc:title>
</cp:coreProperties>
</file>