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8.xml.rels" ContentType="application/vnd.openxmlformats-package.relationships+xml"/>
  <Override PartName="/ppt/notesSlides/_rels/notesSlide23.xml.rels" ContentType="application/vnd.openxmlformats-package.relationships+xml"/>
  <Override PartName="/ppt/notesSlides/_rels/notesSlide116.xml.rels" ContentType="application/vnd.openxmlformats-package.relationships+xml"/>
  <Override PartName="/ppt/notesSlides/_rels/notesSlide15.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104.xml.rels" ContentType="application/vnd.openxmlformats-package.relationships+xml"/>
  <Override PartName="/ppt/notesSlides/_rels/notesSlide36.xml.rels" ContentType="application/vnd.openxmlformats-package.relationships+xml"/>
  <Override PartName="/ppt/notesSlides/_rels/notesSlide149.xml.rels" ContentType="application/vnd.openxmlformats-package.relationships+xml"/>
  <Override PartName="/ppt/notesSlides/_rels/notesSlide129.xml.rels" ContentType="application/vnd.openxmlformats-package.relationships+xml"/>
  <Override PartName="/ppt/notesSlides/_rels/notesSlide133.xml.rels" ContentType="application/vnd.openxmlformats-package.relationships+xml"/>
  <Override PartName="/ppt/notesSlides/_rels/notesSlide145.xml.rels" ContentType="application/vnd.openxmlformats-package.relationships+xml"/>
  <Override PartName="/ppt/notesSlides/_rels/notesSlide24.xml.rels" ContentType="application/vnd.openxmlformats-package.relationships+xml"/>
  <Override PartName="/ppt/notesSlides/_rels/notesSlide179.xml.rels" ContentType="application/vnd.openxmlformats-package.relationships+xml"/>
  <Override PartName="/ppt/notesSlides/_rels/notesSlide157.xml.rels" ContentType="application/vnd.openxmlformats-package.relationships+xml"/>
  <Override PartName="/ppt/notesSlides/_rels/notesSlide95.xml.rels" ContentType="application/vnd.openxmlformats-package.relationships+xml"/>
  <Override PartName="/ppt/notesSlides/_rels/notesSlide155.xml.rels" ContentType="application/vnd.openxmlformats-package.relationships+xml"/>
  <Override PartName="/ppt/notesSlides/_rels/notesSlide10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80.xml.rels" ContentType="application/vnd.openxmlformats-package.relationships+xml"/>
  <Override PartName="/ppt/notesSlides/_rels/notesSlide138.xml.rels" ContentType="application/vnd.openxmlformats-package.relationships+xml"/>
  <Override PartName="/ppt/notesSlides/_rels/notesSlide25.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112.xml.rels" ContentType="application/vnd.openxmlformats-package.relationships+xml"/>
  <Override PartName="/ppt/notesSlides/_rels/notesSlide7.xml.rels" ContentType="application/vnd.openxmlformats-package.relationships+xml"/>
  <Override PartName="/ppt/notesSlides/_rels/notesSlide49.xml.rels" ContentType="application/vnd.openxmlformats-package.relationships+xml"/>
  <Override PartName="/ppt/notesSlides/_rels/notesSlide132.xml.rels" ContentType="application/vnd.openxmlformats-package.relationships+xml"/>
  <Override PartName="/ppt/notesSlides/_rels/notesSlide128.xml.rels" ContentType="application/vnd.openxmlformats-package.relationships+xml"/>
  <Override PartName="/ppt/notesSlides/_rels/notesSlide70.xml.rels" ContentType="application/vnd.openxmlformats-package.relationships+xml"/>
  <Override PartName="/ppt/notesSlides/_rels/notesSlide131.xml.rels" ContentType="application/vnd.openxmlformats-package.relationships+xml"/>
  <Override PartName="/ppt/notesSlides/_rels/notesSlide127.xml.rels" ContentType="application/vnd.openxmlformats-package.relationships+xml"/>
  <Override PartName="/ppt/notesSlides/_rels/notesSlide199.xml.rels" ContentType="application/vnd.openxmlformats-package.relationships+xml"/>
  <Override PartName="/ppt/notesSlides/_rels/notesSlide4.xml.rels" ContentType="application/vnd.openxmlformats-package.relationships+xml"/>
  <Override PartName="/ppt/notesSlides/_rels/notesSlide96.xml.rels" ContentType="application/vnd.openxmlformats-package.relationships+xml"/>
  <Override PartName="/ppt/notesSlides/_rels/notesSlide194.xml.rels" ContentType="application/vnd.openxmlformats-package.relationships+xml"/>
  <Override PartName="/ppt/notesSlides/_rels/notesSlide156.xml.rels" ContentType="application/vnd.openxmlformats-package.relationships+xml"/>
  <Override PartName="/ppt/notesSlides/_rels/notesSlide103.xml.rels" ContentType="application/vnd.openxmlformats-package.relationships+xml"/>
  <Override PartName="/ppt/notesSlides/_rels/notesSlide79.xml.rels" ContentType="application/vnd.openxmlformats-package.relationships+xml"/>
  <Override PartName="/ppt/notesSlides/_rels/notesSlide139.xml.rels" ContentType="application/vnd.openxmlformats-package.relationships+xml"/>
  <Override PartName="/ppt/notesSlides/_rels/notesSlide143.xml.rels" ContentType="application/vnd.openxmlformats-package.relationships+xml"/>
  <Override PartName="/ppt/notesSlides/_rels/notesSlide141.xml.rels" ContentType="application/vnd.openxmlformats-package.relationships+xml"/>
  <Override PartName="/ppt/notesSlides/_rels/notesSlide81.xml.rels" ContentType="application/vnd.openxmlformats-package.relationships+xml"/>
  <Override PartName="/ppt/notesSlides/_rels/notesSlide124.xml.rels" ContentType="application/vnd.openxmlformats-package.relationships+xml"/>
  <Override PartName="/ppt/notesSlides/_rels/notesSlide146.xml.rels" ContentType="application/vnd.openxmlformats-package.relationships+xml"/>
  <Override PartName="/ppt/notesSlides/_rels/notesSlide190.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100.xml.rels" ContentType="application/vnd.openxmlformats-package.relationships+xml"/>
  <Override PartName="/ppt/notesSlides/_rels/notesSlide195.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111.xml.rels" ContentType="application/vnd.openxmlformats-package.relationships+xml"/>
  <Override PartName="/ppt/notesSlides/_rels/notesSlide121.xml.rels" ContentType="application/vnd.openxmlformats-package.relationships+xml"/>
  <Override PartName="/ppt/notesSlides/_rels/notesSlide126.xml.rels" ContentType="application/vnd.openxmlformats-package.relationships+xml"/>
  <Override PartName="/ppt/notesSlides/_rels/notesSlide147.xml.rels" ContentType="application/vnd.openxmlformats-package.relationships+xml"/>
  <Override PartName="/ppt/notesSlides/_rels/notesSlide191.xml.rels" ContentType="application/vnd.openxmlformats-package.relationships+xml"/>
  <Override PartName="/ppt/notesSlides/_rels/notesSlide97.xml.rels" ContentType="application/vnd.openxmlformats-package.relationships+xml"/>
  <Override PartName="/ppt/notesSlides/_rels/notesSlide169.xml.rels" ContentType="application/vnd.openxmlformats-package.relationships+xml"/>
  <Override PartName="/ppt/notesSlides/_rels/notesSlide14.xml.rels" ContentType="application/vnd.openxmlformats-package.relationships+xml"/>
  <Override PartName="/ppt/notesSlides/_rels/notesSlide192.xml.rels" ContentType="application/vnd.openxmlformats-package.relationships+xml"/>
  <Override PartName="/ppt/notesSlides/_rels/notesSlide148.xml.rels" ContentType="application/vnd.openxmlformats-package.relationships+xml"/>
  <Override PartName="/ppt/notesSlides/_rels/notesSlide9.xml.rels" ContentType="application/vnd.openxmlformats-package.relationships+xml"/>
  <Override PartName="/ppt/notesSlides/_rels/notesSlide193.xml.rels" ContentType="application/vnd.openxmlformats-package.relationships+xml"/>
  <Override PartName="/ppt/notesSlides/_rels/notesSlide31.xml.rels" ContentType="application/vnd.openxmlformats-package.relationships+xml"/>
  <Override PartName="/ppt/notesSlides/_rels/notesSlide189.xml.rels" ContentType="application/vnd.openxmlformats-package.relationships+xml"/>
  <Override PartName="/ppt/notesSlides/_rels/notesSlide34.xml.rels" ContentType="application/vnd.openxmlformats-package.relationships+xml"/>
  <Override PartName="/ppt/notesSlides/_rels/notesSlide134.xml.rels" ContentType="application/vnd.openxmlformats-package.relationships+xml"/>
  <Override PartName="/ppt/notesSlides/_rels/notesSlide8.xml.rels" ContentType="application/vnd.openxmlformats-package.relationships+xml"/>
  <Override PartName="/ppt/notesSlides/_rels/notesSlide113.xml.rels" ContentType="application/vnd.openxmlformats-package.relationships+xml"/>
  <Override PartName="/ppt/notesSlides/_rels/notesSlide35.xml.rels" ContentType="application/vnd.openxmlformats-package.relationships+xml"/>
  <Override PartName="/ppt/notesSlides/_rels/notesSlide85.xml.rels" ContentType="application/vnd.openxmlformats-package.relationships+xml"/>
  <Override PartName="/ppt/notesSlides/_rels/notesSlide173.xml.rels" ContentType="application/vnd.openxmlformats-package.relationships+xml"/>
  <Override PartName="/ppt/notesSlides/_rels/notesSlide135.xml.rels" ContentType="application/vnd.openxmlformats-package.relationships+xml"/>
  <Override PartName="/ppt/notesSlides/_rels/notesSlide39.xml.rels" ContentType="application/vnd.openxmlformats-package.relationships+xml"/>
  <Override PartName="/ppt/notesSlides/_rels/notesSlide105.xml.rels" ContentType="application/vnd.openxmlformats-package.relationships+xml"/>
  <Override PartName="/ppt/notesSlides/_rels/notesSlide45.xml.rels" ContentType="application/vnd.openxmlformats-package.relationships+xml"/>
  <Override PartName="/ppt/notesSlides/_rels/notesSlide171.xml.rels" ContentType="application/vnd.openxmlformats-package.relationships+xml"/>
  <Override PartName="/ppt/notesSlides/_rels/notesSlide167.xml.rels" ContentType="application/vnd.openxmlformats-package.relationships+xml"/>
  <Override PartName="/ppt/notesSlides/_rels/notesSlide12.xml.rels" ContentType="application/vnd.openxmlformats-package.relationships+xml"/>
  <Override PartName="/ppt/notesSlides/_rels/notesSlide28.xml.rels" ContentType="application/vnd.openxmlformats-package.relationships+xml"/>
  <Override PartName="/ppt/notesSlides/_rels/notesSlide72.xml.rels" ContentType="application/vnd.openxmlformats-package.relationships+xml"/>
  <Override PartName="/ppt/notesSlides/_rels/notesSlide172.xml.rels" ContentType="application/vnd.openxmlformats-package.relationships+xml"/>
  <Override PartName="/ppt/notesSlides/_rels/notesSlide84.xml.rels" ContentType="application/vnd.openxmlformats-package.relationships+xml"/>
  <Override PartName="/ppt/notesSlides/_rels/notesSlide142.xml.rels" ContentType="application/vnd.openxmlformats-package.relationships+xml"/>
  <Override PartName="/ppt/notesSlides/_rels/notesSlide82.xml.rels" ContentType="application/vnd.openxmlformats-package.relationships+xml"/>
  <Override PartName="/ppt/notesSlides/_rels/notesSlide117.xml.rels" ContentType="application/vnd.openxmlformats-package.relationships+xml"/>
  <Override PartName="/ppt/notesSlides/_rels/notesSlide118.xml.rels" ContentType="application/vnd.openxmlformats-package.relationships+xml"/>
  <Override PartName="/ppt/notesSlides/_rels/notesSlide101.xml.rels" ContentType="application/vnd.openxmlformats-package.relationships+xml"/>
  <Override PartName="/ppt/notesSlides/_rels/notesSlide41.xml.rels" ContentType="application/vnd.openxmlformats-package.relationships+xml"/>
  <Override PartName="/ppt/notesSlides/_rels/notesSlide196.xml.rels" ContentType="application/vnd.openxmlformats-package.relationships+xml"/>
  <Override PartName="/ppt/notesSlides/_rels/notesSlide76.xml.rels" ContentType="application/vnd.openxmlformats-package.relationships+xml"/>
  <Override PartName="/ppt/notesSlides/_rels/notesSlide136.xml.rels" ContentType="application/vnd.openxmlformats-package.relationships+xml"/>
  <Override PartName="/ppt/notesSlides/_rels/notesSlide74.xml.rels" ContentType="application/vnd.openxmlformats-package.relationships+xml"/>
  <Override PartName="/ppt/notesSlides/_rels/notesSlide77.xml.rels" ContentType="application/vnd.openxmlformats-package.relationships+xml"/>
  <Override PartName="/ppt/notesSlides/_rels/notesSlide137.xml.rels" ContentType="application/vnd.openxmlformats-package.relationships+xml"/>
  <Override PartName="/ppt/notesSlides/_rels/notesSlide75.xml.rels" ContentType="application/vnd.openxmlformats-package.relationships+xml"/>
  <Override PartName="/ppt/notesSlides/_rels/notesSlide91.xml.rels" ContentType="application/vnd.openxmlformats-package.relationships+xml"/>
  <Override PartName="/ppt/notesSlides/_rels/notesSlide107.xml.rels" ContentType="application/vnd.openxmlformats-package.relationships+xml"/>
  <Override PartName="/ppt/notesSlides/_rels/notesSlide151.xml.rels" ContentType="application/vnd.openxmlformats-package.relationships+xml"/>
  <Override PartName="/ppt/notesSlides/_rels/notesSlide92.xml.rels" ContentType="application/vnd.openxmlformats-package.relationships+xml"/>
  <Override PartName="/ppt/notesSlides/_rels/notesSlide152.xml.rels" ContentType="application/vnd.openxmlformats-package.relationships+xml"/>
  <Override PartName="/ppt/notesSlides/_rels/notesSlide93.xml.rels" ContentType="application/vnd.openxmlformats-package.relationships+xml"/>
  <Override PartName="/ppt/notesSlides/_rels/notesSlide153.xml.rels" ContentType="application/vnd.openxmlformats-package.relationships+xml"/>
  <Override PartName="/ppt/notesSlides/_rels/notesSlide94.xml.rels" ContentType="application/vnd.openxmlformats-package.relationships+xml"/>
  <Override PartName="/ppt/notesSlides/_rels/notesSlide154.xml.rels" ContentType="application/vnd.openxmlformats-package.relationships+xml"/>
  <Override PartName="/ppt/notesSlides/_rels/notesSlide119.xml.rels" ContentType="application/vnd.openxmlformats-package.relationships+xml"/>
  <Override PartName="/ppt/notesSlides/_rels/notesSlide163.xml.rels" ContentType="application/vnd.openxmlformats-package.relationships+xml"/>
  <Override PartName="/ppt/notesSlides/_rels/notesSlide17.xml.rels" ContentType="application/vnd.openxmlformats-package.relationships+xml"/>
  <Override PartName="/ppt/notesSlides/_rels/notesSlide61.xml.rels" ContentType="application/vnd.openxmlformats-package.relationships+xml"/>
  <Override PartName="/ppt/notesSlides/_rels/notesSlide164.xml.rels" ContentType="application/vnd.openxmlformats-package.relationships+xml"/>
  <Override PartName="/ppt/notesSlides/_rels/notesSlide10.xml.rels" ContentType="application/vnd.openxmlformats-package.relationships+xml"/>
  <Override PartName="/ppt/notesSlides/_rels/notesSlide165.xml.rels" ContentType="application/vnd.openxmlformats-package.relationships+xml"/>
  <Override PartName="/ppt/notesSlides/_rels/notesSlide11.xml.rels" ContentType="application/vnd.openxmlformats-package.relationships+xml"/>
  <Override PartName="/ppt/notesSlides/_rels/notesSlide166.xml.rels" ContentType="application/vnd.openxmlformats-package.relationships+xml"/>
  <Override PartName="/ppt/notesSlides/_rels/notesSlide13.xml.rels" ContentType="application/vnd.openxmlformats-package.relationships+xml"/>
  <Override PartName="/ppt/notesSlides/_rels/notesSlide168.xml.rels" ContentType="application/vnd.openxmlformats-package.relationships+xml"/>
  <Override PartName="/ppt/notesSlides/_rels/notesSlide71.xml.rels" ContentType="application/vnd.openxmlformats-package.relationships+xml"/>
  <Override PartName="/ppt/notesSlides/_rels/notesSlide150.xml.rels" ContentType="application/vnd.openxmlformats-package.relationships+xml"/>
  <Override PartName="/ppt/notesSlides/_rels/notesSlide90.xml.rels" ContentType="application/vnd.openxmlformats-package.relationships+xml"/>
  <Override PartName="/ppt/notesSlides/_rels/notesSlide106.xml.rels" ContentType="application/vnd.openxmlformats-package.relationships+xml"/>
  <Override PartName="/ppt/notesSlides/_rels/notesSlide174.xml.rels" ContentType="application/vnd.openxmlformats-package.relationships+xml"/>
  <Override PartName="/ppt/notesSlides/_rels/notesSlide29.xml.rels" ContentType="application/vnd.openxmlformats-package.relationships+xml"/>
  <Override PartName="/ppt/notesSlides/_rels/notesSlide73.xml.rels" ContentType="application/vnd.openxmlformats-package.relationships+xml"/>
  <Override PartName="/ppt/notesSlides/_rels/notesSlide176.xml.rels" ContentType="application/vnd.openxmlformats-package.relationships+xml"/>
  <Override PartName="/ppt/notesSlides/_rels/notesSlide22.xml.rels" ContentType="application/vnd.openxmlformats-package.relationships+xml"/>
  <Override PartName="/ppt/notesSlides/_rels/notesSlide177.xml.rels" ContentType="application/vnd.openxmlformats-package.relationships+xml"/>
  <Override PartName="/ppt/notesSlides/notesSlide179.xml" ContentType="application/vnd.openxmlformats-officedocument.presentationml.notesSlide+xml"/>
  <Override PartName="/ppt/notesSlides/notesSlide76.xml" ContentType="application/vnd.openxmlformats-officedocument.presentationml.notesSlide+xml"/>
  <Override PartName="/ppt/notesSlides/notesSlide80.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77.xml" ContentType="application/vnd.openxmlformats-officedocument.presentationml.notesSlide+xml"/>
  <Override PartName="/ppt/notesSlides/notesSlide124.xml" ContentType="application/vnd.openxmlformats-officedocument.presentationml.notesSlide+xml"/>
  <Override PartName="/ppt/notesSlides/notesSlide192.xml" ContentType="application/vnd.openxmlformats-officedocument.presentationml.notesSlide+xml"/>
  <Override PartName="/ppt/notesSlides/notesSlide101.xml" ContentType="application/vnd.openxmlformats-officedocument.presentationml.notesSlide+xml"/>
  <Override PartName="/ppt/notesSlides/notesSlide25.xml" ContentType="application/vnd.openxmlformats-officedocument.presentationml.notesSlide+xml"/>
  <Override PartName="/ppt/notesSlides/notesSlide6.xml" ContentType="application/vnd.openxmlformats-officedocument.presentationml.notesSlide+xml"/>
  <Override PartName="/ppt/notesSlides/notesSlide22.xml" ContentType="application/vnd.openxmlformats-officedocument.presentationml.notesSlide+xml"/>
  <Override PartName="/ppt/notesSlides/notesSlide1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39.xml" ContentType="application/vnd.openxmlformats-officedocument.presentationml.notesSlide+xml"/>
  <Override PartName="/ppt/notesSlides/notesSlide38.xml" ContentType="application/vnd.openxmlformats-officedocument.presentationml.notesSlide+xml"/>
  <Override PartName="/ppt/notesSlides/notesSlide111.xml" ContentType="application/vnd.openxmlformats-officedocument.presentationml.notesSlide+xml"/>
  <Override PartName="/ppt/notesSlides/notesSlide142.xml" ContentType="application/vnd.openxmlformats-officedocument.presentationml.notesSlide+xml"/>
  <Override PartName="/ppt/notesSlides/notesSlide190.xml" ContentType="application/vnd.openxmlformats-officedocument.presentationml.notesSlide+xml"/>
  <Override PartName="/ppt/notesSlides/notesSlide148.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50.xml" ContentType="application/vnd.openxmlformats-officedocument.presentationml.notesSlide+xml"/>
  <Override PartName="/ppt/notesSlides/notesSlide169.xml" ContentType="application/vnd.openxmlformats-officedocument.presentationml.notesSlide+xml"/>
  <Override PartName="/ppt/notesSlides/notesSlide141.xml" ContentType="application/vnd.openxmlformats-officedocument.presentationml.notesSlide+xml"/>
  <Override PartName="/ppt/notesSlides/notesSlide191.xml" ContentType="application/vnd.openxmlformats-officedocument.presentationml.notesSlide+xml"/>
  <Override PartName="/ppt/notesSlides/notesSlide79.xml" ContentType="application/vnd.openxmlformats-officedocument.presentationml.notesSlide+xml"/>
  <Override PartName="/ppt/notesSlides/notesSlide91.xml" ContentType="application/vnd.openxmlformats-officedocument.presentationml.notesSlide+xml"/>
  <Override PartName="/ppt/notesSlides/notesSlide126.xml" ContentType="application/vnd.openxmlformats-officedocument.presentationml.notesSlide+xml"/>
  <Override PartName="/ppt/notesSlides/notesSlide194.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146.xml" ContentType="application/vnd.openxmlformats-officedocument.presentationml.notesSlide+xml"/>
  <Override PartName="/ppt/notesSlides/notesSlide131.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99.xml" ContentType="application/vnd.openxmlformats-officedocument.presentationml.notesSlide+xml"/>
  <Override PartName="/ppt/notesSlides/notesSlide149.xml" ContentType="application/vnd.openxmlformats-officedocument.presentationml.notesSlide+xml"/>
  <Override PartName="/ppt/notesSlides/notesSlide143.xml" ContentType="application/vnd.openxmlformats-officedocument.presentationml.notesSlide+xml"/>
  <Override PartName="/ppt/notesSlides/notesSlide96.xml" ContentType="application/vnd.openxmlformats-officedocument.presentationml.notesSlide+xml"/>
  <Override PartName="/ppt/notesSlides/notesSlide199.xml" ContentType="application/vnd.openxmlformats-officedocument.presentationml.notesSlide+xml"/>
  <Override PartName="/ppt/notesSlides/notesSlide15.xml" ContentType="application/vnd.openxmlformats-officedocument.presentationml.notesSlide+xml"/>
  <Override PartName="/ppt/notesSlides/notesSlide40.xml" ContentType="application/vnd.openxmlformats-officedocument.presentationml.notesSlide+xml"/>
  <Override PartName="/ppt/notesSlides/notesSlide145.xml" ContentType="application/vnd.openxmlformats-officedocument.presentationml.notesSlide+xml"/>
  <Override PartName="/ppt/notesSlides/notesSlide95.xml" ContentType="application/vnd.openxmlformats-officedocument.presentationml.notesSlide+xml"/>
  <Override PartName="/ppt/notesSlides/notesSlide17.xml" ContentType="application/vnd.openxmlformats-officedocument.presentationml.notesSlide+xml"/>
  <Override PartName="/ppt/notesSlides/notesSlide45.xml" ContentType="application/vnd.openxmlformats-officedocument.presentationml.notesSlide+xml"/>
  <Override PartName="/ppt/notesSlides/notesSlide129.xml" ContentType="application/vnd.openxmlformats-officedocument.presentationml.notesSlide+xml"/>
  <Override PartName="/ppt/notesSlides/notesSlide94.xml" ContentType="application/vnd.openxmlformats-officedocument.presentationml.notesSlide+xml"/>
  <Override PartName="/ppt/notesSlides/notesSlide41.xml" ContentType="application/vnd.openxmlformats-officedocument.presentationml.notesSlide+xml"/>
  <Override PartName="/ppt/notesSlides/notesSlide132.xml" ContentType="application/vnd.openxmlformats-officedocument.presentationml.notesSlide+xml"/>
  <Override PartName="/ppt/notesSlides/notesSlide16.xml" ContentType="application/vnd.openxmlformats-officedocument.presentationml.notesSlide+xml"/>
  <Override PartName="/ppt/notesSlides/notesSlide147.xml" ContentType="application/vnd.openxmlformats-officedocument.presentationml.notesSlide+xml"/>
  <Override PartName="/ppt/notesSlides/notesSlide97.xml" ContentType="application/vnd.openxmlformats-officedocument.presentationml.notesSlide+xml"/>
  <Override PartName="/ppt/notesSlides/notesSlide127.xml" ContentType="application/vnd.openxmlformats-officedocument.presentationml.notesSlide+xml"/>
  <Override PartName="/ppt/notesSlides/notesSlide92.xml" ContentType="application/vnd.openxmlformats-officedocument.presentationml.notesSlide+xml"/>
  <Override PartName="/ppt/notesSlides/notesSlide19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4.xml" ContentType="application/vnd.openxmlformats-officedocument.presentationml.notesSlide+xml"/>
  <Override PartName="/ppt/notesSlides/notesSlide189.xml" ContentType="application/vnd.openxmlformats-officedocument.presentationml.notesSlide+xml"/>
  <Override PartName="/ppt/notesSlides/notesSlide31.xml" ContentType="application/vnd.openxmlformats-officedocument.presentationml.notesSlide+xml"/>
  <Override PartName="/ppt/notesSlides/notesSlide2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85.xml" ContentType="application/vnd.openxmlformats-officedocument.presentationml.notesSlide+xml"/>
  <Override PartName="/ppt/notesSlides/notesSlide135.xml" ContentType="application/vnd.openxmlformats-officedocument.presentationml.notesSlide+xml"/>
  <Override PartName="/ppt/notesSlides/notesSlide2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12.xml" ContentType="application/vnd.openxmlformats-officedocument.presentationml.notesSlide+xml"/>
  <Override PartName="/ppt/notesSlides/notesSlide39.xml" ContentType="application/vnd.openxmlformats-officedocument.presentationml.notesSlide+xml"/>
  <Override PartName="/ppt/notesSlides/notesSlide100.xml" ContentType="application/vnd.openxmlformats-officedocument.presentationml.notesSlide+xml"/>
  <Override PartName="/ppt/notesSlides/notesSlide103.xml" ContentType="application/vnd.openxmlformats-officedocument.presentationml.notesSlide+xml"/>
  <Override PartName="/ppt/notesSlides/notesSlide171.xml" ContentType="application/vnd.openxmlformats-officedocument.presentationml.notesSlide+xml"/>
  <Override PartName="/ppt/notesSlides/notesSlide72.xml" ContentType="application/vnd.openxmlformats-officedocument.presentationml.notesSlide+xml"/>
  <Override PartName="/ppt/notesSlides/notesSlide107.xml" ContentType="application/vnd.openxmlformats-officedocument.presentationml.notesSlide+xml"/>
  <Override PartName="/ppt/notesSlides/notesSlide172.xml" ContentType="application/vnd.openxmlformats-officedocument.presentationml.notesSlide+xml"/>
  <Override PartName="/ppt/notesSlides/notesSlide104.xml" ContentType="application/vnd.openxmlformats-officedocument.presentationml.notesSlide+xml"/>
  <Override PartName="/ppt/notesSlides/notesSlide113.xml" ContentType="application/vnd.openxmlformats-officedocument.presentationml.notesSlide+xml"/>
  <Override PartName="/ppt/notesSlides/notesSlide81.xml" ContentType="application/vnd.openxmlformats-officedocument.presentationml.notesSlide+xml"/>
  <Override PartName="/ppt/notesSlides/notesSlide116.xml" ContentType="application/vnd.openxmlformats-officedocument.presentationml.notesSlide+xml"/>
  <Override PartName="/ppt/notesSlides/notesSlide82.xml" ContentType="application/vnd.openxmlformats-officedocument.presentationml.notesSlide+xml"/>
  <Override PartName="/ppt/notesSlides/notesSlide117.xml" ContentType="application/vnd.openxmlformats-officedocument.presentationml.notesSlide+xml"/>
  <Override PartName="/ppt/notesSlides/notesSlide118.xml" ContentType="application/vnd.openxmlformats-officedocument.presentationml.notesSlide+xml"/>
  <Override PartName="/ppt/notesSlides/notesSlide84.xml" ContentType="application/vnd.openxmlformats-officedocument.presentationml.notesSlide+xml"/>
  <Override PartName="/ppt/notesSlides/notesSlide119.xml" ContentType="application/vnd.openxmlformats-officedocument.presentationml.notesSlide+xml"/>
  <Override PartName="/ppt/notesSlides/notesSlide196.xml" ContentType="application/vnd.openxmlformats-officedocument.presentationml.notesSlide+xml"/>
  <Override PartName="/ppt/notesSlides/notesSlide93.xml" ContentType="application/vnd.openxmlformats-officedocument.presentationml.notesSlide+xml"/>
  <Override PartName="/ppt/notesSlides/notesSlide128.xml" ContentType="application/vnd.openxmlformats-officedocument.presentationml.notesSlide+xml"/>
  <Override PartName="/ppt/notesSlides/notesSlide193.xml" ContentType="application/vnd.openxmlformats-officedocument.presentationml.notesSlide+xml"/>
  <Override PartName="/ppt/notesSlides/notesSlide90.xml" ContentType="application/vnd.openxmlformats-officedocument.presentationml.notesSlide+xml"/>
  <Override PartName="/ppt/notesSlides/notesSlide133.xml" ContentType="application/vnd.openxmlformats-officedocument.presentationml.notesSlide+xml"/>
  <Override PartName="/ppt/notesSlides/notesSlide136.xml" ContentType="application/vnd.openxmlformats-officedocument.presentationml.notesSlide+xml"/>
  <Override PartName="/ppt/notesSlides/notesSlide137.xml" ContentType="application/vnd.openxmlformats-officedocument.presentationml.notesSlide+xml"/>
  <Override PartName="/ppt/notesSlides/notesSlide138.xml" ContentType="application/vnd.openxmlformats-officedocument.presentationml.notesSlide+xml"/>
  <Override PartName="/ppt/notesSlides/notesSlide150.xml" ContentType="application/vnd.openxmlformats-officedocument.presentationml.notesSlide+xml"/>
  <Override PartName="/ppt/notesSlides/notesSlide151.xml" ContentType="application/vnd.openxmlformats-officedocument.presentationml.notesSlide+xml"/>
  <Override PartName="/ppt/notesSlides/notesSlide152.xml" ContentType="application/vnd.openxmlformats-officedocument.presentationml.notesSlide+xml"/>
  <Override PartName="/ppt/notesSlides/notesSlide153.xml" ContentType="application/vnd.openxmlformats-officedocument.presentationml.notesSlide+xml"/>
  <Override PartName="/ppt/notesSlides/notesSlide154.xml" ContentType="application/vnd.openxmlformats-officedocument.presentationml.notesSlide+xml"/>
  <Override PartName="/ppt/notesSlides/notesSlide155.xml" ContentType="application/vnd.openxmlformats-officedocument.presentationml.notesSlide+xml"/>
  <Override PartName="/ppt/notesSlides/notesSlide156.xml" ContentType="application/vnd.openxmlformats-officedocument.presentationml.notesSlide+xml"/>
  <Override PartName="/ppt/notesSlides/notesSlide157.xml" ContentType="application/vnd.openxmlformats-officedocument.presentationml.notesSlide+xml"/>
  <Override PartName="/ppt/notesSlides/notesSlide163.xml" ContentType="application/vnd.openxmlformats-officedocument.presentationml.notesSlide+xml"/>
  <Override PartName="/ppt/notesSlides/notesSlide61.xml" ContentType="application/vnd.openxmlformats-officedocument.presentationml.notesSlide+xml"/>
  <Override PartName="/ppt/notesSlides/notesSlide164.xml" ContentType="application/vnd.openxmlformats-officedocument.presentationml.notesSlide+xml"/>
  <Override PartName="/ppt/notesSlides/notesSlide165.xml" ContentType="application/vnd.openxmlformats-officedocument.presentationml.notesSlide+xml"/>
  <Override PartName="/ppt/notesSlides/notesSlide166.xml" ContentType="application/vnd.openxmlformats-officedocument.presentationml.notesSlide+xml"/>
  <Override PartName="/ppt/notesSlides/notesSlide167.xml" ContentType="application/vnd.openxmlformats-officedocument.presentationml.notesSlide+xml"/>
  <Override PartName="/ppt/notesSlides/notesSlide168.xml" ContentType="application/vnd.openxmlformats-officedocument.presentationml.notesSlide+xml"/>
  <Override PartName="/ppt/notesSlides/notesSlide70.xml" ContentType="application/vnd.openxmlformats-officedocument.presentationml.notesSlide+xml"/>
  <Override PartName="/ppt/notesSlides/notesSlide105.xml" ContentType="application/vnd.openxmlformats-officedocument.presentationml.notesSlide+xml"/>
  <Override PartName="/ppt/notesSlides/notesSlide173.xml" ContentType="application/vnd.openxmlformats-officedocument.presentationml.notesSlide+xml"/>
  <Override PartName="/ppt/notesSlides/notesSlide71.xml" ContentType="application/vnd.openxmlformats-officedocument.presentationml.notesSlide+xml"/>
  <Override PartName="/ppt/notesSlides/notesSlide106.xml" ContentType="application/vnd.openxmlformats-officedocument.presentationml.notesSlide+xml"/>
  <Override PartName="/ppt/notesSlides/notesSlide174.xml" ContentType="application/vnd.openxmlformats-officedocument.presentationml.notesSlide+xml"/>
  <Override PartName="/ppt/notesSlides/notesSlide73.xml" ContentType="application/vnd.openxmlformats-officedocument.presentationml.notesSlide+xml"/>
  <Override PartName="/ppt/notesSlides/notesSlide176.xml" ContentType="application/vnd.openxmlformats-officedocument.presentationml.notesSlide+xml"/>
  <Override PartName="/ppt/notesSlides/notesSlide74.xml" ContentType="application/vnd.openxmlformats-officedocument.presentationml.notesSlide+xml"/>
  <Override PartName="/ppt/notesSlides/notesSlide177.xml" ContentType="application/vnd.openxmlformats-officedocument.presentationml.notesSlide+xml"/>
  <Override PartName="/ppt/notesSlides/notesSlide75.xml" ContentType="application/vnd.openxmlformats-officedocument.presentationml.notesSlide+xml"/>
  <Override PartName="/ppt/notesSlides/notesSlide178.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4.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2.xml.rels" ContentType="application/vnd.openxmlformats-package.relationships+xml"/>
  <Override PartName="/ppt/slides/_rels/slide156.xml.rels" ContentType="application/vnd.openxmlformats-package.relationships+xml"/>
  <Override PartName="/ppt/slides/_rels/slide55.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70.xml.rels" ContentType="application/vnd.openxmlformats-package.relationships+xml"/>
  <Override PartName="/ppt/slides/_rels/slide54.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2.xml.rels" ContentType="application/vnd.openxmlformats-package.relationships+xml"/>
  <Override PartName="/ppt/slides/_rels/slide17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20.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98.xml.rels" ContentType="application/vnd.openxmlformats-package.relationships+xml"/>
  <Override PartName="/ppt/slides/_rels/slide70.xml.rels" ContentType="application/vnd.openxmlformats-package.relationships+xml"/>
  <Override PartName="/ppt/slides/_rels/slide149.xml.rels" ContentType="application/vnd.openxmlformats-package.relationships+xml"/>
  <Override PartName="/ppt/slides/_rels/slide6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7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78.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30.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124.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3.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157.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138.xml" ContentType="application/vnd.openxmlformats-officedocument.presentationml.slide+xml"/>
  <Override PartName="/ppt/slides/slide199.xml" ContentType="application/vnd.openxmlformats-officedocument.presentationml.slide+xml"/>
  <Override PartName="/ppt/slides/slide201.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56.xml" ContentType="application/vnd.openxmlformats-officedocument.presentationml.slide+xml"/>
  <Override PartName="/ppt/slides/slide188.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48.xml" ContentType="application/vnd.openxmlformats-officedocument.presentationml.slide+xml"/>
  <Override PartName="/ppt/slides/slide147.xml" ContentType="application/vnd.openxmlformats-officedocument.presentationml.slide+xml"/>
  <Override PartName="/ppt/slides/slide146.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189.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 id="453" r:id="rId202"/>
    <p:sldId id="454" r:id="rId203"/>
    <p:sldId id="455" r:id="rId204"/>
    <p:sldId id="456" r:id="rId205"/>
    <p:sldId id="457" r:id="rId20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slide" Target="slides/slide198.xml"/><Relationship Id="rId203" Type="http://schemas.openxmlformats.org/officeDocument/2006/relationships/slide" Target="slides/slide199.xml"/><Relationship Id="rId204" Type="http://schemas.openxmlformats.org/officeDocument/2006/relationships/slide" Target="slides/slide200.xml"/><Relationship Id="rId205" Type="http://schemas.openxmlformats.org/officeDocument/2006/relationships/slide" Target="slides/slide201.xml"/><Relationship Id="rId206" Type="http://schemas.openxmlformats.org/officeDocument/2006/relationships/slide" Target="slides/slide202.xml"/><Relationship Id="rId2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5CA43-A2A3-45AA-8716-F665FFAD9DD2}"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1.xml.rels><?xml version="1.0" encoding="UTF-8"?>
<Relationships xmlns="http://schemas.openxmlformats.org/package/2006/relationships"><Relationship Id="rId1" Type="http://schemas.openxmlformats.org/officeDocument/2006/relationships/slide" Target="../slides/slide151.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3.xml.rels><?xml version="1.0" encoding="UTF-8"?>
<Relationships xmlns="http://schemas.openxmlformats.org/package/2006/relationships"><Relationship Id="rId1" Type="http://schemas.openxmlformats.org/officeDocument/2006/relationships/slide" Target="../slides/slide153.xml"/><Relationship Id="rId2" Type="http://schemas.openxmlformats.org/officeDocument/2006/relationships/notesMaster" Target="../notesMasters/notesMaster1.xml"/>
</Relationships>
</file>

<file path=ppt/notesSlides/_rels/notesSlide154.xml.rels><?xml version="1.0" encoding="UTF-8"?>
<Relationships xmlns="http://schemas.openxmlformats.org/package/2006/relationships"><Relationship Id="rId1" Type="http://schemas.openxmlformats.org/officeDocument/2006/relationships/slide" Target="../slides/slide154.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6.xml.rels><?xml version="1.0" encoding="UTF-8"?>
<Relationships xmlns="http://schemas.openxmlformats.org/package/2006/relationships"><Relationship Id="rId1" Type="http://schemas.openxmlformats.org/officeDocument/2006/relationships/slide" Target="../slides/slide156.xml"/><Relationship Id="rId2" Type="http://schemas.openxmlformats.org/officeDocument/2006/relationships/notesMaster" Target="../notesMasters/notesMaster1.xml"/>
</Relationships>
</file>

<file path=ppt/notesSlides/_rels/notesSlide157.xml.rels><?xml version="1.0" encoding="UTF-8"?>
<Relationships xmlns="http://schemas.openxmlformats.org/package/2006/relationships"><Relationship Id="rId1" Type="http://schemas.openxmlformats.org/officeDocument/2006/relationships/slide" Target="../slides/slide157.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63.xml.rels><?xml version="1.0" encoding="UTF-8"?>
<Relationships xmlns="http://schemas.openxmlformats.org/package/2006/relationships"><Relationship Id="rId1" Type="http://schemas.openxmlformats.org/officeDocument/2006/relationships/slide" Target="../slides/slide163.xml"/><Relationship Id="rId2" Type="http://schemas.openxmlformats.org/officeDocument/2006/relationships/notesMaster" Target="../notesMasters/notesMaster1.xml"/>
</Relationships>
</file>

<file path=ppt/notesSlides/_rels/notesSlide164.xml.rels><?xml version="1.0" encoding="UTF-8"?>
<Relationships xmlns="http://schemas.openxmlformats.org/package/2006/relationships"><Relationship Id="rId1" Type="http://schemas.openxmlformats.org/officeDocument/2006/relationships/slide" Target="../slides/slide164.xml"/><Relationship Id="rId2" Type="http://schemas.openxmlformats.org/officeDocument/2006/relationships/notesMaster" Target="../notesMasters/notesMaster1.xml"/>
</Relationships>
</file>

<file path=ppt/notesSlides/_rels/notesSlide165.xml.rels><?xml version="1.0" encoding="UTF-8"?>
<Relationships xmlns="http://schemas.openxmlformats.org/package/2006/relationships"><Relationship Id="rId1" Type="http://schemas.openxmlformats.org/officeDocument/2006/relationships/slide" Target="../slides/slide165.xml"/><Relationship Id="rId2" Type="http://schemas.openxmlformats.org/officeDocument/2006/relationships/notesMaster" Target="../notesMasters/notesMaster1.xml"/>
</Relationships>
</file>

<file path=ppt/notesSlides/_rels/notesSlide166.xml.rels><?xml version="1.0" encoding="UTF-8"?>
<Relationships xmlns="http://schemas.openxmlformats.org/package/2006/relationships"><Relationship Id="rId1" Type="http://schemas.openxmlformats.org/officeDocument/2006/relationships/slide" Target="../slides/slide166.xml"/><Relationship Id="rId2" Type="http://schemas.openxmlformats.org/officeDocument/2006/relationships/notesMaster" Target="../notesMasters/notesMaster1.xml"/>
</Relationships>
</file>

<file path=ppt/notesSlides/_rels/notesSlide167.xml.rels><?xml version="1.0" encoding="UTF-8"?>
<Relationships xmlns="http://schemas.openxmlformats.org/package/2006/relationships"><Relationship Id="rId1" Type="http://schemas.openxmlformats.org/officeDocument/2006/relationships/slide" Target="../slides/slide167.xml"/><Relationship Id="rId2" Type="http://schemas.openxmlformats.org/officeDocument/2006/relationships/notesMaster" Target="../notesMasters/notesMaster1.xml"/>
</Relationships>
</file>

<file path=ppt/notesSlides/_rels/notesSlide168.xml.rels><?xml version="1.0" encoding="UTF-8"?>
<Relationships xmlns="http://schemas.openxmlformats.org/package/2006/relationships"><Relationship Id="rId1" Type="http://schemas.openxmlformats.org/officeDocument/2006/relationships/slide" Target="../slides/slide168.xml"/><Relationship Id="rId2" Type="http://schemas.openxmlformats.org/officeDocument/2006/relationships/notesMaster" Target="../notesMasters/notesMaster1.xml"/>
</Relationships>
</file>

<file path=ppt/notesSlides/_rels/notesSlide169.xml.rels><?xml version="1.0" encoding="UTF-8"?>
<Relationships xmlns="http://schemas.openxmlformats.org/package/2006/relationships"><Relationship Id="rId1" Type="http://schemas.openxmlformats.org/officeDocument/2006/relationships/slide" Target="../slides/slide169.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71.xml.rels><?xml version="1.0" encoding="UTF-8"?>
<Relationships xmlns="http://schemas.openxmlformats.org/package/2006/relationships"><Relationship Id="rId1" Type="http://schemas.openxmlformats.org/officeDocument/2006/relationships/slide" Target="../slides/slide171.xml"/><Relationship Id="rId2" Type="http://schemas.openxmlformats.org/officeDocument/2006/relationships/notesMaster" Target="../notesMasters/notesMaster1.xml"/>
</Relationships>
</file>

<file path=ppt/notesSlides/_rels/notesSlide172.xml.rels><?xml version="1.0" encoding="UTF-8"?>
<Relationships xmlns="http://schemas.openxmlformats.org/package/2006/relationships"><Relationship Id="rId1" Type="http://schemas.openxmlformats.org/officeDocument/2006/relationships/slide" Target="../slides/slide172.xml"/><Relationship Id="rId2" Type="http://schemas.openxmlformats.org/officeDocument/2006/relationships/notesMaster" Target="../notesMasters/notesMaster1.xml"/>
</Relationships>
</file>

<file path=ppt/notesSlides/_rels/notesSlide173.xml.rels><?xml version="1.0" encoding="UTF-8"?>
<Relationships xmlns="http://schemas.openxmlformats.org/package/2006/relationships"><Relationship Id="rId1" Type="http://schemas.openxmlformats.org/officeDocument/2006/relationships/slide" Target="../slides/slide173.xml"/><Relationship Id="rId2" Type="http://schemas.openxmlformats.org/officeDocument/2006/relationships/notesMaster" Target="../notesMasters/notesMaster1.xml"/>
</Relationships>
</file>

<file path=ppt/notesSlides/_rels/notesSlide174.xml.rels><?xml version="1.0" encoding="UTF-8"?>
<Relationships xmlns="http://schemas.openxmlformats.org/package/2006/relationships"><Relationship Id="rId1" Type="http://schemas.openxmlformats.org/officeDocument/2006/relationships/slide" Target="../slides/slide174.xml"/><Relationship Id="rId2" Type="http://schemas.openxmlformats.org/officeDocument/2006/relationships/notesMaster" Target="../notesMasters/notesMaster1.xml"/>
</Relationships>
</file>

<file path=ppt/notesSlides/_rels/notesSlide176.xml.rels><?xml version="1.0" encoding="UTF-8"?>
<Relationships xmlns="http://schemas.openxmlformats.org/package/2006/relationships"><Relationship Id="rId1" Type="http://schemas.openxmlformats.org/officeDocument/2006/relationships/slide" Target="../slides/slide176.xml"/><Relationship Id="rId2" Type="http://schemas.openxmlformats.org/officeDocument/2006/relationships/notesMaster" Target="../notesMasters/notesMaster1.xml"/>
</Relationships>
</file>

<file path=ppt/notesSlides/_rels/notesSlide177.xml.rels><?xml version="1.0" encoding="UTF-8"?>
<Relationships xmlns="http://schemas.openxmlformats.org/package/2006/relationships"><Relationship Id="rId1" Type="http://schemas.openxmlformats.org/officeDocument/2006/relationships/slide" Target="../slides/slide177.xml"/><Relationship Id="rId2" Type="http://schemas.openxmlformats.org/officeDocument/2006/relationships/notesMaster" Target="../notesMasters/notesMaster1.xml"/>
</Relationships>
</file>

<file path=ppt/notesSlides/_rels/notesSlide178.xml.rels><?xml version="1.0" encoding="UTF-8"?>
<Relationships xmlns="http://schemas.openxmlformats.org/package/2006/relationships"><Relationship Id="rId1" Type="http://schemas.openxmlformats.org/officeDocument/2006/relationships/slide" Target="../slides/slide178.xml"/><Relationship Id="rId2" Type="http://schemas.openxmlformats.org/officeDocument/2006/relationships/notesMaster" Target="../notesMasters/notesMaster1.xml"/>
</Relationships>
</file>

<file path=ppt/notesSlides/_rels/notesSlide179.xml.rels><?xml version="1.0" encoding="UTF-8"?>
<Relationships xmlns="http://schemas.openxmlformats.org/package/2006/relationships"><Relationship Id="rId1" Type="http://schemas.openxmlformats.org/officeDocument/2006/relationships/slide" Target="../slides/slide179.xml"/><Relationship Id="rId2" Type="http://schemas.openxmlformats.org/officeDocument/2006/relationships/notesMaster" Target="../notesMasters/notesMaster1.xml"/>
</Relationships>
</file>

<file path=ppt/notesSlides/_rels/notesSlide189.xml.rels><?xml version="1.0" encoding="UTF-8"?>
<Relationships xmlns="http://schemas.openxmlformats.org/package/2006/relationships"><Relationship Id="rId1" Type="http://schemas.openxmlformats.org/officeDocument/2006/relationships/slide" Target="../slides/slide189.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190.xml.rels><?xml version="1.0" encoding="UTF-8"?>
<Relationships xmlns="http://schemas.openxmlformats.org/package/2006/relationships"><Relationship Id="rId1" Type="http://schemas.openxmlformats.org/officeDocument/2006/relationships/slide" Target="../slides/slide190.xml"/><Relationship Id="rId2" Type="http://schemas.openxmlformats.org/officeDocument/2006/relationships/notesMaster" Target="../notesMasters/notesMaster1.xml"/>
</Relationships>
</file>

<file path=ppt/notesSlides/_rels/notesSlide191.xml.rels><?xml version="1.0" encoding="UTF-8"?>
<Relationships xmlns="http://schemas.openxmlformats.org/package/2006/relationships"><Relationship Id="rId1" Type="http://schemas.openxmlformats.org/officeDocument/2006/relationships/slide" Target="../slides/slide191.xml"/><Relationship Id="rId2" Type="http://schemas.openxmlformats.org/officeDocument/2006/relationships/notesMaster" Target="../notesMasters/notesMaster1.xml"/>
</Relationships>
</file>

<file path=ppt/notesSlides/_rels/notesSlide192.xml.rels><?xml version="1.0" encoding="UTF-8"?>
<Relationships xmlns="http://schemas.openxmlformats.org/package/2006/relationships"><Relationship Id="rId1" Type="http://schemas.openxmlformats.org/officeDocument/2006/relationships/slide" Target="../slides/slide192.xml"/><Relationship Id="rId2" Type="http://schemas.openxmlformats.org/officeDocument/2006/relationships/notesMaster" Target="../notesMasters/notesMaster1.xml"/>
</Relationships>
</file>

<file path=ppt/notesSlides/_rels/notesSlide193.xml.rels><?xml version="1.0" encoding="UTF-8"?>
<Relationships xmlns="http://schemas.openxmlformats.org/package/2006/relationships"><Relationship Id="rId1" Type="http://schemas.openxmlformats.org/officeDocument/2006/relationships/slide" Target="../slides/slide193.xml"/><Relationship Id="rId2" Type="http://schemas.openxmlformats.org/officeDocument/2006/relationships/notesMaster" Target="../notesMasters/notesMaster1.xml"/>
</Relationships>
</file>

<file path=ppt/notesSlides/_rels/notesSlide194.xml.rels><?xml version="1.0" encoding="UTF-8"?>
<Relationships xmlns="http://schemas.openxmlformats.org/package/2006/relationships"><Relationship Id="rId1" Type="http://schemas.openxmlformats.org/officeDocument/2006/relationships/slide" Target="../slides/slide194.xml"/><Relationship Id="rId2" Type="http://schemas.openxmlformats.org/officeDocument/2006/relationships/notesMaster" Target="../notesMasters/notesMaster1.xml"/>
</Relationships>
</file>

<file path=ppt/notesSlides/_rels/notesSlide195.xml.rels><?xml version="1.0" encoding="UTF-8"?>
<Relationships xmlns="http://schemas.openxmlformats.org/package/2006/relationships"><Relationship Id="rId1" Type="http://schemas.openxmlformats.org/officeDocument/2006/relationships/slide" Target="../slides/slide195.xml"/><Relationship Id="rId2" Type="http://schemas.openxmlformats.org/officeDocument/2006/relationships/notesMaster" Target="../notesMasters/notesMaster1.xml"/>
</Relationships>
</file>

<file path=ppt/notesSlides/_rels/notesSlide196.xml.rels><?xml version="1.0" encoding="UTF-8"?>
<Relationships xmlns="http://schemas.openxmlformats.org/package/2006/relationships"><Relationship Id="rId1" Type="http://schemas.openxmlformats.org/officeDocument/2006/relationships/slide" Target="../slides/slide196.xml"/><Relationship Id="rId2" Type="http://schemas.openxmlformats.org/officeDocument/2006/relationships/notesMaster" Target="../notesMasters/notesMaster1.xml"/>
</Relationships>
</file>

<file path=ppt/notesSlides/_rels/notesSlide199.xml.rels><?xml version="1.0" encoding="UTF-8"?>
<Relationships xmlns="http://schemas.openxmlformats.org/package/2006/relationships"><Relationship Id="rId1" Type="http://schemas.openxmlformats.org/officeDocument/2006/relationships/slide" Target="../slides/slide19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chodní strategii, cíl prostředky k cíli, dosažení cíle, výn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vomoci a povinnosti – důležitý aspekt, </a:t>
            </a: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ředmětem jsou listy dopisy, ať v soukromí nebo zasílány poštou, zprávy podávané telefonem, telegrafem, Listina chrání jakýkoli technický ,mechanický elektromagnetický elektronický či záznamový prostředek, kterých je schopen uchovávat přechovávat či přenášet myšlenky, údaje, obrazy a inform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Svoboda pohybu a pobytu, ve spojení s osobní svobodou čl. 8, určovat si v místo svého bytí v regionu, možnost opuštění území, , omezení svobody pohybu a pobytu je možné z důvodů v odst. 3, např. bezpečnost státu, veřejný pořádek, ochrana českého občana je v odst. 4 a cizinci jsou zakotveni v odst. 5 , odst. 5 je ve spojitosti tematicke s čl 42 odst 2 a čl. 4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Svoboda myšlení, základ lidského ducha a intelektu, vědecké bádání, umělecký projev, svoboda zvolit konfesi a opustit konfesi, hranicí je čl.2 odst. 3 pro svobodu lidského ducha a tvůrčího intelektu, např. zákon o vysokých školách upravuje svobodu vědeckého bádání, č. 172/1990 Sb. Spojitost se službou upravenou zákonem, zde omezení čl. 15 článkem 9 odst. 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ředmětem jsou listy dopisy, ať v soukromí nebo zasílány poštou, zprávy podávané telefonem, telegrafem, Listina chrání jakýkoli technický ,mechanický elektromagnetický elektronický či záznamový prostředek, kterých je schopen uchovávat přechovávat či přenášet myšlenky, údaje, obrazy a inform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Svoboda pohybu a pobytu, ve spojení s osobní svobodou čl. 8, určovat si v místo svého bytí v regionu, možnost opuštění území, , omezení svobody pohybu a pobytu je možné z důvodů v odst. 3, např. bezpečnost státu, veřejný pořádek, ochrana českého občana je v odst. 4 a cizinci jsou zakotveni v odst. 5 , odst. 5 je ve spojitosti tematicke s čl 42 odst 2 a čl. 4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Svoboda myšlení, základ lidského ducha a intelektu, vědecké bádání, umělecký projev, svoboda zvolit konfesi a opustit konfesi, hranicí je čl.2 odst. 3 pro svobodu lidského ducha a tvůrčího intelektu, např. zákon o vysokých školách upravuje svobodu vědeckého bádání, č. 172/1990 Sb. Spojitost se službou upravenou zákonem, zde omezení čl. 15 článkem 9 odst. 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Svobodný projev: svobodný výkon náboženství, autonomie církví a náboženských společností, zajišťuje zřízení bohosloveckých fakult, Církve jako veřejnoprávně uznané samosprávy., Str. 207 Klí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voboda projevu: právo vyjadřovat své názory slovem, písmem, tiskem, obrazem nebo jiným způsobem. Obsahem práva na informace je možnost svobodně vyhledávat přijímat a rozšiřovat ideje a informace bez ohledu na hranice státu, omezení v čl. 17 odst. 2, zákonné omezení, Odst. 3 zakazuje přímo cenzuru pro zákonodárce, fyzické a právnické osoby, ve spojitosti zákon o provozování rozhlasového a televizního vysílání, zákony o Č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Svoboda projevu: právo vyjadřovat své názory slovem, písmem, tiskem, obrazem nebo jiným způsobem. Obsahem práva na informace je možnost svobodně vyhledávat přijímat a rozšiřovat ideje a informace bez ohledu na hranice státu, omezení v čl. 17 odst. 2, zákonné omezení, Odst. 3 zakazuje přímo cenzuru pro zákonodárce, fyzické a právnické osoby, ve spojitosti zákon o provozování rozhlasového a televizního vysílání, zákony o Č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etiční právo: právo fizických osob obracet se  individuelně nebo s jinými žádostmi návrhy a stížnostmi na státní orgány a orgány územní samosprávy, str. 208-209 Klíma</a:t>
            </a: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Svoboda projevu: právo vyjadřovat své názory slovem, písmem, tiskem, obrazem nebo jiným způsobem. Obsahem práva na informace je možnost svobodně vyhledávat přijímat a rozšiřovat ideje a informace bez ohledu na hranice státu, omezení v čl. 17 odst. 2, zákonné omezení, Odst. 3 zakazuje přímo cenzuru pro zákonodárce, fyzické a právnické osoby, ve spojitosti zákon o provozování rozhlasového a televizního vysílání, zákony o Č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etiční právo: právo fizických osob obracet se  individuelně nebo s jinými žádostmi návrhy a stížnostmi na státní orgány a orgány územní samosprávy, str. 208-209 Klí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rávo shromažďovací, protestní shromáždění, kolektivní projev názoru, barierou je zákonné omezení v odst. 2, ve spojitosti je zákon č. 84/1990, Listina vylučuje povolovací režim, zákon tedy upravuje OZNAMOVAC9 režim, nemusí se oznamovat shromáždění uzavřeného charakteru, platí i pro procesí a pouťě</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Svoboda projevu: právo vyjadřovat své názory slovem, písmem, tiskem, obrazem nebo jiným způsobem. Obsahem práva na informace je možnost svobodně vyhledávat přijímat a rozšiřovat ideje a informace bez ohledu na hranice státu, omezení v čl. 17 odst. 2, zákonné omezení, Odst. 3 zakazuje přímo cenzuru pro zákonodárce, fyzické a právnické osoby, ve spojitosti zákon o provozování rozhlasového a televizního vysílání, zákony o Č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etiční právo: právo fizických osob obracet se  individuelně nebo s jinými žádostmi návrhy a stížnostmi na státní orgány a orgány územní samosprávy, str. 208-209 Klí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rávo shromažďovací, protestní shromáždění, kolektivní projev názoru, barierou je zákonné omezení v odst. 2, ve spojitosti je zákon č. 84/1990, Listina vylučuje povolovací režim, zákon tedy upravuje OZNAMOVAC9 režim, nemusí se oznamovat shromáždění uzavřeného charakteru, platí i pro procesí a pouťě</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rávo sdružovací: Spolky odst. 1, politické strany odst. 2, ve spojení s pol. stranami čl. 5 Ústavy ČR, soutěž pol. Stran. , zakládání pol. stran pouze občan státu, kojnkretizací je zíkon o sdružování obč. č. 83/1990 Sb. A zákon o sdružování v pol. stranách č. 118/1994 Sb., spojitost s článkem 22 Listiny, bariera v odst. 3</a:t>
            </a: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Svoboda projevu: právo vyjadřovat své názory slovem, písmem, tiskem, obrazem nebo jiným způsobem. Obsahem práva na informace je možnost svobodně vyhledávat přijímat a rozšiřovat ideje a informace bez ohledu na hranice státu, omezení v čl. 17 odst. 2, zákonné omezení, Odst. 3 zakazuje přímo cenzuru pro zákonodárce, fyzické a právnické osoby, ve spojitosti zákon o provozování rozhlasového a televizního vysílání, zákony o Č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etiční právo: právo fizických osob obracet se  individuelně nebo s jinými žádostmi návrhy a stížnostmi na státní orgány a orgány územní samosprávy, str. 208-209 Klí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rávo shromažďovací, protestní shromáždění, kolektivní projev názoru, barierou je zákonné omezení v odst. 2, ve spojitosti je zákon č. 84/1990, Listina vylučuje povolovací režim, zákon tedy upravuje OZNAMOVAC9 režim, nemusí se oznamovat shromáždění uzavřeného charakteru, platí i pro procesí a pouťě</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rávo sdružovací: Spolky odst. 1, politické strany odst. 2, ve spojení s pol. stranami čl. 5 Ústavy ČR, soutěž pol. Stran. , zakládání pol. stran pouze občan státu, kojnkretizací je zíkon o sdružování obč. č. 83/1990 Sb. A zákon o sdružování v pol. stranách č. 118/1994 Sb., spojitost s článkem 22 Listiny, bariera v odst.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Odpor, pojistka pro restituci dem. systému v případě nefunkčnost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Svoboda projevu: právo vyjadřovat své názory slovem, písmem, tiskem, obrazem nebo jiným způsobem. Obsahem práva na informace je možnost svobodně vyhledávat přijímat a rozšiřovat ideje a informace bez ohledu na hranice státu, omezení v čl. 17 odst. 2, zákonné omezení, Odst. 3 zakazuje přímo cenzuru pro zákonodárce, fyzické a právnické osoby, ve spojitosti zákon o provozování rozhlasového a televizního vysílání, zákony o Č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etiční právo: právo fizických osob obracet se  individuelně nebo s jinými žádostmi návrhy a stížnostmi na státní orgány a orgány územní samosprávy, str. 208-209 Klí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rávo shromažďovací, protestní shromáždění, kolektivní projev názoru, barierou je zákonné omezení v odst. 2, ve spojitosti je zákon č. 84/1990, Listina vylučuje povolovací režim, zákon tedy upravuje OZNAMOVAC9 režim, nemusí se oznamovat shromáždění uzavřeného charakteru, platí i pro procesí a pouťě</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rávo sdružovací: Spolky odst. 1, politické strany odst. 2, ve spojení s pol. stranami čl. 5 Ústavy ČR, soutěž pol. Stran. , zakládání pol. stran pouze občan státu, kojnkretizací je zákon o sdružování obč. č. 83/1990 Sb. A zákon o sdružování v pol. stranách č. 118/1994 Sb., spojitost s článkem 22 Listiny – č. 22 je ústavní garance, bariera v odst.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Odpor, pojistka pro restituci dem. systému v případě nefunkčnost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rávo podílet se na věcech veřejných, konkr. volební právo, periodicita voleb, zákaz prodlužování volebních period, aktivní a pasivní volební právo, 4l. 21 Listiny je ve spojení s čl. 18 odst. 1 a čl 18 odst. 2 , i čl. 102 odst. 1 Ústavy, aktivní právo  od 18, pasivní od 21 resp od 40 do Senátu ČR, konkretizace např. zákon o volbách do parlamentu č. 247/199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např. parlament, prezident, ústavní soud,  subjektivita zprostředkovaná  právními odvětvími, konkretizace platí u státní správa daní, str. 20 klíma 97, způsobilost k ústavně právním úkonům se projevuje jako pravomoc stanovená ústavními normami, nebo možnost  vystupovat v procesních vztazích ústavního práva, ú.p. řeší i kolizní situace, kdy subjekty poruší ústavní normy, deliktní ústavně právní způsobilost</a:t>
            </a:r>
            <a:endParaRPr b="0" lang="en-US" sz="12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dná se  většinou o nároky vzhledem k státu, proto je potřeba interpretačního pravidla, tedy zákonů, které kladou meze těmto nárokům</a:t>
            </a:r>
            <a:endParaRPr b="0" lang="en-US" sz="12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Jedná se  většinou o nároky vzhledem k státu, proto je potřeba interpretačního pravidla, tedy zákonů, které kladou meze těmto nároků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Čl. 26, 27, dále: čl. 28 právo na spravedlivou odměnu, čl. 29 právo žen mladistvých a osob zdrav. Postižených na zvýšenou ochranu zdraví při práci a na zvlaštní prac. Podmínky, právo na přiměřené hmotné zabezpečení ve stáří čl. 30, čl. 31 bezplatná zdravotní péče, čl. 32 ochrana rodičovství a rodiny, bezplatmné školní vzdělání v zákl. šklách a stř. školách č. 33, čl. 34 přístup ke kulturním bohatstvím – deklaratorní charakter, čl. 35 včasné a úplné informace o stavu živ. Prostředí – deklaratorní charakter</a:t>
            </a:r>
            <a:endParaRPr b="0" lang="en-US" sz="12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ní zásady: odepření výpovědi, tlumočník, požadavek zákonného soudce, zákaz manipulace s účastníky</a:t>
            </a:r>
            <a:endParaRPr b="0" lang="en-US"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Čl. 1 přečíst, odkazat načl. 10, který otevírá ústavní systém mezinárodnímu právu a čl. 10a, který otevírá převod kompetencí směrem ven a dovnitř, 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Ostatní konstitutivní charakteristiky jsou:  unitární, územní samospráva, republikánská forma, demokratické zřízení zde čl. 2.5 a pojistku trvalosti demokracie v čl. 9 odst. 3, dále je ČR založena na doktríně právního stát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Str. 175 ff.</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jetí je vertikální, horizontální, hranice tedy i nerostné bohatství, prostor vzdušný, </a:t>
            </a:r>
            <a:endParaRPr b="0" lang="en-US" sz="12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jetí je vertikální, horizontální, hranice tedy i nerostné bohatství, prostor vzdušný, ústavní zákon čl. 39 odst. 4 podmínky přijetí</a:t>
            </a: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ojetí je vertikální, horizontální, hranice tedy i nerostné bohatství, prostor vzdušný, ústavní zákon čl. 39 odst. 4 podmínky přijetí.</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Recip zákony:  V obdobi 1. republiky ustavni zakony o uprave hranic např. S Německem , Madarskem a Rakousk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Soucasna situace – ustavni zakony o konecnem vytyceni se sousednimi zememi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 neomezeně, pouze ve spojení s jinými podmínkami, modifikovaně</a:t>
            </a:r>
            <a:endParaRPr b="0" lang="en-US" sz="1200" spc="-1" strike="noStrike">
              <a:solidFill>
                <a:srgbClr val="000000"/>
              </a:solidFill>
              <a:latin typeface="Arial"/>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rávo volební se váže na občanství čl. 18 a 19, výkon poslance a senátora, , prezidenta rep. čl. 57 odst. 1, soudce ústavního soudu čl. 84 odst. 3, a soudce 93 odst. 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Státoobčanský svazek je právním, ustavně právním vztahem, jenž má své důsledky vnitřní vnější, vnitrostátním důsledkem je, že občan na území státu vykonává celý ústavou i právním řádem daný katalog práv a svobod. Vnějším důsledkem je ochrana, jíž mu stát za jeho pobytu v cizině diplomatickou a konzulární cestou poskytuj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Str. 185 - 188</a:t>
            </a:r>
            <a:endParaRPr b="0" lang="en-US" sz="1200" spc="-1" strike="noStrike">
              <a:solidFill>
                <a:srgbClr val="000000"/>
              </a:solidFill>
              <a:latin typeface="Arial"/>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Čl. 2 odst. 1 a 2 Úst., tripartita moci, moderní ústava počítá s tripartitou, </a:t>
            </a:r>
            <a:endParaRPr b="0" lang="en-US" sz="1200" spc="-1" strike="noStrike">
              <a:solidFill>
                <a:srgbClr val="000000"/>
              </a:solidFill>
              <a:latin typeface="Arial"/>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lanecká sněmovna a senát</a:t>
            </a:r>
            <a:endParaRPr b="0" lang="en-US" sz="1200" spc="-1" strike="noStrike">
              <a:solidFill>
                <a:srgbClr val="000000"/>
              </a:solidFill>
              <a:latin typeface="Arial"/>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lanecká sněmovna a senát, komory parlamentu nejsou rovnoprávné, rozdíl postavení se projevuje v: </a:t>
            </a:r>
            <a:endParaRPr b="0" lang="en-US" sz="1200" spc="-1" strike="noStrike">
              <a:solidFill>
                <a:srgbClr val="000000"/>
              </a:solidFill>
              <a:latin typeface="Arial"/>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oslanecká sněmovna a senát, komory parlamentu nejsou rovnoprávné, rozdíl postavení se projevuje v: jiná volební období, jiné pravomoci a kompetence, celková či parciální obměňovatelnost.    </a:t>
            </a:r>
            <a:endParaRPr b="0" lang="en-US" sz="1200" spc="-1" strike="noStrike">
              <a:solidFill>
                <a:srgbClr val="000000"/>
              </a:solidFill>
              <a:latin typeface="Arial"/>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oslanecká sněmovna a senát, komory parlamentu nejsou rovnoprávné, rozdíl postavení se projevuje v: jiná volební období, jiné pravomoci a kompetence, celková či parciální obměňovatelno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Společné působení při mezinárodních smlouvách dle čl. 10 Ústavy, volbě prezidenta, vyhlášení válečného stavu, vyslání ozbrojených sil mimo území ČR, v tomto případě souhlas obou komor jak to vyžaduje čl. 43 odst. 2 Ústavy. Senát má naopak exkluzivní právo dát souhlas s návrhy prezidenta na soudce Ústavního soudu. Převaha je na straně posl. sněmovny. Posl. Sněmovna může být rozpuštěna dle čl. 35 Úst.. v případe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arlament je kolegiální orgán, k rozhodnutím se dobírá hlasováním pléna ve kvor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Sněmovna struktura: předseda místopředseda, §§ 29 a 30 zákona o jednacím řádu sněmovny, orgány sněmovny jsou např. výbory a komise, §32, § 47 zákona o jednacím řádu posl. sněmovny, mimo jiné tzv. poslanecké kluby v § 77 zákona,  zákon č. 90/1995 S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d národ, etnická skupina, obec, vyšší samosprávní celek, kraj</a:t>
            </a:r>
            <a:endParaRPr b="0" lang="en-US" sz="1200" spc="-1" strike="noStrike">
              <a:solidFill>
                <a:srgbClr val="000000"/>
              </a:solidFill>
              <a:latin typeface="Arial"/>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arlament je ústavodárce a zákonodárce, nesmí však překročit hranici čl. 9 odst. 2 Úst.. Klíčové postavení při tvorbě zákonů má Posl. sněmovna, to se odvozuje od možnosti, že senát nemusí projednat ani všechny zákony, které Posl. sněmovna schválila, čl. 48 Úst. Nebo čl. 46 odst. 1 a 3 Úst.. Senát může sám přijímat tzv. zákonná opatření, čl. 33 Úst..   </a:t>
            </a:r>
            <a:endParaRPr b="0" lang="en-US" sz="1200" spc="-1" strike="noStrike">
              <a:solidFill>
                <a:srgbClr val="000000"/>
              </a:solidFill>
              <a:latin typeface="Arial"/>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arlament je ústavodárce a zákonodárce, nesmí však překročit hranici čl. 9 odst. 2 Úst.. Klíčové postavení při tvorbě zákonů má Posl. sněmovna, to se odvozuje od možnosti, že senát nemusí projednat ani všechny zákony, které Posl. sněmovna schválila, čl. 48 Úst. Nebo čl. 46 odst. 1 a 3 Úst.. Senát může sám přijímat tzv. zákonná opatření, čl. 33 Ú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Kreativní pravomoci: ta se projevuje ve volbě prezidenta, projevu důvěry vládě, nebo souhlasu senátu s návrhy prezidenta na ústavní soudce, personální obsazení svých vnitřních orgánů, čl. 29 Úst..  Výbory a komise, čl. 31 Úst..</a:t>
            </a:r>
            <a:endParaRPr b="0" lang="en-US" sz="1200" spc="-1" strike="noStrike">
              <a:solidFill>
                <a:srgbClr val="000000"/>
              </a:solidFill>
              <a:latin typeface="Arial"/>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arlament je ústavodárce a zákonodárce, nesmí však překročit hranici čl. 9 odst. 2 Úst.. Klíčové postavení při tvorbě zákonů má Posl. sněmovna, to se odvozuje od možnosti, že senát nemusí projednat ani všechny zákony, které Posl. sněmovna schválila, čl. 48 Úst. Nebo čl. 46 odst. 1 a 3 Úst.. Senát může sám přijímat tzv. zákonná opatření, čl. 33 Ú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Kreativní pravomoci: ta se projevuje ve volbě prezidenta, projevu důvěry vládě, nebo souhlasu senátu s návrhy prezidenta na ústavní soudce, personální obsazení svých vnitřních orgánů, čl. 29 Úst..  Výbory a komise, čl. 31 Ú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Kontrolní pravomoci: tvorba vyšetřovacích komisí.</a:t>
            </a:r>
            <a:endParaRPr b="0" lang="en-US" sz="1200" spc="-1" strike="noStrike">
              <a:solidFill>
                <a:srgbClr val="000000"/>
              </a:solidFill>
              <a:latin typeface="Arial"/>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arlament je ústavodárce a zákonodárce, nesmí však překročit hranici čl. 9 odst. 2 Úst.. Klíčové postavení při tvorbě zákonů má Posl. sněmovna, to se odvozuje od možnosti, že senát nemusí projednat ani všechny zákony, které Posl. sněmovna schválila, čl. 48 Úst. Nebo čl. 46 odst. 1 a 3 Úst.. Senát může sám přijímat tzv. zákonná opatření, čl. 33 Ú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Kreativní pravomoci: ta se projevuje ve volbě prezidenta, projevu důvěry vládě, nebo souhlasu senátu s návrhy prezidenta na ústavní soudce, personální obsazení svých vnitřních orgánů, čl. 29 Úst..  Výbory a komise, čl. 31 Ú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Kontrolní pravomoci: tvorba vyšetřovacích komisí.</a:t>
            </a:r>
            <a:endParaRPr b="0" lang="en-US" sz="1200" spc="-1" strike="noStrike">
              <a:solidFill>
                <a:srgbClr val="000000"/>
              </a:solidFill>
              <a:latin typeface="Arial"/>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Obj. vol. Právo je souhrn organizačních institutů a volebních procesů.</a:t>
            </a:r>
            <a:endParaRPr b="0" lang="en-US" sz="1200" spc="-1" strike="noStrike">
              <a:solidFill>
                <a:srgbClr val="000000"/>
              </a:solidFill>
              <a:latin typeface="Arial"/>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Obj. vol. Právo je souhrn organizačních institutů a volebních proces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Subj. Volební právo, účast na demokratickém vytváření reprezentativních orgánů</a:t>
            </a:r>
            <a:endParaRPr b="0" lang="en-US" sz="1200" spc="-1" strike="noStrike">
              <a:solidFill>
                <a:srgbClr val="000000"/>
              </a:solidFill>
              <a:latin typeface="Arial"/>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Obj. vol. Právo je souhrn organizačních institutů a volebních proces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Subj. Volební právo, účast na demokratickém vytváření reprezentativních orgán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roces a postup voleb, např. zákon o volbách do parlamentu</a:t>
            </a:r>
            <a:endParaRPr b="0" lang="en-US" sz="1200" spc="-1" strike="noStrike">
              <a:solidFill>
                <a:srgbClr val="000000"/>
              </a:solidFill>
              <a:latin typeface="Arial"/>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Obj. vol. Právo je souhrn organizačních institutů a volebních proces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Subj. Volební právo, účast na demokratickém vytváření reprezentativních orgán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Řád: Proces a postup vole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by do parlamentu upravuje zákon č. 247/1995 Sb.</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olitická strana, obč. sdružení, petiční výbor</a:t>
            </a:r>
            <a:endParaRPr b="0" lang="en-US" sz="1200" spc="-1" strike="noStrike">
              <a:solidFill>
                <a:srgbClr val="000000"/>
              </a:solidFill>
              <a:latin typeface="Arial"/>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Územní jednotky vytvářené pro účel voleb,  seznamy zajišťují rovnost volebního práva, zvláštní seznam voličů: pokud není trvalý pobyt v ČR, v nemocnici porodnici, sanatoriu, ve vazbě, voličský průkaz.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Územní jednotky vytvářené pro účel voleb,  seznamy zajišťují rovnost volebního práva, zvláštní seznam voličů: pokud není trvalý pobyt v ČR, v nemocnici porodnici, sanatoriu, ve vazbě, voličský průkaz.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ební komise: zodpovědnost za zdárný průběh voleb, vždy působí ústřední volební komise, stanoví volební zákony tvorbu a ustanovení.</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Územní jednotky vytvářené pro účel voleb, informování o volbách,   seznamy zajišťují rovnost volebního práva, zvláštní seznam voličů: pokud není trvalý pobyt v ČR, v nemocnici porodnici, sanatoriu, ve vazbě, voličský průkaz.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ební komise: zodpovědnost za zdárný průběh voleb, vždy působí ústřední volební komise, stanoví volební zákony tvorbu a ustanovení.</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 volby do Poslanecké sněmovny se tvoří volební kraje § 27 zákona, pro volby do senátu se vytváří 81 jednomandátových volebních obvodů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parlamentu české občanství, překážky do parlamentu jsou: zbavení či omezení způsobilosti k právním úkonům §§ 10 a 855 občanského zákoníka, není definitivní rozhodnutí, do obecních zastupitelstev dále: omezení svobody z důvodu výkonu trestu odnětí svobody, výkon základní nebo náhradní voj služby</a:t>
            </a:r>
            <a:endParaRPr b="0" lang="en-US" sz="1200" spc="-1" strike="noStrike">
              <a:solidFill>
                <a:srgbClr val="000000"/>
              </a:solidFill>
              <a:latin typeface="Arial"/>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parlamentu české občanství, překážky do parlamentu jsou: zbavení či omezení způsobilosti k právním úkonům §§ 10 a 855 občanského zákoníka, není definitivní rozhodnutí, do obecních zastupitelstev dále: omezení svobody z důvodu výkonu trestu odnětí svobody, výkon základní nebo náhradní voj služ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ivní, 18 do obecních zastupitelstev, 21 do parlamentu, 40 let do senátu,čl. 19 Úst.</a:t>
            </a:r>
            <a:endParaRPr b="0" lang="en-US" sz="1200" spc="-1" strike="noStrike">
              <a:solidFill>
                <a:srgbClr val="000000"/>
              </a:solidFill>
              <a:latin typeface="Arial"/>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yhlášení je pravomocí prezidenta republiky, do 90 dnů pře jejich konáním, čl. 63 odst. 2 a 3 Ústavy, spolu s vládním činitelem, obec vyhlašuje volby 15 dnů přede dnem konání, vyhláška o místu a době konání voleb, den voleb je ze zákona interpretován a rozložen do 2 dnů, přenosná volební schránka, 2 členové volební komise, </a:t>
            </a:r>
            <a:endParaRPr b="0" lang="en-US" sz="1200" spc="-1" strike="noStrike">
              <a:solidFill>
                <a:srgbClr val="000000"/>
              </a:solidFill>
              <a:latin typeface="Arial"/>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Vyhlášení je pravomocí prezidenta republiky, do 90 dnů pře jejich konáním, čl. 63 odst. 2 a 3 Ústavy, spolu s vládním činitelem, obec vyhlašuje volby 15 dnů přede dnem konání, vyhláška o místu a době konání voleb, den voleb je ze zákona interpretován a rozložen do 2 dnů, přenosná volební schránka, 2 členové volební komi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Ustanovení volebních komisí, politické strany nebo koalice podá návrhy na členy volební komise, pro volby do Posl. sněmovny se vytvářejí tzv. krajské volební komise, do senátu tzv. obvodní volební komise, návrhy se podávají 60 dnů před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Kandidátní listiny se předkládají 60 dnů předem komisím krajské a obvodní, v další fázi jedná ústřední volební komise, všechny komise kontrolují splnění podmínek stran koalic a kandidátů, stížnosti na činnost krajské a obvodní volební komise se podává na ústřední volební komisi. Ústřední volební komise učiní zápis kandidáta a poté vyrozumí komisi krajskou nebo obvodní, ty zaregistrují poté kandidující subje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Zákony stanoví postup volebních komisí před hlasováním, v průběhu hlasování a poté vyhlášení výsledků, komise zjišťuje výsledky hlasování a činí o tom zápis, ústřední volební komise zjišťuje celkové výsledky voleb a tyto vyhlašuje do obou komor, poté vydává do 1 měsíce osvědčení o zvolení. </a:t>
            </a:r>
            <a:endParaRPr b="0" lang="en-US" sz="1200" spc="-1" strike="noStrike">
              <a:solidFill>
                <a:srgbClr val="000000"/>
              </a:solidFill>
              <a:latin typeface="Arial"/>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Vyhlášení je pravomocí prezidenta republiky, do 90 dnů pře jejich konáním, čl. 63 odst. 2 a 3 Ústavy, spolu s vládním činitelem, obec vyhlašuje volby 15 dnů přede dnem konání, vyhláška o místu a době konání voleb, den voleb je ze zákona interpretován a rozložen do 2 dnů, přenosná volební schránka, 2 členové volební komi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Ustanovení volebních komisí, politické strany nebo koalice podá návrhy na členy volební komise, pro volby do Posl. sněmovny se vytvářejí tzv. krajské volební komise, do senátu tzv. obvodní volební komise, návrhy se podávají 60 dnů před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Kandidátní listiny se předkládají 60 dnů předem komisím krajské a obvodní, v další fázi jedná ústřední volební komise, všechny komise kontrolují splnění podmínek stran koalic a kandidátů, stížnosti na činnost krajské a obvodní volební komise se podává na ústřední volební komisi. Ústřední volební komise učiní zápis kandidáta a poté vyrozumí komisi krajskou nebo obvodní, ty zaregistrují poté kandidující subje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Zákony stanoví postup volebních komisí před hlasováním, v průběhu hlasování a poté vyhlášení výsledků, komise zjišťuje výsledky hlasování a činí o tom zápis, ústřední volební komise zjišťuje celkové výsledky voleb a tyto vyhlašuje do obou komor, poté vydává do 1 měsíce osvědčení o zvolení.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Volební aritmetika: poměřný systém, většinový systém, str. 287</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olegiální – vláda, předseda, monokratické – prezident, monarcha, jiné - soud</a:t>
            </a:r>
            <a:endParaRPr b="0" lang="en-US" sz="1200" spc="-1" strike="noStrike">
              <a:solidFill>
                <a:srgbClr val="000000"/>
              </a:solidFill>
              <a:latin typeface="Arial"/>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Vyhlášení je pravomocí prezidenta republiky, do 90 dnů pře jejich konáním, čl. 63 odst. 2 a 3 Ústavy, spolu s vládním činitelem, obec vyhlašuje volby 15 dnů přede dnem konání, vyhláška o místu a době konání voleb, den voleb je ze zákona interpretován a rozložen do 2 dnů, přenosná volební schránka, 2 členové volební komi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Ustanovení volebních komisí, politické strany nebo koalice podá návrhy na členy volební komise, pro volby do Posl. sněmovny se vytvářejí tzv. krajské volební komise, do senátu tzv. obvodní volební komise, návrhy se podávají 60 dnů před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Kandidátní listiny se předkládají 60 dnů předem komisím krajské a obvodní, v další fázi jedná ústřední volební komise, všechny komise kontrolují splnění podmínek stran koalic a kandidátů, stížnosti na činnost krajské a obvodní volební komise se podává na ústřední volební komisi. Ústřední volební komise učiní zápis kandidáta a poté vyrozumí komisi krajskou nebo obvodní, ty zaregistrují poté kandidující subje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Zákony stanoví postup volebních komisí před hlasováním, v průběhu hlasování a poté vyhlášení výsledků, komise zjišťuje výsledky hlasování a činí o tom zápis, ústřední volební komise zjišťuje celkové výsledky voleb a tyto vyhlašuje do obou komor, poté vydává do 1 měsíce osvědčení o zvolení.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Volební aritmetika: poměřný systém, většinový systém, str. 287</a:t>
            </a:r>
            <a:endParaRPr b="0" lang="en-US" sz="1200" spc="-1" strike="noStrike">
              <a:solidFill>
                <a:srgbClr val="000000"/>
              </a:solidFill>
              <a:latin typeface="Arial"/>
            </a:endParaRPr>
          </a:p>
        </p:txBody>
      </p:sp>
    </p:spTree>
  </p:cSld>
</p:notes>
</file>

<file path=ppt/notesSlides/notesSlide1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Ústavní stížnost proti rozhodnutí soudu v posledním prostředku, nebo opravný prostředek ve věci ověření volby poslance nebo senátora, Str. 290 Klíma</a:t>
            </a:r>
            <a:endParaRPr b="0" lang="en-US" sz="1200" spc="-1" strike="noStrike">
              <a:solidFill>
                <a:srgbClr val="000000"/>
              </a:solidFill>
              <a:latin typeface="Arial"/>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Možnost podat návrh zákojna mají poslanec, skupina poslanců, senát, vláda a zastupitelstvo vyššího územního samosprávného celku čl. 41 odst. 2 Ústavy, v případě návrhu o státní rozpočtu je navrhovatelem pouze vlá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Návrh zákona je doručen vládě, ta se k němu může do 30ti dnů vyjádřit, pokud tak neučiní, vzniká fikce souhlasu, čl. 44 Úst., </a:t>
            </a:r>
            <a:endParaRPr b="0" lang="en-US" sz="1200" spc="-1" strike="noStrike">
              <a:solidFill>
                <a:srgbClr val="000000"/>
              </a:solidFill>
              <a:latin typeface="Arial"/>
            </a:endParaRPr>
          </a:p>
        </p:txBody>
      </p:sp>
    </p:spTree>
  </p:cSld>
</p:notes>
</file>

<file path=ppt/notesSlides/notesSlide1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Možnost podat návrh zákojna mají poslanec, skupina poslanců, senát, vláda a zastupitelstvo vyššího územního samosprávného celku čl. 41 odst. 2 Ústavy, v případě návrhu o státní rozpočtu je navrhovatelem pouze vlá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Návrh zákona je doručen vládě, ta se k němu může do 30ti dnů vyjádřit, pokud tak neučiní, vzniká fikce souhlasu, čl. 44 Úst., </a:t>
            </a:r>
            <a:endParaRPr b="0" lang="en-US" sz="1200" spc="-1" strike="noStrike">
              <a:solidFill>
                <a:srgbClr val="000000"/>
              </a:solidFill>
              <a:latin typeface="Arial"/>
            </a:endParaRPr>
          </a:p>
        </p:txBody>
      </p:sp>
    </p:spTree>
  </p:cSld>
</p:notes>
</file>

<file path=ppt/notesSlides/notesSlide1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Schválení probíhá dle čl. 39 odst. 1 a 2 Ústavy, konkretizace v §§ 86 násl. Zákona o jednacím řádu Posl. Sněmovny, č90/1995 Sb., 1. čtení: zákon uvede navrhovatel  a posléze vystoupí zpravodaj, koná se obecná rozprava, 2 . čtení: obecná rozprava a přechod k rozpravě podrobné, zde se předkládají pozměňovací popřípadě jiné návrhy, 3. čtení se týká pouze návrhů na opravu gramatickou, technickou, písemnou, tiskovou, logickou, závěrem je hlasování. Schválená zákon se předá senátu s 30ti denní lhůtou senátu. Str. 301 a 302 Klíma. </a:t>
            </a:r>
            <a:endParaRPr b="0" lang="en-US" sz="1200" spc="-1" strike="noStrike">
              <a:solidFill>
                <a:srgbClr val="000000"/>
              </a:solidFill>
              <a:latin typeface="Arial"/>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Možnost podat návrh zákona mají poslanec, skupina poslanců, senát, vláda a zastupitelstvo vyššího územního samosprávného celku čl. 41 odst. 2 Ústavy, v případě návrhu o státní rozpočtu je navrhovatelem pouze vlá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Návrh zákona je doručen vládě, ta se k němu může do 30ti dnů vyjádřit, pokud tak neučiní, vzniká fikce souhlasu, čl. 44 Ú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Schválení probíhá dle čl. 39 odst. 1 a 2 Ústav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Senát projednává: schválí zákon ve lhůtě do 30ti dnů, čí zamítne, vrátí poslanecké sněmovně nebo vyjádří vůli se jím nezabývat, resp. se nevyjádří ve lhůtě,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oslední 2 případy jsou fikcí souhlasu, čl. 45 a 46 odst. 3 Ústav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 </a:t>
            </a:r>
            <a:r>
              <a:rPr b="0" lang="cs-CZ" sz="1200" spc="-1" strike="noStrike">
                <a:solidFill>
                  <a:srgbClr val="000000"/>
                </a:solidFill>
                <a:latin typeface="Arial"/>
              </a:rPr>
              <a:t>V případě zamítnutí -  čl. 47 odst. 1 – veta senátem, může posl. sněmovna přehlasovat nadpoloviční většinou všech poslanců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V případě vrácení hlasuje poslanecká sněmovna v novém znění a jejím možným usnesením je tento návrh přijat, v případě že sněmovna nesouhlasí s pozměňovacím návrhem, je hlasováno o původním svém textu a tentokrát nadpoloviční většinou všech poslanců může být zákon definitivně přijat, čl. 47 odst. 2 a 3 Ústavy</a:t>
            </a:r>
            <a:endParaRPr b="0" lang="en-US" sz="1200" spc="-1" strike="noStrike">
              <a:solidFill>
                <a:srgbClr val="000000"/>
              </a:solidFill>
              <a:latin typeface="Arial"/>
            </a:endParaRPr>
          </a:p>
        </p:txBody>
      </p:sp>
    </p:spTree>
  </p:cSld>
</p:notes>
</file>

<file path=ppt/notesSlides/notesSlide1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Možnost podat návrh zákona mají poslanec, skupina poslanců, senát, vláda a zastupitelstvo vyššího územního samosprávného celku čl. 41 odst. 2 Ústavy, v případě návrhu o státní rozpočtu je navrhovatelem pouze vlá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Návrh zákona je doručen vládě, ta se k němu může do 30ti dnů vyjádřit, pokud tak neučiní, vzniká fikce souhlasu, čl. 44 Ú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Schválení probíhá dle čl. 39 odst. 1 a 2 Ústav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Senát projednává: schválí zákon ve lhůtě do 30ti dnů, čí zamítne, vrátí poslanecké sněmovně nebo vyjádří vůli se jím nezabývat, resp. se nevyjádří ve lhůtě,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oslední 2 případy jsou fikcí souhlasu, čl. 45 a 46 odst. 3 Ústav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 </a:t>
            </a:r>
            <a:r>
              <a:rPr b="0" lang="cs-CZ" sz="1200" spc="-1" strike="noStrike">
                <a:solidFill>
                  <a:srgbClr val="000000"/>
                </a:solidFill>
                <a:latin typeface="Arial"/>
              </a:rPr>
              <a:t>V případě zamítnutí -  čl. 47 odst. 1 – veta senátem, může posl. sněmovna přehlasovat nadpoloviční většinou všech poslanců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V případě vrácení hlasuje poslanecká sněmovna v novém znění a jejím možným usnesením je tento návrh přijat, v případě že sněmovna nesouhlasí s pozměňovacím návrhem, je hlasováno o původním svém textu a tentokrát nadpoloviční většinou všech poslanců může být zákon definitivně přijat, čl. 47 odst. 2 a 3 Ústav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rezident republiky, čl. 50 Ústavy, přehlasování posl. sněmovnou</a:t>
            </a:r>
            <a:endParaRPr b="0" lang="en-US" sz="1200" spc="-1" strike="noStrike">
              <a:solidFill>
                <a:srgbClr val="000000"/>
              </a:solidFill>
              <a:latin typeface="Arial"/>
            </a:endParaRPr>
          </a:p>
        </p:txBody>
      </p:sp>
    </p:spTree>
  </p:cSld>
</p:notes>
</file>

<file path=ppt/notesSlides/notesSlide1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Možnost podat návrh zákona mají poslanec, skupina poslanců, senát, vláda a zastupitelstvo vyššího územního samosprávného celku čl. 41 odst. 2 Ústavy, v případě návrhu o státní rozpočtu je navrhovatelem pouze vlá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Návrh zákona je doručen vládě, ta se k němu může do 30ti dnů vyjádřit, pokud tak neučiní, vzniká fikce souhlasu, čl. 44 Ú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Schválení probíhá dle čl. 39 odst. 1 a 2 Ústav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Senát projednává: schválí zákon ve lhůtě do 30ti dnů, čí zamítne, vrátí poslanecké sněmovně nebo vyjádří vůli se jím nezabývat, resp. se nevyjádří ve lhůtě,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oslední 2 případy jsou fikcí souhlasu, čl. 45 a 46 odst. 3 Ústav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 </a:t>
            </a:r>
            <a:r>
              <a:rPr b="0" lang="cs-CZ" sz="1200" spc="-1" strike="noStrike">
                <a:solidFill>
                  <a:srgbClr val="000000"/>
                </a:solidFill>
                <a:latin typeface="Arial"/>
              </a:rPr>
              <a:t>V případě zamítnutí -  čl. 47 odst. 1 – veta senátem, může posl. sněmovna přehlasovat nadpoloviční většinou všech poslanců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V případě vrácení hlasuje poslanecká sněmovna v novém znění a jejím možným usnesením je tento návrh přijat, v případě že sněmovna nesouhlasí s pozměňovacím návrhem, je hlasováno o původním svém textu a tentokrát nadpoloviční většinou všech poslanců může být zákon definitivně přijat, čl. 47 odst. 2 a 3 Ústav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rezident republiky, čl. 50 Ústavy, přehlasování posl. Sněmovn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Vyhlášení zákona, podpis předsedou sněmovny, prezidentem republiky a v případě přehlasování dle čl. 47 odst. 1 a 3 Ú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 99 zákona o jednacím řádu, stav nouze, urychlené přijímání norem</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ecní zastup., akademická obec</a:t>
            </a:r>
            <a:endParaRPr b="0" lang="en-US" sz="1200" spc="-1" strike="noStrike">
              <a:solidFill>
                <a:srgbClr val="000000"/>
              </a:solidFill>
              <a:latin typeface="Arial"/>
            </a:endParaRPr>
          </a:p>
        </p:txBody>
      </p:sp>
    </p:spTree>
  </p:cSld>
</p:notes>
</file>

<file path=ppt/notesSlides/notesSlide1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zident nemůže být stíhán sankčně, čl. 63 odst. 4 úst., vláda odpovídá za rozhodovací činnost, prezident se může dopustit velezrady, § 96 zákona o úst. soudu, č. 182/1993 Sb., návaznost mají čl. 65 odst. 2 a čl. 87 odst. 1 g úst.,  prezident republiky má imunitu, nesmí být trestně stíhán, zadržen atd.. </a:t>
            </a:r>
            <a:endParaRPr b="0" lang="en-US" sz="1200" spc="-1" strike="noStrike">
              <a:solidFill>
                <a:srgbClr val="000000"/>
              </a:solidFill>
              <a:latin typeface="Arial"/>
            </a:endParaRPr>
          </a:p>
        </p:txBody>
      </p:sp>
    </p:spTree>
  </p:cSld>
</p:notes>
</file>

<file path=ppt/notesSlides/notesSlide1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rezident nemůže být stíhán sankčně, čl. 63 odst. 4 úst., vláda odpovídá za rozhodovací činnost, prezident se může dopustit velezrady, § 96 zákona o úst. soudu, č. 182/1993 Sb., návaznost mají čl. 65 odst. 2 a čl. 87 odst. 1 g úst.,  prezident republiky má imunitu, nesmí být trestně stíhán, zadržen at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Volba: spolu s jednacím řádem Posl. sněmovny §§ 80 a 81, čl. 2 přílohy č. 2 k jednacímu řádu.  </a:t>
            </a:r>
            <a:endParaRPr b="0" lang="en-US" sz="1200" spc="-1" strike="noStrike">
              <a:solidFill>
                <a:srgbClr val="000000"/>
              </a:solidFill>
              <a:latin typeface="Arial"/>
            </a:endParaRPr>
          </a:p>
        </p:txBody>
      </p:sp>
    </p:spTree>
  </p:cSld>
</p:notes>
</file>

<file path=ppt/notesSlides/notesSlide1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rezident nemůže být stíhán sankčně, čl. 63 odst. 4 úst., vláda odpovídá za rozhodovací činnost, prezident se může dopustit velezrady, § 96 zákona o úst. soudu, č. 182/1993 Sb., návaznost mají čl. 65 odst. 2 a čl. 87 odst. 1 g úst.,  prezident republiky má imunitu, nesmí být trestně stíhán, zadržen at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Volba: spolu s jednacím řádem Posl. sněmovny §§ 80 a 81, čl. 2 přílohy č. 2 k jednacímu řádu – zde tajné i veřejné hlasování.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kandidát, který má nadpoloviční většinu hlasů všech poslanců a hlasů všech senátorů</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Do druhého kola postupují kandidáti z „každé komory“, zvolen je ten, kdo získá nadpoloviční většinu hlasů přítomných poslanců a nadpoloviční většinu hlasů přítomných senátorů</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Zvolen je ten, kdo získá nadpoloviční většinu hlasů přítomných poslanců a senátorů </a:t>
            </a:r>
            <a:endParaRPr b="0" lang="en-US" sz="1200" spc="-1" strike="noStrike">
              <a:solidFill>
                <a:srgbClr val="000000"/>
              </a:solidFill>
              <a:latin typeface="Arial"/>
            </a:endParaRPr>
          </a:p>
        </p:txBody>
      </p:sp>
    </p:spTree>
  </p:cSld>
</p:notes>
</file>

<file path=ppt/notesSlides/notesSlide1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rezident nemůže být stíhán sankčně, čl. 63 odst. 4 úst., vláda odpovídá za rozhodovací činnost, prezident se může dopustit velezrady, § 96 zákona o úst. soudu, č. 182/1993 Sb., návaznost mají čl. 65 odst. 2 a čl. 87 odst. 1 g úst.,  prezident republiky má imunitu, nesmí být trestně stíhán, zadržen at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Volba: spolu s jednacím řádem Posl. sněmovny §§ 80 a 81, čl. 2 přílohy č. 2 k jednacímu řádu – zde tajné i veřejné hlasování.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kandidát, který má nadpoloviční většinu hlasů všech poslanců a hlasů všech senátorů</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Do druhého kola postupují kandidáti z „každé komory“, zvolen je ten, kdo získá nadpoloviční většinu hlasů přítomných poslanců a nadpoloviční většinu hlasů přítomných senátorů</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Zvolen je ten, kdo získá nadpoloviční většinu hlasů přítomných poslanců a senátorů </a:t>
            </a:r>
            <a:endParaRPr b="0" lang="en-US" sz="1200" spc="-1" strike="noStrike">
              <a:solidFill>
                <a:srgbClr val="000000"/>
              </a:solidFill>
              <a:latin typeface="Arial"/>
            </a:endParaRPr>
          </a:p>
        </p:txBody>
      </p:sp>
    </p:spTree>
  </p:cSld>
</p:notes>
</file>

<file path=ppt/notesSlides/notesSlide1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rezident nemůže být stíhán sankčně, čl. 63 odst. 4 úst., vláda odpovídá za rozhodovací činnost, prezident se může dopustit velezrady, § 96 zákona o úst. soudu, č. 182/1993 Sb., návaznost mají čl. 65 odst. 2 a čl. 87 odst. 1 g úst.,  prezident republiky má imunitu, nesmí být trestně stíhán, zadržen at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Volba: spolu s jednacím řádem Posl. sněmovny §§ 80 a 81, čl. 2 přílohy č. 2 k jednacímu řádu – zde tajné i veřejné hlasování.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kandidát, který má nadpoloviční většinu hlasů všech poslanců a hlasů všech senátorů</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Do druhého kola postupují kandidáti z „každé komory“, zvolen je ten, kdo získá nadpoloviční většinu hlasů přítomných poslanců a nadpoloviční většinu hlasů přítomných senátorů</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Zvolen je ten, kdo získá nadpoloviční většinu hlasů přítomných poslanců a senátorů </a:t>
            </a:r>
            <a:endParaRPr b="0" lang="en-US" sz="1200" spc="-1" strike="noStrike">
              <a:solidFill>
                <a:srgbClr val="000000"/>
              </a:solidFill>
              <a:latin typeface="Arial"/>
            </a:endParaRPr>
          </a:p>
        </p:txBody>
      </p:sp>
    </p:spTree>
  </p:cSld>
</p:notes>
</file>

<file path=ppt/notesSlides/notesSlide1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ýlučné znamená, že prezident je vykonává nezávisle na vládní moci, jmenuje a odvolává předsedu vlády, přijímá demisi, jmenuje soudce Ústav. soudu,  se souhlasem senátu jeho předsedu a místopředsedu.</a:t>
            </a:r>
            <a:endParaRPr b="0" lang="en-US" sz="1200" spc="-1" strike="noStrike">
              <a:solidFill>
                <a:srgbClr val="000000"/>
              </a:solidFill>
              <a:latin typeface="Arial"/>
            </a:endParaRPr>
          </a:p>
        </p:txBody>
      </p:sp>
    </p:spTree>
  </p:cSld>
</p:notes>
</file>

<file path=ppt/notesSlides/notesSlide1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ýlučné znamená, že prezident je vykonává nezávisle na vládní moci, jmenuje a odvolává předsedu vlády, přijímá demisi, jmenuje soudce Ústav. soudu,  se souhlasem senátu jeho předsedu a místopředsedu.</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ontrasignované, je potřeba spolupodpisu předsedy vlády, např.: prezident zastupuje stát navenek, sjednávání a ratifikace mezinárodních smluv, je vrchním velitelem ozbrojených sil</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římá nebo zprostředkovaná subjektivita</a:t>
            </a:r>
            <a:endParaRPr b="0" lang="en-US" sz="1200" spc="-1" strike="noStrike">
              <a:solidFill>
                <a:srgbClr val="000000"/>
              </a:solidFill>
              <a:latin typeface="Arial"/>
            </a:endParaRPr>
          </a:p>
        </p:txBody>
      </p:sp>
    </p:spTree>
  </p:cSld>
</p:notes>
</file>

<file path=ppt/notesSlides/notesSlide1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ní možné zasahovat do pravomocí prezidenta dle čl. 62 Úst., vláda může dle čl. 78 Úst. vydávat nařízení k provedení zákona, a v jeho mezích, dle obecného zmocnění, nebo dle konkrétního zmocnění v daném zákoně, má tedy i normotvornou pravomoc, tato nařízení musí být v souladu s ústavou, zákony a mezinárodními smlouvami, součástí jsou ministerstva, ta mohou vydávat právní předpisy, jedná se v obou případech o podzákonné normy.</a:t>
            </a:r>
            <a:endParaRPr b="0" lang="en-US" sz="1200" spc="-1" strike="noStrike">
              <a:solidFill>
                <a:srgbClr val="000000"/>
              </a:solidFill>
              <a:latin typeface="Arial"/>
            </a:endParaRPr>
          </a:p>
        </p:txBody>
      </p:sp>
    </p:spTree>
  </p:cSld>
</p:notes>
</file>

<file path=ppt/notesSlides/notesSlide1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ní možné zasahovat do pravomocí prezidenta dle čl. 62 Úst., vláda může dle čl. 78 Úst. vydávat nařízení k provedení zákona, a v jeho mezích, dle obecného zmocnění, nebo dle konkrétního zmocnění v daném zákoně, má tedy i normotvornou pravomoc, tato nařízení musí být v souladu s ústavou, zákony a mezinárodními smlouvami, součástí jsou ministerstva, ta mohou vydávat právní předpisy, jedná se v obou případech o podzákonné normy.</a:t>
            </a:r>
            <a:endParaRPr b="0" lang="en-US" sz="1200" spc="-1" strike="noStrike">
              <a:solidFill>
                <a:srgbClr val="000000"/>
              </a:solidFill>
              <a:latin typeface="Arial"/>
            </a:endParaRPr>
          </a:p>
        </p:txBody>
      </p:sp>
    </p:spTree>
  </p:cSld>
</p:notes>
</file>

<file path=ppt/notesSlides/notesSlide1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ní možné zasahovat do pravomocí prezidenta dle čl. 62 Úst., vláda může dle čl. 78 Úst. vydávat nařízení k provedení zákona, a v jeho mezích, dle obecného zmocnění, nebo dle konkrétního zmocnění v daném zákoně, má tedy i normotvornou pravomoc, tato nařízení musí být v souladu s ústavou, zákony a mezinárodními smlouvami, součástí jsou ministerstva čl. 79 Úst., ta mohou vydávat právní předpisy, jedná se v obou případech o podzákonné nor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átní zastupitelství, orgán zastupující veřejnou žalobu v trestní řízení  </a:t>
            </a:r>
            <a:endParaRPr b="0" lang="en-US" sz="1200" spc="-1" strike="noStrike">
              <a:solidFill>
                <a:srgbClr val="000000"/>
              </a:solidFill>
              <a:latin typeface="Arial"/>
            </a:endParaRPr>
          </a:p>
        </p:txBody>
      </p:sp>
    </p:spTree>
  </p:cSld>
</p:notes>
</file>

<file path=ppt/notesSlides/notesSlide1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ákon č. 182/1993 Sb., organizace ú. soudu, platové podmínky, řízení před ním, kárná řízení </a:t>
            </a:r>
            <a:endParaRPr b="0" lang="en-US" sz="1200" spc="-1" strike="noStrike">
              <a:solidFill>
                <a:srgbClr val="000000"/>
              </a:solidFill>
              <a:latin typeface="Arial"/>
            </a:endParaRPr>
          </a:p>
        </p:txBody>
      </p:sp>
    </p:spTree>
  </p:cSld>
</p:notes>
</file>

<file path=ppt/notesSlides/notesSlide1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Ústavní soud: Čl. 83 – 89 Ústavy, Úst. Soud je výlučným orgánem, např. přezkoumání zákonů, zda jsou v souladu s Ústavou, pojem ochrany ústavnosti není definován, vykládá se na základě pravomocí a věcné působnosti, je to souhrn prostředků k zjištění a dodržování práv a působnosti subjektů ústavního práva, normativním základem ochrany ústavnosti je především Ústava a ústavní zákony a Listina základních práv a svob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dy – čl. 90-96 Ústavy, </a:t>
            </a:r>
            <a:endParaRPr b="0" lang="en-US" sz="1200" spc="-1" strike="noStrike">
              <a:solidFill>
                <a:srgbClr val="000000"/>
              </a:solidFill>
              <a:latin typeface="Arial"/>
            </a:endParaRPr>
          </a:p>
        </p:txBody>
      </p:sp>
    </p:spTree>
  </p:cSld>
</p:notes>
</file>

<file path=ppt/notesSlides/notesSlide1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Ústavní soud zaručuje ochranu ústavnosti Ústavní soudy zaručují ochranu ústavnosti : Čl. 83 – 89 Ústavy, Úst. Soud je výlučným orgánem, např. přezkoumání zákonů, zda jsou v souladu s Ústavou, pojem ochrany ústavnosti není definován, vykládá se na základě pravomocí a věcné působnosti, je to souhrn prostředků k zjištění a dodržování práv a působnosti subjektů ústavního práva, normativním základem ochrany ústavnosti je především Ústava a ústavní zákony a Listina základních práv a svob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ecné Soudy – čl. 90 – 96 Ústavy, pojem ochrany práv utvrzuje čl. 90 Ústavy, má se jím na mysli: zajistit právo každému, tedy fyzické osobě, čl. 36 Listiny, záruku, že pouze soud rozhoduje o vině a trestu za trestné činy a že budou dodržena pravidla v čl. 40 Listiny, </a:t>
            </a:r>
            <a:endParaRPr b="0" lang="en-US" sz="1200" spc="-1" strike="noStrike">
              <a:solidFill>
                <a:srgbClr val="000000"/>
              </a:solidFill>
              <a:latin typeface="Arial"/>
            </a:endParaRPr>
          </a:p>
        </p:txBody>
      </p:sp>
    </p:spTree>
  </p:cSld>
</p:notes>
</file>

<file path=ppt/notesSlides/notesSlide1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Čl. 83 – 89 Ústavy, Úst. Soud je výlučným orgánem, např. přezkoumání zákonů, zda jsou v souladu s Ústavou, pojem ochrany ústavnosti není definován, vykládá se na základě pravomocí a věcné působnosti, je to souhrn prostředků k zjištění a dodržování práv a působnosti subjektů ústavního práva, normativním základem ochrany ústavnosti je především Ústava a ústavní zákony a Listina základních práv a svob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ecné soudy – čl. 90 – 96 Ústavy, pojem ochrany práv utvrzuje čl. 90 Ústavy, má se jím na mysli: zajistit právo každému, tedy fyzické osobě, čl. 36 Listiny, záruku, že pouze soud rozhoduje o vině a trestu za trestné činy a že budou dodržena pravidla v čl. 40 Listi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ázanost: Soudce Ústavního soudu je vázán pouze ústavními zákony, mezinárodními smlouvami podle čl. 10 ústavy, zákonem o ústavním soudu, čl. 88 odst. 2 ústav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dce obecného soudu je vázán zákonem, soudce má možnost posoudit souladnost zákona, který aplikuje s ústavním zákonem, v případě pochybností o souladu zákona s ústavním zákonem předloží věc ústavním soudu, čl. 95 ústavy, plénum, senáty, jsou tedy 2 organizační subjekty Ústavního soud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ajímavost, Ústavní soud má předsedu a místopředsedu, to plyne z čl. 62 písm. E , k jejich jmenování není potřeba kontrasignace vládou, to plyne z čl. 84 odst. 2 Ústav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énum a senát, Ústavní soud má tedy 2 organizační subjekty, plénum tvoří všichni soudci, stačí 10 z 15, senáty 4 ze 3 soudců</a:t>
            </a:r>
            <a:endParaRPr b="0" lang="en-US" sz="1200" spc="-1" strike="noStrike">
              <a:solidFill>
                <a:srgbClr val="000000"/>
              </a:solidFill>
              <a:latin typeface="Arial"/>
            </a:endParaRPr>
          </a:p>
        </p:txBody>
      </p:sp>
    </p:spTree>
  </p:cSld>
</p:notes>
</file>

<file path=ppt/notesSlides/notesSlide1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Ústavní soud je orgánem výlučným, vertikální soustavu tvoří obecné soudy, zde pouze obecné soudy. Ústava upravuje i krajské okresní, vrchní soudy, zákon může stanovit jejich jiná označení, ústava vylučuje jiné mimořádné sou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 </a:t>
            </a:r>
            <a:r>
              <a:rPr b="0" lang="cs-CZ" sz="1200" spc="-1" strike="noStrike">
                <a:solidFill>
                  <a:srgbClr val="000000"/>
                </a:solidFill>
                <a:latin typeface="Arial"/>
              </a:rPr>
              <a:t>Nejvyšší soud (správní) rozhoduje o mimořádných opravných prostředcích proti rozhodnutí vrchních soudů, zaujímá stanoviska k výkladu zákona a jiných předpisů, rozhoduje i o vykanatelnosti rozhodnutí cizozemských soudů na území ČR, tvoří jej kolegia trestní, vojenské, občansko právní a obchodní.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Vrchní soud rozhoduje o mimořádných opravných prostředcích, zaujímá stanoviska k výkladu zákona a jiných právních předpisů, má kolegia trestní, vojenské, občanskoprávní, obchodní a správní.</a:t>
            </a:r>
            <a:endParaRPr b="0" lang="en-US" sz="1200" spc="-1" strike="noStrike">
              <a:solidFill>
                <a:srgbClr val="000000"/>
              </a:solidFill>
              <a:latin typeface="Arial"/>
            </a:endParaRPr>
          </a:p>
        </p:txBody>
      </p:sp>
    </p:spTree>
  </p:cSld>
</p:notes>
</file>

<file path=ppt/notesSlides/notesSlide1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talog je v čl. 87 určuje věcnou působnost, ve spojitosti s uvedenými působnostmi, § 64 zákona o ústavním soudě, § 72 zákona o úst. soudě. Probrat zbývající katalogová čísla.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 bodu 2 -Např. čl. 11 odst. 1  a 5 listiny, str. 17 ÚZ 521, potřeba zák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 bodu 4,úprava veřejné moci probíhá normami ústavního práva a správního práva, např.  volební zákony, zákon o jednacím řádu parlamentu, zák. o politických stranách, o Ústav. Soud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talog je v čl. 87 určuje věcnou působnost, ve spojitosti s uvedenými působnostmi, § 64 zákona o ústavním soudě, § 72 zákona o úst. soudě. Probrat zbývající katalogová čísla. </a:t>
            </a:r>
            <a:endParaRPr b="0" lang="en-US" sz="1200" spc="-1" strike="noStrike">
              <a:solidFill>
                <a:srgbClr val="000000"/>
              </a:solidFill>
              <a:latin typeface="Arial"/>
            </a:endParaRPr>
          </a:p>
        </p:txBody>
      </p:sp>
    </p:spTree>
  </p:cSld>
</p:notes>
</file>

<file path=ppt/notesSlides/notesSlide1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dná se zásadně na návrh, návrh podávají strany s aktivní legitimací, případ v § 78 odst. 2 zákona o ústavním soudě, kdy návrh pro plénum může vzejít ze senátu, návrh musí dodržovat náležitosti formální, § 34 zákona o ústavním soudě </a:t>
            </a:r>
            <a:endParaRPr b="0" lang="en-US" sz="1200" spc="-1" strike="noStrike">
              <a:solidFill>
                <a:srgbClr val="000000"/>
              </a:solidFill>
              <a:latin typeface="Arial"/>
            </a:endParaRPr>
          </a:p>
        </p:txBody>
      </p:sp>
    </p:spTree>
  </p:cSld>
</p:notes>
</file>

<file path=ppt/notesSlides/notesSlide1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dná se zásadně na návrh, návrh podávají strany s aktivní legitimací, případ v § 78 odst. 2 zákona o ústavním soudě, kdy návrh pro plénum může vzejít ze senátu, návrh musí dodržovat náležitosti formální, § 34 zákona o ústavním soudě.</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Účastnící navrhovatel, §§ 29, 30 zákona č. 182/1992 Sb. – zákon o ústavní soudě</a:t>
            </a:r>
            <a:endParaRPr b="0" lang="en-US" sz="1200" spc="-1" strike="noStrike">
              <a:solidFill>
                <a:srgbClr val="000000"/>
              </a:solidFill>
              <a:latin typeface="Arial"/>
            </a:endParaRPr>
          </a:p>
        </p:txBody>
      </p:sp>
    </p:spTree>
  </p:cSld>
</p:notes>
</file>

<file path=ppt/notesSlides/notesSlide1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Jedná se zásadně na návrh, návrh podávají strany s aktivní legitimací, případ v § 78 odst. 2 zákona o ústavním soudě, kdy návrh pro plénum může vzejít ze senátu, návrh musí dodržovat náležitosti formální, § 34 zákona o ústavním soudě.</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Účastnící navrhovatel, §§ 29, 30, 32 zákona č. 182/1992 Sb. – zákon o ústavní soudě</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říprava: přezkoumání, zda jsou dodržené lhůty, zda se podílejí oprávnění účastnící, zda je soud příslušný, zda je opodstatněný, je li podán přípustný návrh, rozhoduje soudce zpravodaj dle § 43 zákona o ú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Jedná se zásadně na návrh, návrh podávají strany s aktivní legitimací, případ v § 78 odst. 2 zákona o ústavním soudě, kdy návrh pro plénum může vzejít ze senátu, návrh musí dodržovat náležitosti formální, § 34 zákona o ústavním soudě.</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Účastnící navrhovatel, §§ 29, 30, 32 zákona č. 182/1992 Sb. – zákon o ústavní soudě</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říprava: přezkoumání, zda jsou dodržené lhůty, zda se podílejí oprávnění účastnící, zda je soud příslušný, zda je opodstatněný, je li podán přípustný návrh, rozhoduje soudce zpravodaj dle § 43 zákona o ú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Jednání je ústní –platí pro všechny věcné působnosti v čl. 87 odst. 1 - a veřejné, doručení předvolání, soudce zpravodaj sdělí nejprve návrh, výsledky dosavadního řízení</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Jedná se zásadně na návrh, návrh podávají strany s aktivní legitimací, případ v § 78 odst. 2 zákona o ústavním soudě, kdy návrh pro plénum může vzejít ze senátu, návrh musí dodržovat náležitosti formální, § 34 zákona o ústavním soudě.</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Účastnící navrhovatel, §§ 29, 30, 32 zákona č. 182/1992 Sb. – zákon o ústavní soudě</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říprava: přezkoumání, zda jsou dodržené lhůty, zda se podílejí oprávnění účastnící, zda je soud příslušný, zda je opodstatněný, je li podán přípustný návrh, rozhoduje soudce zpravodaj dle § 43 zákona o ú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Jednání je ústní –platí pro všechny věcné působnosti v čl. 87 odst. 1 - a veřejné, doručení předvolání, soudce zpravodaj sdělí nejprve návrh, výsledky dosavadního řízení</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Dokazování  při ústním jednání nebo mimo toto jednání</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Arial"/>
              </a:rPr>
              <a:t>Jedná se zásadně na návrh, návrh podávají strany s aktivní legitimací, případ v § 78 odst. 2 zákona o ústavním soudě, kdy návrh pro plénum může vzejít ze senátu, návrh musí dodržovat náležitosti formální, § 34 zákona o ústavním soudě.</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Arial"/>
              </a:rPr>
              <a:t>Účastnící navrhovatel, §§ 29, 30, 32 zákona č. 182/1992 Sb. – zákon o ústavní soudě</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Arial"/>
              </a:rPr>
              <a:t>Příprava: přezkoumání, zda jsou dodržené lhůty, zda se podílejí oprávnění účastnící, zda je soud příslušný, zda je opodstatněný, je li podán přípustný návrh, rozhoduje soudce zpravodaj dle § 43 zákona o ú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Arial"/>
              </a:rPr>
              <a:t>Jednání je ústní –platí pro všechny věcné působnosti v čl. 87 odst. 1 - a veřejné, doručení předvolání, soudce zpravodaj sdělí nejprve návrh, výsledky dosavadního řízení</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Arial"/>
              </a:rPr>
              <a:t>Dokazování  při ústním jednání nebo mimo toto jednání</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Arial"/>
              </a:rPr>
              <a:t>Rozhodnutí, Nález a Usnesení, Nálezem se rozhoduje ve věci samé, nález je interpretace ústavního textu, musí mít náležitosti : výrok, odůvodnění a poučení, jiná rozhodnutí jsou usnesení, § 54 zákona o ú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Arial"/>
              </a:rPr>
              <a:t>Ústavní soud rozhoduje v plénu, senátech nebo soudce zpravodaj, §§ 11,15 zákona o ús.  Plénum rozhoduje většinou za přítomnosti alespoň 10 soudců, kvalifikovaná většina je potřeba v případech čl. 87 odst. 1 písm. a,g h..  To plyne z § 13 zákona o úst. soudě.</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Arial"/>
              </a:rPr>
              <a:t>Náklady řízení nepodléhají soudním poplatkům, hradí se z rozpočtu ústavního soudu, např.: důkazy a tlumočení, náklady účastníka nebo vedlejšího účastníka hradí tento sám, § 62 zákona o ú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040"/>
            <a:ext cx="5486400" cy="4476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Jedná se zásadně na návrh, návrh podávají strany s aktivní legitimací, případ v § 78 odst. 2 zákona o ústavním soudě, kdy návrh pro plénum může vzejít ze senátu, návrh musí dodržovat náležitosti formální, § 34 zákona o ústavním soudě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an J. H. byl aktivně legitimován k tomu, aby podal ústavní stížnost, a rovněž splnil podmínku řádného právního zastoupení.</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Lhůta – novela č. 83/2004 Sb. – 60 dnů od doručení rozhodnutí o mimořádném opravném prostředku (dovolání)</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Vyčerpání všech  procesních prostředků v trestním řízení – pravomocné rozhodnutí ve druhém stupni, zbývá podat dovolání dle § 265a a násl. trestního řádu, lhůta 2 měsíce od doručení rozhodnutí, proti kterému bude směřovat.Teprve v případě neúspěšného dovolání k Nejvyššímu soudu CR je možné podat ústavní stížnost k Ústavnímu soudu ČR. Absence podání dovolání bude Ústavním soudem posouzena jako nesplnění podmínek přípustnosti ústavní stížnosti dle § 72 odst. 3 zákona o Ústavním soud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olicie získala důkaz z registrace telekomunikačního provozu před sdělením obvinění, nemohlo se jednat o neodkladný úk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Ochrana tajemství zpráv podávaných telefonem zakládá i ochranu dalších údaj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 1 , trestní práv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 2. podnikatelské aktivity, soukromoprávní obsah ústavněprávních norem</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ecné, např. čl. 2 odst. 1 Listiny, stát je založen na demokratických hodnotách</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ecné, např. čl. 2 odst. 1 Listiny, stát je založen na demokratických hodnotá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ovící práva, čl. 19 odst. 1 listiny, právo pokojně se sdružovat je zaručeno</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Obecné, např. čl. 2 odst. 1 Listiny, stát je založen na demokratických hodnotá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Stanovící práva, čl. 19 odst. 1 listiny, právo pokojně se sdružovat je zaručeno, pravidla chování, občan musí dodržovat pravidla pro realizaci svých práv, v opačném případě hrozí sankce v jiném právním předpisu, normy se sankcí v ústavě jsou např. čl. 59, ten má kompletní strukturu, tedy hypotézu, dispozici a sankc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Konstitutivní, největší část ústavy,  hlava 2 – 7 ústavy, základem je constitutio, zřizovat instituce, jejich strukturu, vznik , způsob vzniku, pravomoc, působnost, vztahy vzájemné, metody činnosti, souhrnem: organizaci mechanismu veřejné moci</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literatuře jsou pokusy o vyčleňování norem a jejich třídění</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4innost: Např. čl. 60 Ústavy o slibu prezidenta, činnost by měla být předpokládána Ústav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Odpovědnost směřuje k realizaci Ústav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rincipy: vztahy veřejné moci a postavení individu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Sank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1.Zrušení zákona nesouladného s Ústavou, čl. 87 odst. 1 písm.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2. Odvolání orgánu, kdy ústavní orgán, nenaplní podmínky odpovědnosti, čl. 75 Ústav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3. Rozpuštění orgánu čl. 35, rozpuštění Poslanecké sněmov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4. Ztráta mandátu, např. čl. 6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5. Zrušení výsledku voleb, Ústavním soud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Jiné sankce: uvolnění z funkce, náprava a opakování postupu, uvedení v předešlí sta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OZOR: Snítilý, problém, jak na něj:</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Realizace Ústavy: vydání právního předpisu, ústavního zákona, zákona, zákonného opatření, obecně závazné vyhlášky, nebo rozhodnutí orgánu čl. 62 Ústavy o pravomoci prez. republiky, kontrolní činnost – čl. 97 Úst. Činnost Nejvyššího kontrolního úřadu, rozhodování sporů podle Ústavy čl. 87 Úst. Pravomoci Ústavního soudu, jednáním ústavních orgánů – čl. 63 odst. 1. písm. a o pravomoci prezidenta zastupovat stát navene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Konflikty jsou např: spor o pravomoc nebo působnost stát. orgánu, orgán veřejné správy nepovolí činnost politické strany, obecní orgán zakáže demonstraci, konflikty řeší ústavní soudnictví</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 je ústava živým nástrojem</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lament, ústavní soud</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Metody: interpretace soudců ústav. Soudu při výkladu ústavních norem je podobná jako při výkladů norem zákonů, výklady gramatické, systémové, teleologické, historickogenetické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Zajímavý je také pojem aktualizace pojmů</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Metody: interpretace soudců ústav. Soudu při výkladu ústavních norem je podobná jako při výkladů norem zákonů, výklady gramatické, systémové, teleologické, historickogenetické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Zajímavý je také pojem aktualizace pojmů</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Metody: interpretace soudců ústav. Soudu při výkladu ústavních norem je podobná jako při výkladů norem zákonů, výklady gramatické, systémové, teleologické, historickogenetické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Zajímavý je také pojem aktualizace pojm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Doktrinální výklad dle učebnicové literatury, né částečně psaná ústava obyčejů a tradic</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Tyto ústavy jsou založeny na dělbě moci, upravují soustavu nejvyšších státních orgánů a jejich vztahy, amer. revoluce, franc., anglická. Zakotvení postavení člověka a občana a jeho právní ochranu. </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Tyto ústavy jsou založeny na dělbě moci, upravují soustavu nejvyšších státních orgánů a jejich vztahy, amer. revoluce, franc., anglická. Zakotvení postavení člověka a občana a jeho právní ochran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2bod, formování národních států, stí monarchických či republikánských režimů, üstavy utvrzující politické svobody, např. Üstava Norska 1814</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yhledat na internetu, stačí poznámky</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Tyto ústavy jsou založeny na dělbě moci, upravují soustavu nejvyšších státních orgánů a jejich vztahy, amer. revoluce, franc., anglická. Zakotvení postavení člověka a občana a jeho právní ochran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2bod, formování národních států, stí monarchických či republikánských režimů, üstavy utvrzující politické svobody, např. Üstava Norska 18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Bod3. Výmarská Republika 1919, Ústava Republiky Československé 1920, parlamentní demokracie, politická práva občanů, svobodu sdružovací, právo volební</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Tyto ústavy jsou založeny na dělbě moci, upravují soustavu nejvyšších státních orgánů a jejich vztahy, amer. revoluce, franc., anglická. Zakotvení postavení člověka a občana a jeho právní ochran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2bod, formování národních států, stí monarchických či republikánských režimů, üstavy utvrzující politické svobody, např. Üstava Norska 18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Bod3. Výmarská Republika 1919, Ústava Republiky Československé 1920, parlamentní demokracie, politická práva občanů, svobodu sdružovací, právo volební</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Bod 4, zde jsopu základní 4 etapy, 1. vznik poválečných demokratických režimů v zemích s totalitárním režimem Itálie, vznik lidově demokratických států 1945-1949 Československo 2. Šedesátá léta vznik nových států v Africe, 3. Sedmdesátá léta, pád evropských diktatur v Řecku, Portugalsku Španělsku 4. Rozpad reálného socialismu SSSR, vznik států nových, obnova demokratických institucí</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částí světově uznávané ústavní koncepce</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sanou částí </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sanou částí britské ústavy jsou zákony, které upravují vztahy mezi součástmi Spoj. Království, mezi nejvyššími státními orgány, ale i dokumenty upravující práva občanů: Bill of Rights 1689, Magna Charta Libertatum 1215</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volat jindy</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18 vznik – prozatímní ústava do roku 1920, po roce 1989 ČSFR přechodový systém – zánik 1992 prosinec, od 1993 Č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Vztah obcan obcan, vztah instituce obcan, řešením pro soukromé do té míry, že udává pozici individua k státu a tím i pozici individuí k sobě</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Ústava ČR – z. č. 1.1993 Sb. + Listina ZPS – z. č. 2/1993 Sb. – tzv. ústavní pořádek ČR</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Č. 541/1992 Sb., 542/1992 Sb., samozřejmě i slovenská ústava  ze září 1992, ta platila paralelně s existující federací, paradox ústavního práva, měl proběhnout přechod poslanců federálního parlamentu do republikových parlamentů , došlo ovšem jen k převzetí k převzetí národní rady, ne k převzetí poslanců bývalého federálního parlamentu, za ČSFR byly národní rady česká a slovenská a federální parla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Je potřeba brát v potaz recepční zákon 4/1993 Sb. ,který měl založit novou ústavní situaci od 1.1.1993 pro případ, že by ČNRada nepřijala novou ústavu, jak se dne 16.12.1992 s platností od 1.1.1993 stal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zpor mezi zákony, které ukončily platnost ČSFR a novou ústavou. Převzetí působnosti ústavního soudu ČSFR na nejvyšší soud ČR, ústava převedla všechny soudce soudů České republiky do nového ústavního systému nové ústavy, počítalo se pouze s převzetím pracovníků kancelář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čl. 1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územní čl. 112 odst. 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ávní čl. 112 odst. 2, 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částí je i Listina zákl. práv a svob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ajímavý je i článek 106, o převzetí zákonodárc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c zákonodárná, výkonnou a soudní, tedy struktura státní moci</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c zákonodárná, výkonnou a soudní, tedy struktura státní moci</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lava II – IV Moc zákonodárná, výkonnou a soudní, tedy struktura státní moc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lava V, nejvyšší kontrolní úř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Hlava II – IV Moc zákonodárná, výkonnou a soudní, tedy struktura státní moc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Hlava V, nejvyšší kontrolní úř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Hlava VI, 4eská nár. bank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Hlava II – IV Moc zákonodárná, výkonnou a soudní, tedy struktura státní moc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Hlava V, nejvyšší kontrolní úř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Hlava VI, 4eská nár. bank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Hlava II – IV Moc zákonodárná, výkonnou a soudní, tedy struktura státní moc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Hlava V, nejvyšší kontrolní úř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Hlava VI, 4eská nár. bank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Hlava I, základní ustanovení, hlavní město, občanství atd… l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Ústava 1. místo ústavního pořádk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Interpretační základ ústavního systém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Čl. 112 ú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Sbírka zákonů je: dopln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Je dualisticke pojeti a monisticke, dualistické znamená, že mezinarodni a narodni systémy jsou oddelene, pote je potreba transformace, v pripade monisticke teorie jde o jeden systém s ruznymi prioritami norem, Pokud ústava obsahuje normy, které zavazují z mezinárodněprávního hlediska či zda je neobsahuje nebo nepřipouští, potom uzavřený systé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Čl. 10, upravuje závaznost mezinárodních smluv, pokud se týkají lidských práv a svob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Čl. 10 inkorporuje smlouvy do ústavního systému, tyto smlouvy jsou závazné pro normy s nižší právní sílou</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tická definice, historická definice, normativně právní definice, </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kud ústava obsahuje normy, které zavazují z mezinárodněprávního hlediska či zda je neobsahuje nebo nepřipouští, potom uzavřený systé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Čl. 10, upravuje závaznost mezinárodních smluv, pokud se týkají lidských práv a svob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Čl. 10 inkorporuje smlouvy do ústavního systému, tyto smlouvy jsou závazné pro normy s nižší právní sílou</a:t>
            </a: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kud ústava obsahuje normy, které zavazují z mezinárodněprávního hlediska či zda je neobsahuje nebo nepřipouští, potom uzavřený systé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Čl. 10, upravuje závaznost mezinárodních smluv, pokud se týkají lidských práv a svob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Čl. 10 inkorporuje smlouvy do ústavního systému, tyto smlouvy jsou závazné pro normy s nižší právní sílou</a:t>
            </a: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kud ústava obsahuje normy, které zavazují z mezinárodněprávního hlediska či zda je neobsahuje nebo nepřipouští, potom uzavřený systé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Čl. 10, upravuje závaznost mezinárodních smluv, pokud se týkají lidských práv a svob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Čl. 10 inkorporuje smlouvy do ústavního systému, tyto smlouvy jsou závazné pro normy s nižší právní síl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Ústava tedy uznává závaznost určitého druhu mezinárodních smlu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př.i  čl. 39 odst. 4 ústav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ukázat na čl. 10 a, převádění pravomocí na mezinárodní organizace, možnost postoupení kompetence státu na nadnárodní instituce, převedení vnitřní suverenity směrem k ES a příjem nových kompetencí směrem od ES</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Novela ustavy, euronovela, integracni zmocneni je ust. zak. 395/2001, ucelem je institucionalni tvorb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 </a:t>
            </a:r>
            <a:r>
              <a:rPr b="0" lang="cs-CZ" sz="1200" spc="-1" strike="noStrike">
                <a:solidFill>
                  <a:srgbClr val="000000"/>
                </a:solidFill>
                <a:latin typeface="Arial"/>
              </a:rPr>
              <a:t>Ustavni zaklad pro prevod kompetenci na mezinarodni org. nebo instituci je cl. 10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 </a:t>
            </a:r>
            <a:r>
              <a:rPr b="0" lang="cs-CZ" sz="1200" spc="-1" strike="noStrike">
                <a:solidFill>
                  <a:srgbClr val="000000"/>
                </a:solidFill>
                <a:latin typeface="Arial"/>
              </a:rPr>
              <a:t>cl. 87 odst. 2 upravuje kontrolu ust. soudu před ratifikaci dle cl. 10a II Ústavy.</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 základem pro vyřizováni ústavní stížnosti občan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ace státu, jeho zařazení do globálního systému, jeho poměr k individuu, jeho prostředek k tvorbě norem a řešení, ústava může upravovat i další typy vztahů, ideové a náboženské základy, národní suverenitu, vztah k nadnárodním společenstvím.</a:t>
            </a: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ro ústavní postavení člověka a občana je nejdůležitější čl. 1, nezcizitelnost, zásada rovnosti lidí, čl. 2 svoboda člověka, čl. 3 odst. 1 zaručení práv bez ohledu na víru at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A čl 3 odst.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ro činnost státu je důležité připomenout čl. 2 odst. 2 státní moc se uplatňuje jen v případech stanovených zákonem a způsobem, který zákon stanov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Čl. 4 odst. 1 povinnosti mohou být ukládány jen na základě zákona a v jeho mezí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Např. čl. 4 odst 4 a čl 40 ListinyZáklPaS</a:t>
            </a: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ina je závazná pro vnitřní právo ČR. Způsobilost mít práva</a:t>
            </a: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Možnost být svobodně splozen a zrozen, souběžně s eužívá s právem nedotknutelnosti osoby, zákaz trestu smrti, nutná obrana</a:t>
            </a: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Život: Možnost být svobodně splozen a zrozen, souběžně s eužívá s právem nedotknutelnosti osoby, zákaz trestu smrti, nutná obra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Nedotknutelnost: vydírání, fyzické násilí, psychický teror, zadržování, omezení pouze zákonem, čl. 7 a čl 4 odst.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Život: Možnost být svobodně splozen a zrozen, souběžně s eužívá s právem nedotknutelnosti osoby, zákaz trestu smrti, nutná obra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Nedotknutelnost: vydírání, fyzické násilí, psychický teror, zadržování, omezení pouze zákonem, čl. 7 a čl 4 odst.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Osobní svoboda: svobodná existence, prosperita člověka, v užším smyslu  i procesní ochrana před zásahy veřejné moci, státních orgánů, stíháni čl. 8 odst. 2, zadržení čl. 8 odst. 3, zatčení čl.8 odst. 4, jedná se o konkrétní normy, je tedy možná přímá aplikace, v praxi si vyžaduje aplikaci ve spojení s trestněprávními normami, zákon o trestním řízení.</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Život: Možnost být svobodně splozen a zrozen, souběžně s eužívá s právem nedotknutelnosti osoby, zákaz trestu smrti, nutná obra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Nedotknutelnost: vydírání, fyzické násilí, psychický teror, zadržování, omezení pouze zákonem, čl. 7 a čl 4 odst.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Osobní svoboda: svobodná existence, prosperita člověka, v užším smyslu  i procesní ochrana před zásahy veřejné moci, státních orgánů, stíháni čl. 8 odst. 2, zadržení čl. 8 odst. 3, zatčení čl.8 odst. 4, jedná se o konkrétní normy, je tedy možná přímá aplikace, v praxi si vyžaduje aplikaci ve spojení s trestněprávními normami, zákon o trestním řízení.</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ráce a služby: otroctví, zde chrání předpisy trestního práva, vydírání , omezování osobní svobody, ustanovení o zneužití pravomoci veřejného činitele, tato zásada se může aplikovat v těchto prípadech čl. 9 odst. 2, str. 197 Klíma pojem nucené prá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Život: Možnost být svobodně splozen a zrozen, souběžně s eužívá s právem nedotknutelnosti osoby, zákaz trestu smrti, nutná obra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Nedotknutelnost: vydírání, fyzické násilí, psychický teror, zadržování, omezení pouze zákonem, čl. 7 a čl 4 odst.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Osobní svoboda: svobodná existence, prosperita člověka, v užším smyslu  i procesní ochrana před zásahy veřejné moci, státních orgánů, stíháni čl. 8 odst. 2, zadržení čl. 8 odst. 3, zatčení čl.8 odst. 4, jedná se o konkrétní normy, je tedy možná přímá aplikace, v praxi si vyžaduje aplikaci ve spojení s trestněprávními normami, zákon o trestním řízení.</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ráce a služby: otroctví, zde chrání předpisy trestního práva, vydírání , omezování osobní svobody, ustanovení o zneužití pravomoci veřejného činitele, tato zásada se může aplikovat v těchto prípadech čl. 9 odst. 2, str. 197 Klíma pojem nucené prá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rávo vlastnictví: vlastnictví je nejen právem ale i závazkem,  vlastník je při užívání svobodný, musí brát ohled na své spoluobčany, nesmí poškozovat lidské zdraví, životní prostředí jinak než je přípustné zákonem, vyvlastnění a omezení vlastnického práva je možné jen ve veřejném zájmu a za náhradu, úhrada je důležitá, bez úhrady je zákon protiústavní, podrobnosti vlastnického práva upravuje občanský zákoník, procesní ochrana je též zajištěna, § 128 odst. 2, také ve stavebním zákoně je upraveno vlast. Právo. I vyvlastnění , zásah je též daňová zátěž, tu musejí upravovat daňové záko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Život: Možnost být svobodně splozen a zrozen, souběžně s eužívá s právem nedotknutelnosti osoby, zákaz trestu smrti, nutná obra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Nedotknutelnost: vydírání, fyzické násilí, psychický teror, zadržování, omezení pouze zákonem, čl. 7 a čl 4 odst.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Osobní svoboda: svobodná existence, prosperita člověka, v užším smyslu  i procesní ochrana před zásahy veřejné moci, státních orgánů, stíháni čl. 8 odst. 2, zadržení čl. 8 odst. 3, zatčení čl.8 odst. 4, jedná se o konkrétní normy, je tedy možná přímá aplikace, v praxi si vyžaduje aplikaci ve spojení s trestněprávními normami, zákon o trestním řízení.</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ráce a služby: otroctví, zde chrání předpisy trestního práva, vydírání , omezování osobní svobody, ustanovení o zneužití pravomoci veřejného činitele, tato zásada se může aplikovat v těchto prípadech čl. 9 odst. 2, str. 197 Klíma pojem nucené prá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rávo vlastnictví: vlastnictví je nejen právem ale i závazkem,  vlastník je při užívání svobodný, musí brát ohled na své spoluobčany, nesmí poškozovat lidské zdraví, životní prostředí jinak než je přípustné zákonem, vyvlastnění a omezení vlastnického práva je možné jen ve veřejném zájmu a za náhradu, úhrada je důležitá, bez úhrady je zákon protiústavní, podrobnosti vlastnického práva upravuje občanský zákoník, procesní ochrana je též zajištěna, § 128 odst. 2, také ve stavebním zákoně a zákoně o územním plánování je upraveno vlast. Právo a vyvlastnění , zásah je též daňová zátěž, tu musejí upravovat daňové záko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Nedotknutelnost obydli: posiluje sferu ochrany obidli a soukromeho zivota jedince, obydli je jakykoliv objemovy kryty prostor, na který ma osoba vlastnicky nebo jiný uzivaci pravni titul, napr. V katastru zapsana nebo dle najemni smlouvy, listina chrani pravni duvod bydleni, nedoknutelnost bydleni pusobi vuci vsem, verjne moci i soukrome, listina vymezuje domovni prohlidku ve trech pripadech – trestni rizeni za 1, ochrana zivota zdravi pra a svobod druhych a odvraceni ohrozeni verejne bezpecnosti a pro plneni ukolu verejne spravy, pokud je obydli uzivano i k podnikani a jiné hospodarske cinnosti za 3, čl. 12 ods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ovoleny jsou i jiné  zasahy do obydli, čl. 12 odst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ředmětem jsou listy dopisy, ať v soukromí nebo zasílány poštou, zprávy podávané telefonem, telegrafem, Listina chrání jakýkoli technický ,mechanický elektromagnetický elektronický či záznamový prostředek, kterých je schopen uchovávat přechovávat či přenášet myšlenky, údaje, obrazy a inform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Svoboda pohybu a pobytu, ve spojení s osobní svobodou čl. 8, určovat si v místo svého bytí v regionu, možnost opuštění území, , omezení svobody pohybu a pobytu je možné z důvodů v odst. 3, např. bezpečnost státu, veřejný pořádek, ochrana českého občana je v odst. 4 a cizinci jsou zakotveni v odst. 5 , odst. 5 je ve spojitosti tematicke s čl 42 odst 2 a čl. 4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ředmětem jsou listy dopisy, ať v soukromí nebo zasílány poštou, zprávy podávané telefonem, telegrafem, Listina chrání jakýkoli technický ,mechanický elektromagnetický elektronický či záznamový prostředek, kterých je schopen uchovávat přechovávat či přenášet myšlenky, údaje, obrazy a inform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Svoboda pohybu a pobytu, ve spojení s osobní svobodou čl. 8, určovat si v místo svého bytí v regionu, možnost opuštění území, , omezení svobody pohybu a pobytu je možné z důvodů v odst. 3, např. bezpečnost státu, veřejný pořádek, ochrana českého občana je v odst. 4 a cizinci jsou zakotveni v odst. 5 , odst. 5 je ve spojitosti tematicke s čl 42 odst 2 a čl. 4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9CEEC7-5148-4F39-B78E-8AA02407A5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A6F3C0-A7EB-4D9A-9734-0A9AE0E364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1AB199-743A-4026-97BD-AB80E6865E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76D836-117D-4B56-9C08-F36C9142BB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E6B2AB0-44E3-4474-9A0A-1971A2071D74}"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9375E20-DFB9-40DC-8E86-A25E2EF8C89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90703DF-E175-4580-8BF7-AEB328A90A0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F85C10F-ED7D-4601-8934-76C2C554857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3E1A82F-B73D-41E6-B974-3E584D67A6C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20B1883-AA7C-4A8C-A878-1793729A6EB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20D1FF-24B9-4167-9173-F1B8B137E68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726E6E-72B5-4A7F-8250-7B5CF70558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30FC59-0153-49B6-B87C-08713F714BD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76D922-EE8C-4A3C-895D-4BDCC8E78B9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E995A73-562A-4334-8C1A-2B1D3B83503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DD18BD9-ADB0-4D68-AAA5-E3CC50A5ED1A}"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4C85D46-652F-454B-A60B-FCBB60EBD0B5}"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E71F21-2680-48FE-81B8-55935B0F3B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5EFCE1-E357-4FA6-B0C0-81FBE343F4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4D5EAB-BC21-47A7-8AA8-3A7C91F86E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129253-625E-4026-B9D2-4963275E88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CF693B-F398-4240-8BD4-D0F77CF95C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BABCFC-949F-420D-AFAA-FEF385F0BA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F29A13-73AF-4536-AD51-C4231FCCA7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AB34D-272A-4F01-A55E-61F45AECAAD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89EF9-2D52-4BDE-8BFC-F77DEA3F6AF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ilda@seznam.cz" TargetMode="External"/><Relationship Id="rId3" Type="http://schemas.openxmlformats.org/officeDocument/2006/relationships/hyperlink" Target="mailto:ilda@seznam.cz" TargetMode="External"/><Relationship Id="rId4" Type="http://schemas.openxmlformats.org/officeDocument/2006/relationships/hyperlink" Target="http://www.sweb.cz/ilda" TargetMode="External"/><Relationship Id="rId5" Type="http://schemas.openxmlformats.org/officeDocument/2006/relationships/hyperlink" Target="http://www.sweb.cz/ilda" TargetMode="External"/><Relationship Id="rId6" Type="http://schemas.openxmlformats.org/officeDocument/2006/relationships/slideLayout" Target="../slideLayouts/slideLayout14.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1.xml"/>
</Relationships>
</file>

<file path=ppt/slides/_rels/slide1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3.xml"/>
</Relationships>
</file>

<file path=ppt/slides/_rels/slide1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4.xml"/>
</Relationships>
</file>

<file path=ppt/slides/_rels/slide1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6.xml"/>
</Relationships>
</file>

<file path=ppt/slides/_rels/slide1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7.xml"/>
</Relationships>
</file>

<file path=ppt/slides/_rels/slide1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3.xml"/>
</Relationships>
</file>

<file path=ppt/slides/_rels/slide1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4.xml"/>
</Relationships>
</file>

<file path=ppt/slides/_rels/slide1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5.xml"/>
</Relationships>
</file>

<file path=ppt/slides/_rels/slide1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6.xml"/>
</Relationships>
</file>

<file path=ppt/slides/_rels/slide1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7.xml"/>
</Relationships>
</file>

<file path=ppt/slides/_rels/slide1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8.xml"/>
</Relationships>
</file>

<file path=ppt/slides/_rels/slide1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9.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71.xml"/>
</Relationships>
</file>

<file path=ppt/slides/_rels/slide1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72.xml"/>
</Relationships>
</file>

<file path=ppt/slides/_rels/slide1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73.xml"/>
</Relationships>
</file>

<file path=ppt/slides/_rels/slide1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74.xml"/>
</Relationships>
</file>

<file path=ppt/slides/_rels/slide1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76.xml"/>
</Relationships>
</file>

<file path=ppt/slides/_rels/slide1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77.xml"/>
</Relationships>
</file>

<file path=ppt/slides/_rels/slide1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78.xml"/>
</Relationships>
</file>

<file path=ppt/slides/_rels/slide1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79.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9.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1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0.xml"/>
</Relationships>
</file>

<file path=ppt/slides/_rels/slide1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1.xml"/>
</Relationships>
</file>

<file path=ppt/slides/_rels/slide1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2.xml"/>
</Relationships>
</file>

<file path=ppt/slides/_rels/slide1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3.xml"/>
</Relationships>
</file>

<file path=ppt/slides/_rels/slide1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4.xml"/>
</Relationships>
</file>

<file path=ppt/slides/_rels/slide1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5.xml"/>
</Relationships>
</file>

<file path=ppt/slides/_rels/slide1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6.xml"/>
</Relationships>
</file>

<file path=ppt/slides/_rels/slide1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ilda@seznam.cz" TargetMode="External"/><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ilda@seznam.cz" TargetMode="External"/><Relationship Id="rId3" Type="http://schemas.openxmlformats.org/officeDocument/2006/relationships/hyperlink" Target="http://www.sweb.cz/ilda" TargetMode="External"/><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55640" y="692280"/>
            <a:ext cx="7772400" cy="14414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Ústavní právo ČR</a:t>
            </a:r>
            <a:br>
              <a:rPr sz="4400"/>
            </a:br>
            <a:endParaRPr b="0" lang="en-US" sz="4400" spc="-1" strike="noStrike">
              <a:solidFill>
                <a:srgbClr val="ffffff"/>
              </a:solidFill>
              <a:latin typeface="Tahoma"/>
            </a:endParaRPr>
          </a:p>
        </p:txBody>
      </p:sp>
      <p:sp>
        <p:nvSpPr>
          <p:cNvPr id="91" name="PlaceHolder 2"/>
          <p:cNvSpPr>
            <a:spLocks noGrp="1"/>
          </p:cNvSpPr>
          <p:nvPr>
            <p:ph type="subTitle"/>
          </p:nvPr>
        </p:nvSpPr>
        <p:spPr>
          <a:xfrm>
            <a:off x="1332000" y="2349000"/>
            <a:ext cx="6400800" cy="35276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Mgr. Ilona Kostadinovová</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Právnická fakulta ZČU v Plzni</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u="sng">
                <a:solidFill>
                  <a:srgbClr val="ffcc00"/>
                </a:solidFill>
                <a:uFillTx/>
                <a:latin typeface="Tahoma"/>
                <a:hlinkClick r:id="rId2"/>
              </a:rPr>
              <a:t>ilda</a:t>
            </a:r>
            <a:r>
              <a:rPr b="0" lang="en-US" sz="3200" spc="-1" strike="noStrike" u="sng">
                <a:solidFill>
                  <a:srgbClr val="ffcc00"/>
                </a:solidFill>
                <a:uFillTx/>
                <a:latin typeface="Tahoma"/>
                <a:hlinkClick r:id="rId3"/>
              </a:rPr>
              <a:t>@seznam.cz</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Tahoma"/>
                <a:hlinkClick r:id="rId4"/>
              </a:rPr>
              <a:t>www.sweb.cz</a:t>
            </a:r>
            <a:r>
              <a:rPr b="0" lang="cs-CZ" sz="3200" spc="-1" strike="noStrike" u="sng">
                <a:solidFill>
                  <a:srgbClr val="ffcc00"/>
                </a:solidFill>
                <a:uFillTx/>
                <a:latin typeface="Tahoma"/>
                <a:hlinkClick r:id="rId5"/>
              </a:rPr>
              <a:t>/ilda</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cc"/>
                </a:solidFill>
                <a:latin typeface="Tahoma"/>
              </a:rPr>
              <a:t>Subjekty ústavního práva, ústavněprávní vztahy</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10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ztahy vznikají mezi subjekty – jejich aktivitou</a:t>
            </a:r>
            <a:endParaRPr b="0" lang="en-US" sz="3200" spc="-1" strike="noStrike">
              <a:solidFill>
                <a:srgbClr val="ffffff"/>
              </a:solidFill>
              <a:latin typeface="Tahoma"/>
            </a:endParaRPr>
          </a:p>
          <a:p>
            <a:pPr marL="325800" indent="-3258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ubjekty ú.p. jsou ústavou upravené okruhy institucí, orgánů či jiných útvarů a osob či jejich účelových skupin, jimž jsou poskytnuta práva, pravomoci i povinnosti</a:t>
            </a:r>
            <a:endParaRPr b="0" lang="en-US" sz="3200" spc="-1" strike="noStrike">
              <a:solidFill>
                <a:srgbClr val="ffffff"/>
              </a:solidFill>
              <a:latin typeface="Tahoma"/>
            </a:endParaRPr>
          </a:p>
          <a:p>
            <a:pPr marL="325800" indent="-3258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ubjektivita ú.p. je způsobilost být subjektem ú.p. vztahů, mít možnost naplňovat ústavní normy a ú.p. úkon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ahoma"/>
              </a:rPr>
              <a:t>Lidská práva a základní svobody,</a:t>
            </a:r>
            <a:br>
              <a:rPr sz="4000"/>
            </a:br>
            <a:r>
              <a:rPr b="0" i="1" lang="en-US" sz="4000" spc="-1" strike="noStrike">
                <a:solidFill>
                  <a:srgbClr val="ffffff"/>
                </a:solidFill>
                <a:latin typeface="Tahoma"/>
              </a:rPr>
              <a:t>ústavněprávní základ</a:t>
            </a:r>
            <a:endParaRPr b="0" lang="en-US" sz="4000" spc="-1" strike="noStrike">
              <a:solidFill>
                <a:srgbClr val="ffffff"/>
              </a:solidFill>
              <a:latin typeface="Tahoma"/>
            </a:endParaRPr>
          </a:p>
        </p:txBody>
      </p:sp>
      <p:sp>
        <p:nvSpPr>
          <p:cNvPr id="28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istovní tajemství, tajemství jiných písemností a záznamů, tajemství přepravovaných zpráv, čl. 13</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voboda pohybu a pobytu čl. 14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voboda myšlení, svědomí a náboženského vyznání, vědeckého bádání a umělecké tvorby, čl. 15</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ahoma"/>
              </a:rPr>
              <a:t>Lidská práva a základní svobody,</a:t>
            </a:r>
            <a:br>
              <a:rPr sz="4000"/>
            </a:br>
            <a:r>
              <a:rPr b="0" i="1" lang="en-US" sz="4000" spc="-1" strike="noStrike">
                <a:solidFill>
                  <a:srgbClr val="ffffff"/>
                </a:solidFill>
                <a:latin typeface="Tahoma"/>
              </a:rPr>
              <a:t>ústavněprávní základ</a:t>
            </a:r>
            <a:endParaRPr b="0" lang="en-US" sz="4000" spc="-1" strike="noStrike">
              <a:solidFill>
                <a:srgbClr val="ffffff"/>
              </a:solidFill>
              <a:latin typeface="Tahoma"/>
            </a:endParaRPr>
          </a:p>
        </p:txBody>
      </p:sp>
      <p:sp>
        <p:nvSpPr>
          <p:cNvPr id="29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istovní tajemství, tajemství jiných písemností a záznamů, tajemství přepravovaných zpráv, čl. 13</a:t>
            </a:r>
            <a:endParaRPr b="0" lang="en-US" sz="3200" spc="-1" strike="noStrike">
              <a:solidFill>
                <a:srgbClr val="ffffff"/>
              </a:solidFill>
              <a:latin typeface="Tahoma"/>
            </a:endParaRPr>
          </a:p>
          <a:p>
            <a:pPr marL="322200" indent="-3222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voboda pohybu a pobytu čl. 14 </a:t>
            </a:r>
            <a:endParaRPr b="0" lang="en-US" sz="3200" spc="-1" strike="noStrike">
              <a:solidFill>
                <a:srgbClr val="ffffff"/>
              </a:solidFill>
              <a:latin typeface="Tahoma"/>
            </a:endParaRPr>
          </a:p>
          <a:p>
            <a:pPr marL="322200" indent="-3222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voboda myšlení, svědomí a náboženského vyznání, vědeckého bádání a umělecké tvorby, čl. 15</a:t>
            </a:r>
            <a:endParaRPr b="0" lang="en-US" sz="3200" spc="-1" strike="noStrike">
              <a:solidFill>
                <a:srgbClr val="ffffff"/>
              </a:solidFill>
              <a:latin typeface="Tahoma"/>
            </a:endParaRPr>
          </a:p>
          <a:p>
            <a:pPr marL="322200" indent="-3222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o svobodného projevu náboženství nebo víry, čl. 16</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ahoma"/>
              </a:rPr>
              <a:t>Lidská práva a základní svobody,</a:t>
            </a:r>
            <a:br>
              <a:rPr sz="4000"/>
            </a:br>
            <a:r>
              <a:rPr b="0" i="1" lang="en-US" sz="4000" spc="-1" strike="noStrike">
                <a:solidFill>
                  <a:srgbClr val="ffffff"/>
                </a:solidFill>
                <a:latin typeface="Tahoma"/>
              </a:rPr>
              <a:t>ústavněprávní základ</a:t>
            </a:r>
            <a:endParaRPr b="0" lang="en-US" sz="4000" spc="-1" strike="noStrike">
              <a:solidFill>
                <a:srgbClr val="ffffff"/>
              </a:solidFill>
              <a:latin typeface="Tahoma"/>
            </a:endParaRPr>
          </a:p>
        </p:txBody>
      </p:sp>
      <p:sp>
        <p:nvSpPr>
          <p:cNvPr id="29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voboda projevu a právo na informace, čl. 17</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ahoma"/>
              </a:rPr>
              <a:t>Lidská práva a základní svobody,</a:t>
            </a:r>
            <a:br>
              <a:rPr sz="4000"/>
            </a:br>
            <a:r>
              <a:rPr b="0" i="1" lang="en-US" sz="4000" spc="-1" strike="noStrike">
                <a:solidFill>
                  <a:srgbClr val="ffffff"/>
                </a:solidFill>
                <a:latin typeface="Tahoma"/>
              </a:rPr>
              <a:t>ústavněprávní základ</a:t>
            </a:r>
            <a:endParaRPr b="0" lang="en-US" sz="4000" spc="-1" strike="noStrike">
              <a:solidFill>
                <a:srgbClr val="ffffff"/>
              </a:solidFill>
              <a:latin typeface="Tahoma"/>
            </a:endParaRPr>
          </a:p>
        </p:txBody>
      </p:sp>
      <p:sp>
        <p:nvSpPr>
          <p:cNvPr id="29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voboda projevu a právo na informace, čl. 17</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etiční právo, čl. 18</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ahoma"/>
              </a:rPr>
              <a:t>Lidská práva a základní svobody,</a:t>
            </a:r>
            <a:br>
              <a:rPr sz="4000"/>
            </a:br>
            <a:r>
              <a:rPr b="0" i="1" lang="en-US" sz="4000" spc="-1" strike="noStrike">
                <a:solidFill>
                  <a:srgbClr val="ffffff"/>
                </a:solidFill>
                <a:latin typeface="Tahoma"/>
              </a:rPr>
              <a:t>ústavněprávní základ</a:t>
            </a:r>
            <a:endParaRPr b="0" lang="en-US" sz="4000" spc="-1" strike="noStrike">
              <a:solidFill>
                <a:srgbClr val="ffffff"/>
              </a:solidFill>
              <a:latin typeface="Tahoma"/>
            </a:endParaRPr>
          </a:p>
        </p:txBody>
      </p:sp>
      <p:sp>
        <p:nvSpPr>
          <p:cNvPr id="29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voboda projevu a právo na informace, čl. 17</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etiční právo, čl. 18</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ahoma"/>
              </a:rPr>
              <a:t>Právo shromažďovací, čl. 19</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ahoma"/>
              </a:rPr>
              <a:t>Lidská práva a základní svobody,</a:t>
            </a:r>
            <a:br>
              <a:rPr sz="4000"/>
            </a:br>
            <a:r>
              <a:rPr b="0" i="1" lang="en-US" sz="4000" spc="-1" strike="noStrike">
                <a:solidFill>
                  <a:srgbClr val="ffffff"/>
                </a:solidFill>
                <a:latin typeface="Tahoma"/>
              </a:rPr>
              <a:t>ústavněprávní základ</a:t>
            </a:r>
            <a:endParaRPr b="0" lang="en-US" sz="4000" spc="-1" strike="noStrike">
              <a:solidFill>
                <a:srgbClr val="ffffff"/>
              </a:solidFill>
              <a:latin typeface="Tahoma"/>
            </a:endParaRPr>
          </a:p>
        </p:txBody>
      </p:sp>
      <p:sp>
        <p:nvSpPr>
          <p:cNvPr id="29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voboda projevu a právo na informace, čl. 17</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etiční právo, čl. 18</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ahoma"/>
              </a:rPr>
              <a:t>Právo shromažďovací, čl. 19</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ahoma"/>
              </a:rPr>
              <a:t>Právo sdružovací, čl. 20</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ahoma"/>
              </a:rPr>
              <a:t>Lidská práva a základní svobody,</a:t>
            </a:r>
            <a:br>
              <a:rPr sz="4000"/>
            </a:br>
            <a:r>
              <a:rPr b="0" i="1" lang="en-US" sz="4000" spc="-1" strike="noStrike">
                <a:solidFill>
                  <a:srgbClr val="ffffff"/>
                </a:solidFill>
                <a:latin typeface="Tahoma"/>
              </a:rPr>
              <a:t>ústavněprávní základ</a:t>
            </a:r>
            <a:endParaRPr b="0" lang="en-US" sz="4000" spc="-1" strike="noStrike">
              <a:solidFill>
                <a:srgbClr val="ffffff"/>
              </a:solidFill>
              <a:latin typeface="Tahoma"/>
            </a:endParaRPr>
          </a:p>
        </p:txBody>
      </p:sp>
      <p:sp>
        <p:nvSpPr>
          <p:cNvPr id="30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voboda projevu a právo na informace, čl. 17</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etiční právo, čl. 18</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ahoma"/>
              </a:rPr>
              <a:t>Právo shromažďovací, čl. 19</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ahoma"/>
              </a:rPr>
              <a:t>Právo sdružovací, čl. 20</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o na odpor, čl. 23</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ahoma"/>
              </a:rPr>
              <a:t>Lidská práva a základní svobody,</a:t>
            </a:r>
            <a:br>
              <a:rPr sz="4000"/>
            </a:br>
            <a:r>
              <a:rPr b="0" i="1" lang="en-US" sz="4000" spc="-1" strike="noStrike">
                <a:solidFill>
                  <a:srgbClr val="ffffff"/>
                </a:solidFill>
                <a:latin typeface="Tahoma"/>
              </a:rPr>
              <a:t>ústavněprávní základ</a:t>
            </a:r>
            <a:endParaRPr b="0" lang="en-US" sz="4000" spc="-1" strike="noStrike">
              <a:solidFill>
                <a:srgbClr val="ffffff"/>
              </a:solidFill>
              <a:latin typeface="Tahoma"/>
            </a:endParaRPr>
          </a:p>
        </p:txBody>
      </p:sp>
      <p:sp>
        <p:nvSpPr>
          <p:cNvPr id="30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voboda projevu a právo na informace, čl. 17</a:t>
            </a:r>
            <a:endParaRPr b="0" lang="en-US" sz="3200" spc="-1" strike="noStrike">
              <a:solidFill>
                <a:srgbClr val="ffffff"/>
              </a:solidFill>
              <a:latin typeface="Tahoma"/>
            </a:endParaRPr>
          </a:p>
          <a:p>
            <a:pPr marL="312120" indent="-31212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etiční právo, čl. 18</a:t>
            </a:r>
            <a:endParaRPr b="0" lang="en-US" sz="3200" spc="-1" strike="noStrike">
              <a:solidFill>
                <a:srgbClr val="ffffff"/>
              </a:solidFill>
              <a:latin typeface="Tahoma"/>
            </a:endParaRPr>
          </a:p>
          <a:p>
            <a:pPr marL="312120" indent="-31212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ahoma"/>
              </a:rPr>
              <a:t>Právo shromažďovací, čl. 19</a:t>
            </a:r>
            <a:endParaRPr b="0" lang="en-US" sz="3200" spc="-1" strike="noStrike">
              <a:solidFill>
                <a:srgbClr val="ffffff"/>
              </a:solidFill>
              <a:latin typeface="Tahoma"/>
            </a:endParaRPr>
          </a:p>
          <a:p>
            <a:pPr marL="312120" indent="-31212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ahoma"/>
              </a:rPr>
              <a:t>Právo sdružovací, čl. 20</a:t>
            </a:r>
            <a:endParaRPr b="0" lang="en-US" sz="3200" spc="-1" strike="noStrike">
              <a:solidFill>
                <a:srgbClr val="ffffff"/>
              </a:solidFill>
              <a:latin typeface="Tahoma"/>
            </a:endParaRPr>
          </a:p>
          <a:p>
            <a:pPr marL="312120" indent="-31212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o na odpor, čl. 23</a:t>
            </a:r>
            <a:endParaRPr b="0" lang="en-US" sz="3200" spc="-1" strike="noStrike">
              <a:solidFill>
                <a:srgbClr val="ffffff"/>
              </a:solidFill>
              <a:latin typeface="Tahoma"/>
            </a:endParaRPr>
          </a:p>
          <a:p>
            <a:pPr marL="312120" indent="-31212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o podílet se na správě věcí veřejných, čl. 21</a:t>
            </a:r>
            <a:endParaRPr b="0" lang="en-US" sz="3200" spc="-1" strike="noStrike">
              <a:solidFill>
                <a:srgbClr val="ffffff"/>
              </a:solidFill>
              <a:latin typeface="Tahoma"/>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cc"/>
                </a:solidFill>
                <a:latin typeface="Tahoma"/>
              </a:rPr>
              <a:t>Právo národnostních a etnických menšin, ústavněprávní základ</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30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Čl. 24 a 25 Listiny, hl.III   (čl. 3 odst. 2 L.)</a:t>
            </a:r>
            <a:endParaRPr b="0" lang="en-US" sz="3200" spc="-1" strike="noStrike">
              <a:solidFill>
                <a:srgbClr val="ffffff"/>
              </a:solidFill>
              <a:latin typeface="Tahoma"/>
            </a:endParaRPr>
          </a:p>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pravují vztah k menšinám</a:t>
            </a:r>
            <a:endParaRPr b="0" lang="en-US" sz="3200" spc="-1" strike="noStrike">
              <a:solidFill>
                <a:srgbClr val="ffffff"/>
              </a:solidFill>
              <a:latin typeface="Tahoma"/>
            </a:endParaRPr>
          </a:p>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chrana fyzické osoby</a:t>
            </a:r>
            <a:endParaRPr b="0" lang="en-US" sz="3200" spc="-1" strike="noStrike">
              <a:solidFill>
                <a:srgbClr val="ffffff"/>
              </a:solidFill>
              <a:latin typeface="Tahoma"/>
            </a:endParaRPr>
          </a:p>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zdělání, kulturní rozvoj</a:t>
            </a:r>
            <a:endParaRPr b="0" lang="en-US" sz="3200" spc="-1" strike="noStrike">
              <a:solidFill>
                <a:srgbClr val="ffffff"/>
              </a:solidFill>
              <a:latin typeface="Tahoma"/>
            </a:endParaRPr>
          </a:p>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ozvoj vlastní kultury</a:t>
            </a:r>
            <a:endParaRPr b="0" lang="en-US" sz="3200" spc="-1" strike="noStrike">
              <a:solidFill>
                <a:srgbClr val="ffffff"/>
              </a:solidFill>
              <a:latin typeface="Tahoma"/>
            </a:endParaRPr>
          </a:p>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azyková garance</a:t>
            </a:r>
            <a:endParaRPr b="0" lang="en-US" sz="3200" spc="-1" strike="noStrike">
              <a:solidFill>
                <a:srgbClr val="ffffff"/>
              </a:solidFill>
              <a:latin typeface="Tahoma"/>
            </a:endParaRPr>
          </a:p>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ytváření národnostních sdružen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cc"/>
                </a:solidFill>
                <a:latin typeface="Tahoma"/>
              </a:rPr>
              <a:t>Práva hospodářská, sociální a kulturní</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30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lava IV,  čl. 26 až 35 L.</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ahoma"/>
              </a:rPr>
              <a:t>Subjekty ústavního práva, ústavněprávní vztahy</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111" name="PlaceHolder 2"/>
          <p:cNvSpPr>
            <a:spLocks noGrp="1"/>
          </p:cNvSpPr>
          <p:nvPr>
            <p:ph/>
          </p:nvPr>
        </p:nvSpPr>
        <p:spPr>
          <a:xfrm>
            <a:off x="468360" y="1268280"/>
            <a:ext cx="8229600" cy="48974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ubjekty odvíjejí svůj statut přímo z ústavy</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ubjekty jsou konkretizovány i jinými právními odvětvími</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 případě orgánů veřejné moci se obě složky subjektivity prolínají</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ahoma"/>
              </a:rPr>
              <a:t>Práva hospodářská, sociální a kulturní</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30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lava IV,  čl. 26 až 35 L.</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pravuje práva fyzické osoby či občana v ekonomické sféře, v sociálních vztazích, ve sféře vzdělávací a v zájmu ekologickém</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ahoma"/>
              </a:rPr>
              <a:t>Práva hospodářská, sociální a kulturní</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31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lava IV,  čl. 26 až 35 L.</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pravuje práva fyzické osoby či občana v ekonomické sféře, v sociálních vztazích, ve sféře vzdělávací a v zájmu ekologickém</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Čl. 41 odst. 1 L. interpretační pravidlo</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ahoma"/>
              </a:rPr>
              <a:t>Práva hospodářská, sociální a kulturní</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31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4000"/>
          </a:bodyPr>
          <a:p>
            <a:pPr marL="322200" indent="-3222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lava IV,  čl. 26 až 35 L.</a:t>
            </a:r>
            <a:endParaRPr b="0" lang="en-US" sz="3200" spc="-1" strike="noStrike">
              <a:solidFill>
                <a:srgbClr val="ffffff"/>
              </a:solidFill>
              <a:latin typeface="Tahoma"/>
            </a:endParaRPr>
          </a:p>
          <a:p>
            <a:pPr marL="322200" indent="-3222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pravuje práva fyzické osoby či občana v ekonomické sféře, v sociálních vztazích, ve sféře vzdělávací a v zájmu ekologickém</a:t>
            </a:r>
            <a:endParaRPr b="0" lang="en-US" sz="3200" spc="-1" strike="noStrike">
              <a:solidFill>
                <a:srgbClr val="ffffff"/>
              </a:solidFill>
              <a:latin typeface="Tahoma"/>
            </a:endParaRPr>
          </a:p>
          <a:p>
            <a:pPr marL="322200" indent="-3222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Čl. 41 odst. 1 L. interpretační pravidlo</a:t>
            </a:r>
            <a:endParaRPr b="0" lang="en-US" sz="3200" spc="-1" strike="noStrike">
              <a:solidFill>
                <a:srgbClr val="ffffff"/>
              </a:solidFill>
              <a:latin typeface="Tahoma"/>
            </a:endParaRPr>
          </a:p>
          <a:p>
            <a:pPr marL="322200" indent="-3222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př. čl. 26 - postavení občana ve vztahu k hospodářskému systému, čl. 27 odborová svoboda</a:t>
            </a:r>
            <a:endParaRPr b="0" lang="en-US" sz="3200" spc="-1" strike="noStrike">
              <a:solidFill>
                <a:srgbClr val="ffffff"/>
              </a:solidFill>
              <a:latin typeface="Tahoma"/>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cc"/>
                </a:solidFill>
                <a:latin typeface="Tahoma"/>
              </a:rPr>
              <a:t>Právo na soudní a jinou právní ochranu</a:t>
            </a:r>
            <a:endParaRPr b="0" lang="en-US" sz="4000" spc="-1" strike="noStrike">
              <a:solidFill>
                <a:srgbClr val="ffffff"/>
              </a:solidFill>
              <a:latin typeface="Tahoma"/>
            </a:endParaRPr>
          </a:p>
        </p:txBody>
      </p:sp>
      <p:sp>
        <p:nvSpPr>
          <p:cNvPr id="31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lava V, čl. 36 – 40 L.</a:t>
            </a:r>
            <a:endParaRPr b="0" lang="en-US" sz="3200" spc="-1" strike="noStrike">
              <a:solidFill>
                <a:srgbClr val="ffffff"/>
              </a:solidFill>
              <a:latin typeface="Tahoma"/>
            </a:endParaRPr>
          </a:p>
          <a:p>
            <a:pPr marL="318960" indent="-3189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ystém institucionální a normativní právní ochrany</a:t>
            </a:r>
            <a:endParaRPr b="0" lang="en-US" sz="3200" spc="-1" strike="noStrike">
              <a:solidFill>
                <a:srgbClr val="ffffff"/>
              </a:solidFill>
              <a:latin typeface="Tahoma"/>
            </a:endParaRPr>
          </a:p>
          <a:p>
            <a:pPr marL="318960" indent="-3189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motně právní principy a procesní principy</a:t>
            </a:r>
            <a:endParaRPr b="0" lang="en-US" sz="3200" spc="-1" strike="noStrike">
              <a:solidFill>
                <a:srgbClr val="ffffff"/>
              </a:solidFill>
              <a:latin typeface="Tahoma"/>
            </a:endParaRPr>
          </a:p>
          <a:p>
            <a:pPr marL="318960" indent="-3189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ahoma"/>
              </a:rPr>
              <a:t>Právo na nezávislý a nestranný soud, čl. 36 odst. 1 a 2, právo na náhradu škody čl. 36 odst. 3, právo na právní pomoc, právo na zajištění procesních zásad</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cc"/>
                </a:solidFill>
                <a:latin typeface="Tahoma"/>
              </a:rPr>
              <a:t>Ústavní základy suverenity České republiky</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31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eambule obsahuje odkaz na tradice státnosti zemí Koruny České a státnosti československé</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ahoma"/>
              </a:rPr>
              <a:t>Ústavní základy suverenity České republiky</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31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eambule obsahuje odkaz na tradice státnosti zemí Koruny České a státnosti československé</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onstitutivní charakteristika českého státu je svrchovanost a samostatnos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ahoma"/>
              </a:rPr>
              <a:t>Ústavní základy suverenity České republiky</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32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eambule obsahuje odkaz na tradice státnosti zemí Koruny České a státnosti československé</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onstitutivní charakteristika českého státu je svrchovanost a samostatnost</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vrchovanost se opírá o preambuli a č. 1 Ústavy</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cc"/>
                </a:solidFill>
                <a:latin typeface="Tahoma"/>
              </a:rPr>
              <a:t>Státní území, státní hranice</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32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Čl.  11 – jednota území a státní hranice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Státní území, státní hranice</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32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Čl.  11 – jednota území a státní hranice</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měna je možná pouze ústavními zákon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Státní území, státní hranice</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32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Čl.  11 – jednota území a státní hranice</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měna je možná pouze ústavními zákony</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Území se určuje prostřednictvím všech recipovaných ústavních zákonů čs. historie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Fyzické osoby ?</a:t>
            </a:r>
            <a:endParaRPr b="0" lang="en-US" sz="4400" spc="-1" strike="noStrike">
              <a:solidFill>
                <a:srgbClr val="ffffff"/>
              </a:solidFill>
              <a:latin typeface="Tahoma"/>
            </a:endParaRPr>
          </a:p>
        </p:txBody>
      </p:sp>
      <p:sp>
        <p:nvSpPr>
          <p:cNvPr id="11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8000"/>
          </a:bodyPr>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5880" indent="-3358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bčan má statut subjektu ústavního práva</a:t>
            </a:r>
            <a:endParaRPr b="0" lang="en-US" sz="3200" spc="-1" strike="noStrike">
              <a:solidFill>
                <a:srgbClr val="ffffff"/>
              </a:solidFill>
              <a:latin typeface="Tahoma"/>
            </a:endParaRPr>
          </a:p>
          <a:p>
            <a:pPr marL="335880" indent="-3358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eho realizace je modifikována splněním určitých podmínek, volební právo aktivní a pasivn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cc"/>
                </a:solidFill>
                <a:latin typeface="Tahoma"/>
              </a:rPr>
              <a:t>Státní symboly, hlavní město</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32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Čl. 13, 14</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Ústřední orgány se nemusejí nacházet v hlavním městě</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ymboly jsou velký a malý státní znak, státní barvy, státní vlajka, státní pečeť, státní hymna, vlajka prezidenta republik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cc"/>
                </a:solidFill>
                <a:latin typeface="Tahoma"/>
              </a:rPr>
              <a:t>Státní občanství</a:t>
            </a:r>
            <a:endParaRPr b="0" lang="en-US" sz="4400" spc="-1" strike="noStrike">
              <a:solidFill>
                <a:srgbClr val="ffffff"/>
              </a:solidFill>
              <a:latin typeface="Tahoma"/>
            </a:endParaRPr>
          </a:p>
        </p:txBody>
      </p:sp>
      <p:sp>
        <p:nvSpPr>
          <p:cNvPr id="33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5000"/>
          </a:bodyPr>
          <a:p>
            <a:pPr marL="325800" indent="-3258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eambule zdůrazňuje občanskou společnost, My občané….</a:t>
            </a:r>
            <a:endParaRPr b="0" lang="en-US" sz="3200" spc="-1" strike="noStrike">
              <a:solidFill>
                <a:srgbClr val="ffffff"/>
              </a:solidFill>
              <a:latin typeface="Tahoma"/>
            </a:endParaRPr>
          </a:p>
          <a:p>
            <a:pPr marL="325800" indent="-3258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Čl. 12 odst. 1 svěřuje úpravu státního občanství zákonu</a:t>
            </a:r>
            <a:endParaRPr b="0" lang="en-US" sz="3200" spc="-1" strike="noStrike">
              <a:solidFill>
                <a:srgbClr val="ffffff"/>
              </a:solidFill>
              <a:latin typeface="Tahoma"/>
            </a:endParaRPr>
          </a:p>
          <a:p>
            <a:pPr marL="325800" indent="-3258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Čl. 12 odst. 2 obsahuje pro tento zákon materiální ústavní normu - zákaz zbavení občanství</a:t>
            </a:r>
            <a:endParaRPr b="0" lang="en-US" sz="3200" spc="-1" strike="noStrike">
              <a:solidFill>
                <a:srgbClr val="ffffff"/>
              </a:solidFill>
              <a:latin typeface="Tahoma"/>
            </a:endParaRPr>
          </a:p>
          <a:p>
            <a:pPr marL="325800" indent="-3258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ákon ČNR č. 40/1993Sb</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0000cc"/>
                </a:solidFill>
                <a:latin typeface="Tahoma"/>
              </a:rPr>
              <a:t>Ústavní systém dělby moci</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33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ákonodárná</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ffffff"/>
                </a:solidFill>
                <a:latin typeface="Tahoma"/>
              </a:rPr>
              <a:t>Ústavní systém dělby moci </a:t>
            </a:r>
            <a:endParaRPr b="0" lang="en-US" sz="4400" spc="-1" strike="noStrike">
              <a:solidFill>
                <a:srgbClr val="ffffff"/>
              </a:solidFill>
              <a:latin typeface="Tahoma"/>
            </a:endParaRPr>
          </a:p>
        </p:txBody>
      </p:sp>
      <p:sp>
        <p:nvSpPr>
          <p:cNvPr id="33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ákonodárná</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ýkonná</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ffffff"/>
                </a:solidFill>
                <a:latin typeface="Tahoma"/>
              </a:rPr>
              <a:t>Ústavní systém dělby moci </a:t>
            </a:r>
            <a:endParaRPr b="0" lang="en-US" sz="4400" spc="-1" strike="noStrike">
              <a:solidFill>
                <a:srgbClr val="ffffff"/>
              </a:solidFill>
              <a:latin typeface="Tahoma"/>
            </a:endParaRPr>
          </a:p>
        </p:txBody>
      </p:sp>
      <p:sp>
        <p:nvSpPr>
          <p:cNvPr id="33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ákonodárná</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ýkonná</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udn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0000cc"/>
                </a:solidFill>
                <a:latin typeface="Tahoma"/>
              </a:rPr>
              <a:t>Moc zákonodárná</a:t>
            </a:r>
            <a:endParaRPr b="0" lang="en-US" sz="4400" spc="-1" strike="noStrike">
              <a:solidFill>
                <a:srgbClr val="ffffff"/>
              </a:solidFill>
              <a:latin typeface="Tahoma"/>
            </a:endParaRPr>
          </a:p>
        </p:txBody>
      </p:sp>
      <p:sp>
        <p:nvSpPr>
          <p:cNvPr id="33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rlament ze 2 komo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0000cc"/>
                </a:solidFill>
                <a:latin typeface="Tahoma"/>
              </a:rPr>
              <a:t>Moc zákonodárná</a:t>
            </a:r>
            <a:endParaRPr b="0" lang="en-US" sz="4400" spc="-1" strike="noStrike">
              <a:solidFill>
                <a:srgbClr val="ffffff"/>
              </a:solidFill>
              <a:latin typeface="Tahoma"/>
            </a:endParaRPr>
          </a:p>
        </p:txBody>
      </p:sp>
      <p:sp>
        <p:nvSpPr>
          <p:cNvPr id="34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rlament ze 2 komor</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oslanecká sněmovna , 200 poslanců na 4 roky</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ffffff"/>
                </a:solidFill>
                <a:latin typeface="Tahoma"/>
              </a:rPr>
              <a:t>Moc zákonodárná</a:t>
            </a:r>
            <a:endParaRPr b="0" lang="en-US" sz="4400" spc="-1" strike="noStrike">
              <a:solidFill>
                <a:srgbClr val="ffffff"/>
              </a:solidFill>
              <a:latin typeface="Tahoma"/>
            </a:endParaRPr>
          </a:p>
        </p:txBody>
      </p:sp>
      <p:sp>
        <p:nvSpPr>
          <p:cNvPr id="34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rlament ze 2 komor</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oslanecká sněmovna , 200 poslanců na 4 roky</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nát 81 senátorů na 6 let, parciální obměna 1/3 každé 2 roky</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ffffff"/>
                </a:solidFill>
                <a:latin typeface="Tahoma"/>
              </a:rPr>
              <a:t>Moc zákonodárná</a:t>
            </a:r>
            <a:endParaRPr b="0" lang="en-US" sz="4400" spc="-1" strike="noStrike">
              <a:solidFill>
                <a:srgbClr val="ffffff"/>
              </a:solidFill>
              <a:latin typeface="Tahoma"/>
            </a:endParaRPr>
          </a:p>
        </p:txBody>
      </p:sp>
      <p:sp>
        <p:nvSpPr>
          <p:cNvPr id="34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rlament ze 2 komor</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oslanecká sněmovna , 200 poslanců na 4 roky</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nát 81 senátorů na 6 let, parciální obměna 1/3 každé 2 roky</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omory nejsou rovnoprávné</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ff6600"/>
                </a:solidFill>
                <a:latin typeface="Tahoma"/>
              </a:rPr>
              <a:t>Moc zákonodárná</a:t>
            </a:r>
            <a:endParaRPr b="0" lang="en-US" sz="4400" spc="-1" strike="noStrike">
              <a:solidFill>
                <a:srgbClr val="ffffff"/>
              </a:solidFill>
              <a:latin typeface="Tahoma"/>
            </a:endParaRPr>
          </a:p>
        </p:txBody>
      </p:sp>
      <p:sp>
        <p:nvSpPr>
          <p:cNvPr id="34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ahoma"/>
              </a:rPr>
              <a:t>Parlament ze 2 komor</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ahoma"/>
              </a:rPr>
              <a:t>Poslanecká sněmovna , 200 poslanců na 4 roky</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ahoma"/>
              </a:rPr>
              <a:t>Senát 81 senátorů na 6 let, parciální obměna 1/3 každé 2 roky</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ahoma"/>
              </a:rPr>
              <a:t>Komory nejsou rovnoprávné</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ahoma"/>
              </a:rPr>
              <a:t>Společné působení komor např. při schvalování ústavních zákonů</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ubjekty ústavního práva lze dělit na..</a:t>
            </a:r>
            <a:endParaRPr b="0" lang="en-US" sz="4000" spc="-1" strike="noStrike">
              <a:solidFill>
                <a:srgbClr val="ffffff"/>
              </a:solidFill>
              <a:latin typeface="Tahoma"/>
            </a:endParaRPr>
          </a:p>
        </p:txBody>
      </p:sp>
      <p:sp>
        <p:nvSpPr>
          <p:cNvPr id="11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rmy seskupení osob obecného neurčitého charakter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ahoma"/>
              </a:rPr>
              <a:t>Pravomoc a působnost parlamentu</a:t>
            </a:r>
            <a:endParaRPr b="0" lang="en-US" sz="4000" spc="-1" strike="noStrike">
              <a:solidFill>
                <a:srgbClr val="ffffff"/>
              </a:solidFill>
              <a:latin typeface="Tahoma"/>
            </a:endParaRPr>
          </a:p>
        </p:txBody>
      </p:sp>
      <p:sp>
        <p:nvSpPr>
          <p:cNvPr id="34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lava II vymezuje působnost parlament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ravomoc a působnost parlamentu</a:t>
            </a:r>
            <a:endParaRPr b="0" lang="en-US" sz="4000" spc="-1" strike="noStrike">
              <a:solidFill>
                <a:srgbClr val="ffffff"/>
              </a:solidFill>
              <a:latin typeface="Tahoma"/>
            </a:endParaRPr>
          </a:p>
        </p:txBody>
      </p:sp>
      <p:sp>
        <p:nvSpPr>
          <p:cNvPr id="35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lava II vymezuje působnost parlamentu</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ěcná působnost je vymezena v § 50 zákona o jednací řádu Poslanecké sněmovn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ravomoc a působnost parlamentu</a:t>
            </a:r>
            <a:endParaRPr b="0" lang="en-US" sz="4000" spc="-1" strike="noStrike">
              <a:solidFill>
                <a:srgbClr val="ffffff"/>
              </a:solidFill>
              <a:latin typeface="Tahoma"/>
            </a:endParaRPr>
          </a:p>
        </p:txBody>
      </p:sp>
      <p:sp>
        <p:nvSpPr>
          <p:cNvPr id="35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lava II vymezuje působnost parlamentu</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ěcná působnost je vymezena v § 50 zákona o jednací řádu Poslanecké sněmovny</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rlament má pravomoci kreativn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ravomoc a působnost parlamentu</a:t>
            </a:r>
            <a:endParaRPr b="0" lang="en-US" sz="4000" spc="-1" strike="noStrike">
              <a:solidFill>
                <a:srgbClr val="ffffff"/>
              </a:solidFill>
              <a:latin typeface="Tahoma"/>
            </a:endParaRPr>
          </a:p>
        </p:txBody>
      </p:sp>
      <p:sp>
        <p:nvSpPr>
          <p:cNvPr id="35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lava II vymezuje působnost parlamentu</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ěcná působnost je vymezena v § 50 zákona o jednací řádu Poslanecké sněmovny</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rlament má pravomoci kreativní</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rlament má pravomoci kontroln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ravomoc a působnost parlamentu</a:t>
            </a:r>
            <a:endParaRPr b="0" lang="en-US" sz="4000" spc="-1" strike="noStrike">
              <a:solidFill>
                <a:srgbClr val="ffffff"/>
              </a:solidFill>
              <a:latin typeface="Tahoma"/>
            </a:endParaRPr>
          </a:p>
        </p:txBody>
      </p:sp>
      <p:sp>
        <p:nvSpPr>
          <p:cNvPr id="35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lava II vymezuje působnost parlamentu</a:t>
            </a:r>
            <a:endParaRPr b="0" lang="en-US" sz="3200" spc="-1" strike="noStrike">
              <a:solidFill>
                <a:srgbClr val="ffffff"/>
              </a:solidFill>
              <a:latin typeface="Tahoma"/>
            </a:endParaRPr>
          </a:p>
          <a:p>
            <a:pPr marL="312120" indent="-31212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ěcná působnost je vymezena v § 50 zákona o jednací řádu Poslanecké sněmovny</a:t>
            </a:r>
            <a:endParaRPr b="0" lang="en-US" sz="3200" spc="-1" strike="noStrike">
              <a:solidFill>
                <a:srgbClr val="ffffff"/>
              </a:solidFill>
              <a:latin typeface="Tahoma"/>
            </a:endParaRPr>
          </a:p>
          <a:p>
            <a:pPr marL="312120" indent="-31212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rlament má pravomoci kreativní</a:t>
            </a:r>
            <a:endParaRPr b="0" lang="en-US" sz="3200" spc="-1" strike="noStrike">
              <a:solidFill>
                <a:srgbClr val="ffffff"/>
              </a:solidFill>
              <a:latin typeface="Tahoma"/>
            </a:endParaRPr>
          </a:p>
          <a:p>
            <a:pPr marL="312120" indent="-31212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rlament má pravomoci kontrolní</a:t>
            </a:r>
            <a:endParaRPr b="0" lang="en-US" sz="3200" spc="-1" strike="noStrike">
              <a:solidFill>
                <a:srgbClr val="ffffff"/>
              </a:solidFill>
              <a:latin typeface="Tahoma"/>
            </a:endParaRPr>
          </a:p>
          <a:p>
            <a:pPr marL="312120" indent="-31212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avomoci ostatní vyjmenované v Ústavě: např. čl. 11, 43, 39 odst. 3 Ústav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Tahoma"/>
              </a:rPr>
              <a:t>Volební systém České republiky</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35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bjektivní volební práv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olební systém České republiky</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36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bjektivní volební právo</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ubjektivní volební práv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olební systém České republiky</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36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bjektivní volební právo</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ubjektivní volební právo</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Řád voleb do Poslanecké sněmovny, Senátu, obecních a krajských zastupitelstev</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olební systém České republiky</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36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bjektivní volební právo</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ubjektivní volební právo</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Řád voleb do Poslanecké sněmovny, Senátu, obecních a krajských zastupitelstev</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udní přezkum zákonnosti a ústavnosti voleb</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0000cc"/>
                </a:solidFill>
                <a:latin typeface="Tahoma"/>
              </a:rPr>
              <a:t>Objektivní volební právo</a:t>
            </a:r>
            <a:endParaRPr b="0" lang="en-US" sz="4400" spc="-1" strike="noStrike">
              <a:solidFill>
                <a:srgbClr val="ffffff"/>
              </a:solidFill>
              <a:latin typeface="Tahoma"/>
            </a:endParaRPr>
          </a:p>
        </p:txBody>
      </p:sp>
      <p:sp>
        <p:nvSpPr>
          <p:cNvPr id="36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oslanecká sněmovna, krajská a obecní zastupitelstva dle principu poměrného zastoupen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ubjekty ústavního práva lze dělit na..</a:t>
            </a:r>
            <a:endParaRPr b="0" lang="en-US" sz="4000" spc="-1" strike="noStrike">
              <a:solidFill>
                <a:srgbClr val="ffffff"/>
              </a:solidFill>
              <a:latin typeface="Tahoma"/>
            </a:endParaRPr>
          </a:p>
        </p:txBody>
      </p:sp>
      <p:sp>
        <p:nvSpPr>
          <p:cNvPr id="11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rmy seskupení osob obecného neurčitého charakteru</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rmy seskupení osob konkrétního charakter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ffffff"/>
                </a:solidFill>
                <a:latin typeface="Tahoma"/>
              </a:rPr>
              <a:t>Objektivní volební právo</a:t>
            </a:r>
            <a:endParaRPr b="0" lang="en-US" sz="4400" spc="-1" strike="noStrike">
              <a:solidFill>
                <a:srgbClr val="ffffff"/>
              </a:solidFill>
              <a:latin typeface="Tahoma"/>
            </a:endParaRPr>
          </a:p>
        </p:txBody>
      </p:sp>
      <p:sp>
        <p:nvSpPr>
          <p:cNvPr id="36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oslanecká sněmovna, krajská a obecní zastupitelstva dle principu poměrného zastoupení</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nát dle zásady většinové, vítěz je jen jeden kandidá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ffffff"/>
                </a:solidFill>
                <a:latin typeface="Tahoma"/>
              </a:rPr>
              <a:t>Objektivní volební právo</a:t>
            </a:r>
            <a:endParaRPr b="0" lang="en-US" sz="4400" spc="-1" strike="noStrike">
              <a:solidFill>
                <a:srgbClr val="ffffff"/>
              </a:solidFill>
              <a:latin typeface="Tahoma"/>
            </a:endParaRPr>
          </a:p>
        </p:txBody>
      </p:sp>
      <p:sp>
        <p:nvSpPr>
          <p:cNvPr id="37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oslanecká sněmovna, krajská a obecní zastupitelstva dle principu poměrného zastoupení</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nát dle zásady většinové, vítěz je jen jeden kandidát</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olební okrsky a seznamy voličů</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ffffff"/>
                </a:solidFill>
                <a:latin typeface="Tahoma"/>
              </a:rPr>
              <a:t>Objektivní volební právo</a:t>
            </a:r>
            <a:endParaRPr b="0" lang="en-US" sz="4400" spc="-1" strike="noStrike">
              <a:solidFill>
                <a:srgbClr val="ffffff"/>
              </a:solidFill>
              <a:latin typeface="Tahoma"/>
            </a:endParaRPr>
          </a:p>
        </p:txBody>
      </p:sp>
      <p:sp>
        <p:nvSpPr>
          <p:cNvPr id="37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oslanecká sněmovna, krajská a obecní zastupitelstva dle principu poměrného zastoupení</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nát dle zásady většinové, vítěz je jen jeden kandidát</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olební okrsky a seznamy voličů</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olební komis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ffffff"/>
                </a:solidFill>
                <a:latin typeface="Tahoma"/>
              </a:rPr>
              <a:t>Objektivní volební právo</a:t>
            </a:r>
            <a:endParaRPr b="0" lang="en-US" sz="4400" spc="-1" strike="noStrike">
              <a:solidFill>
                <a:srgbClr val="ffffff"/>
              </a:solidFill>
              <a:latin typeface="Tahoma"/>
            </a:endParaRPr>
          </a:p>
        </p:txBody>
      </p:sp>
      <p:sp>
        <p:nvSpPr>
          <p:cNvPr id="37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oslanecká sněmovna, krajská a obecní zastupitelstva dle principu poměrného zastoupení</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nát dle zásady většinové, vítěz je jen jeden kandidát</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olební okrsky a seznamy voličů</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olební komise</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olební kraje a volební obvody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0000cc"/>
                </a:solidFill>
                <a:latin typeface="Tahoma"/>
              </a:rPr>
              <a:t>Subjektivní volební právo</a:t>
            </a:r>
            <a:endParaRPr b="0" lang="en-US" sz="4400" spc="-1" strike="noStrike">
              <a:solidFill>
                <a:srgbClr val="ffffff"/>
              </a:solidFill>
              <a:latin typeface="Tahoma"/>
            </a:endParaRPr>
          </a:p>
        </p:txBody>
      </p:sp>
      <p:sp>
        <p:nvSpPr>
          <p:cNvPr id="37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olby se konají na základě všeobecného, rovného a přímého volebního práva s tajným hlasováním, čl. 18 Ústav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ffffff"/>
                </a:solidFill>
                <a:latin typeface="Tahoma"/>
              </a:rPr>
              <a:t>Subjektivní volební právo</a:t>
            </a:r>
            <a:endParaRPr b="0" lang="en-US" sz="4400" spc="-1" strike="noStrike">
              <a:solidFill>
                <a:srgbClr val="ffffff"/>
              </a:solidFill>
              <a:latin typeface="Tahoma"/>
            </a:endParaRPr>
          </a:p>
        </p:txBody>
      </p:sp>
      <p:sp>
        <p:nvSpPr>
          <p:cNvPr id="37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olby se konají na základě všeobecného, rovného a přímého volebního práva s tajným hlasováním, čl. 18 Ústavy</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o volit – nad 18 let, občanst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91960"/>
            <a:ext cx="8229600" cy="1384560"/>
          </a:xfrm>
          <a:prstGeom prst="rect">
            <a:avLst/>
          </a:prstGeom>
          <a:noFill/>
          <a:ln w="9360">
            <a:solidFill>
              <a:srgbClr val="ff66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ff6600"/>
                </a:solidFill>
                <a:latin typeface="Tahoma"/>
              </a:rPr>
              <a:t>Subjektivní volební právo</a:t>
            </a:r>
            <a:endParaRPr b="0" lang="en-US" sz="4400" spc="-1" strike="noStrike">
              <a:solidFill>
                <a:srgbClr val="ffffff"/>
              </a:solidFill>
              <a:latin typeface="Tahoma"/>
            </a:endParaRPr>
          </a:p>
        </p:txBody>
      </p:sp>
      <p:sp>
        <p:nvSpPr>
          <p:cNvPr id="381" name="PlaceHolder 2"/>
          <p:cNvSpPr>
            <a:spLocks noGrp="1"/>
          </p:cNvSpPr>
          <p:nvPr>
            <p:ph/>
          </p:nvPr>
        </p:nvSpPr>
        <p:spPr>
          <a:xfrm>
            <a:off x="457200" y="1905120"/>
            <a:ext cx="8229600" cy="4114800"/>
          </a:xfrm>
          <a:prstGeom prst="rect">
            <a:avLst/>
          </a:prstGeom>
          <a:noFill/>
          <a:ln w="9360">
            <a:solidFill>
              <a:srgbClr val="ff6600"/>
            </a:solidFill>
            <a:miter/>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ahoma"/>
              </a:rPr>
              <a:t>Volby se konají na základě všeobecného, rovného a přímého volebního práva s tajným hlasováním, čl. 18 Ústavy</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ahoma"/>
              </a:rPr>
              <a:t>Právo volit – nad 18 let, občanství</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ahoma"/>
              </a:rPr>
              <a:t>Právo být volen, pasivn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0000cc"/>
                </a:solidFill>
                <a:latin typeface="Tahoma"/>
              </a:rPr>
              <a:t>Volební řád</a:t>
            </a:r>
            <a:endParaRPr b="0" lang="en-US" sz="4400" spc="-1" strike="noStrike">
              <a:solidFill>
                <a:srgbClr val="ffffff"/>
              </a:solidFill>
              <a:latin typeface="Tahoma"/>
            </a:endParaRPr>
          </a:p>
        </p:txBody>
      </p:sp>
      <p:sp>
        <p:nvSpPr>
          <p:cNvPr id="38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yhlášení voleb</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ffffff"/>
                </a:solidFill>
                <a:latin typeface="Tahoma"/>
              </a:rPr>
              <a:t>Volební řád</a:t>
            </a:r>
            <a:endParaRPr b="0" lang="en-US" sz="4400" spc="-1" strike="noStrike">
              <a:solidFill>
                <a:srgbClr val="ffffff"/>
              </a:solidFill>
              <a:latin typeface="Tahoma"/>
            </a:endParaRPr>
          </a:p>
        </p:txBody>
      </p:sp>
      <p:sp>
        <p:nvSpPr>
          <p:cNvPr id="38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yhlášení voleb</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tanovení volebních komisí</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ffffff"/>
                </a:solidFill>
                <a:latin typeface="Tahoma"/>
              </a:rPr>
              <a:t>Volební řád</a:t>
            </a:r>
            <a:endParaRPr b="0" lang="en-US" sz="4400" spc="-1" strike="noStrike">
              <a:solidFill>
                <a:srgbClr val="ffffff"/>
              </a:solidFill>
              <a:latin typeface="Tahoma"/>
            </a:endParaRPr>
          </a:p>
        </p:txBody>
      </p:sp>
      <p:sp>
        <p:nvSpPr>
          <p:cNvPr id="38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yhlášení voleb</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tanovení volebních komisí</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tanovení kandidátů</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ubjekty ústavního práva lze dělit na..</a:t>
            </a:r>
            <a:endParaRPr b="0" lang="en-US" sz="4000" spc="-1" strike="noStrike">
              <a:solidFill>
                <a:srgbClr val="ffffff"/>
              </a:solidFill>
              <a:latin typeface="Tahoma"/>
            </a:endParaRPr>
          </a:p>
        </p:txBody>
      </p:sp>
      <p:sp>
        <p:nvSpPr>
          <p:cNvPr id="11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rmy seskupení osob obecného neurčitého charakteru</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rmy seskupení osob konkrétního charakteru</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rgány veřejné moci</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ffffff"/>
                </a:solidFill>
                <a:latin typeface="Tahoma"/>
              </a:rPr>
              <a:t>Volební řád</a:t>
            </a:r>
            <a:endParaRPr b="0" lang="en-US" sz="4400" spc="-1" strike="noStrike">
              <a:solidFill>
                <a:srgbClr val="ffffff"/>
              </a:solidFill>
              <a:latin typeface="Tahoma"/>
            </a:endParaRPr>
          </a:p>
        </p:txBody>
      </p:sp>
      <p:sp>
        <p:nvSpPr>
          <p:cNvPr id="38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yhlášení voleb</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tanovení volebních komisí</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tanovení kandidátů</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olební aritmetika</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91960"/>
            <a:ext cx="8229600" cy="112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cc"/>
                </a:solidFill>
                <a:latin typeface="Tahoma"/>
              </a:rPr>
              <a:t>Soudní přezkum zákonnosti a ústavnosti voleb</a:t>
            </a:r>
            <a:endParaRPr b="0" lang="en-US" sz="4000" spc="-1" strike="noStrike">
              <a:solidFill>
                <a:srgbClr val="ffffff"/>
              </a:solidFill>
              <a:latin typeface="Tahoma"/>
            </a:endParaRPr>
          </a:p>
        </p:txBody>
      </p:sp>
      <p:sp>
        <p:nvSpPr>
          <p:cNvPr id="391" name="PlaceHolder 2"/>
          <p:cNvSpPr>
            <a:spLocks noGrp="1"/>
          </p:cNvSpPr>
          <p:nvPr>
            <p:ph/>
          </p:nvPr>
        </p:nvSpPr>
        <p:spPr>
          <a:xfrm>
            <a:off x="457200" y="1557360"/>
            <a:ext cx="8229600" cy="446256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Zajištění volební spravedlnosti</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Definitivní rozhodnutí orgánu soudního typu</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 </a:t>
            </a:r>
            <a:r>
              <a:rPr b="0" lang="cs-CZ" sz="3200" spc="-1" strike="noStrike">
                <a:solidFill>
                  <a:srgbClr val="ffffff"/>
                </a:solidFill>
                <a:latin typeface="Tahoma"/>
              </a:rPr>
              <a:t>Nejvyšší soud ČR dle OSŘ, např. §§ 200m, 200n OSŘ, přes §§ 86,87 č. 247/1995Sb., zákon o volbách do Parl.</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Ústavní soud dle čl. 87 odst. 1 písm. d) Ústavy nebo § 85 zákona o řízení před Ústavním soude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cc"/>
                </a:solidFill>
                <a:latin typeface="Tahoma"/>
              </a:rPr>
              <a:t>Zákonodárný proces, jednací řád              </a:t>
            </a:r>
            <a:br>
              <a:rPr sz="4000"/>
            </a:br>
            <a:r>
              <a:rPr b="0" lang="en-US" sz="4000" spc="-1" strike="noStrike">
                <a:solidFill>
                  <a:srgbClr val="0000cc"/>
                </a:solidFill>
                <a:latin typeface="Tahoma"/>
              </a:rPr>
              <a:t>            Parlamentu ČR</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39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ákonodárná iniciativa</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Zákonodárný proces, jednací řád              </a:t>
            </a:r>
            <a:br>
              <a:rPr sz="4000"/>
            </a:br>
            <a:r>
              <a:rPr b="0" lang="en-US" sz="4000" spc="-1" strike="noStrike">
                <a:solidFill>
                  <a:srgbClr val="ffffff"/>
                </a:solidFill>
                <a:latin typeface="Tahoma"/>
              </a:rPr>
              <a:t>            Parlamentu ČR</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39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ákonodárná iniciativa</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ručení vládě</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Zákonodárný proces, jednací řád              </a:t>
            </a:r>
            <a:br>
              <a:rPr sz="4000"/>
            </a:br>
            <a:r>
              <a:rPr b="0" lang="en-US" sz="4000" spc="-1" strike="noStrike">
                <a:solidFill>
                  <a:srgbClr val="ffffff"/>
                </a:solidFill>
                <a:latin typeface="Tahoma"/>
              </a:rPr>
              <a:t>            Parlamentu ČR</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39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ákonodárná iniciativa</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ručení vládě</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chválení v Poslanecké sněmovně</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Zákonodárný proces, jednací řád              </a:t>
            </a:r>
            <a:br>
              <a:rPr sz="4000"/>
            </a:br>
            <a:r>
              <a:rPr b="0" lang="en-US" sz="4000" spc="-1" strike="noStrike">
                <a:solidFill>
                  <a:srgbClr val="ffffff"/>
                </a:solidFill>
                <a:latin typeface="Tahoma"/>
              </a:rPr>
              <a:t>            Parlamentu ČR</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39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ákonodárná iniciativa</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ručení vládě</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chválení v Poslanecké sněmovně</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ředložení senátu k projednán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Tahoma"/>
              </a:rPr>
              <a:t>Zákonodárný proces, jednací řád              </a:t>
            </a:r>
            <a:br>
              <a:rPr sz="4000"/>
            </a:br>
            <a:r>
              <a:rPr b="0" lang="en-US" sz="4000" spc="-1" strike="noStrike">
                <a:solidFill>
                  <a:srgbClr val="ff6600"/>
                </a:solidFill>
                <a:latin typeface="Tahoma"/>
              </a:rPr>
              <a:t>            Parlamentu ČR</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40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ahoma"/>
              </a:rPr>
              <a:t>Zákonodárná iniciativa</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ahoma"/>
              </a:rPr>
              <a:t>Doručení vládě</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ahoma"/>
              </a:rPr>
              <a:t>Schválení v Poslanecké sněmovně</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ahoma"/>
              </a:rPr>
              <a:t>Předložení senátu k projednání</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ahoma"/>
              </a:rPr>
              <a:t>Právo vrácení zákona prezidentem republik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Tahoma"/>
              </a:rPr>
              <a:t>Zákonodárný proces, jednací řád              </a:t>
            </a:r>
            <a:br>
              <a:rPr sz="4000"/>
            </a:br>
            <a:r>
              <a:rPr b="0" lang="en-US" sz="4000" spc="-1" strike="noStrike">
                <a:solidFill>
                  <a:srgbClr val="ff6600"/>
                </a:solidFill>
                <a:latin typeface="Tahoma"/>
              </a:rPr>
              <a:t>            Parlamentu ČR</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40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ahoma"/>
              </a:rPr>
              <a:t>Zákonodárná iniciativa</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ahoma"/>
              </a:rPr>
              <a:t>Doručení vládě</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ahoma"/>
              </a:rPr>
              <a:t>Schválení v Poslanecké sněmovně</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ahoma"/>
              </a:rPr>
              <a:t>Předložení senátu k projednání</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ahoma"/>
              </a:rPr>
              <a:t>Právo vrácení zákona prezidentem republiky</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ahoma"/>
              </a:rPr>
              <a:t>Vyhlášení zákona</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cc"/>
                </a:solidFill>
                <a:latin typeface="Tahoma"/>
              </a:rPr>
              <a:t>Moc výkonná, postavení prezidenta </a:t>
            </a:r>
            <a:br>
              <a:rPr sz="4000"/>
            </a:br>
            <a:r>
              <a:rPr b="0" lang="en-US" sz="4000" spc="-1" strike="noStrike">
                <a:solidFill>
                  <a:srgbClr val="0000cc"/>
                </a:solidFill>
                <a:latin typeface="Tahoma"/>
              </a:rPr>
              <a:t>                    republiky</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40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ezident republiky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c výkonná, postavení prezidenta </a:t>
            </a:r>
            <a:br>
              <a:rPr sz="4000"/>
            </a:br>
            <a:r>
              <a:rPr b="0" lang="en-US" sz="4000" spc="-1" strike="noStrike">
                <a:solidFill>
                  <a:srgbClr val="ffffff"/>
                </a:solidFill>
                <a:latin typeface="Tahoma"/>
              </a:rPr>
              <a:t>                    republiky</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40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ezident republiky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lád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ubjekty ústavního práva lze dělit na..</a:t>
            </a:r>
            <a:endParaRPr b="0" lang="en-US" sz="4400" spc="-1" strike="noStrike">
              <a:solidFill>
                <a:srgbClr val="ffffff"/>
              </a:solidFill>
              <a:latin typeface="Tahoma"/>
            </a:endParaRPr>
          </a:p>
        </p:txBody>
      </p:sp>
      <p:sp>
        <p:nvSpPr>
          <p:cNvPr id="12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rmy seskupení osob obecného neurčitého charakteru</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rmy seskupení osob konkrétního charakteru</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rgány veřejné moci</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rgány samospráv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c výkonná, postavení prezidenta </a:t>
            </a:r>
            <a:br>
              <a:rPr sz="4000"/>
            </a:br>
            <a:r>
              <a:rPr b="0" lang="en-US" sz="4000" spc="-1" strike="noStrike">
                <a:solidFill>
                  <a:srgbClr val="ffffff"/>
                </a:solidFill>
                <a:latin typeface="Tahoma"/>
              </a:rPr>
              <a:t>                    republiky</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40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ezident republiky</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láda</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átní zastupitelst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c výkonná, postavení prezidenta </a:t>
            </a:r>
            <a:br>
              <a:rPr sz="4000"/>
            </a:br>
            <a:r>
              <a:rPr b="0" lang="en-US" sz="4000" spc="-1" strike="noStrike">
                <a:solidFill>
                  <a:srgbClr val="ffffff"/>
                </a:solidFill>
                <a:latin typeface="Tahoma"/>
              </a:rPr>
              <a:t>                    republiky</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41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ezident republiky j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c výkonná, postavení prezidenta </a:t>
            </a:r>
            <a:br>
              <a:rPr sz="4000"/>
            </a:br>
            <a:r>
              <a:rPr b="0" lang="en-US" sz="4000" spc="-1" strike="noStrike">
                <a:solidFill>
                  <a:srgbClr val="ffffff"/>
                </a:solidFill>
                <a:latin typeface="Tahoma"/>
              </a:rPr>
              <a:t>                    republiky</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41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ezident republiky j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lava státu , čl. 54 Ústavy</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c výkonná, postavení prezidenta </a:t>
            </a:r>
            <a:br>
              <a:rPr sz="4000"/>
            </a:br>
            <a:r>
              <a:rPr b="0" lang="en-US" sz="4000" spc="-1" strike="noStrike">
                <a:solidFill>
                  <a:srgbClr val="ffffff"/>
                </a:solidFill>
                <a:latin typeface="Tahoma"/>
              </a:rPr>
              <a:t>                    republiky</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41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ezident republiky j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lava státu , čl. 54 Ústavy</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astupuje stát navenek, čl. 63 odst. 1 a</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c výkonná, postavení prezidenta </a:t>
            </a:r>
            <a:br>
              <a:rPr sz="4000"/>
            </a:br>
            <a:r>
              <a:rPr b="0" lang="en-US" sz="4000" spc="-1" strike="noStrike">
                <a:solidFill>
                  <a:srgbClr val="ffffff"/>
                </a:solidFill>
                <a:latin typeface="Tahoma"/>
              </a:rPr>
              <a:t>                    republiky</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41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ezident republiky j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lava státu , čl. 54 Ústavy</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astupuje stát navenek, čl. 63 odst. 1 a</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ahoma"/>
              </a:rPr>
              <a:t>Prezident je volen dle čl. 54 – 61 Ústavy</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c výkonná, postavení prezidenta </a:t>
            </a:r>
            <a:br>
              <a:rPr sz="4000"/>
            </a:br>
            <a:r>
              <a:rPr b="0" lang="en-US" sz="4000" spc="-1" strike="noStrike">
                <a:solidFill>
                  <a:srgbClr val="ffffff"/>
                </a:solidFill>
                <a:latin typeface="Tahoma"/>
              </a:rPr>
              <a:t>                    republiky</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41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ezident republiky j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lava státu , čl. 54 Ústavy</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astupuje stát navenek, čl. 63 odst. 1 a</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ahoma"/>
              </a:rPr>
              <a:t>Prezident je volen dle čl. 54 – 61 Ústavy</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ahoma"/>
              </a:rPr>
              <a:t>Třífázový systém</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c výkonná, postavení prezidenta </a:t>
            </a:r>
            <a:br>
              <a:rPr sz="4000"/>
            </a:br>
            <a:r>
              <a:rPr b="0" lang="en-US" sz="4000" spc="-1" strike="noStrike">
                <a:solidFill>
                  <a:srgbClr val="ffffff"/>
                </a:solidFill>
                <a:latin typeface="Tahoma"/>
              </a:rPr>
              <a:t>                    republiky</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42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ezident republiky j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lava státu , čl. 54 Ústavy</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astupuje stát navenek, čl. 63 odst. 1 a</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ahoma"/>
              </a:rPr>
              <a:t>Prezident je volen dle čl. 54 – 61 Ústavy</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ahoma"/>
              </a:rPr>
              <a:t>Třífázový systém</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ětiletý mandát, čl. 55 Ús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c výkonná, postavení prezidenta </a:t>
            </a:r>
            <a:br>
              <a:rPr sz="4000"/>
            </a:br>
            <a:r>
              <a:rPr b="0" lang="en-US" sz="4000" spc="-1" strike="noStrike">
                <a:solidFill>
                  <a:srgbClr val="ffffff"/>
                </a:solidFill>
                <a:latin typeface="Tahoma"/>
              </a:rPr>
              <a:t>                    republiky</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42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ezident republiky je:</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lava státu , čl. 54 Ústavy</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astupuje stát navenek, čl. 63 odst. 1 a</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ahoma"/>
              </a:rPr>
              <a:t>Prezident je volen dle čl. 54 – 61 Ústavy</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ahoma"/>
              </a:rPr>
              <a:t>Třífázový systém</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ětiletý mandát, čl. 55 Úst.</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avomoci rozhodovací a kreační</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c výkonná, postavení prezidenta </a:t>
            </a:r>
            <a:br>
              <a:rPr sz="4000"/>
            </a:br>
            <a:r>
              <a:rPr b="0" lang="en-US" sz="4000" spc="-1" strike="noStrike">
                <a:solidFill>
                  <a:srgbClr val="ffffff"/>
                </a:solidFill>
                <a:latin typeface="Tahoma"/>
              </a:rPr>
              <a:t>                    republiky</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42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avomoci výlučné</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c výkonná, postavení prezidenta </a:t>
            </a:r>
            <a:br>
              <a:rPr sz="4000"/>
            </a:br>
            <a:r>
              <a:rPr b="0" lang="en-US" sz="4000" spc="-1" strike="noStrike">
                <a:solidFill>
                  <a:srgbClr val="ffffff"/>
                </a:solidFill>
                <a:latin typeface="Tahoma"/>
              </a:rPr>
              <a:t>                    republiky</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42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avomoci výlučné</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avomoci kontrasignované</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ahoma"/>
              </a:rPr>
              <a:t>Subjekty ústavního práva lze dělit na..</a:t>
            </a:r>
            <a:endParaRPr b="0" lang="en-US" sz="4400" spc="-1" strike="noStrike">
              <a:solidFill>
                <a:srgbClr val="ffffff"/>
              </a:solidFill>
              <a:latin typeface="Tahoma"/>
            </a:endParaRPr>
          </a:p>
        </p:txBody>
      </p:sp>
      <p:sp>
        <p:nvSpPr>
          <p:cNvPr id="12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ahoma"/>
              </a:rPr>
              <a:t>Formy seskupení osob obecného neurčitého charakteru</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ahoma"/>
              </a:rPr>
              <a:t>Formy seskupení osob konkrétního charakteru</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ahoma"/>
              </a:rPr>
              <a:t>Orgány veřejné moci</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ahoma"/>
              </a:rPr>
              <a:t>Orgány samosprávy</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ahoma"/>
              </a:rPr>
              <a:t>Fyzické , právnické osob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cc"/>
                </a:solidFill>
                <a:latin typeface="Tahoma"/>
              </a:rPr>
              <a:t>Ústavní postavení vlády ČR, ministerstva ČR, státní zastupitelství</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42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Vláda je vrcholný orgán ústavy ČR, čl 67 odst. 1 Ústav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Ústavní postavení vlády ČR, ministerstva ČR, státní zastupitelství</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43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láda je vrcholný orgán Ústavy ČR, čl. 67 odst. 1 Ústavy</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Ústava neurčuje věcnou působnost vlády, jedná se tedy o všeobecnou působnost, pokud není určeno jinak</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Ústavní postavení vlády ČR, ministerstva ČR, státní zastupitelství</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43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láda je vrcholný orgán Ústavy ČR, čl. 67 odst. 1 Ústavy</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Ústava neurčuje věcnou působnost vlády, jedná se tedy o všeobecnou působnost, pokud není určeno jinak</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inisterstva – součást výkonné moci</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Ústavní postavení vlády ČR, ministerstva ČR, státní zastupitelství</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43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láda je vrcholný orgán Ústavy ČR, čl. 67 odst. 1 Ústavy</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Ústava neurčuje věcnou působnost vlády, jedná se tedy o všeobecnou působnost, pokud není určeno jinak</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inisterstva – součást výkonné moci</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 zastupitelství – čl. 80 Ústav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Tahoma"/>
              </a:rPr>
              <a:t>Moc soudní, ústavní koncepce</a:t>
            </a:r>
            <a:endParaRPr b="0" lang="en-US" sz="4400" spc="-1" strike="noStrike">
              <a:solidFill>
                <a:srgbClr val="ffffff"/>
              </a:solidFill>
              <a:latin typeface="Tahoma"/>
            </a:endParaRPr>
          </a:p>
        </p:txBody>
      </p:sp>
      <p:sp>
        <p:nvSpPr>
          <p:cNvPr id="43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lava IV</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c soudní, ústavní koncepce</a:t>
            </a:r>
            <a:endParaRPr b="0" lang="en-US" sz="4400" spc="-1" strike="noStrike">
              <a:solidFill>
                <a:srgbClr val="ffffff"/>
              </a:solidFill>
              <a:latin typeface="Tahoma"/>
            </a:endParaRPr>
          </a:p>
        </p:txBody>
      </p:sp>
      <p:sp>
        <p:nvSpPr>
          <p:cNvPr id="43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lava IV</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závislost a nestrannost, čl. 82 Ústav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c soudní, ústavní koncepce</a:t>
            </a:r>
            <a:endParaRPr b="0" lang="en-US" sz="4400" spc="-1" strike="noStrike">
              <a:solidFill>
                <a:srgbClr val="ffffff"/>
              </a:solidFill>
              <a:latin typeface="Tahoma"/>
            </a:endParaRPr>
          </a:p>
        </p:txBody>
      </p:sp>
      <p:sp>
        <p:nvSpPr>
          <p:cNvPr id="44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lava IV</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závislost a nestrannost, čl. 82 Ústavy</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udní ochrana ústavnosti, čl. 83 Ús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c soudní, ústavní koncepce</a:t>
            </a:r>
            <a:endParaRPr b="0" lang="en-US" sz="4400" spc="-1" strike="noStrike">
              <a:solidFill>
                <a:srgbClr val="ffffff"/>
              </a:solidFill>
              <a:latin typeface="Tahoma"/>
            </a:endParaRPr>
          </a:p>
        </p:txBody>
      </p:sp>
      <p:sp>
        <p:nvSpPr>
          <p:cNvPr id="44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Hlava IV</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Nezávislost a nestrannost, čl. 82 Ústavy</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Soudní ochrana ústavnosti, čl. 83 Úst.</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Poskytování ochrany právům, čl. 90 a násl. Ústav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c soudní, ústavní koncepce</a:t>
            </a:r>
            <a:endParaRPr b="0" lang="en-US" sz="4400" spc="-1" strike="noStrike">
              <a:solidFill>
                <a:srgbClr val="ffffff"/>
              </a:solidFill>
              <a:latin typeface="Tahoma"/>
            </a:endParaRPr>
          </a:p>
        </p:txBody>
      </p:sp>
      <p:sp>
        <p:nvSpPr>
          <p:cNvPr id="44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Hlava IV</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Nezávislost a nestrannost, čl. 82 Ústavy</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Soudní ochrana ústavnosti, čl. 83 Úst.</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Poskytování ochrany právům, čl. 90 a násl. Ústavy</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Odlišná vázanost soudců Ústavního a obecného soud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Tahoma"/>
              </a:rPr>
              <a:t>Soudní soustava</a:t>
            </a:r>
            <a:endParaRPr b="0" lang="en-US" sz="4400" spc="-1" strike="noStrike">
              <a:solidFill>
                <a:srgbClr val="ffffff"/>
              </a:solidFill>
              <a:latin typeface="Tahoma"/>
            </a:endParaRPr>
          </a:p>
        </p:txBody>
      </p:sp>
      <p:sp>
        <p:nvSpPr>
          <p:cNvPr id="44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Čl. 91 Ústavy určuje soudní soustavu</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ozlišují se soudy nejvyšší a jiné</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cc"/>
                </a:solidFill>
                <a:latin typeface="Tahoma"/>
              </a:rPr>
              <a:t>Moderní ústava</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12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Demokratické revoluce vedou k moderním ústavám</a:t>
            </a:r>
            <a:endParaRPr b="0" lang="en-US" sz="2800" spc="-1" strike="noStrike">
              <a:solidFill>
                <a:srgbClr val="ffffff"/>
              </a:solidFill>
              <a:latin typeface="Tahoma"/>
            </a:endParaRPr>
          </a:p>
          <a:p>
            <a:pPr marL="335880" indent="-3358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ahoma"/>
              </a:rPr>
              <a:t>Moderní ústava počítá s pluralitou, organizuje a vymezuje veřejnou moc, chrání demokracii a občana</a:t>
            </a:r>
            <a:endParaRPr b="0" lang="en-US" sz="2800" spc="-1" strike="noStrike">
              <a:solidFill>
                <a:srgbClr val="ffffff"/>
              </a:solidFill>
              <a:latin typeface="Tahoma"/>
            </a:endParaRPr>
          </a:p>
          <a:p>
            <a:pPr marL="335880" indent="-3358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rincipy ústavnosti jsou svoboda jednotlivce, rovnoprávnost, politický pluralismus, dělba moci, nezávislost soudcovská aj.</a:t>
            </a:r>
            <a:endParaRPr b="0" lang="en-US" sz="2800" spc="-1" strike="noStrike">
              <a:solidFill>
                <a:srgbClr val="ffffff"/>
              </a:solidFill>
              <a:latin typeface="Tahoma"/>
            </a:endParaRPr>
          </a:p>
          <a:p>
            <a:pPr marL="335880" indent="-3358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Začlenění do primárního evropského práv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cc"/>
                </a:solidFill>
                <a:latin typeface="Tahoma"/>
              </a:rPr>
              <a:t>Postavení a kompetence Ústavního soudu České republiky</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44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Ústava stanovuje pravomoc a působnos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ostavení a kompetence Ústavního soudu České republiky</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45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Ústava stanovuje pravomoc a působnost</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ěcná působnost je taxativně vyjmenován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ostavení a kompetence Ústavního soudu České republiky</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45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Ústava stanovuje pravomoc a působnost</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ěcná působnost je taxativně vyjmenována</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ákon upravuje pravomoci ve vnitřních vztazích</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ostavení a kompetence Ústavního soudu České republiky</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45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Ústava stanovuje pravomoc a působnost</a:t>
            </a:r>
            <a:endParaRPr b="0" lang="en-US" sz="3200" spc="-1" strike="noStrike">
              <a:solidFill>
                <a:srgbClr val="ffffff"/>
              </a:solidFill>
              <a:latin typeface="Tahoma"/>
            </a:endParaRPr>
          </a:p>
          <a:p>
            <a:pPr marL="332640" indent="-3326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ěcná působnost je taxativně vyjmenována</a:t>
            </a:r>
            <a:endParaRPr b="0" lang="en-US" sz="3200" spc="-1" strike="noStrike">
              <a:solidFill>
                <a:srgbClr val="ffffff"/>
              </a:solidFill>
              <a:latin typeface="Tahoma"/>
            </a:endParaRPr>
          </a:p>
          <a:p>
            <a:pPr marL="332640" indent="-3326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ákon upravuje pravomoci ve vnitřních vztazích</a:t>
            </a:r>
            <a:endParaRPr b="0" lang="en-US" sz="3200" spc="-1" strike="noStrike">
              <a:solidFill>
                <a:srgbClr val="ffffff"/>
              </a:solidFill>
              <a:latin typeface="Tahoma"/>
            </a:endParaRPr>
          </a:p>
          <a:p>
            <a:pPr marL="332640" indent="-3326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Ústavní soud je samostatný, neodvolatelný, nerozpustitelný</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ostavení a kompetence Ústavního soudu České republiky</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45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eho rozhodnutí jsou konečná a nepřezkoumatelná</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ostavení a kompetence Ústavního soudu České republiky</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45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eho rozhodnutí jsou konečná a nepřezkoumatelná</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Řídí se Ústavou a zákonem o Ústavní soudu</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ostavení a kompetence Ústavního soudu České republiky</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46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eho rozhodnutí jsou konečná a nepřezkoumatelná</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Řídí se Ústavou a zákonem o Ústavní soudu</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e možnost senátu vyslovit souhlas s trestní stíháním soudce Úst. soudu, čl. 86 odst. 1 Úst.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ostavení a kompetence Ústavního soudu České republiky</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46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Ústavní soud působí v těchto věcech, čl. 87 odst. 1 Úst.</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ostavení a kompetence Ústavního soudu České republiky</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46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Ústavní soud působí v těchto věcech, čl. 87 odst. 1 Úst.</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ozhoduje o zrušení zákonů nebo jednotlivých ustanovení, jsou – li v rozporu s ústavním zákonem nebo mezinárodní smlouvou, písm. a</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ostavení a kompetence Ústavního soudu České republiky</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46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ahoma"/>
              </a:rPr>
              <a:t>Ústavní soud působí v těchto věcech, čl. 87 odst. 1 Úst.</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ahoma"/>
              </a:rPr>
              <a:t>Rozhoduje o </a:t>
            </a:r>
            <a:r>
              <a:rPr b="1" lang="en-US" sz="3200" spc="-1" strike="noStrike" u="sng">
                <a:solidFill>
                  <a:srgbClr val="ff6600"/>
                </a:solidFill>
                <a:uFillTx/>
                <a:latin typeface="Tahoma"/>
              </a:rPr>
              <a:t>zrušení zákonů</a:t>
            </a:r>
            <a:r>
              <a:rPr b="0" lang="en-US" sz="3200" spc="-1" strike="noStrike">
                <a:solidFill>
                  <a:srgbClr val="ff6600"/>
                </a:solidFill>
                <a:latin typeface="Tahoma"/>
              </a:rPr>
              <a:t> nebo jednotlivých ustanovení, jsou – li v rozporu s ústavním zákonem nebo mezinárodní smlouvou, čl. 87 I písm. A</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ahoma"/>
              </a:rPr>
              <a:t>Rozhoduje o </a:t>
            </a:r>
            <a:r>
              <a:rPr b="1" lang="en-US" sz="3200" spc="-1" strike="noStrike" u="sng">
                <a:solidFill>
                  <a:srgbClr val="ff6600"/>
                </a:solidFill>
                <a:uFillTx/>
                <a:latin typeface="Tahoma"/>
              </a:rPr>
              <a:t>ústavní stížnosti</a:t>
            </a:r>
            <a:r>
              <a:rPr b="0" lang="en-US" sz="3200" spc="-1" strike="noStrike">
                <a:solidFill>
                  <a:srgbClr val="ff6600"/>
                </a:solidFill>
                <a:latin typeface="Tahoma"/>
              </a:rPr>
              <a:t> fyzických čí právnických osob, Čl. 87 I písm. D </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cc"/>
                </a:solidFill>
                <a:latin typeface="Tahoma"/>
              </a:rPr>
              <a:t>Ústava jako základní zákon</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12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4000"/>
          </a:bodyPr>
          <a:p>
            <a:pPr marL="322200" indent="-3222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rchol soustavy právních norem</a:t>
            </a:r>
            <a:endParaRPr b="0" lang="en-US" sz="3200" spc="-1" strike="noStrike">
              <a:solidFill>
                <a:srgbClr val="ffffff"/>
              </a:solidFill>
              <a:latin typeface="Tahoma"/>
            </a:endParaRPr>
          </a:p>
          <a:p>
            <a:pPr marL="322200" indent="-3222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otřeba konkretizace normami běžných zákonů</a:t>
            </a:r>
            <a:endParaRPr b="0" lang="en-US" sz="3200" spc="-1" strike="noStrike">
              <a:solidFill>
                <a:srgbClr val="ffffff"/>
              </a:solidFill>
              <a:latin typeface="Tahoma"/>
            </a:endParaRPr>
          </a:p>
          <a:p>
            <a:pPr marL="322200" indent="-3222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ákladní obsahový zákon</a:t>
            </a:r>
            <a:endParaRPr b="0" lang="en-US" sz="3200" spc="-1" strike="noStrike">
              <a:solidFill>
                <a:srgbClr val="ffffff"/>
              </a:solidFill>
              <a:latin typeface="Tahoma"/>
            </a:endParaRPr>
          </a:p>
          <a:p>
            <a:pPr marL="322200" indent="-3222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bsahuje konstitutivní ustanovení pro úpravu veřejné moci</a:t>
            </a:r>
            <a:endParaRPr b="0" lang="en-US" sz="3200" spc="-1" strike="noStrike">
              <a:solidFill>
                <a:srgbClr val="ffffff"/>
              </a:solidFill>
              <a:latin typeface="Tahoma"/>
            </a:endParaRPr>
          </a:p>
          <a:p>
            <a:pPr marL="322200" indent="-3222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e základem pro organizaci finanční správy</a:t>
            </a:r>
            <a:endParaRPr b="0" lang="en-US" sz="3200" spc="-1" strike="noStrike">
              <a:solidFill>
                <a:srgbClr val="ffffff"/>
              </a:solidFill>
              <a:latin typeface="Tahoma"/>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ostavení a kompetence Ústavního soudu České republiky</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46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ahoma"/>
              </a:rPr>
              <a:t>Druh řízení</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ahoma"/>
              </a:rPr>
              <a:t>Aktivní legitimace</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ahoma"/>
              </a:rPr>
              <a:t>Lhůta</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ahoma"/>
              </a:rPr>
              <a:t>Petit</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ahoma"/>
              </a:rPr>
              <a:t>Výrok soudu</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cc"/>
                </a:solidFill>
                <a:latin typeface="Tahoma"/>
              </a:rPr>
              <a:t>Řízení před Ústavním soudem České republiky</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47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ahájení řízen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Řízení před Ústavním soudem České republiky</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47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ahájení řízení</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Účastnící řízen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Řízení před Ústavním soudem České republiky</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47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ahájení řízení</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Účastnící řízení</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říprava jednán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Řízení před Ústavním soudem České republiky</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47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ahájení řízení</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Účastnící řízení</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říprava jednání</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Ústní jednán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Řízení před Ústavním soudem České republiky</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47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ahájení řízení</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Účastnící řízení</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říprava jednání</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Ústní jednání</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kazován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Řízení před Ústavním soudem České republiky</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48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ahájení řízení</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Účastnící řízení</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říprava jednání</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Ústní jednání</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kazování</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ozhodnut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91600"/>
            <a:ext cx="8229600" cy="54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říklady - Nález Ústavního soudu</a:t>
            </a:r>
            <a:endParaRPr b="0" lang="en-US" sz="4000" spc="-1" strike="noStrike">
              <a:solidFill>
                <a:srgbClr val="ffffff"/>
              </a:solidFill>
              <a:latin typeface="Tahoma"/>
            </a:endParaRPr>
          </a:p>
        </p:txBody>
      </p:sp>
      <p:sp>
        <p:nvSpPr>
          <p:cNvPr id="483" name="PlaceHolder 2"/>
          <p:cNvSpPr>
            <a:spLocks noGrp="1"/>
          </p:cNvSpPr>
          <p:nvPr>
            <p:ph/>
          </p:nvPr>
        </p:nvSpPr>
        <p:spPr>
          <a:xfrm>
            <a:off x="178920" y="980640"/>
            <a:ext cx="8713800" cy="554364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rušení části zákonů:</a:t>
            </a:r>
            <a:endParaRPr b="0" lang="en-US" sz="3200" spc="-1" strike="noStrike">
              <a:solidFill>
                <a:srgbClr val="ffffff"/>
              </a:solidFill>
              <a:latin typeface="Tahoma"/>
            </a:endParaRPr>
          </a:p>
          <a:p>
            <a:pPr marL="335880" indent="-3358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 č. 116/2008 Sb., rozhodnutí Ústavního soudu ze dne 12. 3. 2008 o návrhu skupiny poslanců na zrušení některých ustanovení zákoníku práce, z. č. 262/2006 Sb.</a:t>
            </a:r>
            <a:endParaRPr b="0" lang="en-US" sz="3200" spc="-1" strike="noStrike">
              <a:solidFill>
                <a:srgbClr val="ffffff"/>
              </a:solidFill>
              <a:latin typeface="Tahoma"/>
            </a:endParaRPr>
          </a:p>
          <a:p>
            <a:pPr marL="335880" indent="-3358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Ústavní soud rozhodl dne 23. 4. 2008,         o návrhu na zrušení části zákona                         o nemocenském pojištění zaměstnanců,       z. č. 54/1956 Sb., že nemocenská bude náležet i za první 3 dny nemoci </a:t>
            </a:r>
            <a:endParaRPr b="0" lang="en-US" sz="3200" spc="-1" strike="noStrike">
              <a:solidFill>
                <a:srgbClr val="ffffff"/>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91600"/>
            <a:ext cx="8229600" cy="54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říklad:</a:t>
            </a:r>
            <a:endParaRPr b="0" lang="en-US" sz="4000" spc="-1" strike="noStrike">
              <a:solidFill>
                <a:srgbClr val="ffffff"/>
              </a:solidFill>
              <a:latin typeface="Tahoma"/>
            </a:endParaRPr>
          </a:p>
        </p:txBody>
      </p:sp>
      <p:sp>
        <p:nvSpPr>
          <p:cNvPr id="485" name="PlaceHolder 2"/>
          <p:cNvSpPr>
            <a:spLocks noGrp="1"/>
          </p:cNvSpPr>
          <p:nvPr>
            <p:ph/>
          </p:nvPr>
        </p:nvSpPr>
        <p:spPr>
          <a:xfrm>
            <a:off x="457200" y="980640"/>
            <a:ext cx="8229600" cy="554364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n J. H. byl obviněn a následně odsouzen Krajským soudem v Praze za trestný čin loupeže podle §234 odst. 1 a 2 trestního zákona, který měl spáchat přepadením kamionu s cigaretami. Jako hlavní důkaz při prokazování jeho účasti na trestné činnosti byly použity výpisy evidence hovorů z jeho mobilního telefonu, obsahující vždy datum, čas, buňku mobilního operátora, volané číslo a dobu volání hovorů, které nejenom prokazovaly rozhovor pana J. H. s dalšími obviněnými, ale i místo a čas konání hovoru. </a:t>
            </a:r>
            <a:endParaRPr b="0" lang="en-US" sz="2400" spc="-1" strike="noStrike">
              <a:solidFill>
                <a:srgbClr val="ffffff"/>
              </a:solidFill>
              <a:latin typeface="Tahoma"/>
            </a:endParaRPr>
          </a:p>
          <a:p>
            <a:pPr marL="339480" indent="-3394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yto výpisy vydala telekomunikační společnost na žádost orgánům činným v trestním řízení, aniž by zkoumala, zda byl vydán soudní příkaz k jejich vydání. Kromě jiného tyto záznamy byly orgány činnými v trestním řízení získány již před tím, než bylo panu J. H. doručeno usnesení o zahájení trestního stíhání.</a:t>
            </a:r>
            <a:endParaRPr b="0" lang="en-US" sz="2400" spc="-1" strike="noStrike">
              <a:solidFill>
                <a:srgbClr val="ffffff"/>
              </a:solidFill>
              <a:latin typeface="Tahoma"/>
            </a:endParaRPr>
          </a:p>
          <a:p>
            <a:pPr marL="339480" indent="-3394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n J. H. se proti rozsudku odvolal k Vrchnímu soudu v Praze a ten jeho odvolání jako bezdůvodné zamítl. </a:t>
            </a:r>
            <a:endParaRPr b="0" lang="en-US" sz="2400" spc="-1" strike="noStrike">
              <a:solidFill>
                <a:srgbClr val="ffffff"/>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91960"/>
            <a:ext cx="8229600" cy="68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Řešení příkladu</a:t>
            </a:r>
            <a:endParaRPr b="0" lang="en-US" sz="4000" spc="-1" strike="noStrike">
              <a:solidFill>
                <a:srgbClr val="ffffff"/>
              </a:solidFill>
              <a:latin typeface="Tahoma"/>
            </a:endParaRPr>
          </a:p>
        </p:txBody>
      </p:sp>
      <p:sp>
        <p:nvSpPr>
          <p:cNvPr id="487" name="PlaceHolder 2"/>
          <p:cNvSpPr>
            <a:spLocks noGrp="1"/>
          </p:cNvSpPr>
          <p:nvPr>
            <p:ph/>
          </p:nvPr>
        </p:nvSpPr>
        <p:spPr>
          <a:xfrm>
            <a:off x="179280" y="836640"/>
            <a:ext cx="8686800" cy="5759280"/>
          </a:xfrm>
          <a:prstGeom prst="rect">
            <a:avLst/>
          </a:prstGeom>
          <a:noFill/>
          <a:ln w="0">
            <a:noFill/>
          </a:ln>
        </p:spPr>
        <p:txBody>
          <a:bodyPr lIns="90000" rIns="90000" tIns="46800" bIns="46800" anchor="t">
            <a:normAutofit/>
          </a:bodyPr>
          <a:p>
            <a:pPr marL="609480" indent="-6094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Podmínky přípustnosti ústavní stížnosti</a:t>
            </a:r>
            <a:endParaRPr b="0" lang="en-US" sz="2800" spc="-1" strike="noStrike">
              <a:solidFill>
                <a:srgbClr val="ffffff"/>
              </a:solidFill>
              <a:latin typeface="Tahoma"/>
            </a:endParaRPr>
          </a:p>
          <a:p>
            <a:pPr marL="609480" indent="-609480">
              <a:lnSpc>
                <a:spcPct val="80000"/>
              </a:lnSpc>
              <a:spcBef>
                <a:spcPts val="7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ktivní legitimace stěžovatele - § 72 odst. 1) písm. a) z.č. 182/1993 Sb., o Ústavním soudu</a:t>
            </a:r>
            <a:endParaRPr b="0" lang="en-US" sz="2800" spc="-1" strike="noStrike">
              <a:solidFill>
                <a:srgbClr val="ffffff"/>
              </a:solidFill>
              <a:latin typeface="Tahoma"/>
            </a:endParaRPr>
          </a:p>
          <a:p>
            <a:pPr marL="609480" indent="-609480">
              <a:lnSpc>
                <a:spcPct val="80000"/>
              </a:lnSpc>
              <a:spcBef>
                <a:spcPts val="7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astoupení stěžovatele - § 30 odst.1 </a:t>
            </a:r>
            <a:endParaRPr b="0" lang="en-US" sz="2800" spc="-1" strike="noStrike">
              <a:solidFill>
                <a:srgbClr val="ffffff"/>
              </a:solidFill>
              <a:latin typeface="Tahoma"/>
            </a:endParaRPr>
          </a:p>
          <a:p>
            <a:pPr marL="609480" indent="-609480">
              <a:lnSpc>
                <a:spcPct val="80000"/>
              </a:lnSpc>
              <a:spcBef>
                <a:spcPts val="7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hůta - § 72 odst. 3 </a:t>
            </a:r>
            <a:endParaRPr b="0" lang="en-US" sz="2800" spc="-1" strike="noStrike">
              <a:solidFill>
                <a:srgbClr val="ffffff"/>
              </a:solidFill>
              <a:latin typeface="Tahoma"/>
            </a:endParaRPr>
          </a:p>
          <a:p>
            <a:pPr marL="609480" indent="-609480">
              <a:lnSpc>
                <a:spcPct val="80000"/>
              </a:lnSpc>
              <a:spcBef>
                <a:spcPts val="7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yčerpání všech procesních prostředků- § 75</a:t>
            </a:r>
            <a:endParaRPr b="0" lang="en-US" sz="2800" spc="-1" strike="noStrike">
              <a:solidFill>
                <a:srgbClr val="ffffff"/>
              </a:solidFill>
              <a:latin typeface="Tahoma"/>
            </a:endParaRPr>
          </a:p>
          <a:p>
            <a:pPr marL="609480" indent="-6094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ahoma"/>
              </a:rPr>
              <a:t>Porušení ústavních norem ČR a mezinárodních smluv</a:t>
            </a:r>
            <a:endParaRPr b="0" lang="en-US" sz="2800" spc="-1" strike="noStrike">
              <a:solidFill>
                <a:srgbClr val="ffffff"/>
              </a:solidFill>
              <a:latin typeface="Tahoma"/>
            </a:endParaRPr>
          </a:p>
          <a:p>
            <a:pPr marL="609480" indent="-609480">
              <a:lnSpc>
                <a:spcPct val="80000"/>
              </a:lnSpc>
              <a:spcBef>
                <a:spcPts val="7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Čl. 10 odst. 3 Listiny základních práv a svobod</a:t>
            </a:r>
            <a:endParaRPr b="0" lang="en-US" sz="2800" spc="-1" strike="noStrike">
              <a:solidFill>
                <a:srgbClr val="ffffff"/>
              </a:solidFill>
              <a:latin typeface="Tahoma"/>
            </a:endParaRPr>
          </a:p>
          <a:p>
            <a:pPr marL="609480" indent="-609480">
              <a:lnSpc>
                <a:spcPct val="80000"/>
              </a:lnSpc>
              <a:spcBef>
                <a:spcPts val="7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Čl. 13 Listiny základních práv a svobod</a:t>
            </a:r>
            <a:endParaRPr b="0" lang="en-US" sz="2800" spc="-1" strike="noStrike">
              <a:solidFill>
                <a:srgbClr val="ffffff"/>
              </a:solidFill>
              <a:latin typeface="Tahoma"/>
            </a:endParaRPr>
          </a:p>
          <a:p>
            <a:pPr marL="609480" indent="-609480">
              <a:lnSpc>
                <a:spcPct val="80000"/>
              </a:lnSpc>
              <a:spcBef>
                <a:spcPts val="7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oplňující články – čl. 2 odst. 2 Listiny, čl. 90 Ústavy, čl. 8 Úmluvy o ochraně lidských práv a základních svobod, čl. 17 Paktu o občanských a  politických právech</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263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400" spc="-1" strike="noStrike" u="sng">
                <a:solidFill>
                  <a:srgbClr val="ffffff"/>
                </a:solidFill>
                <a:uFillTx/>
                <a:latin typeface="Tahoma"/>
              </a:rPr>
              <a:t>Ústavní právo ČR</a:t>
            </a:r>
            <a:br>
              <a:rPr sz="4400"/>
            </a:br>
            <a:r>
              <a:rPr b="0" lang="en-US" sz="4000" spc="-1" strike="noStrike">
                <a:solidFill>
                  <a:srgbClr val="ffffff"/>
                </a:solidFill>
                <a:latin typeface="Tahoma"/>
              </a:rPr>
              <a:t> </a:t>
            </a:r>
            <a:br>
              <a:rPr sz="4000"/>
            </a:br>
            <a:r>
              <a:rPr b="0" lang="en-US" sz="4000" spc="-1" strike="noStrike">
                <a:solidFill>
                  <a:srgbClr val="ffffff"/>
                </a:solidFill>
                <a:latin typeface="Tahoma"/>
              </a:rPr>
              <a:t>Písek</a:t>
            </a:r>
            <a:br>
              <a:rPr sz="4000"/>
            </a:br>
            <a:endParaRPr b="0" lang="en-US" sz="4000" spc="-1" strike="noStrike">
              <a:solidFill>
                <a:srgbClr val="ffffff"/>
              </a:solidFill>
              <a:latin typeface="Tahoma"/>
            </a:endParaRPr>
          </a:p>
        </p:txBody>
      </p:sp>
      <p:sp>
        <p:nvSpPr>
          <p:cNvPr id="93" name="PlaceHolder 2"/>
          <p:cNvSpPr>
            <a:spLocks noGrp="1"/>
          </p:cNvSpPr>
          <p:nvPr>
            <p:ph/>
          </p:nvPr>
        </p:nvSpPr>
        <p:spPr>
          <a:xfrm>
            <a:off x="457200" y="2565360"/>
            <a:ext cx="7570800" cy="3454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04. 10. 2008</a:t>
            </a:r>
            <a:endParaRPr b="0" lang="en-US" sz="2000" spc="-1" strike="noStrike">
              <a:solidFill>
                <a:srgbClr val="ffffff"/>
              </a:solidFill>
              <a:latin typeface="Tahoma"/>
            </a:endParaRPr>
          </a:p>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8. 10. 2008</a:t>
            </a:r>
            <a:endParaRPr b="0" lang="en-US" sz="2000" spc="-1" strike="noStrike">
              <a:solidFill>
                <a:srgbClr val="ffffff"/>
              </a:solidFill>
              <a:latin typeface="Tahoma"/>
            </a:endParaRPr>
          </a:p>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9. 11. 2008</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Ústava jako základní zákon</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12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bsahuje princip organizace a činnosti justice a principy ochrany občana</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pravuje postavení občana v hospodářském systému</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cc"/>
                </a:solidFill>
                <a:latin typeface="Tahoma"/>
              </a:rPr>
              <a:t>Ústavní postavení Nejvyššího kontrolního úřadu a České národní banky</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489" name="PlaceHolder 2"/>
          <p:cNvSpPr>
            <a:spLocks noGrp="1"/>
          </p:cNvSpPr>
          <p:nvPr>
            <p:ph/>
          </p:nvPr>
        </p:nvSpPr>
        <p:spPr>
          <a:xfrm>
            <a:off x="457200" y="1905120"/>
            <a:ext cx="8229600" cy="454824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NKÚ – čl. 97 Ústavy ČR – nezávislý orgán, vykonává kontrolu hospodaření se státním majetkem a plnění státního rozpočtu, prezidenta a víceprezidenta jmenuje prezident republiky na návrh poslanecké sněmovny, z. č. 166/1993 Sb.</a:t>
            </a:r>
            <a:endParaRPr b="0" lang="en-US" sz="3200" spc="-1" strike="noStrike">
              <a:solidFill>
                <a:srgbClr val="ffffff"/>
              </a:solidFill>
              <a:latin typeface="Tahoma"/>
            </a:endParaRPr>
          </a:p>
          <a:p>
            <a:pPr marL="339480" indent="-3394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ČNB – čl. 98 Ústavy ČR, ústřední banka státu, cílem její činnosti je péče o cenovou stabilitu, z. č. 6/1993 Sb.</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cc"/>
                </a:solidFill>
                <a:latin typeface="Tahoma"/>
              </a:rPr>
              <a:t>Pojetí územní samosprávy v České republice</a:t>
            </a:r>
            <a:endParaRPr b="0" lang="en-US" sz="4000" spc="-1" strike="noStrike">
              <a:solidFill>
                <a:srgbClr val="ffffff"/>
              </a:solidFill>
              <a:latin typeface="Tahoma"/>
            </a:endParaRPr>
          </a:p>
        </p:txBody>
      </p:sp>
      <p:sp>
        <p:nvSpPr>
          <p:cNvPr id="491" name="PlaceHolder 2"/>
          <p:cNvSpPr>
            <a:spLocks noGrp="1"/>
          </p:cNvSpPr>
          <p:nvPr>
            <p:ph/>
          </p:nvPr>
        </p:nvSpPr>
        <p:spPr>
          <a:xfrm>
            <a:off x="179280" y="1699920"/>
            <a:ext cx="8785440" cy="482436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Čl. 99 – obce, kraje – zastupitelstva: volby tajné, všeobecné, rovné a přímé volební právo, 4leté funkční období, vydávají obecně závazné vyhlášky (čl. 104 odst. 3 Ústavy ČR)</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át může zasahovat do jejich činnosti, vyžaduje-li to ochrana zákona.</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Územní samosprávné celky jsou veřejnoprávními korporacemi, které mohou mít vlastní majetek a hospodaří podle vlastního rozpočtu</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 č. 120/2000 Sb., o obcích (obecní zřízení)</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 č. 129/2000 Sb., o krajích (krajské zřízení)</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11280" y="2530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000" spc="-1" strike="noStrike">
              <a:solidFill>
                <a:srgbClr val="ffffff"/>
              </a:solidFill>
              <a:latin typeface="Tahoma"/>
            </a:endParaRPr>
          </a:p>
        </p:txBody>
      </p:sp>
      <p:sp>
        <p:nvSpPr>
          <p:cNvPr id="49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rPr>
              <a:t>Vážení posluchači,</a:t>
            </a:r>
            <a:br>
              <a:rPr sz="2800"/>
            </a:br>
            <a:r>
              <a:rPr b="0" lang="cs-CZ" sz="2800" spc="-1" strike="noStrike">
                <a:solidFill>
                  <a:srgbClr val="ffffff"/>
                </a:solidFill>
                <a:latin typeface="Tahoma"/>
              </a:rPr>
              <a:t>děkuji Vám za pozornost.</a:t>
            </a:r>
            <a:endParaRPr b="0" lang="en-US" sz="2800" spc="-1" strike="noStrike">
              <a:solidFill>
                <a:srgbClr val="ffffff"/>
              </a:solidFill>
              <a:latin typeface="Tahom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rPr>
              <a:t> </a:t>
            </a:r>
            <a:br>
              <a:rPr sz="2800"/>
            </a:br>
            <a:r>
              <a:rPr b="0" lang="cs-CZ" sz="2800" spc="-1" strike="noStrike">
                <a:solidFill>
                  <a:srgbClr val="ffffff"/>
                </a:solidFill>
                <a:latin typeface="Tahoma"/>
              </a:rPr>
              <a:t>Přeji příjemný zbytek dnešního dne.</a:t>
            </a:r>
            <a:endParaRPr b="0" lang="en-US" sz="2800" spc="-1" strike="noStrike">
              <a:solidFill>
                <a:srgbClr val="ffffff"/>
              </a:solidFill>
              <a:latin typeface="Tahom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Mgr. Ilona Kostadinovová</a:t>
            </a:r>
            <a:endParaRPr b="0" lang="en-US" sz="3200" spc="-1" strike="noStrike">
              <a:solidFill>
                <a:srgbClr val="ffffff"/>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u="sng">
                <a:solidFill>
                  <a:srgbClr val="ffcc00"/>
                </a:solidFill>
                <a:uFillTx/>
                <a:latin typeface="Tahoma"/>
                <a:hlinkClick r:id="rId2"/>
              </a:rPr>
              <a:t>ilda@seznam.cz</a:t>
            </a:r>
            <a:endParaRPr b="0" lang="en-US" sz="3200" spc="-1" strike="noStrike">
              <a:solidFill>
                <a:srgbClr val="ffffff"/>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cc"/>
                </a:solidFill>
                <a:latin typeface="Tahoma"/>
              </a:rPr>
              <a:t>Normy ústavy</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13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Ústava je složena z právních norem</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Normy ústavy</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13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Ústava je složena z právních norem</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Ústavní normy obecné</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Normy ústavy</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13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Ústava je složena z právních norem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Ústavní normy obecné</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Ústavní normy stanovící práva a povinnosti jejich subjektů</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Normy ústavy</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137" name="PlaceHolder 2"/>
          <p:cNvSpPr>
            <a:spLocks noGrp="1"/>
          </p:cNvSpPr>
          <p:nvPr>
            <p:ph/>
          </p:nvPr>
        </p:nvSpPr>
        <p:spPr>
          <a:xfrm>
            <a:off x="457200" y="1904760"/>
            <a:ext cx="8229600" cy="369252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Ústava je složena z právních norem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Ústavní normy obecné</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Ústavní normy stanovící práva a povinnosti jejich subjektů</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Ústavní normy zřizující , konstitutivní</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6600"/>
                </a:solidFill>
                <a:latin typeface="Tahoma"/>
              </a:rPr>
              <a:t>Normy ústavy</a:t>
            </a:r>
            <a:endParaRPr b="0" lang="en-US" sz="4400" spc="-1" strike="noStrike">
              <a:solidFill>
                <a:srgbClr val="ffffff"/>
              </a:solidFill>
              <a:latin typeface="Tahoma"/>
            </a:endParaRPr>
          </a:p>
        </p:txBody>
      </p:sp>
      <p:sp>
        <p:nvSpPr>
          <p:cNvPr id="13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ahoma"/>
              </a:rPr>
              <a:t>Ústava je složena z právních norem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ahoma"/>
              </a:rPr>
              <a:t>Ústavní normy obecné</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ahoma"/>
              </a:rPr>
              <a:t>Ústavní normy stanovící práva a povinnosti jejich subjektů</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ahoma"/>
              </a:rPr>
              <a:t>Ústavní normy zřizující , konstitutivní</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ahoma"/>
              </a:rPr>
              <a:t>Normy jsou rovnocenné, princip jednoty ústavy</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cc"/>
                </a:solidFill>
                <a:latin typeface="Tahoma"/>
              </a:rPr>
              <a:t>Odpovědnost v ústavním právu</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14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dpovědnost je naplněna podle Ústavy jednáním, jímž jsou porušena ustanovení ústavy, nebo nečinností, či jinou činností</a:t>
            </a:r>
            <a:endParaRPr b="0" lang="en-US" sz="3200" spc="-1" strike="noStrike">
              <a:solidFill>
                <a:srgbClr val="ffffff"/>
              </a:solidFill>
              <a:latin typeface="Tahoma"/>
            </a:endParaRPr>
          </a:p>
          <a:p>
            <a:pPr marL="332640" indent="-3326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dpovědnost podle ústavního práva směřuje k naplnění těch principů a těch norem, které jsou předmětem ústavní úpravy</a:t>
            </a:r>
            <a:endParaRPr b="0" lang="en-US" sz="3200" spc="-1" strike="noStrike">
              <a:solidFill>
                <a:srgbClr val="ffffff"/>
              </a:solidFill>
              <a:latin typeface="Tahoma"/>
            </a:endParaRPr>
          </a:p>
          <a:p>
            <a:pPr marL="332640" indent="-3326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dpovědnost je realizována sankcemi</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cc"/>
                </a:solidFill>
                <a:latin typeface="Tahoma"/>
              </a:rPr>
              <a:t>Ústavněprávní spory</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14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alizace ústavy, ústavních norem vede ke konfliktů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Ústavněprávní spory</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14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alizace ústavy, ústavních norem vede ke konfliktům</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a ústavně právní konflikt lze považovat situaci, spor, kdy ústavní orgán poruší ústavu, poruší základní právo fyzické čí právnické osoby, rozhodnutím omezí působnost samosprávného celk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cc"/>
                </a:solidFill>
                <a:latin typeface="Tahoma"/>
              </a:rPr>
              <a:t>Interpretace ústavy</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14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Ústava musí být řádně pochopena, potřeba výkladu interpretac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263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cs-CZ" sz="4400" spc="-1" strike="noStrike" u="sng">
                <a:solidFill>
                  <a:srgbClr val="ffffff"/>
                </a:solidFill>
                <a:uFillTx/>
                <a:latin typeface="Tahoma"/>
              </a:rPr>
              <a:t>Ústavní právo ČR</a:t>
            </a:r>
            <a:r>
              <a:rPr b="0" lang="cs-CZ" sz="4000" spc="-1" strike="noStrike">
                <a:solidFill>
                  <a:srgbClr val="ffffff"/>
                </a:solidFill>
                <a:latin typeface="Tahoma"/>
              </a:rPr>
              <a:t> </a:t>
            </a:r>
            <a:br>
              <a:rPr sz="4000"/>
            </a:br>
            <a:r>
              <a:rPr b="0" lang="cs-CZ" sz="4000" spc="-1" strike="noStrike">
                <a:solidFill>
                  <a:srgbClr val="ffffff"/>
                </a:solidFill>
                <a:latin typeface="Tahoma"/>
              </a:rPr>
              <a:t>Písek</a:t>
            </a:r>
            <a:br>
              <a:rPr sz="4000"/>
            </a:br>
            <a:endParaRPr b="0" lang="en-US" sz="4000" spc="-1" strike="noStrike">
              <a:solidFill>
                <a:srgbClr val="ffffff"/>
              </a:solidFill>
              <a:latin typeface="Tahoma"/>
            </a:endParaRPr>
          </a:p>
        </p:txBody>
      </p:sp>
      <p:sp>
        <p:nvSpPr>
          <p:cNvPr id="95" name="PlaceHolder 2"/>
          <p:cNvSpPr>
            <a:spLocks noGrp="1"/>
          </p:cNvSpPr>
          <p:nvPr>
            <p:ph/>
          </p:nvPr>
        </p:nvSpPr>
        <p:spPr>
          <a:xfrm>
            <a:off x="457200" y="2565360"/>
            <a:ext cx="8229600" cy="3454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8. 10. 2008</a:t>
            </a:r>
            <a:endParaRPr b="0" lang="en-US" sz="2000" spc="-1" strike="noStrike">
              <a:solidFill>
                <a:srgbClr val="ffffff"/>
              </a:solidFill>
              <a:latin typeface="Tahoma"/>
            </a:endParaRPr>
          </a:p>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09. 01. 2009</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Interpretace ústavy</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14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Ústava musí být řádně pochopena, potřeba výkladu interpretace</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terpretace je úkolem každého subjektu, jenž ústavu užívá</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6600"/>
                </a:solidFill>
                <a:latin typeface="Tahoma"/>
              </a:rPr>
              <a:t>Interpretace ústavy</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15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ahoma"/>
              </a:rPr>
              <a:t>Ústava musí být řádně pochopena, potřeba výkladu interpretace</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ahoma"/>
              </a:rPr>
              <a:t>Interpretace je úkolem každého subjektu, jenž ústavu užívá</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ahoma"/>
              </a:rPr>
              <a:t>Především úkolem </a:t>
            </a:r>
            <a:r>
              <a:rPr b="0" lang="en-US" sz="3200" spc="-1" strike="noStrike" u="sng">
                <a:solidFill>
                  <a:srgbClr val="ff6600"/>
                </a:solidFill>
                <a:uFillTx/>
                <a:latin typeface="Tahoma"/>
              </a:rPr>
              <a:t>ústavodárného</a:t>
            </a:r>
            <a:r>
              <a:rPr b="0" lang="en-US" sz="3200" spc="-1" strike="noStrike">
                <a:solidFill>
                  <a:srgbClr val="ff6600"/>
                </a:solidFill>
                <a:latin typeface="Tahoma"/>
              </a:rPr>
              <a:t>, </a:t>
            </a:r>
            <a:r>
              <a:rPr b="0" lang="en-US" sz="3200" spc="-1" strike="noStrike" u="sng">
                <a:solidFill>
                  <a:srgbClr val="ff6600"/>
                </a:solidFill>
                <a:uFillTx/>
                <a:latin typeface="Tahoma"/>
              </a:rPr>
              <a:t>zákonodárného</a:t>
            </a:r>
            <a:r>
              <a:rPr b="0" lang="en-US" sz="3200" spc="-1" strike="noStrike">
                <a:solidFill>
                  <a:srgbClr val="ff6600"/>
                </a:solidFill>
                <a:latin typeface="Tahoma"/>
              </a:rPr>
              <a:t> a </a:t>
            </a:r>
            <a:r>
              <a:rPr b="0" lang="en-US" sz="3200" spc="-1" strike="noStrike" u="sng">
                <a:solidFill>
                  <a:srgbClr val="ff6600"/>
                </a:solidFill>
                <a:uFillTx/>
                <a:latin typeface="Tahoma"/>
              </a:rPr>
              <a:t>orgánu kontroly</a:t>
            </a:r>
            <a:r>
              <a:rPr b="0" lang="en-US" sz="3200" spc="-1" strike="noStrike">
                <a:solidFill>
                  <a:srgbClr val="ff6600"/>
                </a:solidFill>
                <a:latin typeface="Tahoma"/>
              </a:rPr>
              <a:t> </a:t>
            </a:r>
            <a:r>
              <a:rPr b="0" lang="en-US" sz="3200" spc="-1" strike="noStrike" u="sng">
                <a:solidFill>
                  <a:srgbClr val="ff6600"/>
                </a:solidFill>
                <a:uFillTx/>
                <a:latin typeface="Tahoma"/>
              </a:rPr>
              <a:t>ústavnosti</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i="1" lang="en-US" sz="4000" spc="-1" strike="noStrike">
                <a:solidFill>
                  <a:srgbClr val="ffffff"/>
                </a:solidFill>
                <a:latin typeface="Tahoma"/>
              </a:rPr>
              <a:t>Interpretace ústavy</a:t>
            </a:r>
            <a:r>
              <a:rPr b="0" lang="en-US" sz="4000" spc="-1" strike="noStrike">
                <a:solidFill>
                  <a:srgbClr val="ffffff"/>
                </a:solidFill>
                <a:latin typeface="Tahoma"/>
              </a:rPr>
              <a:t> </a:t>
            </a:r>
            <a:br>
              <a:rPr sz="4000"/>
            </a:br>
            <a:br>
              <a:rPr sz="4000"/>
            </a:br>
            <a:r>
              <a:rPr b="0" lang="en-US" sz="4000" spc="-1" strike="noStrike" u="sng">
                <a:solidFill>
                  <a:srgbClr val="ffffff"/>
                </a:solidFill>
                <a:uFillTx/>
                <a:latin typeface="Tahoma"/>
              </a:rPr>
              <a:t>Interpretace parlamentu</a:t>
            </a:r>
            <a:endParaRPr b="0" lang="en-US" sz="4000" spc="-1" strike="noStrike">
              <a:solidFill>
                <a:srgbClr val="ffffff"/>
              </a:solidFill>
              <a:latin typeface="Tahoma"/>
            </a:endParaRPr>
          </a:p>
        </p:txBody>
      </p:sp>
      <p:sp>
        <p:nvSpPr>
          <p:cNvPr id="15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rlament musí při tvorbě zákonů interpretovat text ústavy tak, aby zákon </a:t>
            </a:r>
            <a:r>
              <a:rPr b="0" lang="en-US" sz="3200" spc="-1" strike="noStrike" u="sng">
                <a:solidFill>
                  <a:srgbClr val="ffffff"/>
                </a:solidFill>
                <a:uFillTx/>
                <a:latin typeface="Tahoma"/>
              </a:rPr>
              <a:t>nebyl v rozporu s ústavo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i="1" lang="en-US" sz="4000" spc="-1" strike="noStrike">
                <a:solidFill>
                  <a:srgbClr val="ffffff"/>
                </a:solidFill>
                <a:latin typeface="Tahoma"/>
              </a:rPr>
              <a:t>Interpretace ústavy</a:t>
            </a:r>
            <a:r>
              <a:rPr b="0" lang="en-US" sz="4000" spc="-1" strike="noStrike">
                <a:solidFill>
                  <a:srgbClr val="ffffff"/>
                </a:solidFill>
                <a:latin typeface="Tahoma"/>
              </a:rPr>
              <a:t> </a:t>
            </a:r>
            <a:br>
              <a:rPr sz="4000"/>
            </a:br>
            <a:br>
              <a:rPr sz="4000"/>
            </a:br>
            <a:r>
              <a:rPr b="0" lang="en-US" sz="4000" spc="-1" strike="noStrike" u="sng">
                <a:solidFill>
                  <a:srgbClr val="ffffff"/>
                </a:solidFill>
                <a:uFillTx/>
                <a:latin typeface="Tahoma"/>
              </a:rPr>
              <a:t>Interpretace parlamentu</a:t>
            </a:r>
            <a:endParaRPr b="0" lang="en-US" sz="4000" spc="-1" strike="noStrike">
              <a:solidFill>
                <a:srgbClr val="ffffff"/>
              </a:solidFill>
              <a:latin typeface="Tahoma"/>
            </a:endParaRPr>
          </a:p>
        </p:txBody>
      </p:sp>
      <p:sp>
        <p:nvSpPr>
          <p:cNvPr id="155" name="PlaceHolder 2"/>
          <p:cNvSpPr>
            <a:spLocks noGrp="1"/>
          </p:cNvSpPr>
          <p:nvPr>
            <p:ph/>
          </p:nvPr>
        </p:nvSpPr>
        <p:spPr>
          <a:xfrm>
            <a:off x="457200" y="3042720"/>
            <a:ext cx="8229600" cy="2976840"/>
          </a:xfrm>
          <a:prstGeom prst="rect">
            <a:avLst/>
          </a:prstGeom>
          <a:noFill/>
          <a:ln w="0">
            <a:noFill/>
          </a:ln>
        </p:spPr>
        <p:txBody>
          <a:bodyPr lIns="90000" rIns="90000" tIns="46800" bIns="46800" anchor="t">
            <a:normAutofit fontScale="89000"/>
          </a:bodyPr>
          <a:p>
            <a:pPr marL="305280" indent="-3052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rlament musí při tvorbě zákonů interpretovat text ústavy tak, aby zákon </a:t>
            </a:r>
            <a:r>
              <a:rPr b="0" lang="en-US" sz="3200" spc="-1" strike="noStrike" u="sng">
                <a:solidFill>
                  <a:srgbClr val="ffffff"/>
                </a:solidFill>
                <a:uFillTx/>
                <a:latin typeface="Tahoma"/>
              </a:rPr>
              <a:t>nebyl v rozporu s ústavou</a:t>
            </a:r>
            <a:endParaRPr b="0" lang="en-US" sz="3200" spc="-1" strike="noStrike">
              <a:solidFill>
                <a:srgbClr val="ffffff"/>
              </a:solidFill>
              <a:latin typeface="Tahoma"/>
            </a:endParaRPr>
          </a:p>
          <a:p>
            <a:pPr marL="305280" indent="-3052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ákon </a:t>
            </a:r>
            <a:r>
              <a:rPr b="0" lang="en-US" sz="3200" spc="-1" strike="noStrike" u="sng">
                <a:solidFill>
                  <a:srgbClr val="ffffff"/>
                </a:solidFill>
                <a:uFillTx/>
                <a:latin typeface="Tahoma"/>
              </a:rPr>
              <a:t>není v rozporu s ústavou</a:t>
            </a:r>
            <a:r>
              <a:rPr b="0" lang="en-US" sz="3200" spc="-1" strike="noStrike">
                <a:solidFill>
                  <a:srgbClr val="ffffff"/>
                </a:solidFill>
                <a:latin typeface="Tahoma"/>
              </a:rPr>
              <a:t>, jestliže je možný pouze takový jeho výklad, který je v souladu se základním zákonem a zákon si při tomto výkladu zachovává svůj smysl</a:t>
            </a:r>
            <a:endParaRPr b="0" lang="en-US" sz="3200" spc="-1" strike="noStrike">
              <a:solidFill>
                <a:srgbClr val="ffffff"/>
              </a:solidFill>
              <a:latin typeface="Tahoma"/>
            </a:endParaRPr>
          </a:p>
          <a:p>
            <a:pPr marL="3052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i="1" lang="en-US" sz="4000" spc="-1" strike="noStrike">
                <a:solidFill>
                  <a:srgbClr val="ffffff"/>
                </a:solidFill>
                <a:latin typeface="Tahoma"/>
              </a:rPr>
              <a:t>Interpretace ústavy</a:t>
            </a:r>
            <a:r>
              <a:rPr b="0" lang="en-US" sz="4000" spc="-1" strike="noStrike">
                <a:solidFill>
                  <a:srgbClr val="ffffff"/>
                </a:solidFill>
                <a:latin typeface="Tahoma"/>
              </a:rPr>
              <a:t> </a:t>
            </a:r>
            <a:br>
              <a:rPr sz="4000"/>
            </a:br>
            <a:br>
              <a:rPr sz="4000"/>
            </a:br>
            <a:r>
              <a:rPr b="0" lang="en-US" sz="4000" spc="-1" strike="noStrike" u="sng">
                <a:solidFill>
                  <a:srgbClr val="ffffff"/>
                </a:solidFill>
                <a:uFillTx/>
                <a:latin typeface="Tahoma"/>
              </a:rPr>
              <a:t>Interpretace Ústavního soudu</a:t>
            </a:r>
            <a:endParaRPr b="0" lang="en-US" sz="4000" spc="-1" strike="noStrike">
              <a:solidFill>
                <a:srgbClr val="ffffff"/>
              </a:solidFill>
              <a:latin typeface="Tahoma"/>
            </a:endParaRPr>
          </a:p>
        </p:txBody>
      </p:sp>
      <p:sp>
        <p:nvSpPr>
          <p:cNvPr id="157" name="PlaceHolder 2"/>
          <p:cNvSpPr>
            <a:spLocks noGrp="1"/>
          </p:cNvSpPr>
          <p:nvPr>
            <p:ph/>
          </p:nvPr>
        </p:nvSpPr>
        <p:spPr>
          <a:xfrm>
            <a:off x="457200" y="3042720"/>
            <a:ext cx="8229600" cy="297684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Ústavní soud (kontroluje ústavnost a řeší ústavní konflikty) používá interpretaci jako základní metodu při naplňování své funkc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i="1" lang="en-US" sz="4000" spc="-1" strike="noStrike">
                <a:solidFill>
                  <a:srgbClr val="ffffff"/>
                </a:solidFill>
                <a:latin typeface="Tahoma"/>
              </a:rPr>
              <a:t>Interpretace ústavy</a:t>
            </a:r>
            <a:r>
              <a:rPr b="0" lang="en-US" sz="4000" spc="-1" strike="noStrike">
                <a:solidFill>
                  <a:srgbClr val="ffffff"/>
                </a:solidFill>
                <a:latin typeface="Tahoma"/>
              </a:rPr>
              <a:t> </a:t>
            </a:r>
            <a:br>
              <a:rPr sz="4000"/>
            </a:br>
            <a:br>
              <a:rPr sz="4000"/>
            </a:br>
            <a:r>
              <a:rPr b="0" lang="en-US" sz="4000" spc="-1" strike="noStrike" u="sng">
                <a:solidFill>
                  <a:srgbClr val="ffffff"/>
                </a:solidFill>
                <a:uFillTx/>
                <a:latin typeface="Tahoma"/>
              </a:rPr>
              <a:t>Interpretace Ústavního soudu</a:t>
            </a:r>
            <a:endParaRPr b="0" lang="en-US" sz="4000" spc="-1" strike="noStrike">
              <a:solidFill>
                <a:srgbClr val="ffffff"/>
              </a:solidFill>
              <a:latin typeface="Tahoma"/>
            </a:endParaRPr>
          </a:p>
        </p:txBody>
      </p:sp>
      <p:sp>
        <p:nvSpPr>
          <p:cNvPr id="159" name="PlaceHolder 2"/>
          <p:cNvSpPr>
            <a:spLocks noGrp="1"/>
          </p:cNvSpPr>
          <p:nvPr>
            <p:ph/>
          </p:nvPr>
        </p:nvSpPr>
        <p:spPr>
          <a:xfrm>
            <a:off x="457200" y="3042720"/>
            <a:ext cx="8229600" cy="2976840"/>
          </a:xfrm>
          <a:prstGeom prst="rect">
            <a:avLst/>
          </a:prstGeom>
          <a:noFill/>
          <a:ln w="0">
            <a:noFill/>
          </a:ln>
        </p:spPr>
        <p:txBody>
          <a:bodyPr lIns="90000" rIns="90000" tIns="46800" bIns="46800" anchor="t">
            <a:normAutofit fontScale="95000"/>
          </a:bodyPr>
          <a:p>
            <a:pPr marL="325800" indent="-3258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Ústavní soud (kontroluje ústavnost a řeší ústavní konflikty) používá interpretaci jako základní metodu při naplňování své funkce</a:t>
            </a:r>
            <a:endParaRPr b="0" lang="en-US" sz="3200" spc="-1" strike="noStrike">
              <a:solidFill>
                <a:srgbClr val="ffffff"/>
              </a:solidFill>
              <a:latin typeface="Tahoma"/>
            </a:endParaRPr>
          </a:p>
          <a:p>
            <a:pPr marL="325800" indent="-3258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Ústavní soudce zjišťuje obsah a význam normy </a:t>
            </a:r>
            <a:endParaRPr b="0" lang="en-US" sz="3200" spc="-1" strike="noStrike">
              <a:solidFill>
                <a:srgbClr val="ffffff"/>
              </a:solidFill>
              <a:latin typeface="Tahoma"/>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i="1" lang="en-US" sz="4000" spc="-1" strike="noStrike">
                <a:solidFill>
                  <a:srgbClr val="ffffff"/>
                </a:solidFill>
                <a:latin typeface="Tahoma"/>
              </a:rPr>
              <a:t>Interpretace ústavy</a:t>
            </a:r>
            <a:r>
              <a:rPr b="0" lang="en-US" sz="4000" spc="-1" strike="noStrike">
                <a:solidFill>
                  <a:srgbClr val="ffffff"/>
                </a:solidFill>
                <a:latin typeface="Tahoma"/>
              </a:rPr>
              <a:t> </a:t>
            </a:r>
            <a:br>
              <a:rPr sz="4000"/>
            </a:br>
            <a:br>
              <a:rPr sz="4000"/>
            </a:br>
            <a:r>
              <a:rPr b="0" lang="en-US" sz="4000" spc="-1" strike="noStrike" u="sng">
                <a:solidFill>
                  <a:srgbClr val="ffffff"/>
                </a:solidFill>
                <a:uFillTx/>
                <a:latin typeface="Tahoma"/>
              </a:rPr>
              <a:t>Interpretace Ústavního soudu</a:t>
            </a:r>
            <a:endParaRPr b="0" lang="en-US" sz="4000" spc="-1" strike="noStrike">
              <a:solidFill>
                <a:srgbClr val="ffffff"/>
              </a:solidFill>
              <a:latin typeface="Tahoma"/>
            </a:endParaRPr>
          </a:p>
        </p:txBody>
      </p:sp>
      <p:sp>
        <p:nvSpPr>
          <p:cNvPr id="161" name="PlaceHolder 2"/>
          <p:cNvSpPr>
            <a:spLocks noGrp="1"/>
          </p:cNvSpPr>
          <p:nvPr>
            <p:ph/>
          </p:nvPr>
        </p:nvSpPr>
        <p:spPr>
          <a:xfrm>
            <a:off x="457200" y="3042720"/>
            <a:ext cx="8229600" cy="2976840"/>
          </a:xfrm>
          <a:prstGeom prst="rect">
            <a:avLst/>
          </a:prstGeom>
          <a:noFill/>
          <a:ln w="0">
            <a:noFill/>
          </a:ln>
        </p:spPr>
        <p:txBody>
          <a:bodyPr lIns="90000" rIns="90000" tIns="46800" bIns="46800" anchor="t">
            <a:normAutofit fontScale="91000"/>
          </a:bodyPr>
          <a:p>
            <a:pPr marL="312120" indent="-31212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Ústavní soud (kontroluje ústavnost a řeší ústavní konflikty) používá interpretaci jako základní metodu při naplňování své funkce</a:t>
            </a:r>
            <a:endParaRPr b="0" lang="en-US" sz="3200" spc="-1" strike="noStrike">
              <a:solidFill>
                <a:srgbClr val="ffffff"/>
              </a:solidFill>
              <a:latin typeface="Tahoma"/>
            </a:endParaRPr>
          </a:p>
          <a:p>
            <a:pPr marL="312120" indent="-31212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Ústavní soudce zjišťuje obsah a význam normy </a:t>
            </a:r>
            <a:endParaRPr b="0" lang="en-US" sz="3200" spc="-1" strike="noStrike">
              <a:solidFill>
                <a:srgbClr val="ffffff"/>
              </a:solidFill>
              <a:latin typeface="Tahoma"/>
            </a:endParaRPr>
          </a:p>
          <a:p>
            <a:pPr marL="312120" indent="-31212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smí nahrazovat zákonodárce</a:t>
            </a:r>
            <a:endParaRPr b="0" lang="en-US" sz="3200" spc="-1" strike="noStrike">
              <a:solidFill>
                <a:srgbClr val="ffffff"/>
              </a:solidFill>
              <a:latin typeface="Tahoma"/>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cc"/>
                </a:solidFill>
                <a:latin typeface="Tahoma"/>
              </a:rPr>
              <a:t>Ústavní systémy světa, ústavní modely</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16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ahoma"/>
              </a:rPr>
              <a:t>Ústavní systémy světa, ústavní modely</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16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Ústavy spjaté s revolucemi</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ahoma"/>
              </a:rPr>
              <a:t>Ústavní systémy světa, ústavní modely</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16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Ústavy spjaté s revolucemi</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Ústavy 19. stolet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400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Základní doporučená literatura:</a:t>
            </a:r>
            <a:endParaRPr b="0" lang="en-US" sz="4000" spc="-1" strike="noStrike">
              <a:solidFill>
                <a:srgbClr val="ffffff"/>
              </a:solidFill>
              <a:latin typeface="Tahoma"/>
            </a:endParaRPr>
          </a:p>
        </p:txBody>
      </p:sp>
      <p:sp>
        <p:nvSpPr>
          <p:cNvPr id="97" name="PlaceHolder 2"/>
          <p:cNvSpPr>
            <a:spLocks noGrp="1"/>
          </p:cNvSpPr>
          <p:nvPr>
            <p:ph/>
          </p:nvPr>
        </p:nvSpPr>
        <p:spPr>
          <a:xfrm>
            <a:off x="457200" y="836640"/>
            <a:ext cx="8229600" cy="602136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ahoma"/>
              </a:rPr>
              <a:t>ÚZ č. 612, Ústava ČR, Listina zákl. práv a svobod</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ahoma"/>
              </a:rPr>
              <a:t>ÚZ č. 625 – Evropské právo a základní dokumenty</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ahoma"/>
              </a:rPr>
              <a:t>Pezl, T. : Dokumenty ke studiu ústavního práva, Nakladatelství a vydavatelství Aleš Čeněk, s. r. o., Plzeň 2004</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ahoma"/>
              </a:rPr>
              <a:t>Klima, K. a kol. : Ústavní právo, 3. rozšířené vydání, Vydavatelství a nakladatelství Aleš Čeněk, s. r. o., Plzeň 2006</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ahoma"/>
              </a:rPr>
              <a:t>Klíma, K. a kol. : Státověda, Vyd. a nakl. Aleš Čeněk, s. r. o., Plzeň 2006</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ahoma"/>
              </a:rPr>
              <a:t>Klíma, K. a kol. : Praktikum ústavního práva, Vyd. a nakl. Aleš Čeněk, s. r. o. Plzeň 2005</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ahoma"/>
              </a:rPr>
              <a:t>Klíma, K. a kol. : Komentář k ústavě a listině, Vydavatelství a nakladatelství Aleš Čeněk, s. r. o., Plzeň 2005 (nové vydání plánováno na rok 2008) </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ahoma"/>
              </a:rPr>
              <a:t>Blahož, J.,  Balaš, V.,  Klíma, K. : Praha 2003, Srovnávací ústavní právo, Praha 2003</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ahoma"/>
              </a:rPr>
              <a:t>Ústavní systémy světa, ústavní modely</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16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Ústavy spjaté s revolucemi</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Ústavy 19. století</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Ústavy po I. Světové válc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ahoma"/>
              </a:rPr>
              <a:t>Ústavní systémy světa, ústavní modely</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17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Ústavy spjaté s revolucemi</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Ústavy 19. století</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Ústavy po I. Světové válce</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Ústavy po II. Světové válc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Dominantní ústavní modely</a:t>
            </a:r>
            <a:endParaRPr b="0" lang="en-US" sz="4400" spc="-1" strike="noStrike">
              <a:solidFill>
                <a:srgbClr val="ffffff"/>
              </a:solidFill>
              <a:latin typeface="Tahoma"/>
            </a:endParaRPr>
          </a:p>
        </p:txBody>
      </p:sp>
      <p:sp>
        <p:nvSpPr>
          <p:cNvPr id="17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rancouzský model</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Dominantní ústavní modely</a:t>
            </a:r>
            <a:endParaRPr b="0" lang="en-US" sz="4400" spc="-1" strike="noStrike">
              <a:solidFill>
                <a:srgbClr val="ffffff"/>
              </a:solidFill>
              <a:latin typeface="Tahoma"/>
            </a:endParaRPr>
          </a:p>
        </p:txBody>
      </p:sp>
      <p:sp>
        <p:nvSpPr>
          <p:cNvPr id="17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rancouzský model</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klarace práv člověka a občana, r. 1789</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Dominantní ústavní modely</a:t>
            </a:r>
            <a:endParaRPr b="0" lang="en-US" sz="4400" spc="-1" strike="noStrike">
              <a:solidFill>
                <a:srgbClr val="ffffff"/>
              </a:solidFill>
              <a:latin typeface="Tahoma"/>
            </a:endParaRPr>
          </a:p>
        </p:txBody>
      </p:sp>
      <p:sp>
        <p:nvSpPr>
          <p:cNvPr id="17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rancouzský model</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klarace práv člověka a občana, r. 1789</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e základem francouzské demokraci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ahoma"/>
              </a:rPr>
              <a:t>Dominantní ústavní modely</a:t>
            </a:r>
            <a:endParaRPr b="0" lang="en-US" sz="4400" spc="-1" strike="noStrike">
              <a:solidFill>
                <a:srgbClr val="ffffff"/>
              </a:solidFill>
              <a:latin typeface="Tahoma"/>
            </a:endParaRPr>
          </a:p>
        </p:txBody>
      </p:sp>
      <p:sp>
        <p:nvSpPr>
          <p:cNvPr id="17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ahoma"/>
              </a:rPr>
              <a:t>Francouzský model</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ahoma"/>
              </a:rPr>
              <a:t>Deklarace práv člověka a občana, r. 1789</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ahoma"/>
              </a:rPr>
              <a:t>Je základem francouzské demokracie</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ahoma"/>
              </a:rPr>
              <a:t>Utvrzuje individuální svobodu občana a svobodu názorů, svobodu vlastnickou, suverenitu lidu, princip dělby moci</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Dominantní ústavní modely</a:t>
            </a:r>
            <a:endParaRPr b="0" lang="en-US" sz="4400" spc="-1" strike="noStrike">
              <a:solidFill>
                <a:srgbClr val="ffffff"/>
              </a:solidFill>
              <a:latin typeface="Tahoma"/>
            </a:endParaRPr>
          </a:p>
        </p:txBody>
      </p:sp>
      <p:sp>
        <p:nvSpPr>
          <p:cNvPr id="18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glický model</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Dominantní ústavní modely</a:t>
            </a:r>
            <a:endParaRPr b="0" lang="en-US" sz="4400" spc="-1" strike="noStrike">
              <a:solidFill>
                <a:srgbClr val="ffffff"/>
              </a:solidFill>
              <a:latin typeface="Tahoma"/>
            </a:endParaRPr>
          </a:p>
        </p:txBody>
      </p:sp>
      <p:sp>
        <p:nvSpPr>
          <p:cNvPr id="18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glický model – Britská ústava</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ostupný vývoj, je tvořena psanými dokumenty a nepsanými pravidl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Dominantní ústavní modely</a:t>
            </a:r>
            <a:endParaRPr b="0" lang="en-US" sz="4400" spc="-1" strike="noStrike">
              <a:solidFill>
                <a:srgbClr val="ffffff"/>
              </a:solidFill>
              <a:latin typeface="Tahoma"/>
            </a:endParaRPr>
          </a:p>
        </p:txBody>
      </p:sp>
      <p:sp>
        <p:nvSpPr>
          <p:cNvPr id="18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Anglický model – Britská ústava</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Postupný vývoj, je tvořena psanými dokumenty a nepsanými pravidly</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Součástí je common law –právo rozvíjené judikaturou soudů</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Dominantní ústavní modely</a:t>
            </a:r>
            <a:endParaRPr b="0" lang="en-US" sz="4400" spc="-1" strike="noStrike">
              <a:solidFill>
                <a:srgbClr val="ffffff"/>
              </a:solidFill>
              <a:latin typeface="Tahoma"/>
            </a:endParaRPr>
          </a:p>
        </p:txBody>
      </p:sp>
      <p:sp>
        <p:nvSpPr>
          <p:cNvPr id="18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Anglický model – Britská ústava</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Postupný vývoj, je tvořena psanými dokumenty a nepsanými pravidly</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Součástí je common law –právo rozvíjené judikaturou soudů</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Součástí jsou ústavní konvence pro ústavní procesní pravidla</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Doporučená literatura doplňující:</a:t>
            </a:r>
            <a:endParaRPr b="0" lang="en-US" sz="4000" spc="-1" strike="noStrike">
              <a:solidFill>
                <a:srgbClr val="ffffff"/>
              </a:solidFill>
              <a:latin typeface="Tahoma"/>
            </a:endParaRPr>
          </a:p>
        </p:txBody>
      </p:sp>
      <p:sp>
        <p:nvSpPr>
          <p:cNvPr id="99" name="PlaceHolder 2"/>
          <p:cNvSpPr>
            <a:spLocks noGrp="1"/>
          </p:cNvSpPr>
          <p:nvPr>
            <p:ph/>
          </p:nvPr>
        </p:nvSpPr>
        <p:spPr>
          <a:xfrm>
            <a:off x="457200" y="1483920"/>
            <a:ext cx="8229600" cy="482436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ahoma"/>
              </a:rPr>
              <a:t>Teorie veřejné moci (vládnutí), K.Klíma, Praha 2003; S</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ahoma"/>
              </a:rPr>
              <a:t>Soudní kontrola ústavnosti, J. Blahož, Praha 2001; </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ahoma"/>
              </a:rPr>
              <a:t>Ústavní právo 1, J. Filip, MU Brno 1999;</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ahoma"/>
              </a:rPr>
              <a:t>Vybrané kapitoly ke studiu ústavního práva, J. Filip, MU Brno 2001;</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ahoma"/>
              </a:rPr>
              <a:t>Zákon o Ústavním soudu, komentář; J.Filip/ P.Holländer/ V.Šimíček,    Praha 2001;</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ahoma"/>
              </a:rPr>
              <a:t>Ústavní stížnost, V. Šimíček, Praha 2001;</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ahoma"/>
              </a:rPr>
              <a:t>Ústavní systémy evropských států, V. Klokočka, Praha 1996;</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ahoma"/>
              </a:rPr>
              <a:t>Ústavní právo a státověda, II. díl; V. Pavlíček, Praha 2001.</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ahoma"/>
              </a:rPr>
              <a:t>Dominantní ústavní modely</a:t>
            </a:r>
            <a:endParaRPr b="0" lang="en-US" sz="4400" spc="-1" strike="noStrike">
              <a:solidFill>
                <a:srgbClr val="ffffff"/>
              </a:solidFill>
              <a:latin typeface="Tahoma"/>
            </a:endParaRPr>
          </a:p>
        </p:txBody>
      </p:sp>
      <p:sp>
        <p:nvSpPr>
          <p:cNvPr id="18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6600"/>
                </a:solidFill>
                <a:latin typeface="Tahoma"/>
              </a:rPr>
              <a:t>Anglický model – Britská ústava</a:t>
            </a:r>
            <a:endParaRPr b="0" lang="en-US" sz="3200" spc="-1" strike="noStrike">
              <a:solidFill>
                <a:srgbClr val="ffffff"/>
              </a:solidFill>
              <a:latin typeface="Tahoma"/>
            </a:endParaRPr>
          </a:p>
          <a:p>
            <a:pPr marL="318960" indent="-3189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6600"/>
                </a:solidFill>
                <a:latin typeface="Tahoma"/>
              </a:rPr>
              <a:t>Postupný vývoj, je tvořena psanými dokumenty a nepsanými pravidly</a:t>
            </a:r>
            <a:endParaRPr b="0" lang="en-US" sz="3200" spc="-1" strike="noStrike">
              <a:solidFill>
                <a:srgbClr val="ffffff"/>
              </a:solidFill>
              <a:latin typeface="Tahoma"/>
            </a:endParaRPr>
          </a:p>
          <a:p>
            <a:pPr marL="318960" indent="-3189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6600"/>
                </a:solidFill>
                <a:latin typeface="Tahoma"/>
              </a:rPr>
              <a:t>Součástí je common law –právo rozvíjené judikaturou soudů</a:t>
            </a:r>
            <a:endParaRPr b="0" lang="en-US" sz="3200" spc="-1" strike="noStrike">
              <a:solidFill>
                <a:srgbClr val="ffffff"/>
              </a:solidFill>
              <a:latin typeface="Tahoma"/>
            </a:endParaRPr>
          </a:p>
          <a:p>
            <a:pPr marL="318960" indent="-3189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6600"/>
                </a:solidFill>
                <a:latin typeface="Tahoma"/>
              </a:rPr>
              <a:t>Součástí jsou ústavní konvence pro ústavní procesní pravidla</a:t>
            </a:r>
            <a:endParaRPr b="0" lang="en-US" sz="3200" spc="-1" strike="noStrike">
              <a:solidFill>
                <a:srgbClr val="ffffff"/>
              </a:solidFill>
              <a:latin typeface="Tahoma"/>
            </a:endParaRPr>
          </a:p>
          <a:p>
            <a:pPr marL="318960" indent="-3189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6600"/>
                </a:solidFill>
                <a:latin typeface="Tahoma"/>
              </a:rPr>
              <a:t>Moderní britská ústavnost r. 1688</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Dominantní ústavní modely</a:t>
            </a:r>
            <a:endParaRPr b="0" lang="en-US" sz="4400" spc="-1" strike="noStrike">
              <a:solidFill>
                <a:srgbClr val="ffffff"/>
              </a:solidFill>
              <a:latin typeface="Tahoma"/>
            </a:endParaRPr>
          </a:p>
        </p:txBody>
      </p:sp>
      <p:sp>
        <p:nvSpPr>
          <p:cNvPr id="19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merický model</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Dominantní ústavní modely</a:t>
            </a:r>
            <a:endParaRPr b="0" lang="en-US" sz="4400" spc="-1" strike="noStrike">
              <a:solidFill>
                <a:srgbClr val="ffffff"/>
              </a:solidFill>
              <a:latin typeface="Tahoma"/>
            </a:endParaRPr>
          </a:p>
        </p:txBody>
      </p:sp>
      <p:sp>
        <p:nvSpPr>
          <p:cNvPr id="19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merický model – Ústava z r. 1787</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jstarší platná ústava svět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Dominantní ústavní modely</a:t>
            </a:r>
            <a:endParaRPr b="0" lang="en-US" sz="4400" spc="-1" strike="noStrike">
              <a:solidFill>
                <a:srgbClr val="ffffff"/>
              </a:solidFill>
              <a:latin typeface="Tahoma"/>
            </a:endParaRPr>
          </a:p>
        </p:txBody>
      </p:sp>
      <p:sp>
        <p:nvSpPr>
          <p:cNvPr id="19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merický model – Ústava z r. 1787</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jstarší platná ústava světa</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akotvuje princip suverenity lidu, princip většiny, princip dělby moci a systém rovnováhy a vzájemných brzd, princip federalism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ahoma"/>
              </a:rPr>
              <a:t>Dominantní ústavní modely</a:t>
            </a:r>
            <a:endParaRPr b="0" lang="en-US" sz="4400" spc="-1" strike="noStrike">
              <a:solidFill>
                <a:srgbClr val="ffffff"/>
              </a:solidFill>
              <a:latin typeface="Tahoma"/>
            </a:endParaRPr>
          </a:p>
        </p:txBody>
      </p:sp>
      <p:sp>
        <p:nvSpPr>
          <p:cNvPr id="19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5000"/>
          </a:bodyPr>
          <a:p>
            <a:pPr marL="325800" indent="-3258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ahoma"/>
              </a:rPr>
              <a:t>Americký model – Ústava z r. 1787</a:t>
            </a:r>
            <a:endParaRPr b="0" lang="en-US" sz="3200" spc="-1" strike="noStrike">
              <a:solidFill>
                <a:srgbClr val="ffffff"/>
              </a:solidFill>
              <a:latin typeface="Tahoma"/>
            </a:endParaRPr>
          </a:p>
          <a:p>
            <a:pPr marL="325800" indent="-3258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ahoma"/>
              </a:rPr>
              <a:t>Nejstarší platná ústava světa</a:t>
            </a:r>
            <a:endParaRPr b="0" lang="en-US" sz="3200" spc="-1" strike="noStrike">
              <a:solidFill>
                <a:srgbClr val="ffffff"/>
              </a:solidFill>
              <a:latin typeface="Tahoma"/>
            </a:endParaRPr>
          </a:p>
          <a:p>
            <a:pPr marL="325800" indent="-3258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ahoma"/>
              </a:rPr>
              <a:t>Zakotvuje princip suverenity lidu, princip většiny, princip dělby moci a systém rovnováhy a vzájemných brzd, princip federalismu</a:t>
            </a:r>
            <a:endParaRPr b="0" lang="en-US" sz="3200" spc="-1" strike="noStrike">
              <a:solidFill>
                <a:srgbClr val="ffffff"/>
              </a:solidFill>
              <a:latin typeface="Tahoma"/>
            </a:endParaRPr>
          </a:p>
          <a:p>
            <a:pPr marL="325800" indent="-3258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ahoma"/>
              </a:rPr>
              <a:t>Každý z 50 států Unie má svoji ústavu, ta se řídí ústavou federáln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cc"/>
                </a:solidFill>
                <a:latin typeface="Tahoma"/>
              </a:rPr>
              <a:t>Typy ústav</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19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Ústavy právní – de iure</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Ústavy faktické – de facto</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ozpor mezi psanou a faktickou ústavou lze řešit průběžnými změnami, novou ústavou nebo také aktualizací, změnou interpretac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cc"/>
                </a:solidFill>
                <a:latin typeface="Tahoma"/>
              </a:rPr>
              <a:t>Vývoj čs. ústavy  - rysy</a:t>
            </a:r>
            <a:endParaRPr b="0" lang="en-US" sz="4400" spc="-1" strike="noStrike">
              <a:solidFill>
                <a:srgbClr val="ffffff"/>
              </a:solidFill>
              <a:latin typeface="Tahoma"/>
            </a:endParaRPr>
          </a:p>
        </p:txBody>
      </p:sp>
      <p:sp>
        <p:nvSpPr>
          <p:cNvPr id="20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znik I. Československé republik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Vývoj čs. ústavy  - rysy</a:t>
            </a:r>
            <a:endParaRPr b="0" lang="en-US" sz="4400" spc="-1" strike="noStrike">
              <a:solidFill>
                <a:srgbClr val="ffffff"/>
              </a:solidFill>
              <a:latin typeface="Tahoma"/>
            </a:endParaRPr>
          </a:p>
        </p:txBody>
      </p:sp>
      <p:sp>
        <p:nvSpPr>
          <p:cNvPr id="20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znik I. Československé republiky</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I. Světová válk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Vývoj čs. ústavy  - rysy</a:t>
            </a:r>
            <a:endParaRPr b="0" lang="en-US" sz="4400" spc="-1" strike="noStrike">
              <a:solidFill>
                <a:srgbClr val="ffffff"/>
              </a:solidFill>
              <a:latin typeface="Tahoma"/>
            </a:endParaRPr>
          </a:p>
        </p:txBody>
      </p:sp>
      <p:sp>
        <p:nvSpPr>
          <p:cNvPr id="20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znik I. Československé republiky</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I. Světová válka</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 1948 zařazení do systému sovětského konstitucionalism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Vývoj čs. ústavy  - rysy</a:t>
            </a:r>
            <a:endParaRPr b="0" lang="en-US" sz="4400" spc="-1" strike="noStrike">
              <a:solidFill>
                <a:srgbClr val="ffffff"/>
              </a:solidFill>
              <a:latin typeface="Tahoma"/>
            </a:endParaRPr>
          </a:p>
        </p:txBody>
      </p:sp>
      <p:sp>
        <p:nvSpPr>
          <p:cNvPr id="20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znik I. Československé republiky</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I. Světová válka</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 1948 zařazení do systému sovětského konstitucionalismu</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ažské jaro – vznik federac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Kontakt</a:t>
            </a:r>
            <a:endParaRPr b="0" lang="en-US" sz="4400" spc="-1" strike="noStrike">
              <a:solidFill>
                <a:srgbClr val="ffffff"/>
              </a:solidFill>
              <a:latin typeface="Tahoma"/>
            </a:endParaRPr>
          </a:p>
        </p:txBody>
      </p:sp>
      <p:sp>
        <p:nvSpPr>
          <p:cNvPr id="10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Konzultační hodiny</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Mgr. Ilona Kostadinovová</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u="sng">
                <a:solidFill>
                  <a:srgbClr val="ffcc00"/>
                </a:solidFill>
                <a:uFillTx/>
                <a:latin typeface="Tahoma"/>
                <a:hlinkClick r:id="rId2"/>
              </a:rPr>
              <a:t>ilda@seznam.cz</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u="sng">
                <a:solidFill>
                  <a:srgbClr val="ffcc00"/>
                </a:solidFill>
                <a:uFillTx/>
                <a:latin typeface="Tahoma"/>
                <a:hlinkClick r:id="rId3"/>
              </a:rPr>
              <a:t>www.sweb.cz/ilda</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Vývoj čs. ústavy  - rysy</a:t>
            </a:r>
            <a:endParaRPr b="0" lang="en-US" sz="4400" spc="-1" strike="noStrike">
              <a:solidFill>
                <a:srgbClr val="ffffff"/>
              </a:solidFill>
              <a:latin typeface="Tahoma"/>
            </a:endParaRPr>
          </a:p>
        </p:txBody>
      </p:sp>
      <p:sp>
        <p:nvSpPr>
          <p:cNvPr id="20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znik I. Československé republiky</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I. Světová válka</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 1948 zařazení do systému sovětského konstitucionalismu</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ažské jaro – vznik federace</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řechodový ústavní systém po roce 1989 a vznik samostatného stát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Vývoj čs. ústavy  - rysy</a:t>
            </a:r>
            <a:endParaRPr b="0" lang="en-US" sz="4400" spc="-1" strike="noStrike">
              <a:solidFill>
                <a:srgbClr val="ffffff"/>
              </a:solidFill>
              <a:latin typeface="Tahoma"/>
            </a:endParaRPr>
          </a:p>
        </p:txBody>
      </p:sp>
      <p:sp>
        <p:nvSpPr>
          <p:cNvPr id="21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0000"/>
          </a:bodyPr>
          <a:p>
            <a:pPr marL="308520" indent="-30852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znik I. Československé republiky</a:t>
            </a:r>
            <a:endParaRPr b="0" lang="en-US" sz="3200" spc="-1" strike="noStrike">
              <a:solidFill>
                <a:srgbClr val="ffffff"/>
              </a:solidFill>
              <a:latin typeface="Tahoma"/>
            </a:endParaRPr>
          </a:p>
          <a:p>
            <a:pPr marL="308520" indent="-30852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I. Světová válka</a:t>
            </a:r>
            <a:endParaRPr b="0" lang="en-US" sz="3200" spc="-1" strike="noStrike">
              <a:solidFill>
                <a:srgbClr val="ffffff"/>
              </a:solidFill>
              <a:latin typeface="Tahoma"/>
            </a:endParaRPr>
          </a:p>
          <a:p>
            <a:pPr marL="308520" indent="-30852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 1948 zařazení do systému sovětského konstitucionalismu</a:t>
            </a:r>
            <a:endParaRPr b="0" lang="en-US" sz="3200" spc="-1" strike="noStrike">
              <a:solidFill>
                <a:srgbClr val="ffffff"/>
              </a:solidFill>
              <a:latin typeface="Tahoma"/>
            </a:endParaRPr>
          </a:p>
          <a:p>
            <a:pPr marL="308520" indent="-30852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ažské jaro – vznik federace</a:t>
            </a:r>
            <a:endParaRPr b="0" lang="en-US" sz="3200" spc="-1" strike="noStrike">
              <a:solidFill>
                <a:srgbClr val="ffffff"/>
              </a:solidFill>
              <a:latin typeface="Tahoma"/>
            </a:endParaRPr>
          </a:p>
          <a:p>
            <a:pPr marL="308520" indent="-30852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řechodový ústavní systém po roce 1989 a vznik samostatného státu</a:t>
            </a:r>
            <a:endParaRPr b="0" lang="en-US" sz="3200" spc="-1" strike="noStrike">
              <a:solidFill>
                <a:srgbClr val="ffffff"/>
              </a:solidFill>
              <a:latin typeface="Tahoma"/>
            </a:endParaRPr>
          </a:p>
          <a:p>
            <a:pPr marL="308520" indent="-30852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žádné souvislé a stabilní vnější a vnitřní poměr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400" spc="-1" strike="noStrike">
                <a:solidFill>
                  <a:srgbClr val="0000cc"/>
                </a:solidFill>
                <a:latin typeface="Tahoma"/>
              </a:rPr>
              <a:t>Etapizace čs. ústavního vývoje</a:t>
            </a:r>
            <a:r>
              <a:rPr b="0" lang="cs-CZ" sz="4400" spc="-1" strike="noStrike">
                <a:solidFill>
                  <a:srgbClr val="ffffff"/>
                </a:solidFill>
                <a:latin typeface="Tahoma"/>
              </a:rPr>
              <a:t> </a:t>
            </a:r>
            <a:endParaRPr b="0" lang="en-US" sz="4400" spc="-1" strike="noStrike">
              <a:solidFill>
                <a:srgbClr val="ffffff"/>
              </a:solidFill>
              <a:latin typeface="Tahoma"/>
            </a:endParaRPr>
          </a:p>
        </p:txBody>
      </p:sp>
      <p:sp>
        <p:nvSpPr>
          <p:cNvPr id="21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Prozatímní ústava z roku 1918</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400" spc="-1" strike="noStrike">
                <a:solidFill>
                  <a:srgbClr val="ffffff"/>
                </a:solidFill>
                <a:latin typeface="Tahoma"/>
              </a:rPr>
              <a:t>Etapizace čs. ústavního vývoje</a:t>
            </a:r>
            <a:r>
              <a:rPr b="0" lang="cs-CZ" sz="4400" spc="-1" strike="noStrike">
                <a:solidFill>
                  <a:srgbClr val="ffffff"/>
                </a:solidFill>
                <a:latin typeface="Tahoma"/>
              </a:rPr>
              <a:t> </a:t>
            </a:r>
            <a:endParaRPr b="0" lang="en-US" sz="4400" spc="-1" strike="noStrike">
              <a:solidFill>
                <a:srgbClr val="ffffff"/>
              </a:solidFill>
              <a:latin typeface="Tahoma"/>
            </a:endParaRPr>
          </a:p>
        </p:txBody>
      </p:sp>
      <p:sp>
        <p:nvSpPr>
          <p:cNvPr id="21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Prozatímní ústava z roku 1918</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Ústava ČSR z r. 1920 až do roku 1938 resp. 1939 – Mnichovská dohod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400" spc="-1" strike="noStrike">
                <a:solidFill>
                  <a:srgbClr val="ffffff"/>
                </a:solidFill>
                <a:latin typeface="Tahoma"/>
              </a:rPr>
              <a:t>Etapizace čs. ústavního vývoje</a:t>
            </a:r>
            <a:r>
              <a:rPr b="0" lang="cs-CZ" sz="4400" spc="-1" strike="noStrike">
                <a:solidFill>
                  <a:srgbClr val="ffffff"/>
                </a:solidFill>
                <a:latin typeface="Tahoma"/>
              </a:rPr>
              <a:t> </a:t>
            </a:r>
            <a:endParaRPr b="0" lang="en-US" sz="4400" spc="-1" strike="noStrike">
              <a:solidFill>
                <a:srgbClr val="ffffff"/>
              </a:solidFill>
              <a:latin typeface="Tahoma"/>
            </a:endParaRPr>
          </a:p>
        </p:txBody>
      </p:sp>
      <p:sp>
        <p:nvSpPr>
          <p:cNvPr id="21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zatímní ústava z roku 1918</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Ústava ČSR z r. 1920 až do roku 1938 resp. 1939 – Mnichovská dohoda</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tapa prozatímního zřízení Londýnského 1939 – 1945, osvobozování ČS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400" spc="-1" strike="noStrike">
                <a:solidFill>
                  <a:srgbClr val="ffffff"/>
                </a:solidFill>
                <a:latin typeface="Tahoma"/>
              </a:rPr>
              <a:t>Etapizace čs. ústavního vývoje</a:t>
            </a:r>
            <a:r>
              <a:rPr b="0" lang="cs-CZ" sz="4400" spc="-1" strike="noStrike">
                <a:solidFill>
                  <a:srgbClr val="ffffff"/>
                </a:solidFill>
                <a:latin typeface="Tahoma"/>
              </a:rPr>
              <a:t> </a:t>
            </a:r>
            <a:endParaRPr b="0" lang="en-US" sz="4400" spc="-1" strike="noStrike">
              <a:solidFill>
                <a:srgbClr val="ffffff"/>
              </a:solidFill>
              <a:latin typeface="Tahoma"/>
            </a:endParaRPr>
          </a:p>
        </p:txBody>
      </p:sp>
      <p:sp>
        <p:nvSpPr>
          <p:cNvPr id="21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 </a:t>
            </a:r>
            <a:r>
              <a:rPr b="0" lang="cs-CZ" sz="3200" spc="-1" strike="noStrike">
                <a:solidFill>
                  <a:srgbClr val="ffffff"/>
                </a:solidFill>
                <a:latin typeface="Tahoma"/>
              </a:rPr>
              <a:t>Prozatímní ústava z roku 1918</a:t>
            </a:r>
            <a:endParaRPr b="0" lang="en-US" sz="3200" spc="-1" strike="noStrike">
              <a:solidFill>
                <a:srgbClr val="ffffff"/>
              </a:solidFill>
              <a:latin typeface="Tahoma"/>
            </a:endParaRPr>
          </a:p>
          <a:p>
            <a:pPr marL="332640" indent="-3326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Ústava ČSR z r. 1920 až do roku 1938 resp. 1939 – Mnichovská dohoda</a:t>
            </a:r>
            <a:endParaRPr b="0" lang="en-US" sz="3200" spc="-1" strike="noStrike">
              <a:solidFill>
                <a:srgbClr val="ffffff"/>
              </a:solidFill>
              <a:latin typeface="Tahoma"/>
            </a:endParaRPr>
          </a:p>
          <a:p>
            <a:pPr marL="332640" indent="-3326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Etapa prozatímního zřízení Londýnského 1939 – 1945, osvobozování ČSR</a:t>
            </a:r>
            <a:endParaRPr b="0" lang="en-US" sz="3200" spc="-1" strike="noStrike">
              <a:solidFill>
                <a:srgbClr val="ffffff"/>
              </a:solidFill>
              <a:latin typeface="Tahoma"/>
            </a:endParaRPr>
          </a:p>
          <a:p>
            <a:pPr marL="332640" indent="-3326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1945 – 1948 příprava nové ústavy Ústavodárným nár. shromáždění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400" spc="-1" strike="noStrike">
                <a:solidFill>
                  <a:srgbClr val="ffffff"/>
                </a:solidFill>
                <a:latin typeface="Tahoma"/>
              </a:rPr>
              <a:t>Etapizace čs. ústavního vývoje</a:t>
            </a:r>
            <a:r>
              <a:rPr b="0" lang="cs-CZ" sz="4400" spc="-1" strike="noStrike">
                <a:solidFill>
                  <a:srgbClr val="ffffff"/>
                </a:solidFill>
                <a:latin typeface="Tahoma"/>
              </a:rPr>
              <a:t> </a:t>
            </a:r>
            <a:endParaRPr b="0" lang="en-US" sz="4400" spc="-1" strike="noStrike">
              <a:solidFill>
                <a:srgbClr val="ffffff"/>
              </a:solidFill>
              <a:latin typeface="Tahoma"/>
            </a:endParaRPr>
          </a:p>
        </p:txBody>
      </p:sp>
      <p:sp>
        <p:nvSpPr>
          <p:cNvPr id="22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2000"/>
          </a:bodyPr>
          <a:p>
            <a:pPr marL="315360" indent="-3153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 </a:t>
            </a:r>
            <a:r>
              <a:rPr b="0" lang="cs-CZ" sz="3200" spc="-1" strike="noStrike">
                <a:solidFill>
                  <a:srgbClr val="ffffff"/>
                </a:solidFill>
                <a:latin typeface="Tahoma"/>
              </a:rPr>
              <a:t>Prozatímní ústava z roku 1918</a:t>
            </a:r>
            <a:endParaRPr b="0" lang="en-US" sz="3200" spc="-1" strike="noStrike">
              <a:solidFill>
                <a:srgbClr val="ffffff"/>
              </a:solidFill>
              <a:latin typeface="Tahoma"/>
            </a:endParaRPr>
          </a:p>
          <a:p>
            <a:pPr marL="315360" indent="-3153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Ústava ČSR z r. 1920 až do roku 1938 resp. 1939 – Mnichovská dohoda</a:t>
            </a:r>
            <a:endParaRPr b="0" lang="en-US" sz="3200" spc="-1" strike="noStrike">
              <a:solidFill>
                <a:srgbClr val="ffffff"/>
              </a:solidFill>
              <a:latin typeface="Tahoma"/>
            </a:endParaRPr>
          </a:p>
          <a:p>
            <a:pPr marL="315360" indent="-3153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Etapa prozatímního zřízení Londýnského 1939 – 1945, osvobozování ČSR</a:t>
            </a:r>
            <a:endParaRPr b="0" lang="en-US" sz="3200" spc="-1" strike="noStrike">
              <a:solidFill>
                <a:srgbClr val="ffffff"/>
              </a:solidFill>
              <a:latin typeface="Tahoma"/>
            </a:endParaRPr>
          </a:p>
          <a:p>
            <a:pPr marL="315360" indent="-3153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1945 – 1948 příprava nové ústavy Ústavodárným nár. shromážděním</a:t>
            </a:r>
            <a:endParaRPr b="0" lang="en-US" sz="3200" spc="-1" strike="noStrike">
              <a:solidFill>
                <a:srgbClr val="ffffff"/>
              </a:solidFill>
              <a:latin typeface="Tahoma"/>
            </a:endParaRPr>
          </a:p>
          <a:p>
            <a:pPr marL="315360" indent="-3153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Platnost Ústavy 1948 – 1960, 9.květe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400" spc="-1" strike="noStrike">
                <a:solidFill>
                  <a:srgbClr val="ffffff"/>
                </a:solidFill>
                <a:latin typeface="Tahoma"/>
              </a:rPr>
              <a:t>Etapizace čs. ústavního vývoje</a:t>
            </a:r>
            <a:r>
              <a:rPr b="0" lang="cs-CZ" sz="4400" spc="-1" strike="noStrike">
                <a:solidFill>
                  <a:srgbClr val="ffffff"/>
                </a:solidFill>
                <a:latin typeface="Tahoma"/>
              </a:rPr>
              <a:t> </a:t>
            </a:r>
            <a:endParaRPr b="0" lang="en-US" sz="4400" spc="-1" strike="noStrike">
              <a:solidFill>
                <a:srgbClr val="ffffff"/>
              </a:solidFill>
              <a:latin typeface="Tahoma"/>
            </a:endParaRPr>
          </a:p>
        </p:txBody>
      </p:sp>
      <p:sp>
        <p:nvSpPr>
          <p:cNvPr id="22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bdobí plné platnosti Ústavy ČSSR z roku 1960 – 1968</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400" spc="-1" strike="noStrike">
                <a:solidFill>
                  <a:srgbClr val="ffffff"/>
                </a:solidFill>
                <a:latin typeface="Tahoma"/>
              </a:rPr>
              <a:t>Etapizace čs. ústavního vývoje</a:t>
            </a:r>
            <a:r>
              <a:rPr b="0" lang="cs-CZ" sz="4400" spc="-1" strike="noStrike">
                <a:solidFill>
                  <a:srgbClr val="ffffff"/>
                </a:solidFill>
                <a:latin typeface="Tahoma"/>
              </a:rPr>
              <a:t> </a:t>
            </a:r>
            <a:endParaRPr b="0" lang="en-US" sz="4400" spc="-1" strike="noStrike">
              <a:solidFill>
                <a:srgbClr val="ffffff"/>
              </a:solidFill>
              <a:latin typeface="Tahoma"/>
            </a:endParaRPr>
          </a:p>
        </p:txBody>
      </p:sp>
      <p:sp>
        <p:nvSpPr>
          <p:cNvPr id="22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bdobí plné platnosti Ústavy ČSSR z roku 1960 – 1968</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bdobí federativní ČSSR, novelizace Ústavy z roku 1960, č.143/1968Sb., 1968 - 1989</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91960"/>
            <a:ext cx="8229600" cy="111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400" spc="-1" strike="noStrike">
                <a:solidFill>
                  <a:srgbClr val="ffffff"/>
                </a:solidFill>
                <a:latin typeface="Tahoma"/>
              </a:rPr>
              <a:t>Etapizace čs. ústavního vývoje</a:t>
            </a:r>
            <a:r>
              <a:rPr b="0" lang="cs-CZ" sz="4400" spc="-1" strike="noStrike">
                <a:solidFill>
                  <a:srgbClr val="ffffff"/>
                </a:solidFill>
                <a:latin typeface="Tahoma"/>
              </a:rPr>
              <a:t> </a:t>
            </a:r>
            <a:endParaRPr b="0" lang="en-US" sz="4400" spc="-1" strike="noStrike">
              <a:solidFill>
                <a:srgbClr val="ffffff"/>
              </a:solidFill>
              <a:latin typeface="Tahoma"/>
            </a:endParaRPr>
          </a:p>
        </p:txBody>
      </p:sp>
      <p:sp>
        <p:nvSpPr>
          <p:cNvPr id="227"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bdobí plné platnosti Ústavy ČSSR z roku 1960 – 1968</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bdobí federativní ČSSR, novelizace Ústavy z roku 1960, č.143/1968Sb., 1968 – 1989</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řechodový ústavní systém, obnova politické demokracie, tržního hospodářství, zánik Československa - ČSFR, 1989 – 1992 resp. 1993</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cc"/>
                </a:solidFill>
                <a:latin typeface="Tahoma"/>
              </a:rPr>
              <a:t>Pojem  ústavního práva</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10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Římský právník Ulpián 170-228 n.l., dělení na veřejné a soukromé právo</a:t>
            </a:r>
            <a:endParaRPr b="0" lang="en-US" sz="3200" spc="-1" strike="noStrike">
              <a:solidFill>
                <a:srgbClr val="ffffff"/>
              </a:solidFill>
              <a:latin typeface="Tahoma"/>
            </a:endParaRPr>
          </a:p>
          <a:p>
            <a:pPr marL="318960" indent="-31896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Ústava se vztahuje na veřejné právo</a:t>
            </a:r>
            <a:endParaRPr b="0" lang="en-US" sz="3200" spc="-1" strike="noStrike">
              <a:solidFill>
                <a:srgbClr val="ffffff"/>
              </a:solidFill>
              <a:latin typeface="Tahoma"/>
            </a:endParaRPr>
          </a:p>
          <a:p>
            <a:pPr marL="318960" indent="-31896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Veřejné právo je souhrn právních norem, jejichž prostřednictvím se veřejná moc utváří, konstituuje, vykonává a ztělesňuje</a:t>
            </a:r>
            <a:endParaRPr b="0" lang="en-US" sz="3200" spc="-1" strike="noStrike">
              <a:solidFill>
                <a:srgbClr val="ffffff"/>
              </a:solidFill>
              <a:latin typeface="Tahoma"/>
            </a:endParaRPr>
          </a:p>
          <a:p>
            <a:pPr marL="318960" indent="-31896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Ústava tvoří basic veřejného práva, např. správní, finanční, trestní, je i řešením pro soukromé právo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cc"/>
                </a:solidFill>
                <a:latin typeface="Tahoma"/>
              </a:rPr>
              <a:t>Ústavní aspekty rozdělení Československa</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22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5000"/>
          </a:bodyPr>
          <a:p>
            <a:pPr marL="325800" indent="-3258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Ústavním základem pro rozdělení Československa jsou:</a:t>
            </a:r>
            <a:endParaRPr b="0" lang="en-US" sz="3200" spc="-1" strike="noStrike">
              <a:solidFill>
                <a:srgbClr val="ffffff"/>
              </a:solidFill>
              <a:latin typeface="Tahoma"/>
            </a:endParaRPr>
          </a:p>
          <a:p>
            <a:pPr marL="325800" indent="-3258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Ústavní zákony ze dne 13.11.1992 o dělení majetku ČSFR mezi ČR a SR</a:t>
            </a:r>
            <a:endParaRPr b="0" lang="en-US" sz="3200" spc="-1" strike="noStrike">
              <a:solidFill>
                <a:srgbClr val="ffffff"/>
              </a:solidFill>
              <a:latin typeface="Tahoma"/>
            </a:endParaRPr>
          </a:p>
          <a:p>
            <a:pPr marL="325800" indent="-3258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Ústavní zákon ze dne 25.11.1992 o zániku ČSFR</a:t>
            </a:r>
            <a:endParaRPr b="0" lang="en-US" sz="3200" spc="-1" strike="noStrike">
              <a:solidFill>
                <a:srgbClr val="ffffff"/>
              </a:solidFill>
              <a:latin typeface="Tahoma"/>
            </a:endParaRPr>
          </a:p>
          <a:p>
            <a:pPr marL="325800" indent="-3258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ýsledkem byla Česká ústava přijata dne 16.12.1992 s účinností od 1.1.1993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cc"/>
                </a:solidFill>
                <a:latin typeface="Tahoma"/>
              </a:rPr>
              <a:t>Kontinuita a diskontinuita při vzniku České republiky</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23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átní</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Územní</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ní</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cc"/>
                </a:solidFill>
                <a:latin typeface="Tahoma"/>
              </a:rPr>
              <a:t>Ústava České republiky, charakteristika, struktura</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23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eambule + 8 hlav členěných do článků</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ahoma"/>
              </a:rPr>
              <a:t>Ústava České republiky, charakteristika, struktura</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23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eambule + 8 hlav členěných do článků</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lava II-IV , členění státní moci</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ahoma"/>
              </a:rPr>
              <a:t>Ústava České republiky, charakteristika, struktura</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23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eambule + 8 hlav členěných do článků</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lava II-IV , členění státní moci</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lava V, NKÚ</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ahoma"/>
              </a:rPr>
              <a:t>Ústava České republiky, charakteristika, struktura</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23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eambule + 8 hlav členěných do článků</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lava II-IV , členění státní moci</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lava V, NKÚ</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lava VI, ČNB</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ahoma"/>
              </a:rPr>
              <a:t>Ústava České republiky, charakteristika, struktura</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24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eambule + 8 hlav členěných do článků</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lava II-IV , členění státní moci</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lava V, NKÚ</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lava VI, ČNB</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lava VII, územní samospráv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ahoma"/>
              </a:rPr>
              <a:t>Ústava České republiky, charakteristika, struktura</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24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eambule + 8 hlav členěných do článků</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ahoma"/>
              </a:rPr>
              <a:t>Hlava II-IV , členění státní moci</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lava V, NKÚ</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lava VI, ČNB</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lava VII, územní samospráva</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lava VIII, přechodná a závěrečná ustanoven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cc"/>
                </a:solidFill>
                <a:latin typeface="Tahoma"/>
              </a:rPr>
              <a:t>Ústava České republiky a mezinárodní právo</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24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ČR je součástí mezinárodního společenství států – vztahy mezinárodně právn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ahoma"/>
              </a:rPr>
              <a:t>Ústava České republiky a mezinárodní právo</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24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ČR je součástí mezinárodního společenství států – vztahy mezinárodně právní</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tevřený a uzavřený ústavní systém</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cc"/>
                </a:solidFill>
                <a:latin typeface="Tahoma"/>
              </a:rPr>
              <a:t>Předmět ústavního práva</a:t>
            </a:r>
            <a:endParaRPr b="0" lang="en-US" sz="4400" spc="-1" strike="noStrike">
              <a:solidFill>
                <a:srgbClr val="ffffff"/>
              </a:solidFill>
              <a:latin typeface="Tahoma"/>
            </a:endParaRPr>
          </a:p>
        </p:txBody>
      </p:sp>
      <p:sp>
        <p:nvSpPr>
          <p:cNvPr id="10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Ú.p. vyjadřuje  organizaci společnosti, veřejné moci a strukturu mocenských prostředků</a:t>
            </a:r>
            <a:endParaRPr b="0" lang="en-US" sz="3200" spc="-1" strike="noStrike">
              <a:solidFill>
                <a:srgbClr val="ffffff"/>
              </a:solidFill>
              <a:latin typeface="Tahoma"/>
            </a:endParaRPr>
          </a:p>
          <a:p>
            <a:pPr marL="318960" indent="-31896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Ú.p. je spjato s revolučním vývojem, francouzská revoluce</a:t>
            </a:r>
            <a:endParaRPr b="0" lang="en-US" sz="3200" spc="-1" strike="noStrike">
              <a:solidFill>
                <a:srgbClr val="ffffff"/>
              </a:solidFill>
              <a:latin typeface="Tahoma"/>
            </a:endParaRPr>
          </a:p>
          <a:p>
            <a:pPr marL="318960" indent="-31896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Ú.p. vyjadřuje vztahy, které vznikají při výkonu moci, prostor pro činnost individua</a:t>
            </a:r>
            <a:endParaRPr b="0" lang="en-US" sz="3200" spc="-1" strike="noStrike">
              <a:solidFill>
                <a:srgbClr val="ffffff"/>
              </a:solidFill>
              <a:latin typeface="Tahoma"/>
            </a:endParaRPr>
          </a:p>
          <a:p>
            <a:pPr marL="318960" indent="-31896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ředmětem ústavního práva jsou normy, normativně právní poje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ahoma"/>
              </a:rPr>
              <a:t>Ústava České republiky a mezinárodní právo</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24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ČR je součástí mezinárodního společenství států – vztahy mezinárodně právní</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tevřený a uzavřený ústavní systém</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ahoma"/>
              </a:rPr>
              <a:t>Prvek otevřenosti je čl. 10 Ústavy</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ahoma"/>
              </a:rPr>
              <a:t>Ústava České republiky a mezinárodní právo</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25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ČR je součástí mezinárodního společenství států – vztahy mezinárodně právní</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tevřený a uzavřený ústavní systém</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ahoma"/>
              </a:rPr>
              <a:t>Prvek otevřenosti je čl. 10 Ústavy</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Čl. 10 staví mez. smlouvy na roveň ústavním zákonům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ahoma"/>
              </a:rPr>
              <a:t>Ústava České republiky a mezinárodní právo</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25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ČR je součástí mezinárodního společenství států – vztahy mezinárodně právní</a:t>
            </a:r>
            <a:endParaRPr b="0" lang="en-US" sz="3200" spc="-1" strike="noStrike">
              <a:solidFill>
                <a:srgbClr val="ffffff"/>
              </a:solidFill>
              <a:latin typeface="Tahoma"/>
            </a:endParaRPr>
          </a:p>
          <a:p>
            <a:pPr marL="325800" indent="-3258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tevřený a uzavřený ústavní systém</a:t>
            </a:r>
            <a:endParaRPr b="0" lang="en-US" sz="3200" spc="-1" strike="noStrike">
              <a:solidFill>
                <a:srgbClr val="ffffff"/>
              </a:solidFill>
              <a:latin typeface="Tahoma"/>
            </a:endParaRPr>
          </a:p>
          <a:p>
            <a:pPr marL="325800" indent="-3258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ahoma"/>
              </a:rPr>
              <a:t>Prvek otevřenosti je čl. 10 Ústavy</a:t>
            </a:r>
            <a:endParaRPr b="0" lang="en-US" sz="3200" spc="-1" strike="noStrike">
              <a:solidFill>
                <a:srgbClr val="ffffff"/>
              </a:solidFill>
              <a:latin typeface="Tahoma"/>
            </a:endParaRPr>
          </a:p>
          <a:p>
            <a:pPr marL="325800" indent="-3258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Čl. 10 staví určité mez. smlouvy na roveň ústavním zákonům </a:t>
            </a:r>
            <a:endParaRPr b="0" lang="en-US" sz="3200" spc="-1" strike="noStrike">
              <a:solidFill>
                <a:srgbClr val="ffffff"/>
              </a:solidFill>
              <a:latin typeface="Tahoma"/>
            </a:endParaRPr>
          </a:p>
          <a:p>
            <a:pPr marL="325800" indent="-3258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Ústavní soud rozhoduje o opatřeních k realizaci rozhodnutí mez. soudu</a:t>
            </a:r>
            <a:endParaRPr b="0" lang="en-US" sz="3200" spc="-1" strike="noStrike">
              <a:solidFill>
                <a:srgbClr val="ffffff"/>
              </a:solidFill>
              <a:latin typeface="Tahoma"/>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cc"/>
                </a:solidFill>
                <a:latin typeface="Tahoma"/>
              </a:rPr>
              <a:t>Ústava České republiky a mezinárodní smlouvy</a:t>
            </a:r>
            <a:endParaRPr b="0" lang="en-US" sz="4000" spc="-1" strike="noStrike">
              <a:solidFill>
                <a:srgbClr val="ffffff"/>
              </a:solidFill>
              <a:latin typeface="Tahoma"/>
            </a:endParaRPr>
          </a:p>
        </p:txBody>
      </p:sp>
      <p:sp>
        <p:nvSpPr>
          <p:cNvPr id="25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ez. Právo a 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cc"/>
                </a:solidFill>
                <a:latin typeface="Tahoma"/>
              </a:rPr>
              <a:t>Česká republika jako členský stát EU</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25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ez právo a 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cc"/>
                </a:solidFill>
                <a:latin typeface="Tahoma"/>
              </a:rPr>
              <a:t>Listina základních práv a svobod, charakteristika, struktura</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25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0000"/>
          </a:bodyPr>
          <a:p>
            <a:pPr marL="308520" indent="-30852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kument v právní řádu bývalé ČSFR</a:t>
            </a:r>
            <a:endParaRPr b="0" lang="en-US" sz="3200" spc="-1" strike="noStrike">
              <a:solidFill>
                <a:srgbClr val="ffffff"/>
              </a:solidFill>
              <a:latin typeface="Tahoma"/>
            </a:endParaRPr>
          </a:p>
          <a:p>
            <a:pPr marL="308520" indent="-30852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ákon Federálního shromáždění ČSFR, č. 23/1991 Sb.</a:t>
            </a:r>
            <a:endParaRPr b="0" lang="en-US" sz="3200" spc="-1" strike="noStrike">
              <a:solidFill>
                <a:srgbClr val="ffffff"/>
              </a:solidFill>
              <a:latin typeface="Tahoma"/>
            </a:endParaRPr>
          </a:p>
          <a:p>
            <a:pPr marL="308520" indent="-30852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Čl. 112</a:t>
            </a:r>
            <a:endParaRPr b="0" lang="en-US" sz="3200" spc="-1" strike="noStrike">
              <a:solidFill>
                <a:srgbClr val="ffffff"/>
              </a:solidFill>
              <a:latin typeface="Tahoma"/>
            </a:endParaRPr>
          </a:p>
          <a:p>
            <a:pPr marL="308520" indent="-30852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ávazná pro všechny subjekty</a:t>
            </a:r>
            <a:endParaRPr b="0" lang="en-US" sz="3200" spc="-1" strike="noStrike">
              <a:solidFill>
                <a:srgbClr val="ffffff"/>
              </a:solidFill>
              <a:latin typeface="Tahoma"/>
            </a:endParaRPr>
          </a:p>
          <a:p>
            <a:pPr marL="308520" indent="-30852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amenem ústavního práva, součástí ústavního pořádku</a:t>
            </a:r>
            <a:endParaRPr b="0" lang="en-US" sz="3200" spc="-1" strike="noStrike">
              <a:solidFill>
                <a:srgbClr val="ffffff"/>
              </a:solidFill>
              <a:latin typeface="Tahoma"/>
            </a:endParaRPr>
          </a:p>
          <a:p>
            <a:pPr marL="308520" indent="-30852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áklad pro rozhodování Ústavního soud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ahoma"/>
              </a:rPr>
              <a:t>Listina základních práv a svobod, charakteristika, struktura</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26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istina zákl. p. s. upravuje práva občana a člověk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ahoma"/>
              </a:rPr>
              <a:t>Listina základních práv a svobod, charakteristika, struktura</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26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istina zákl. p. s. upravuje práva občana a člověka</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idská práva a základní svobody hl. II</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ahoma"/>
              </a:rPr>
              <a:t>Listina základních práv a svobod, charakteristika, struktura</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26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istina zákl. p. s. upravuje práva občana a člověka</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idská práva a základní svobody hl. II</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a národnostních a etnických menšin hl. III</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ahoma"/>
              </a:rPr>
              <a:t>Listina základních práv a svobod, charakteristika, struktura</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26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istina zákl. p. s. upravuje práva občana a člověka</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idská práva a základní svobody hl. II</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a národnostních a etnických menšin hl. III</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spodářská, sociální a kulturní práva hl. IV</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ředmětem ú.p. jsou tyto skupiny</a:t>
            </a:r>
            <a:endParaRPr b="0" lang="en-US" sz="4000" spc="-1" strike="noStrike">
              <a:solidFill>
                <a:srgbClr val="ffffff"/>
              </a:solidFill>
              <a:latin typeface="Tahoma"/>
            </a:endParaRPr>
          </a:p>
        </p:txBody>
      </p:sp>
      <p:sp>
        <p:nvSpPr>
          <p:cNvPr id="10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rma státu, forma vlády, výkon moci lidu, vymezení a omezení veřejné moci, suverenita lidu, tvorba orgánů</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amospráva, národní</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znání a vymezení svobody individua</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áklady parlamentní demokracie, soutěž politických stra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ahoma"/>
              </a:rPr>
              <a:t>Listina základních práv a svobod, charakteristika, struktura</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26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istina zákl. p. s. upravuje práva občana a člověka</a:t>
            </a:r>
            <a:endParaRPr b="0" lang="en-US" sz="3200" spc="-1" strike="noStrike">
              <a:solidFill>
                <a:srgbClr val="ffffff"/>
              </a:solidFill>
              <a:latin typeface="Tahoma"/>
            </a:endParaRPr>
          </a:p>
          <a:p>
            <a:pPr marL="318960" indent="-3189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idská práva a základní svobody hl. II</a:t>
            </a:r>
            <a:endParaRPr b="0" lang="en-US" sz="3200" spc="-1" strike="noStrike">
              <a:solidFill>
                <a:srgbClr val="ffffff"/>
              </a:solidFill>
              <a:latin typeface="Tahoma"/>
            </a:endParaRPr>
          </a:p>
          <a:p>
            <a:pPr marL="318960" indent="-3189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a národnostních a etnických menšin hl. III</a:t>
            </a:r>
            <a:endParaRPr b="0" lang="en-US" sz="3200" spc="-1" strike="noStrike">
              <a:solidFill>
                <a:srgbClr val="ffffff"/>
              </a:solidFill>
              <a:latin typeface="Tahoma"/>
            </a:endParaRPr>
          </a:p>
          <a:p>
            <a:pPr marL="318960" indent="-3189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spodářská, sociální a kulturní práva hl. IV</a:t>
            </a:r>
            <a:endParaRPr b="0" lang="en-US" sz="3200" spc="-1" strike="noStrike">
              <a:solidFill>
                <a:srgbClr val="ffffff"/>
              </a:solidFill>
              <a:latin typeface="Tahoma"/>
            </a:endParaRPr>
          </a:p>
          <a:p>
            <a:pPr marL="318960" indent="-3189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o na soudní a jinou ochranu hl. V</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cc"/>
                </a:solidFill>
                <a:latin typeface="Tahoma"/>
              </a:rPr>
              <a:t>Lidská práva a základní svobody,</a:t>
            </a:r>
            <a:br>
              <a:rPr sz="4000"/>
            </a:br>
            <a:r>
              <a:rPr b="0" i="1" lang="en-US" sz="4000" spc="-1" strike="noStrike">
                <a:solidFill>
                  <a:srgbClr val="0000cc"/>
                </a:solidFill>
                <a:latin typeface="Tahoma"/>
              </a:rPr>
              <a:t>ústavněprávní základ</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27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istina garantuje v čl. 5 každé fyzické osobě postavení v právním systém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ahoma"/>
              </a:rPr>
              <a:t>Lidská práva a základní svobody,</a:t>
            </a:r>
            <a:br>
              <a:rPr sz="4000"/>
            </a:br>
            <a:r>
              <a:rPr b="0" i="1" lang="en-US" sz="4000" spc="-1" strike="noStrike">
                <a:solidFill>
                  <a:srgbClr val="ffffff"/>
                </a:solidFill>
                <a:latin typeface="Tahoma"/>
              </a:rPr>
              <a:t>ústavněprávní základ</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27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istina garantuje v čl. 5 každé fyzické osobě postavení v právním systému</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o na život, čl. 6 Listiny</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ahoma"/>
              </a:rPr>
              <a:t>Lidská práva a základní svobody,</a:t>
            </a:r>
            <a:br>
              <a:rPr sz="4000"/>
            </a:br>
            <a:r>
              <a:rPr b="0" i="1" lang="en-US" sz="4000" spc="-1" strike="noStrike">
                <a:solidFill>
                  <a:srgbClr val="ffffff"/>
                </a:solidFill>
                <a:latin typeface="Tahoma"/>
              </a:rPr>
              <a:t>ústavněprávní základ</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27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istina garantuje v čl. 5 každé fyzické osobě postavení v právním systému</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o na život, čl. 6 Listiny</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dotknutelnost osoby, čl. 7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ahoma"/>
              </a:rPr>
              <a:t>Lidská práva a základní svobody,</a:t>
            </a:r>
            <a:br>
              <a:rPr sz="4000"/>
            </a:br>
            <a:r>
              <a:rPr b="0" i="1" lang="en-US" sz="4000" spc="-1" strike="noStrike">
                <a:solidFill>
                  <a:srgbClr val="ffffff"/>
                </a:solidFill>
                <a:latin typeface="Tahoma"/>
              </a:rPr>
              <a:t>ústavněprávní základ</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27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istina garantuje v čl. 5 každé fyzické osobě postavení v právním systému</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o na život, čl. 6 Listiny</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dotknutelnost osoby, čl. 7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sobní svoboda, čl. 8</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ahoma"/>
              </a:rPr>
              <a:t>Lidská práva a základní svobody,</a:t>
            </a:r>
            <a:br>
              <a:rPr sz="4000"/>
            </a:br>
            <a:r>
              <a:rPr b="0" i="1" lang="en-US" sz="4000" spc="-1" strike="noStrike">
                <a:solidFill>
                  <a:srgbClr val="ffffff"/>
                </a:solidFill>
                <a:latin typeface="Tahoma"/>
              </a:rPr>
              <a:t>ústavněprávní základ</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27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istina garantuje v čl. 5 každé fyzické osobě postavení v právním systému</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o na život, čl. 6 Listiny</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dotknutelnost osoby, čl. 7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sobní svoboda, čl. 8</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ákaz nucených prací nebo služeb, čl. 9</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ahoma"/>
              </a:rPr>
              <a:t>Lidská práva a základní svobody,</a:t>
            </a:r>
            <a:br>
              <a:rPr sz="4000"/>
            </a:br>
            <a:r>
              <a:rPr b="0" i="1" lang="en-US" sz="4000" spc="-1" strike="noStrike">
                <a:solidFill>
                  <a:srgbClr val="ffffff"/>
                </a:solidFill>
                <a:latin typeface="Tahoma"/>
              </a:rPr>
              <a:t>ústavněprávní základ</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28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istina garantuje v čl. 5 každé fyzické osobě postavení v právním systému</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o na život, čl. 6 Listiny</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dotknutelnost osoby, čl. 7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sobní svoboda, čl. 8</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ákaz nucených prací nebo služeb, čl. 9</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ahoma"/>
              </a:rPr>
              <a:t>Právo vlastnictví, čl. 11 Listiny</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ahoma"/>
              </a:rPr>
              <a:t>Lidská práva a základní svobody,</a:t>
            </a:r>
            <a:br>
              <a:rPr sz="4000"/>
            </a:br>
            <a:r>
              <a:rPr b="0" i="1" lang="en-US" sz="4000" spc="-1" strike="noStrike">
                <a:solidFill>
                  <a:srgbClr val="ffffff"/>
                </a:solidFill>
                <a:latin typeface="Tahoma"/>
              </a:rPr>
              <a:t>ústavněprávní základ</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28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istina garantuje v čl. 5 každé fyzické osobě postavení v právním systému</a:t>
            </a:r>
            <a:endParaRPr b="0" lang="en-US" sz="3200" spc="-1" strike="noStrike">
              <a:solidFill>
                <a:srgbClr val="ffffff"/>
              </a:solidFill>
              <a:latin typeface="Tahoma"/>
            </a:endParaRPr>
          </a:p>
          <a:p>
            <a:pPr marL="332640" indent="-33264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o na život, čl. 6 Listiny</a:t>
            </a:r>
            <a:endParaRPr b="0" lang="en-US" sz="3200" spc="-1" strike="noStrike">
              <a:solidFill>
                <a:srgbClr val="ffffff"/>
              </a:solidFill>
              <a:latin typeface="Tahoma"/>
            </a:endParaRPr>
          </a:p>
          <a:p>
            <a:pPr marL="332640" indent="-33264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dotknutelnost osoby, čl. 7 </a:t>
            </a:r>
            <a:endParaRPr b="0" lang="en-US" sz="3200" spc="-1" strike="noStrike">
              <a:solidFill>
                <a:srgbClr val="ffffff"/>
              </a:solidFill>
              <a:latin typeface="Tahoma"/>
            </a:endParaRPr>
          </a:p>
          <a:p>
            <a:pPr marL="332640" indent="-33264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sobní svoboda, čl. 8</a:t>
            </a:r>
            <a:endParaRPr b="0" lang="en-US" sz="3200" spc="-1" strike="noStrike">
              <a:solidFill>
                <a:srgbClr val="ffffff"/>
              </a:solidFill>
              <a:latin typeface="Tahoma"/>
            </a:endParaRPr>
          </a:p>
          <a:p>
            <a:pPr marL="332640" indent="-33264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ákaz nucených prací nebo služeb, čl. 9</a:t>
            </a:r>
            <a:endParaRPr b="0" lang="en-US" sz="3200" spc="-1" strike="noStrike">
              <a:solidFill>
                <a:srgbClr val="ffffff"/>
              </a:solidFill>
              <a:latin typeface="Tahoma"/>
            </a:endParaRPr>
          </a:p>
          <a:p>
            <a:pPr marL="332640" indent="-33264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ahoma"/>
              </a:rPr>
              <a:t>Právo vlastnictví, čl. 11</a:t>
            </a:r>
            <a:r>
              <a:rPr b="0" lang="en-US" sz="3200" spc="-1" strike="noStrike">
                <a:solidFill>
                  <a:srgbClr val="ffffff"/>
                </a:solidFill>
                <a:latin typeface="Tahoma"/>
              </a:rPr>
              <a:t> </a:t>
            </a:r>
            <a:endParaRPr b="0" lang="en-US" sz="3200" spc="-1" strike="noStrike">
              <a:solidFill>
                <a:srgbClr val="ffffff"/>
              </a:solidFill>
              <a:latin typeface="Tahoma"/>
            </a:endParaRPr>
          </a:p>
          <a:p>
            <a:pPr marL="332640" indent="-33264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dotknutelnost obydlí, čl. 12</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ahoma"/>
              </a:rPr>
              <a:t>Lidská práva a základní svobody,</a:t>
            </a:r>
            <a:br>
              <a:rPr sz="4000"/>
            </a:br>
            <a:r>
              <a:rPr b="0" i="1" lang="en-US" sz="4000" spc="-1" strike="noStrike">
                <a:solidFill>
                  <a:srgbClr val="ffffff"/>
                </a:solidFill>
                <a:latin typeface="Tahoma"/>
              </a:rPr>
              <a:t>ústavněprávní základ</a:t>
            </a:r>
            <a:endParaRPr b="0" lang="en-US" sz="4000" spc="-1" strike="noStrike">
              <a:solidFill>
                <a:srgbClr val="ffffff"/>
              </a:solidFill>
              <a:latin typeface="Tahoma"/>
            </a:endParaRPr>
          </a:p>
        </p:txBody>
      </p:sp>
      <p:sp>
        <p:nvSpPr>
          <p:cNvPr id="28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istovní tajemství, tajemství jiných písemností a záznamů, tajemství přepravovaných zpráv, čl. 13</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ahoma"/>
              </a:rPr>
              <a:t>Lidská práva a základní svobody,</a:t>
            </a:r>
            <a:br>
              <a:rPr sz="4000"/>
            </a:br>
            <a:r>
              <a:rPr b="0" i="1" lang="en-US" sz="4000" spc="-1" strike="noStrike">
                <a:solidFill>
                  <a:srgbClr val="ffffff"/>
                </a:solidFill>
                <a:latin typeface="Tahoma"/>
              </a:rPr>
              <a:t>ústavněprávní základ</a:t>
            </a:r>
            <a:endParaRPr b="0" lang="en-US" sz="4000" spc="-1" strike="noStrike">
              <a:solidFill>
                <a:srgbClr val="ffffff"/>
              </a:solidFill>
              <a:latin typeface="Tahoma"/>
            </a:endParaRPr>
          </a:p>
        </p:txBody>
      </p:sp>
      <p:sp>
        <p:nvSpPr>
          <p:cNvPr id="28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istovní tajemství, tajemství jiných písemností a záznamů, tajemství přepravovaných zpráv, čl. 13</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voboda pohybu a pobytu čl. 14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8T10:54:16Z</dcterms:created>
  <dc:creator>Petr</dc:creator>
  <dc:description/>
  <dc:language>en-US</dc:language>
  <cp:lastModifiedBy>Ilona</cp:lastModifiedBy>
  <dcterms:modified xsi:type="dcterms:W3CDTF">2008-12-15T20:23:43Z</dcterms:modified>
  <cp:revision>218</cp:revision>
  <dc:subject/>
  <dc:title>ÚSTAVNÍ PRÁVO </dc:title>
</cp:coreProperties>
</file>